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37F-C915-418F-AC10-D8674F1D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947-E09D-4062-9A5D-05E4509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42D-4A0A-41FA-BBD2-24A6802A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03A-CE1F-4840-85F4-FDE0A221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205F-1C2F-48D4-A8FA-C2C1C1D3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4967-0B4C-48A8-B466-0993B7A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6FE8-A1B1-470A-A434-1DF020AD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D629-4C68-4F40-97D6-AB0E113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20584-909A-4F0F-9FD9-D280EE5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58C35-82D9-4E21-9C24-034583D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3853-E13D-4ECE-92B8-BE995C6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09A-0B05-492D-956D-7DFD5FB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A444-B1E6-4057-9F16-5D0611F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AD6E5-D144-42E2-9CF5-C38A5C0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39F2-6001-46D6-AC96-246D98D8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8CF5-EDF3-48DE-9BFF-315D94C3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4D66-D41A-4046-AEC6-9471B14A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A1C-4E37-4EC8-ABC3-583BB0DF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F83-66AA-4AAC-A1CC-89041F2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F40-E9C8-45FB-8B4E-0A86EBD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145-975F-42F8-848D-D68EF803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ABD-40BC-4C16-93B2-6221DEE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AE8-97C8-42B8-836C-6876004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3FD-0368-4B6C-81ED-ABAB9FE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81C6-E970-4B24-ABFA-C691922E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0F18-A923-439B-913F-4680636E4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2&amp;text=&#1082;&#1085;&#1080;&#1075;&#1080;%20&#1087;&#1080;&#1089;&#1072;&#1090;&#1077;&#1083;&#1100;&#1085;&#1080;&#1094;&#1072;%20&#1042;.%20&#1063;&#1072;&#1087;&#1083;&#1080;&#1085;&#1072;&amp;spsite=chaplina1.narod.ru&amp;img_url=chaplina1.narod.ru%2F64.jpg&amp;rpt=simage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yandex.ru/yandsearch?p=1&amp;text=&#1082;&#1085;&#1080;&#1075;&#1080;%20&#1087;&#1080;&#1089;&#1072;&#1090;&#1077;&#1083;&#1100;&#1085;&#1080;&#1094;&#1072;%20&#1042;.%20&#1063;&#1072;&#1087;&#1083;&#1080;&#1085;&#1072;&amp;spsite=www.ogoniok.com&amp;img_url=www.ogoniok.com%2Fcommon%2F5044%2FOg17_059_Page_1_Image_0012.jpg&amp;rpt=simage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yandex.ru/yandsearch?p=4&amp;text=&#1082;&#1085;&#1080;&#1075;&#1080;%20&#1087;&#1080;&#1089;&#1072;&#1090;&#1077;&#1083;&#1100;&#1085;&#1080;&#1094;&#1072;%20&#1042;.%20&#1063;&#1072;&#1087;&#1083;&#1080;&#1085;&#1072;&amp;spsite=www.sampo.ru&amp;img_url=www.sampo.ru%2F~centr_library%2FYkasatel%2FChaplina_1.jpg&amp;rpt=simage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2&amp;text=&#1082;&#1085;&#1080;&#1075;&#1080;%20&#1087;&#1080;&#1089;&#1072;&#1090;&#1077;&#1083;&#1100;&#1085;&#1080;&#1094;&#1072;%20&#1042;.%20&#1063;&#1072;&#1087;&#1083;&#1080;&#1085;&#1072;&amp;spsite=www.cul.com.ua&amp;img_url=www.cul.com.ua%2Fimg%2Fcatalogue%2Fmoi_pitomtsi.gif&amp;rpt=simage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hiller"/>
              </a:rPr>
              <a:t>Вера Чапли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05740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1828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3657600"/>
            <a:ext cx="217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ое интересно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лась в Москве в потомственной дворянской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1923 года – пропадала в зоопарке (ей очень нравились вол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зоопарке из добровольных помощников – стала смотрительниц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же стала писать о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Первая кни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«Малыши с зелён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площад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излож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й опы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ессир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лод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ьвят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Львица Кинули и прославившая ее Вера Чаплина"/>
          <p:cNvPicPr/>
          <p:nvPr/>
        </p:nvPicPr>
        <p:blipFill>
          <a:blip r:embed="rId2"/>
          <a:stretch/>
        </p:blipFill>
        <p:spPr>
          <a:xfrm>
            <a:off x="3276720" y="3267000"/>
            <a:ext cx="5867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 1946 году Чаплина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уходит из зоопарка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и становится писателе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47 году выходит ее новый сборник рассказов «Четвероногие друзья», который был переиздан в 25 странах ми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foto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3886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Забавные животны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этой книге известная писательница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рассказывает о самых обычных животных,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которые живут рядом с н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ё рассказы  воспитывают у читателе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любовь к природе и животным, призывают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бережно относиться ко всему живому, ч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окружает челове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нига состоит из двух разделов: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«Мои питомц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рассказывается о животных, которые родились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ывались в Зоопарке, о важном и увлекатель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уде его работников) и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лучайные встреч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ошли рассказы о детях и взрослых, котор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ручают несчастных животных и с любо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хаживают за ни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Вера Чаплина. Забавные животные"/>
          <p:cNvPicPr/>
          <p:nvPr/>
        </p:nvPicPr>
        <p:blipFill>
          <a:blip r:embed="rId2"/>
          <a:stretch/>
        </p:blipFill>
        <p:spPr>
          <a:xfrm>
            <a:off x="0" y="0"/>
            <a:ext cx="1932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Питомцы зоопар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нигу вошли рассказ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известной детско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писательницы о животных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которые родились и воспитывались в Московском зоопарке, а также невыдуманные случаи из жизни писательн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67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ниг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ры Чаплин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15200" y="57909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5720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267080" y="1600200"/>
            <a:ext cx="2509920" cy="373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981080" y="3200400"/>
            <a:ext cx="2283120" cy="351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576840" y="3581280"/>
            <a:ext cx="2567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УШКА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ПЕРЕСКАЗ ТЕКСТА)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да принесла маленькую чёрную собач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угливая собачка М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спуг Ли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щитница М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ушка – не труси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пиши, раздели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слова на слоги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шка была очень забав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бач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на бала пуглива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шка бросилась на большу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ба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на защитила Люд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inet-23</cp:lastModifiedBy>
  <dcterms:modified xsi:type="dcterms:W3CDTF">2008-12-08T14:40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