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4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32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8.jpeg" ContentType="image/jpeg"/>
  <Override PartName="/ppt/media/image19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D999-1897-47CE-8036-B301FF211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0967-5254-42EE-8B55-B541FA88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5A9E-38C9-4816-B167-AECF3FBD9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AA5D-E22A-42B4-94AE-F07764981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23DA-BC82-45F5-AF8F-13BA3C7D2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67CB-047D-4CE7-AD45-4FD17727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1807-B9F9-42D7-8740-2132C116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9E27-7654-4750-AD44-E0F3DC44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03B2-29F5-44E9-B0CE-9F074919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1AA0-FA3D-4208-8EA1-A8407CFD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CBCC-F008-48DC-9881-4CC2BF0A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8DEE-52FA-46DD-B347-5677D01A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C6AB-7FDB-4CF0-BCC6-261A0A26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87AE-B66B-474B-BB64-EEB10D71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F944-F759-4781-A074-91A390A6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E11A-2B0F-4372-B991-49DC80553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A3017-0BF9-4936-BCD3-438A807CE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F775-2680-4EFE-981A-16AC7593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28D6-E128-40CE-9313-A218AB45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C4BD-1685-48E4-95E5-1DD26621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74B7-94C8-47E0-B04C-1CFDD935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B1BA-0AFB-4804-8C9A-9D6DFDBB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09BF-E574-4652-97F5-F53CF2E9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9BB8-FF40-4729-947A-19B6BD80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1AF8-7373-4EBE-A165-606F2901DC5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1335-FB5D-4C71-B485-26661D273C3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3/9.htm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3/4.htm" TargetMode="External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17.jpeg"/><Relationship Id="rId8" Type="http://schemas.openxmlformats.org/officeDocument/2006/relationships/image" Target="../media/image17.jpe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3/7.htm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3/8.htm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3/2.htm" TargetMode="External"/><Relationship Id="rId2" Type="http://schemas.openxmlformats.org/officeDocument/2006/relationships/hyperlink" Target="file:///3/2.htm" TargetMode="External"/><Relationship Id="rId3" Type="http://schemas.openxmlformats.org/officeDocument/2006/relationships/hyperlink" Target="file:///3/3.htm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4500720" y="1773360"/>
            <a:ext cx="42480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В 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рыцарском замке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"/>
          <p:cNvSpPr/>
          <p:nvPr/>
        </p:nvSpPr>
        <p:spPr>
          <a:xfrm>
            <a:off x="4140360" y="26028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Narrow"/>
              </a:rPr>
              <a:t>§</a:t>
            </a:r>
            <a:r>
              <a:rPr b="0" i="1" lang="ru-RU" sz="2400" spc="-1" strike="noStrike">
                <a:solidFill>
                  <a:srgbClr val="ffffff"/>
                </a:solidFill>
                <a:latin typeface="Arial Narrow"/>
              </a:rPr>
              <a:t> 11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89" name="image005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4608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2. Снаряжение рыцаря.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45840" y="4941720"/>
            <a:ext cx="84978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енное дело стало занятием почти исключительно феодалов, и так было на протяжении многих веков. Феодал зачастую сражался всю жизнь.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Рыцарь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был вооружен большим мечом и длинным копьем; нередко он пользовался также боевым топором и </a:t>
            </a:r>
            <a:r>
              <a:rPr b="0" i="1" lang="en-US" sz="1800" spc="-1" strike="noStrike">
                <a:solidFill>
                  <a:srgbClr val="ffcc66"/>
                </a:solidFill>
                <a:latin typeface="Tahoma"/>
              </a:rPr>
              <a:t>палицей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— тяжелой дубиной с металлическим утолщенным концом. Большим щитом рыцарь мог прикрыться с головы до ног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995640" y="981000"/>
            <a:ext cx="4830840" cy="3800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24000" y="981000"/>
            <a:ext cx="35715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2. Снаряжение рыцаря.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580000" y="1125000"/>
            <a:ext cx="35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ело рыцаря защищала </a:t>
            </a:r>
            <a:r>
              <a:rPr b="0" i="1" lang="en-US" sz="1800" spc="-1" strike="noStrike">
                <a:solidFill>
                  <a:srgbClr val="ffcc66"/>
                </a:solidFill>
                <a:latin typeface="Tahoma"/>
              </a:rPr>
              <a:t>кольчуга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— рубаха, сплетенная из железных колец (иногда в 2—3 слоя) и доходившая до колен. Позднее кольчугу сменили </a:t>
            </a:r>
            <a:r>
              <a:rPr b="0" i="1" lang="en-US" sz="1800" spc="-1" strike="noStrike">
                <a:solidFill>
                  <a:srgbClr val="ffcc66"/>
                </a:solidFill>
                <a:latin typeface="Tahoma"/>
              </a:rPr>
              <a:t>латы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— доспехи из стальных пластин. На голову рыцарь надевал шлем, а в минуту опасности он опускал на лицо </a:t>
            </a:r>
            <a:r>
              <a:rPr b="0" i="1" lang="en-US" sz="1800" spc="-1" strike="noStrike">
                <a:solidFill>
                  <a:srgbClr val="ffcc66"/>
                </a:solidFill>
                <a:latin typeface="Tahoma"/>
              </a:rPr>
              <a:t>забрало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—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еталлическую пластинку с прорезями для глаз. Сражались рыцари на сильных, выносливых конях, которые также были защищены доспехами. Рыцаря сопровождали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оруженосец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 несколько вооруженных воинов, конных и пеших, — целая «боевая единица»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4152960" cy="48974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332000" y="907920"/>
            <a:ext cx="1490400" cy="360360"/>
          </a:xfrm>
          <a:prstGeom prst="rightArrowCallout">
            <a:avLst>
              <a:gd name="adj1" fmla="val 25002"/>
              <a:gd name="adj2" fmla="val 25000"/>
              <a:gd name="adj3" fmla="val 68931"/>
              <a:gd name="adj4" fmla="val 66667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 Narrow"/>
              </a:rPr>
              <a:t>Шлем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"/>
          <p:cNvSpPr/>
          <p:nvPr/>
        </p:nvSpPr>
        <p:spPr>
          <a:xfrm flipV="1" rot="10800000">
            <a:off x="3203280" y="1125360"/>
            <a:ext cx="1873080" cy="360720"/>
          </a:xfrm>
          <a:prstGeom prst="rightArrowCallout">
            <a:avLst>
              <a:gd name="adj1" fmla="val 25002"/>
              <a:gd name="adj2" fmla="val 25000"/>
              <a:gd name="adj3" fmla="val 86544"/>
              <a:gd name="adj4" fmla="val 66667"/>
            </a:avLst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 Narrow"/>
              </a:rPr>
              <a:t>Забрало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"/>
          <p:cNvSpPr/>
          <p:nvPr/>
        </p:nvSpPr>
        <p:spPr>
          <a:xfrm flipV="1" rot="10800000">
            <a:off x="3492360" y="1915200"/>
            <a:ext cx="1873440" cy="360360"/>
          </a:xfrm>
          <a:prstGeom prst="rightArrowCallout">
            <a:avLst>
              <a:gd name="adj1" fmla="val 25002"/>
              <a:gd name="adj2" fmla="val 25000"/>
              <a:gd name="adj3" fmla="val 86647"/>
              <a:gd name="adj4" fmla="val 66667"/>
            </a:avLst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 Narrow"/>
              </a:rPr>
              <a:t>Кольчуга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1844640"/>
            <a:ext cx="1490760" cy="360360"/>
          </a:xfrm>
          <a:prstGeom prst="rightArrowCallout">
            <a:avLst>
              <a:gd name="adj1" fmla="val 25002"/>
              <a:gd name="adj2" fmla="val 25000"/>
              <a:gd name="adj3" fmla="val 68948"/>
              <a:gd name="adj4" fmla="val 66667"/>
            </a:avLst>
          </a:prstGeom>
          <a:blipFill rotWithShape="0">
            <a:blip r:embed="rId6"/>
            <a:srcRect/>
            <a:tile tx="0" ty="0" sx="100000" sy="100000" algn="ctr"/>
          </a:blip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 Narrow"/>
              </a:rPr>
              <a:t>Латы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4" name=""/>
          <p:cNvSpPr/>
          <p:nvPr/>
        </p:nvSpPr>
        <p:spPr>
          <a:xfrm flipV="1" rot="10800000">
            <a:off x="3635280" y="3932640"/>
            <a:ext cx="1224000" cy="360360"/>
          </a:xfrm>
          <a:prstGeom prst="rightArrowCallout">
            <a:avLst>
              <a:gd name="adj1" fmla="val 25002"/>
              <a:gd name="adj2" fmla="val 22250"/>
              <a:gd name="adj3" fmla="val 56610"/>
              <a:gd name="adj4" fmla="val 58231"/>
            </a:avLst>
          </a:prstGeom>
          <a:blipFill rotWithShape="0">
            <a:blip r:embed="rId7"/>
            <a:srcRect/>
            <a:tile tx="0" ty="0" sx="100000" sy="100000" algn="ctr"/>
          </a:blip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 Narrow"/>
              </a:rPr>
              <a:t>Щит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"/>
          <p:cNvSpPr/>
          <p:nvPr/>
        </p:nvSpPr>
        <p:spPr>
          <a:xfrm>
            <a:off x="179280" y="3068640"/>
            <a:ext cx="2211480" cy="360360"/>
          </a:xfrm>
          <a:prstGeom prst="rightArrowCallout">
            <a:avLst>
              <a:gd name="adj1" fmla="val 25113"/>
              <a:gd name="adj2" fmla="val 25000"/>
              <a:gd name="adj3" fmla="val 63443"/>
              <a:gd name="adj4" fmla="val 81981"/>
            </a:avLst>
          </a:prstGeom>
          <a:blipFill rotWithShape="0">
            <a:blip r:embed="rId8"/>
            <a:srcRect/>
            <a:tile tx="0" ty="0" sx="100000" sy="100000" algn="ctr"/>
          </a:blip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 Narrow"/>
              </a:rPr>
              <a:t>Набедренник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"/>
          <p:cNvSpPr/>
          <p:nvPr/>
        </p:nvSpPr>
        <p:spPr>
          <a:xfrm>
            <a:off x="179280" y="3933720"/>
            <a:ext cx="2211480" cy="360360"/>
          </a:xfrm>
          <a:prstGeom prst="rightArrowCallout">
            <a:avLst>
              <a:gd name="adj1" fmla="val 25113"/>
              <a:gd name="adj2" fmla="val 25000"/>
              <a:gd name="adj3" fmla="val 63443"/>
              <a:gd name="adj4" fmla="val 81981"/>
            </a:avLst>
          </a:prstGeom>
          <a:blipFill rotWithShape="0">
            <a:blip r:embed="rId9"/>
            <a:srcRect/>
            <a:tile tx="0" ty="0" sx="100000" sy="100000" algn="ctr"/>
          </a:blip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 Narrow"/>
              </a:rPr>
              <a:t>Наколенник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"/>
          <p:cNvSpPr/>
          <p:nvPr/>
        </p:nvSpPr>
        <p:spPr>
          <a:xfrm>
            <a:off x="179280" y="5084640"/>
            <a:ext cx="1600200" cy="720720"/>
          </a:xfrm>
          <a:prstGeom prst="rightArrowCallout">
            <a:avLst>
              <a:gd name="adj1" fmla="val 11010"/>
              <a:gd name="adj2" fmla="val 12556"/>
              <a:gd name="adj3" fmla="val 22953"/>
              <a:gd name="adj4" fmla="val 78569"/>
            </a:avLst>
          </a:prstGeom>
          <a:blipFill rotWithShape="0">
            <a:blip r:embed="rId10"/>
            <a:srcRect/>
            <a:tile tx="0" ty="0" sx="100000" sy="100000" algn="ctr"/>
          </a:blip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 Narrow"/>
              </a:rPr>
              <a:t>Латные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 Narrow"/>
              </a:rPr>
              <a:t>башмаки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634560" y="2781360"/>
            <a:ext cx="1800360" cy="720720"/>
          </a:xfrm>
          <a:prstGeom prst="rightArrowCallout">
            <a:avLst>
              <a:gd name="adj1" fmla="val 11010"/>
              <a:gd name="adj2" fmla="val 16301"/>
              <a:gd name="adj3" fmla="val 25824"/>
              <a:gd name="adj4" fmla="val 69046"/>
            </a:avLst>
          </a:prstGeom>
          <a:blipFill rotWithShape="0">
            <a:blip r:embed="rId11"/>
            <a:srcRect/>
            <a:tile tx="0" ty="0" sx="100000" sy="100000" algn="ctr"/>
          </a:blip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 Narrow"/>
              </a:rPr>
              <a:t>Латные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 Narrow"/>
              </a:rPr>
              <a:t>перчатки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2. Снаряжение рыцаря.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292720" y="981000"/>
            <a:ext cx="34560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оевой конь, рыцарское снаряжение и снаряжение  путников стоили очень дорого. Поэтому нести рыцарскую службу мог землевладелец, которого обеспечивали всем необходимым зависимые крестьян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Феодалы готовились к военной службе с детства. Они постоянно упражнялись в фехтовании, верховой езде, борьбе, плавании и метании копья, учились приемам и тактике бо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4932360" y="5445000"/>
            <a:ext cx="19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Рыцарь в полном вооружении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4230720" cy="55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3. Развлечения рыцарей.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148000" y="1341360"/>
            <a:ext cx="3995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оспода редко сами занимались хозяйственными делами. Для этого в каждом имении они держали управляющих. Основное время феодалы отдавали войнам и воинским упражнениям, охоте и пирам. Любимые развлечения рыцаря — </a:t>
            </a:r>
            <a:r>
              <a:rPr b="0" lang="en-US" sz="1800" spc="-1" strike="noStrike">
                <a:solidFill>
                  <a:srgbClr val="ffcc66"/>
                </a:solidFill>
                <a:latin typeface="Tahoma"/>
              </a:rPr>
              <a:t>охота и турниры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- были связаны с военным дел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хота не только служила развлечением, но и помогала пополнять запасы пищи. Во время охоты можно было проявить отвагу и ловкость: борьба с разъяренным диким кабаном или раненым медведем была столь же опасна, как с вражеским воином, а погоня за оленями тренировала в верховой езд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4927680" y="6093000"/>
            <a:ext cx="7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Охота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398628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3. Развлечения рыцарей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3500280"/>
            <a:ext cx="86756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Турниры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— военные состязания рыцарей в силе и ловкости — устраивали короли и знатные феодалы. Там собиралось много зрителей, порой из нескольких стран. Знатные господа, судьи и дамы восседали на трибунах, а простой люд теснился за деревянным барьером вокруг арен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971640" y="907920"/>
            <a:ext cx="6892920" cy="23907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971640" y="4508640"/>
            <a:ext cx="3228840" cy="2114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4572000" y="4508640"/>
            <a:ext cx="324324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3. Развлечения рыцарей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787640" y="1052280"/>
            <a:ext cx="410508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пециальные глашатаи — </a:t>
            </a:r>
            <a:r>
              <a:rPr b="0" i="1" lang="en-US" sz="1800" spc="-1" strike="noStrike">
                <a:solidFill>
                  <a:srgbClr val="ffcc66"/>
                </a:solidFill>
                <a:latin typeface="Tahoma"/>
              </a:rPr>
              <a:t>герольды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— объявляли имена и девизы рыцарей, вступающих в бо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частники турнира, одетые в боевые доспехи, разъезжались в противоположные концы арены. По знаку судьи они мчались на конях навстречу друг к другу. Тупым турнирным копьем рыцарь старался выбить противника из седла. Иногда состязание кончалось серьезными увечьями или даже гибелью участников. Победитель получал в награду коня и доспехи побежденного противника. Изредка разыгрывалось сражение двух рыцарских отрядов, которые выстраивались цепь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3645000"/>
            <a:ext cx="36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Королевские герольды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"/>
          <p:cNvSpPr/>
          <p:nvPr/>
        </p:nvSpPr>
        <p:spPr>
          <a:xfrm>
            <a:off x="4284720" y="63086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Сражение отрядов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826920" y="4076640"/>
            <a:ext cx="3314880" cy="25671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826920" y="1125360"/>
            <a:ext cx="347040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3. Развлечения рыцарей.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1640" y="980640"/>
            <a:ext cx="441324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бычно турнир завершали пиром. И наоборот, торжественные пиры по случаю побед, коронаций, свадеб и других важных для знати событий включали зачастую не только застолье и танцы, но и турнирные состязания. Во время таких торжеств нередко происходили посвящения в рыцари, раздавались почести и награды. Вечерами обитатели замка собирались в общей зале, где горел огромный очаг — камин, играли в кости и шахматы, пили вино и пиво, решали свои семейные дела. Однообразную жизнь нарушали приезды гостей и праздники. На пирах в замках рекой лилось вино, столы ломились под тяжестью закусок. Звериные туши зажаривались в очагах целиком, на огромных вертелах. Обитателей замков и их гостей веселили шуты и карлики, приглашенные артисты и, конечно, поэты из числа свит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116000" y="566100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Выступление музыкантов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306720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3. Развлечения рыцарей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640" y="530028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детстве к будущим рыцарям приглашали учителей, которые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обучали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их пению, танцам, умению одеваться, поведению в обществе, но не всегда — чтению, письму, арифметик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96720" y="1738440"/>
            <a:ext cx="83520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4. «Позор и срам мне страшны — не кончина».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84360" y="1341360"/>
            <a:ext cx="29163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натные рыцари считали себя людьми «благородными», гордились древностью своих родов и числом знаменитых предков. Рыцарь имел свой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герб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отличительный знак рода и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девиз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краткое изречение, обычно объяснявшее смысл герб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6012000" y="5942160"/>
            <a:ext cx="17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Полный герб и примеры гербов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79280" y="1255680"/>
            <a:ext cx="3200400" cy="56023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492360" y="1268280"/>
            <a:ext cx="2457720" cy="28148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3492360" y="4194000"/>
            <a:ext cx="24512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4. «Позор и срам мне страшны — не кончина».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435280" y="1557000"/>
            <a:ext cx="3492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ыцари не стеснялись грабить побежденных, собственных крестьян и даже проезжих на больших дорогах. В то же время рыцарю полагалось презирать расчетливость, бережливость, но проявлять щедрость. Доходы, получаемые от крестьян, и военную добычу чаще всего тратили на подарки, пиры и угощения друзей, охоту, дорогую одежду, на содержание слуг и воин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4095720" cy="43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Введение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55280" y="3038040"/>
            <a:ext cx="8064360" cy="35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00"/>
                </a:solidFill>
                <a:latin typeface="Tahoma"/>
              </a:rPr>
              <a:t>К середине </a:t>
            </a:r>
            <a:r>
              <a:rPr b="1" i="1" lang="en-US" sz="1800" spc="-1" strike="noStrike">
                <a:solidFill>
                  <a:srgbClr val="ff9900"/>
                </a:solidFill>
                <a:latin typeface="Tahoma"/>
              </a:rPr>
              <a:t>XI </a:t>
            </a:r>
            <a:r>
              <a:rPr b="1" i="1" lang="ru-RU" sz="1800" spc="-1" strike="noStrike">
                <a:solidFill>
                  <a:srgbClr val="ff9900"/>
                </a:solidFill>
                <a:latin typeface="Tahoma"/>
              </a:rPr>
              <a:t>века в Европе установился общественный строй, который современные историки называют феодальны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ередина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I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 конца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III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ка -  время расцвета средневекового обществ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ласть принадлежала </a:t>
            </a:r>
            <a:r>
              <a:rPr b="0" i="1" lang="ru-RU" sz="1800" spc="-1" strike="noStrike">
                <a:solidFill>
                  <a:srgbClr val="ff9900"/>
                </a:solidFill>
                <a:latin typeface="Tahoma"/>
              </a:rPr>
              <a:t>землевладельцам-феодалам, светским </a:t>
            </a:r>
            <a:r>
              <a:rPr b="0" lang="ru-RU" sz="1800" spc="-1" strike="noStrike">
                <a:solidFill>
                  <a:srgbClr val="ff9900"/>
                </a:solidFill>
                <a:latin typeface="Tahoma"/>
              </a:rPr>
              <a:t>и </a:t>
            </a:r>
            <a:r>
              <a:rPr b="0" i="1" lang="ru-RU" sz="1800" spc="-1" strike="noStrike">
                <a:solidFill>
                  <a:srgbClr val="ff9900"/>
                </a:solidFill>
                <a:latin typeface="Tahoma"/>
              </a:rPr>
              <a:t>церковным.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давляющее большинство населения составляли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зависимые крестьяне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 главе стоял </a:t>
            </a:r>
            <a:r>
              <a:rPr b="0" i="1" lang="ru-RU" sz="1800" spc="-1" strike="noStrike">
                <a:solidFill>
                  <a:srgbClr val="ff9900"/>
                </a:solidFill>
                <a:latin typeface="Tahoma"/>
              </a:rPr>
              <a:t>монарх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единоличный правитель): король, в более мелком государстве — граф или герцо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вилегии и обязанности господ и крестьян оформились определенными обычаями, писанными законами и установлениями. Крестьяне и горожане не входили в феодальную лестницу, но также были связаны с господами договорными отношениями. Такие личностные отношения в виде договоров и клятв-обязательств — примечательная особенность западного Средневековь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771640" y="1052640"/>
            <a:ext cx="340056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4. «Позор и срам мне страшны — не кончина»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9640" y="494136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ругим важным качеством рыцаря считалась верность королю и сеньору. Это была его главная обязанность. А измена налагала клеймо позора на весь род предателя. «Кто своему сеньору изменяет, тот кару должен понести по праву» — сказано в одной из поэм. В сказаниях о рыцарях воспевались смелость, удаль, презрение к смерти, благородств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596268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4. «Позор и срам мне страшны — не кончина».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427280" y="1268280"/>
            <a:ext cx="439236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этот выработанный </a:t>
            </a:r>
            <a:r>
              <a:rPr b="0" i="1" lang="en-US" sz="1800" spc="-1" strike="noStrike">
                <a:solidFill>
                  <a:srgbClr val="ffcc66"/>
                </a:solidFill>
                <a:latin typeface="Tahoma"/>
              </a:rPr>
              <a:t>кодекс </a:t>
            </a:r>
            <a:r>
              <a:rPr b="0" lang="en-US" sz="1800" spc="-1" strike="noStrike">
                <a:solidFill>
                  <a:srgbClr val="ffcc66"/>
                </a:solidFill>
                <a:latin typeface="Tahoma"/>
              </a:rPr>
              <a:t>(законы) </a:t>
            </a:r>
            <a:r>
              <a:rPr b="0" i="1" lang="en-US" sz="1800" spc="-1" strike="noStrike">
                <a:solidFill>
                  <a:srgbClr val="ffcc66"/>
                </a:solidFill>
                <a:latin typeface="Tahoma"/>
              </a:rPr>
              <a:t>рыцарской чести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ходили и другие особые правила: рыцарь должен искать подвиги, бороться с врагами христианской веры, защищать честь дам, а также слабых и обиженных, особенно вдов и сирот, быть справедливым и галантны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о эти правила рыцарской чести применялись главным образом в отношениях между феодалами. Всех, кого считали «неблагородными», рыцари презирали, вели себя с ними высокомерно и жесток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прочем, и в отношениях между «благородными» людьми правила рыцарской чести соблюдались не всегда. В повседневной жизни, в семье, с вассалами и равными многие феодалы были грубы, жестоки и несдержанны, алчны и скупы, могли нанести бесчестье женщин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819720" y="5805360"/>
            <a:ext cx="27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Поклонение прекрасной даме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31147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Введение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аким образом средневековое общество состояло из трех больших групп людей. Образно люди того времени представляли его так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 rot="2921400">
            <a:off x="6351120" y="2585520"/>
            <a:ext cx="760680" cy="287640"/>
          </a:xfrm>
          <a:prstGeom prst="rightArrow">
            <a:avLst>
              <a:gd name="adj1" fmla="val 50000"/>
              <a:gd name="adj2" fmla="val 6611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" name=""/>
          <p:cNvSpPr/>
          <p:nvPr/>
        </p:nvSpPr>
        <p:spPr>
          <a:xfrm rot="7861200">
            <a:off x="2168640" y="2664360"/>
            <a:ext cx="866880" cy="236520"/>
          </a:xfrm>
          <a:prstGeom prst="rightArrow">
            <a:avLst>
              <a:gd name="adj1" fmla="val 50000"/>
              <a:gd name="adj2" fmla="val 91629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4191120" y="2657520"/>
            <a:ext cx="760320" cy="287280"/>
          </a:xfrm>
          <a:prstGeom prst="rightArrow">
            <a:avLst>
              <a:gd name="adj1" fmla="val 50000"/>
              <a:gd name="adj2" fmla="val 66165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6410" t="3985" r="6410" b="33552"/>
          <a:stretch/>
        </p:blipFill>
        <p:spPr>
          <a:xfrm>
            <a:off x="900000" y="3645000"/>
            <a:ext cx="1729080" cy="2592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rcRect l="42636" t="1668" r="8009" b="31416"/>
          <a:stretch/>
        </p:blipFill>
        <p:spPr>
          <a:xfrm>
            <a:off x="3851280" y="3716280"/>
            <a:ext cx="1728720" cy="2521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rcRect l="46551" t="0" r="0" b="25361"/>
          <a:stretch/>
        </p:blipFill>
        <p:spPr>
          <a:xfrm>
            <a:off x="6659640" y="3716280"/>
            <a:ext cx="1727280" cy="25210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35120" y="618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2" name=""/>
          <p:cNvSpPr/>
          <p:nvPr/>
        </p:nvSpPr>
        <p:spPr>
          <a:xfrm>
            <a:off x="3997800" y="6237360"/>
            <a:ext cx="149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 Narrow"/>
              </a:rPr>
              <a:t>Духовенство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"/>
          <p:cNvSpPr/>
          <p:nvPr/>
        </p:nvSpPr>
        <p:spPr>
          <a:xfrm>
            <a:off x="1059840" y="623736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 Narrow"/>
              </a:rPr>
              <a:t>Рыцарство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"/>
          <p:cNvSpPr/>
          <p:nvPr/>
        </p:nvSpPr>
        <p:spPr>
          <a:xfrm>
            <a:off x="6678360" y="62373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 Narrow"/>
              </a:rPr>
              <a:t>Крестьянство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Задание на урок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ahoma"/>
              </a:rPr>
              <a:t>?   Почему рыцарем мог быть только очень богатый человек   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1. Замок феодала.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27640" y="1557000"/>
            <a:ext cx="446544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5003640" y="836640"/>
            <a:ext cx="392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Начиная с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VIII 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века для защиты от нападений норманнов и венгров в Европе было построено немало замков. Постепенно каждый господин старался соорудить себе замок: в зависимости от возможностей — огромный или скромный.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Arial Narrow"/>
                <a:hlinkClick r:id="rId1"/>
              </a:rPr>
              <a:t>Замок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Arial Narrow"/>
                <a:hlinkClick r:id="rId2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— это жилище феодала и его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Arial Narrow"/>
                <a:hlinkClick r:id="rId3"/>
              </a:rPr>
              <a:t>крепость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900000" y="907920"/>
            <a:ext cx="3376800" cy="2535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900000" y="3789360"/>
            <a:ext cx="3372120" cy="2593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4788000" y="3789360"/>
            <a:ext cx="3382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1. Замок феодала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3280" y="1197000"/>
            <a:ext cx="4259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начала замки строили из дерева, позднее— из камня. Мощные стены с зубчатыми башнями служили надежной защитой. Замок часто возводили на холме или высокой скале, окружали широким рвом с водой. Иногда его строили на острове посреди реки или озера. Через ров или протоку перекидывали подъемный мост, на ночь и при нападении врага его поднимали на цепях. Из башни над воротами постоянно обозревала окрестности стража и, заметив в отдалении врага, трубила сигнал тревоги. Тогда воины спешили занять свои места на стенах и в башня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4105440" cy="47721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640880" y="595008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Воротная башня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1. Замок феодала.</a:t>
            </a: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76720" y="1125000"/>
            <a:ext cx="3610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тобы проникнуть в замок, надо было преодолеть   много   препятствий.   Враги   должны были  засыпать  ров,   по  открытому пространству одолеть холм, подойти к стенам, взобраться на них по приставленным штурмовым лестницам или разбить тараном дубовые, окованные железом ворот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 головы врагов защитники замка сбрасывали камни и бревна, лили кипяток и горячую смолу, метали копья, осыпали их стрелами. Зачастую нападавшим приходилось штурмовать вторую, еще более высокую стен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5293080" y="580536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Оборона замка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441648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1. Замок феодала.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356000" y="1600200"/>
            <a:ext cx="433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2987640" y="5950080"/>
            <a:ext cx="216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"/>
          <p:cNvSpPr/>
          <p:nvPr/>
        </p:nvSpPr>
        <p:spPr>
          <a:xfrm>
            <a:off x="5724360" y="1052640"/>
            <a:ext cx="3025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Над всеми постройками возвышалась главная башня — </a:t>
            </a:r>
            <a:r>
              <a:rPr b="0" i="1" lang="en-US" sz="1800" spc="-1" strike="noStrike">
                <a:solidFill>
                  <a:srgbClr val="ffcc66"/>
                </a:solidFill>
                <a:latin typeface="Arial Narrow"/>
              </a:rPr>
              <a:t>донжон.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В ней феодал со своими воинами и слугами мог выдержать долгую осаду, если другие укрепления уже захвачены. Внутри башни один над другим были расположены залы. В подвальном помещении делали колодец и хранили запасы продуктов. Рядом в сыром и темном подземелье томились узники. Из подвала обычно рыли тайный подземный ход, который выводил к реке или лесу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5" name=""/>
          <p:cNvSpPr/>
          <p:nvPr/>
        </p:nvSpPr>
        <p:spPr>
          <a:xfrm>
            <a:off x="758880" y="472428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Донжон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1901880" cy="2951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195640" y="1143000"/>
            <a:ext cx="314316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1. Замок феодала.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867280" y="1197000"/>
            <a:ext cx="30592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динственная железная дверь, ведущая в башню, была расположена высоко над землей. Если удавалось ее разбить, то приходилось ве­сти борьбу за каждый этаж. По приставным лестницам надо было пробираться через люки, которые закрывались тяжелыми каменными плитами. На случай захвата башни в толще стены была сделана винтовая лестница; по ней хозяин замка вместе с семьей и воинами мог спуститься в спасительный подземный ход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1900080" y="2048040"/>
            <a:ext cx="2057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1" name=""/>
          <p:cNvSpPr/>
          <p:nvPr/>
        </p:nvSpPr>
        <p:spPr>
          <a:xfrm>
            <a:off x="1042920" y="508464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Замок в Испании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519300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15:44:01Z</dcterms:created>
  <dc:creator>СЕРГЕЙ</dc:creator>
  <dc:description/>
  <dc:language>en-US</dc:language>
  <cp:lastModifiedBy>люба</cp:lastModifiedBy>
  <dcterms:modified xsi:type="dcterms:W3CDTF">2012-09-30T13:39:15Z</dcterms:modified>
  <cp:revision>441</cp:revision>
  <dc:subject/>
  <dc:title>Слайд 1</dc:title>
</cp:coreProperties>
</file>