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1893-4ECA-4D26-BD38-00BB439E69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72FF-6516-4737-8CCD-2A1B28706AB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9DF-1A78-461E-9DCC-24AEC423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FDF-96B6-46D5-8B07-26EA8E8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3BD-5077-49EC-825F-C50F42BE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3A4-39EE-4FB0-AE30-152DE64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A5E4-9C4F-476F-B998-56424CE9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0A45-A17D-486B-ACD8-6AEF632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93C-3C46-49EE-A19E-9BBE982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20B-BF49-4B69-AF44-DC1EEF54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04A-C41C-4D05-A275-79160DD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A04-27C9-4E8C-9596-834DA0B6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2647-0108-40A5-B9FF-2FE114B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273-2441-4989-8E19-1905E72C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0D1-FBEB-41FB-87EF-C703281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8DC-652F-4BAC-A5F7-05AB684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7DBB-270E-45C6-8271-4670DAC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18F-96FB-4D7E-A22E-36144773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6FB2-9F8F-42FF-995C-87DEAC9B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3C70-513D-49FC-95CC-7D3E93F2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011C-A99A-4F55-8467-90B3E1F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677A-B058-463E-BDC6-60FC0B7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424E-566C-49E9-B6EE-A83C4B0E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163C-3439-48BE-B68C-DA29F67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436-544B-422F-8540-341719C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4EC3-11D5-4391-AE23-042DE5DA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F3B6-8469-40AB-B7A0-26F96C1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8C28-BAE9-4CC8-9239-03FDBB9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8EFB-C739-43F0-84E8-7C36967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F4DF-B139-4E4E-8D03-D5BB614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99CC-6874-4E1C-ACEC-A8510D61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66A4-B284-46C4-BEA6-E8828EF2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3D1B-041D-46D3-A221-DFC0FA8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94C9-9892-496C-83A7-86F3405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088F-B84F-48A0-98C1-2B71C1AA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2B4-D358-4516-9697-AD6DAEF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CDDB-DADA-4CAE-BE17-42F4BD8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BB20-9CDF-4401-BA94-3F47AD0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46E0-AC62-4DA2-8C5E-2229B9A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8816-7FF0-46C5-8563-F70C2CC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6436-E245-461E-83A7-1A403E6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2C2C0-3BD8-4A1D-B94A-9703D05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7A20-02F4-4D23-882B-54D86CB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64E4-06A1-4567-B97A-9C71FA67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D972-6341-4BE7-8555-C69AD201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AFCD-10D0-4426-94D5-A03942D4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CED-F9CE-4590-A120-2B176D0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5632-05A2-422D-829C-43DAD27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F00A-3132-4E1C-ACD1-AEEC82F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4E95E-50B2-4553-99F0-3C49AAAF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C6F9-FD7F-43F8-BBAD-50F00D1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0912-C6D0-4350-9FC0-3D9A5A2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36B9-A990-4A13-B82E-82DDE0B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64A2-A2BD-44A8-A478-9387944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9B97A-AE44-4C00-93B1-A5C336C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53E9-2982-4A9C-8E1A-66BC9F0B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D668-6FCC-431E-880A-6E01AF2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C2F-0763-448C-8E20-C4E7F2C6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8145-8DF1-475B-9837-2140023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336EA-C422-4312-93BA-E2852105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3ED3-6B5C-4217-9BE7-AB1C6FA3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E97E-798C-430C-8205-0DCBAD2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5425-A87D-4097-95A1-494785E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57306-E850-49B5-AABA-2D35B46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A065-98AE-45BE-B5EF-4CAD9CB3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04B3-3452-4BAC-B93D-8E66FC9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13AA-476E-4EEB-B02F-BBE31FD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C584-97FF-4EC2-8D9E-98E2660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2BA-65F5-471C-B4BC-01ADACD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E7D1E-09CF-4BC5-ABF6-F305CFB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44C7-824C-4935-8DED-D567AEA5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E763-D9AF-49F3-AE6C-4FD109CB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4D4E-12D1-4DE8-A7DE-BC356806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2D2D-D259-4BB0-9849-2F2646F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362C-61D7-4E6D-B16C-2ED1EC1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38F5-372D-4EFF-8620-B7C8BA9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1F6D8-B571-40D4-848E-F25F615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2824-F182-4970-8F9E-86F0F394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915C5-3DAB-477A-84E1-3EAD201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CA2-702B-45B1-B489-4BAB11B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1A65-4435-4E0B-9BA7-540E303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A690-6EEB-47F6-BEB2-0C96AE5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FC52-4913-4D5A-92EA-F7A8F7F9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53950-73CB-435A-B757-1F2110DD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EF8B9-78FA-47F5-A85E-3341FFBE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A49-B49E-4121-9F18-C3E017B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6A0-2D25-4715-A27C-9E94C894FC5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942E-A58A-4E56-9DCA-7FB0FF436F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551-345B-4FCD-9FA6-B2C8D19822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1CF-7C4A-48EF-8CCF-5C424A2B053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E4A-E35F-4B8C-A5DE-D064B3E0F01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D7BE-81BA-46BF-8279-D126F22EA49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225-F60A-4B34-B885-C73398673C0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103320" y="1023840"/>
            <a:ext cx="9119880" cy="19274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324000" y="32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  УЧЕНИК  2  КЛАСС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ШЕНКО АНДР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Прямоугольник 6"/>
          <p:cNvSpPr/>
          <p:nvPr/>
        </p:nvSpPr>
        <p:spPr>
          <a:xfrm>
            <a:off x="1476360" y="573264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ктябрь  2011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. Иншинск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-60480" y="152280"/>
            <a:ext cx="9101160" cy="1262160"/>
          </a:xfrm>
          <a:prstGeom prst="rect">
            <a:avLst/>
          </a:prstGeom>
          <a:ln w="0">
            <a:noFill/>
          </a:ln>
        </p:spPr>
      </p:pic>
      <p:pic>
        <p:nvPicPr>
          <p:cNvPr id="341" name="Объект 2" descr=""/>
          <p:cNvPicPr/>
          <p:nvPr/>
        </p:nvPicPr>
        <p:blipFill>
          <a:blip r:embed="rId2"/>
          <a:stretch/>
        </p:blipFill>
        <p:spPr>
          <a:xfrm>
            <a:off x="1187280" y="156528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2908440" y="-6480"/>
            <a:ext cx="6064200" cy="126864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8" descr=""/>
          <p:cNvPicPr/>
          <p:nvPr/>
        </p:nvPicPr>
        <p:blipFill>
          <a:blip r:embed="rId2"/>
          <a:stretch/>
        </p:blipFill>
        <p:spPr>
          <a:xfrm>
            <a:off x="0" y="1484280"/>
            <a:ext cx="2771640" cy="53737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916000" y="1483920"/>
            <a:ext cx="622764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– индейское раст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не, в Южной Америке, его называли «тома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ходы, которые привезли  томат в Европу, не знали, что это овощ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Рисунок 9" descr=""/>
          <p:cNvPicPr/>
          <p:nvPr/>
        </p:nvPicPr>
        <p:blipFill>
          <a:blip r:embed="rId3"/>
          <a:stretch/>
        </p:blipFill>
        <p:spPr>
          <a:xfrm>
            <a:off x="0" y="1474920"/>
            <a:ext cx="278280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2981160" y="109440"/>
            <a:ext cx="5991480" cy="11653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6" descr=""/>
          <p:cNvPicPr/>
          <p:nvPr/>
        </p:nvPicPr>
        <p:blipFill>
          <a:blip r:embed="rId2"/>
          <a:stretch/>
        </p:blipFill>
        <p:spPr>
          <a:xfrm>
            <a:off x="0" y="1484280"/>
            <a:ext cx="2843280" cy="5373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916000" y="1483920"/>
            <a:ext cx="622764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цы сажали томаты у себя на клумбах, в саду – для красо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матов, привезённых из Южной Америки, плоды были жёлтые, мелкие, похожие на яблоч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о 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!» - восхитились итальянц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о» - по-итальянски яблоко, «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» - золот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ндейский томат стал называться помидор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2908440" y="-6480"/>
            <a:ext cx="6132240" cy="12812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916000" y="1412640"/>
            <a:ext cx="6227640" cy="541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решили попробовать «золотое яблоко» португальц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нравило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чалось переселение помидоров  в огоро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2"/>
          <a:srcRect l="7472" t="0" r="16929" b="0"/>
          <a:stretch/>
        </p:blipFill>
        <p:spPr>
          <a:xfrm>
            <a:off x="0" y="1484280"/>
            <a:ext cx="284328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2676600" y="49320"/>
            <a:ext cx="6076800" cy="13827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916360" y="1483920"/>
            <a:ext cx="619920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го и того же овоща – два названия. Томатный сок, томатный соус, маринованные томаты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купая свежие плоды, мы говорим про них – помидор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тя сейчас жёлтые и оранжевые сорта помидоров встречаются реже, чем красные, своё  «золотое» название помидоры сохранили до сих по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2916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2548080" y="-6480"/>
            <a:ext cx="6681600" cy="12812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916000" y="1483920"/>
            <a:ext cx="622764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что томат обладает удивительным вкусом, он ещё и полез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атах содержатся  почти все виды витаминов, особенно  богаты витаминами С и 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4" descr=""/>
          <p:cNvPicPr/>
          <p:nvPr/>
        </p:nvPicPr>
        <p:blipFill>
          <a:blip r:embed="rId2"/>
          <a:stretch/>
        </p:blipFill>
        <p:spPr>
          <a:xfrm>
            <a:off x="6480" y="1484280"/>
            <a:ext cx="283680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2610000" y="-6480"/>
            <a:ext cx="6600600" cy="1206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916000" y="1483920"/>
            <a:ext cx="622764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з нас видел и крупные, и мелкие помидоры, а кушал и ранние, и позд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отечественная наука создаёт всё новые  и новые сорта помидоров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ислу лучших относятся: «Чудо рынка», «Бычье сердце», «Черр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2"/>
          <a:stretch/>
        </p:blipFill>
        <p:spPr>
          <a:xfrm>
            <a:off x="0" y="1484280"/>
            <a:ext cx="2843280" cy="1440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"/>
          <p:cNvPicPr/>
          <p:nvPr/>
        </p:nvPicPr>
        <p:blipFill>
          <a:blip r:embed="rId3"/>
          <a:stretch/>
        </p:blipFill>
        <p:spPr>
          <a:xfrm>
            <a:off x="0" y="2924280"/>
            <a:ext cx="2843280" cy="1800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"/>
          <p:cNvPicPr/>
          <p:nvPr/>
        </p:nvPicPr>
        <p:blipFill>
          <a:blip r:embed="rId4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2719440" y="-122400"/>
            <a:ext cx="5888160" cy="15130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916000" y="1483920"/>
            <a:ext cx="622764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пелых плодов томата готовят разнообразные блюда: консервы, салаты, соусы, со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матов жёлтого, оранжевого, красного, зелёного цветов готовят не только вкусные и полезные, но и красивые блюд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2916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2749680" y="-23760"/>
            <a:ext cx="6400800" cy="13827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, фаршированные яйцами и луком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помидор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яйц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елёный л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0 г майонез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ёрный молотый пере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ль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елень петрушк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стья китайского  салат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мидоров вырезать корзиночку.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сварить вкрутую, смешать с луком.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ую смесь посолить, добавить перец и заправить майонезом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 заполнить подготовленным фаршем.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ть блюдо листьями салата и веточками петрушк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2"/>
          <a:srcRect l="0" t="5780" r="0" b="7950"/>
          <a:stretch/>
        </p:blipFill>
        <p:spPr>
          <a:xfrm>
            <a:off x="2916360" y="1484280"/>
            <a:ext cx="622764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3:03:27Z</dcterms:created>
  <dc:creator>Admin</dc:creator>
  <dc:description/>
  <dc:language>en-US</dc:language>
  <cp:lastModifiedBy>User</cp:lastModifiedBy>
  <dcterms:modified xsi:type="dcterms:W3CDTF">2013-02-26T16:29:27Z</dcterms:modified>
  <cp:revision>24</cp:revision>
  <dc:subject/>
  <dc:title>«ЗОЛОТОЕ ЯБЛОКО»</dc:title>
</cp:coreProperties>
</file>