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3.png" ContentType="image/png"/>
  <Override PartName="/ppt/media/image10.gif" ContentType="image/gif"/>
  <Override PartName="/ppt/media/image11.jpeg" ContentType="image/jpeg"/>
  <Override PartName="/ppt/media/image9.gif" ContentType="image/gif"/>
  <Override PartName="/ppt/media/image8.gif" ContentType="image/gif"/>
  <Override PartName="/ppt/media/image21.wmf" ContentType="image/x-wm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5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6.gif" ContentType="image/gif"/>
  <Override PartName="/ppt/media/image15.gif" ContentType="image/gif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F99-A9B6-41C2-9E0B-B603A038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371-43BD-4329-A947-55F7FA8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393-4A09-4092-9A30-DE8B347B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8D4-780C-4F30-900E-DB13B4DA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A58-FC5B-4641-89CE-0E9F627E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331D-FA35-4C78-A24A-23F9D29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658-FC0C-4D79-B649-F52A484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A20-229B-49DD-ACE0-9DCCE39C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CE2-6DF1-4F5C-8C34-0600E75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93E-C6A2-4A65-802C-E4F78C4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C068-C418-439D-BEF6-B659EA6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976-2BA8-4275-9C66-81513627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98F-A550-4A12-BB4A-0191F7C6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9549-7464-45C1-A751-5E9FC34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BE51-C5F5-4016-AC26-AF207B8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CE33-FE6A-49EC-8632-8FD292D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2C19-C62C-4A29-8040-D4CD3DA7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8CF8-956C-4A88-B763-A87E3374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49F1-7546-4229-8B86-D35E83E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BE23-D589-4BC0-A4A0-DBB5A52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54F3-BDB3-44B4-A87B-3E78F14C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011E-D94D-4646-8D56-0920046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48F-0B2C-445B-9A2E-17E6AF6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F235-9D95-4DE6-AE98-2A7832DC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107A-9CAA-4E5A-B096-B3ADBAD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8668-528F-45F0-9914-256080C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0255-BAFE-4559-A3E4-8028E3F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659F-E080-425B-B5FB-4C81BFB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546F-A745-4843-B4FC-38546191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B207-2123-40B0-9516-D8CFA905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0831-9D71-4672-8351-507AC736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77FF-864C-4FC7-BFB9-CD7189C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7F14-2AB6-4D65-97A7-828C751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DB8-314E-4DC6-A692-5DD5013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F22C-FC5F-42D4-9D89-A542C3D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E8BF-554D-4000-AF94-CD85705D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6B6D-462A-4092-A8E0-9E4AEB4B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FE1E5-24CC-4DE1-AC6A-8B43865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5F7F-E019-4CCA-A56A-F79B84D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A206-B56D-4AEC-A31A-55B338A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8D50-30E1-4EFA-97BC-C429F3D6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2995-AF2E-4F6A-BDF6-D1904662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0246-5C3A-4144-9F6A-B95A478A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1205-0F19-474C-8A63-3E4334B9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97D-5608-44A8-B0B4-E3EAFFD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9B3B-2707-4334-8FC7-A1E7D81F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42D0-9765-44E1-84B5-1186B90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0FBA-60DD-4DFE-96F7-FAE76E27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3CAD6-0C03-4D5A-829D-8C548734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2E1A-144C-4DE3-98A7-BC1987F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9BEE-357B-45C7-BED1-8F6121F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BF3FB-D0EF-4478-8922-94DAC896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D4335-E27E-4476-87DF-54D074C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3B4B-3FF4-470A-9D3B-1FCA10B4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3FAE-5E9E-41B9-B796-D7493A5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9A8-A9C5-4F53-A8F9-0B7A94A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2369-A092-4640-BDD6-F436BED3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57EC-35F4-4021-92C5-7741D1A7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3640-9EAE-42EE-8209-E7984D7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DFF1-AD29-4E73-BF99-A33AF4F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E321-7664-44C6-946C-D80FB52F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96F0-FC8A-4DB5-8D80-3ADF67C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D50CB-C586-417C-AE64-7F9781EF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6F2F-6AFF-46D9-8B7E-1AEED4E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4C4B0-3185-47A4-A44E-FA34AB5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1591-15AD-4D68-BC2B-A7A1C1C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976-B135-42AA-B7E6-FD36742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F93B-E1D0-4537-B035-655741EB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5855-7C98-4DA7-9F26-BCF81164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6E57-BB7C-4CAF-B156-31CC59A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67BD-FCD2-402E-AD99-49598200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7A439-A2DD-4D48-96E8-DC3DCDEF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01D1-9E64-4DD7-A8CB-66FD33D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74D5-E28B-48CA-A04A-CB4FCB92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3B35-2BBA-4BA0-84A4-0EF01D7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63701-0621-416A-BF8A-E9F7F96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E3E3-6A14-46FA-8A50-8C7D657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EA7-88CB-44A9-8E4B-4A01565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C190-283D-4188-BE3D-3BFD958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0212-E0E8-4E50-95FA-001B2D6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EEE4-133E-4BDE-B3F1-481CDA6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4275-4FEF-4D93-A638-2B9C1FC7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1B70-9BDA-463C-BE50-03C6B46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DD4-7A70-4F21-8BF3-92BDC1B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192-16AA-40F0-A62B-FBF6AA9F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4834-5D2D-4034-A887-4308FF25964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90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E4F2-59E1-471E-B3E8-C569BBE112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3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11C9-29C9-4285-8837-E5E1A18B0BB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6DF-E588-4BC1-9793-1F22C4FEFE2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1EA-3AA6-4FA1-B9C2-ABADEDFF339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084-03BD-4FB0-AF70-92B7F9B10D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Отметка. Оценка.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,учителя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Учитель"/>
          <p:cNvPicPr/>
          <p:nvPr/>
        </p:nvPicPr>
        <p:blipFill>
          <a:blip r:embed="rId2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36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37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37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39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39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5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 (8-1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 (10 зад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Львова</cp:lastModifiedBy>
  <dcterms:modified xsi:type="dcterms:W3CDTF">2013-02-27T12:28:19Z</dcterms:modified>
  <cp:revision>87</cp:revision>
  <dc:subject/>
  <dc:title>PowerPoint Template</dc:title>
</cp:coreProperties>
</file>