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49D-8E90-46A1-80BF-468C4082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416-0B7A-4CCE-8418-07AFDB34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6BD-550B-4707-879D-5E2CDF4D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3E6-8E45-4EDB-9CCD-AD6C761C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8CD12-DECD-4832-B75F-8E76976C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0B417-5116-4EC1-8E33-BDA95953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247AB-6FDF-448D-AD26-E8F5F398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401B1-F4AD-4AE2-83E1-997BE7D5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E145A-1C97-49D7-8167-A9AB4124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978FD-DF49-49F5-809D-0AFF5699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C99A6-22A9-4F98-B025-AC06EA24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83E-5D77-4D8E-8116-98942177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C98D8-6009-4DFD-9E94-20675DBD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725AB-9C70-48F1-AC1D-A37449C1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E4385-EF3D-4A05-A34D-0CC25760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4D18C-6610-4026-A469-37A909BC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91F72-D5A1-4539-8DCB-1222F05C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D3C-5FCC-4F3D-A9B8-3C3B1D83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2DD-DC44-4533-9873-B152D2A3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08D6-CF16-4D7C-9E72-3320CDE7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D39-096C-4C6E-9160-4F65F22F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E67-5ED3-4CA2-91F5-52ACDDAE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3D7-9D03-41E9-AD77-23B7CF70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BC0-5130-453A-B185-37C810E4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6138-2B15-4499-916A-6D4655132A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B793-7C02-454C-8D91-458EDC41DF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НТАРКТИ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муниципального бюджетного общеобразовательного учреждения «Средняя общеобразователь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кола №21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валёва Галина Александ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. Старый Оскол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ЖЕЙМС КУК-АНГЛИЙСКИЙ МОРЕПЛАВАТЕ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 обошел океан Южного полушария на высоких широтах и сделал это таким образом, что неоспоримо отверг возможность существования материка, который если и может быть обнаружен, то лишь близ полюса, в местах, недоступных для плавания... Я смело могу сказать, что ни один человек никогда не решится проникнуть на юг дальше, чем это удалось мне"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65680" y="1905120"/>
            <a:ext cx="38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. Амундсен собирается к южному полюс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лавная тягловая сила-собачьи упряж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9760" y="2063880"/>
            <a:ext cx="403704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ервый покоритель Южного полю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4 декабря 1911г. норвежец Р.Амундсен достиг Южного полю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06880" y="1905120"/>
            <a:ext cx="332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оберт Скотт-18января 1912г. достиг Южного полю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гиб в 19 км от склада пищи и топлива во время сильной бури. Только через 10 месяцев была обнаружена последняя стоянка. Обледенелый труп Р. Скота найден в занесенной снегом палатке. Под головой у него лежала записная книжка. До последней минуты он не прекращал работу, записывая свои последние впечатления. До последней минуты он обращался со словами к своей жене и сыну. Его последние слова – «Бороться и искат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йти и не сдаваться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65600" y="1916280"/>
            <a:ext cx="34783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ЛИМА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26792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рик называют мировым полюсом холода и ветров. Абсолютный минимум температур воздуха, зарегистрированный на станции "Восток", - 89,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июль 1983 г.). Здесь находится полюс холода всей планеты. Средняя годовая температура в центральных районах очень низкая: -55-5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Зимой средняя температура -6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и ниже, коротким антарктическим летом -3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  <a:ea typeface="Tahoma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… -5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и лишь на побережье, (в частности на Антарктическом полуострове ) до +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ЕЗДЕХОДЫ ЗА РАБОТ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102280" y="2882880"/>
            <a:ext cx="3132000" cy="2158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364000" y="2924280"/>
            <a:ext cx="3048120" cy="2200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68360" y="1341360"/>
            <a:ext cx="8207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ивотный мир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ипичные представи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ли-пингви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2735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5215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МПЕРАТОРСКИЕ ПИНГВИ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358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ингвины обычно держатся большими стаями и гнездятся большими колониями — тысячами пар. Пингвины — настоящие морские животные. Взрослые птицы кормятся мелкой рыбой, головоногими моллюсками, рачками. Они выводят птенцов в самое суровое время года — антарктической зим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ВАДЬБ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мка императорского пингвина откладывает единственное яйцо величиной с крупный апельсин прямо на лед и насиживает его стоя, подсунув под яйцо лапки, прикрыв его сверху складкой кожи живо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443480" y="1916280"/>
            <a:ext cx="42433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нтаркти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0% пресной воды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мый высокий матер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мый холод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мые сильные вет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т постоянного на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она антарктических пусты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2735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МПЕРАТОРСКИЙ ПИНГВ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рез несколько часов самка передает яйцо самцу, который также держит его на лапах 60—65 суток. Мать в это время уходит за добычей корма в море, а отец голодает и теряет до 40 процентов массы тела. Возвращаясь, самка по голосу находит своего самца. К этому моменту из яйца уже вылупляется птен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тенцов самки тоже носят на лапах. Малыши покрыты густым пухом, беспомощны и развиваются медленно. Родители по очереди кормят птенца, отрыгивая пищу ему в рот. Нередко голодный птенец с жадностью залезает клювом в раскрытую глотку кормильца, чтобы съесть положенную долю белой кашицы— «птичьего молок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НЫЕ ПРОЦЕДУ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8036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ИЗНЬ, СВЯЗАННАЯ С МОР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ЛЬБАТРОС И КАШАЛО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65600" y="1905120"/>
            <a:ext cx="2863800" cy="1982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42920" y="3933720"/>
            <a:ext cx="7372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рской леопар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05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ЕОПАРДЫ ЯВЛЯЮТСЯ ОБЪЕКТОМ ДОБЫЧИ И ИСТРЕБ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0247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ИНИЙ КИ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50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мое широкое изучение Антарктиды проводилось в период МГГ (1957–58гг). Было построено 68 научно-исследовательских стан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3772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коритель Антаркти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атерик не принадлежит ни одному государств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048280" y="1905120"/>
            <a:ext cx="323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ВРЕМЕННЫЕ ПОКОРИТЕЛИ АНТАРКТИДЫ «ЕДИНОРОСС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76834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КОРИТЕЛИ АНТАРКТИ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НЯЗЬ МОНАКО АЛЬБЕРТ-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33960" y="1905120"/>
            <a:ext cx="307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НТАРК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Южная полярная область, включающая Антарктиду с прилегающими к ней островами и океаном до 50-6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ю.ш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9760" y="2173320"/>
            <a:ext cx="403704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КОРИТЕЛИ-ОДИНОЧ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ЁДОР КОНЮХОВ-ПОКОРИТЕЛЬ ЭВЕРЕСТА, СЕВЕРНОГО И ЮЖНОГО ПОЛЮ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9760" y="2674800"/>
            <a:ext cx="403704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ЛЕПОЙ ПОКОРИТЕЛЬ АНТАРКТИ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377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НВАЛИДЫ-КОЛЯСОЧ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496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ЗОНОВОЕ ПЯТНО НАД АНТАРКТИД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3772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53440" cy="6264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16000" y="0"/>
            <a:ext cx="7201080" cy="476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ЛЁДНАЯ АНТАРКТ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ЛЯРНЫЙ ДЕН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южном полюсе восходом и заходом Солнца можно любоваться только один раз в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292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 берегу океа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Место, где образуются айсберг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94080" y="1916280"/>
            <a:ext cx="43927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ЙСБЕРГ В ОКЕАН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8594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ЕРВООТКРЫВАТЕЛИ АНТАРКТИ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пытные офицеры российского военного флота капитан 2 ранга Ф. Ф. Беллинсгаузен и лейтенант М. П. Лазаре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9760" y="2575080"/>
            <a:ext cx="403704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Восток» и «Мирный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терик был открыт в 1820г на двух шлюпах: "Восток" и "Мирный«. Оба корабля были построены в 1818 году, оборудованы и оснащены для такого трудного и опасного пла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9760" y="2019240"/>
            <a:ext cx="403704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7:13:55Z</dcterms:created>
  <dc:creator>Admin</dc:creator>
  <dc:description/>
  <dc:language>en-US</dc:language>
  <cp:lastModifiedBy>Admin</cp:lastModifiedBy>
  <dcterms:modified xsi:type="dcterms:W3CDTF">2013-02-28T05:37:40Z</dcterms:modified>
  <cp:revision>9</cp:revision>
  <dc:subject/>
  <dc:title>Слайд 1</dc:title>
</cp:coreProperties>
</file>