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C16-B4C4-45DB-A4C4-32214EFF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926-A3D8-48F8-AE18-1CD5A333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B0E-2E23-421F-8DC0-3855A178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2D5-CA3B-40CD-B197-B9EFD4EF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751E-0590-4B9A-873F-76AC7673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451D-BB4C-48EB-AE69-6D619E5C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BBAA-14EE-4764-B98F-2240DC1D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2684-5765-4BCA-B92E-484421DB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D12D-3EE8-4966-9541-6B7C7A7B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0328-F899-41F4-9BFD-9B742674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8108-FAD9-46DE-81AC-B56AA8C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685-47B5-45F6-82BA-F3CC831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8442-46BB-499B-B57E-9417786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FECD-825E-47BE-A8F4-B845AA0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4351-5251-4867-8D6F-FD835DA8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E4D6-8DE9-4C1B-88DC-076CA21D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9B76-6D54-495C-A9D5-DB51EFA4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710-9083-41DA-AE9E-7904CE6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5EF-C27C-4227-8EE8-5A5FAC3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2FA-55B1-4867-B730-40FAE5B6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8E9-D59D-47C9-955E-70073C48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341-A901-46E7-A9C1-B49E7C99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CE9-AA8A-4FED-8D0E-EE471D7E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9CA-E59B-4AB6-A6D0-992FA32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EC57-306B-4A21-B51B-C1387286B5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1225-6E96-4649-BF7D-B7EE3A583A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79280" y="620640"/>
            <a:ext cx="8639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ТАТАРСТАН ШӘҺӘРЛӘРЕНӘ СӘЯХӘТ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2" descr="karta"/>
          <p:cNvPicPr/>
          <p:nvPr/>
        </p:nvPicPr>
        <p:blipFill>
          <a:blip r:embed="rId1"/>
          <a:stretch/>
        </p:blipFill>
        <p:spPr>
          <a:xfrm>
            <a:off x="1042920" y="1557360"/>
            <a:ext cx="70772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АРЧ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ӨЙ ЭШ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уган як турында мәкальләр язарг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КАЗАН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17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23 нче апр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атарстан шәһәрләренә  сәяхә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атарстан шәһәрләренә  рәхим итеге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Бирелгән сүзләрдән җөмләләр төзеп язарга кирәк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,дәүләт,бай,һәм,зур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Беренче,Татарстанның президенты,М.Ш.Шәймиев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ның ,Казан,башкаласы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Казанда,бар,цирк,Кремль,Сөембикә манарасы,Кол Шәриф мәчет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дагы ,елга ,иң,зур,Идел елгасы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ЧИСТАЙ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1200240"/>
            <a:ext cx="80647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ӘЛМӘТ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2835" b="0"/>
          <a:stretch/>
        </p:blipFill>
        <p:spPr>
          <a:xfrm>
            <a:off x="539640" y="1297080"/>
            <a:ext cx="7921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ЯР ЧАЛЛЫ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324080"/>
            <a:ext cx="8209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ШАЯН БАЛАЛАР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62864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игрәк шаян инде бе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Тик тормыйбыз бер дә бе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Кулларны күтәрәбе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Аннары төшерәбе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ашны уңга борабы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Аннан сулга карыйбы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Һәм сикерә башлыйбы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Шул арада иелеп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асарга өлгерәбе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Тирән итеп сулыйбы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Ял итәргә туктыйбы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АЛАБУГ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1278000"/>
            <a:ext cx="8064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ТҮБӘН КАМ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02476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7:40:30Z</dcterms:created>
  <dc:creator>Миляуша</dc:creator>
  <dc:description/>
  <dc:language>en-US</dc:language>
  <cp:lastModifiedBy>Миляуша</cp:lastModifiedBy>
  <dcterms:modified xsi:type="dcterms:W3CDTF">2010-04-22T18:24:41Z</dcterms:modified>
  <cp:revision>16</cp:revision>
  <dc:subject/>
  <dc:title>Слайд 1</dc:title>
</cp:coreProperties>
</file>