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28.png" ContentType="image/png"/>
  <Override PartName="/ppt/media/image29.jpeg" ContentType="image/jpeg"/>
  <Override PartName="/ppt/media/image11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7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5.jpeg" ContentType="image/jpeg"/>
  <Override PartName="/ppt/media/image8.jpeg" ContentType="image/jpeg"/>
  <Override PartName="/ppt/media/image38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8f8f8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D5B8-5C30-4A4A-AA77-A6745F806D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EB4D-2840-4D63-9EA4-978FFDF1103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5EA8-28C8-4B51-8C63-7CDFED25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FC79-70B1-4DFF-9385-FB5C9A19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5D9-15F6-420C-85A7-252E62A7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9BEB-4354-49DA-A14F-03957BB1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8A78-A99C-49C2-9AC5-0146D1B7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3F73-BFAE-4C79-B2CF-57FE834A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0C87-4857-4361-BF0A-12732F45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F896-5DD3-4E6F-9822-F5F3AEBF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837D-C2A0-43AB-8BBE-58E399A2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5A52-D12A-4AC6-A15B-1ACC2DFC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6503-67C6-4794-B340-998E5A39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8FF-6CD6-462D-988B-810A7CE3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15F2-451F-431C-9EFC-D991B13A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8AA6-CEF3-43C6-8E2C-AA6469E4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CACE-1219-4B05-8EC1-7B2CE9F6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BBE5-170F-430B-BBE4-EF39A858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4E4F-CFBE-4499-A8B9-6807A2C8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0EE-0862-4FC4-8E86-259EED50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D5A0-DCE9-4778-842F-D0CBE6C2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D9B1-5C9D-43FF-B8E4-ED090259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B746-9D88-47A5-AF4D-FA5DB7C7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D1FC-0220-4F56-AB4B-2B6A984D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AE7-83B8-4F0E-9404-7D1F1241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A3CA-43CC-4405-8067-16A63654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deded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ed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deded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D884-EEA9-4826-80E2-EAABE89EBF25}" type="slidenum">
              <a:rPr b="0" lang="en-US" sz="1200" spc="-1" strike="noStrike">
                <a:solidFill>
                  <a:srgbClr val="eded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deded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ed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deded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B811-4012-4266-9F87-624867177FFC}" type="slidenum">
              <a:rPr b="0" lang="en-US" sz="1200" spc="-1" strike="noStrike">
                <a:solidFill>
                  <a:srgbClr val="eded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qwas.ru/images/h_5746311_12_200.jpg" TargetMode="External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vvv.ru/photos/img/11760.jpg" TargetMode="External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719280" y="-225360"/>
            <a:ext cx="7705440" cy="115884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3" descr=""/>
          <p:cNvPicPr/>
          <p:nvPr/>
        </p:nvPicPr>
        <p:blipFill>
          <a:blip r:embed="rId2"/>
          <a:stretch/>
        </p:blipFill>
        <p:spPr>
          <a:xfrm>
            <a:off x="2687760" y="628560"/>
            <a:ext cx="4114800" cy="1273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Documents and Settings\Admin\Рабочий стол\Новая папка\0_882f_16e7cf37_XL.jpg"/>
          <p:cNvPicPr/>
          <p:nvPr/>
        </p:nvPicPr>
        <p:blipFill>
          <a:blip r:embed="rId3"/>
          <a:stretch/>
        </p:blipFill>
        <p:spPr>
          <a:xfrm>
            <a:off x="2362320" y="1828800"/>
            <a:ext cx="5105160" cy="382896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5"/>
          <p:cNvSpPr/>
          <p:nvPr/>
        </p:nvSpPr>
        <p:spPr>
          <a:xfrm>
            <a:off x="2743200" y="578016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ыполнил ученик 8 «В» класса 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У «СОШ №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 Старый Оско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ущё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Алексе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Documents and Settings\Admin\Рабочий стол\Новая папка\article-1137863-0351878A000005DC-601_634x420_popup.jpg"/>
          <p:cNvPicPr/>
          <p:nvPr/>
        </p:nvPicPr>
        <p:blipFill>
          <a:blip r:embed="rId1"/>
          <a:stretch/>
        </p:blipFill>
        <p:spPr>
          <a:xfrm>
            <a:off x="-38160" y="0"/>
            <a:ext cx="1028232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5" descr=""/>
          <p:cNvPicPr/>
          <p:nvPr/>
        </p:nvPicPr>
        <p:blipFill>
          <a:blip r:embed="rId2"/>
          <a:stretch/>
        </p:blipFill>
        <p:spPr>
          <a:xfrm>
            <a:off x="-365040" y="5711760"/>
            <a:ext cx="5827680" cy="1158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Documents and Settings\Admin\Рабочий стол\Новая папка\anim0021.jpg"/>
          <p:cNvPicPr/>
          <p:nvPr/>
        </p:nvPicPr>
        <p:blipFill>
          <a:blip r:embed="rId1"/>
          <a:stretch/>
        </p:blipFill>
        <p:spPr>
          <a:xfrm>
            <a:off x="-1143000" y="0"/>
            <a:ext cx="1143936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5" descr=""/>
          <p:cNvPicPr/>
          <p:nvPr/>
        </p:nvPicPr>
        <p:blipFill>
          <a:blip r:embed="rId2"/>
          <a:stretch/>
        </p:blipFill>
        <p:spPr>
          <a:xfrm>
            <a:off x="-853920" y="4925880"/>
            <a:ext cx="4840200" cy="317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Documents and Settings\Admin\Рабочий стол\Новая папка\pz_1130.jpg"/>
          <p:cNvPicPr/>
          <p:nvPr/>
        </p:nvPicPr>
        <p:blipFill>
          <a:blip r:embed="rId1"/>
          <a:stretch/>
        </p:blipFill>
        <p:spPr>
          <a:xfrm>
            <a:off x="0" y="0"/>
            <a:ext cx="1029348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4" descr=""/>
          <p:cNvPicPr/>
          <p:nvPr/>
        </p:nvPicPr>
        <p:blipFill>
          <a:blip r:embed="rId2"/>
          <a:stretch/>
        </p:blipFill>
        <p:spPr>
          <a:xfrm>
            <a:off x="755640" y="2322360"/>
            <a:ext cx="8547120" cy="1249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Documents and Settings\Admin\Рабочий стол\Новая папка\68b571863240bb26887a53d02f0459f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4" descr=""/>
          <p:cNvPicPr/>
          <p:nvPr/>
        </p:nvPicPr>
        <p:blipFill>
          <a:blip r:embed="rId2"/>
          <a:stretch/>
        </p:blipFill>
        <p:spPr>
          <a:xfrm>
            <a:off x="-858960" y="4925880"/>
            <a:ext cx="4010040" cy="215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Documents and Settings\Admin\Рабочий стол\Новая папка\Arctic_Man_800x493.jpg"/>
          <p:cNvPicPr/>
          <p:nvPr/>
        </p:nvPicPr>
        <p:blipFill>
          <a:blip r:embed="rId1"/>
          <a:stretch/>
        </p:blipFill>
        <p:spPr>
          <a:xfrm>
            <a:off x="-990720" y="0"/>
            <a:ext cx="1112544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5" descr=""/>
          <p:cNvPicPr/>
          <p:nvPr/>
        </p:nvPicPr>
        <p:blipFill>
          <a:blip r:embed="rId2"/>
          <a:stretch/>
        </p:blipFill>
        <p:spPr>
          <a:xfrm>
            <a:off x="165240" y="-60480"/>
            <a:ext cx="8881920" cy="1371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Картинка 63 из 2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Заголовок 5" descr=""/>
          <p:cNvPicPr/>
          <p:nvPr/>
        </p:nvPicPr>
        <p:blipFill>
          <a:blip r:embed="rId3"/>
          <a:stretch/>
        </p:blipFill>
        <p:spPr>
          <a:xfrm>
            <a:off x="165240" y="128520"/>
            <a:ext cx="8088120" cy="987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Картинка 50 из 2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4" descr=""/>
          <p:cNvPicPr/>
          <p:nvPr/>
        </p:nvPicPr>
        <p:blipFill>
          <a:blip r:embed="rId3"/>
          <a:stretch/>
        </p:blipFill>
        <p:spPr>
          <a:xfrm>
            <a:off x="-457200" y="-212760"/>
            <a:ext cx="6278400" cy="1371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2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Admin\Рабочий стол\Новая папка\winterice41280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5" descr=""/>
          <p:cNvPicPr/>
          <p:nvPr/>
        </p:nvPicPr>
        <p:blipFill>
          <a:blip r:embed="rId2"/>
          <a:stretch/>
        </p:blipFill>
        <p:spPr>
          <a:xfrm>
            <a:off x="682560" y="4535640"/>
            <a:ext cx="7871040" cy="1950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Admin\Рабочий стол\Новая папка\fjl-21.JPG"/>
          <p:cNvPicPr/>
          <p:nvPr/>
        </p:nvPicPr>
        <p:blipFill>
          <a:blip r:embed="rId1"/>
          <a:stretch/>
        </p:blipFill>
        <p:spPr>
          <a:xfrm>
            <a:off x="-495360" y="0"/>
            <a:ext cx="1031724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5" descr=""/>
          <p:cNvPicPr/>
          <p:nvPr/>
        </p:nvPicPr>
        <p:blipFill>
          <a:blip r:embed="rId2"/>
          <a:stretch/>
        </p:blipFill>
        <p:spPr>
          <a:xfrm>
            <a:off x="585720" y="-158760"/>
            <a:ext cx="8448840" cy="99396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6" descr=""/>
          <p:cNvPicPr/>
          <p:nvPr/>
        </p:nvPicPr>
        <p:blipFill>
          <a:blip r:embed="rId3"/>
          <a:stretch/>
        </p:blipFill>
        <p:spPr>
          <a:xfrm>
            <a:off x="-152280" y="1731960"/>
            <a:ext cx="9302760" cy="68724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7" descr=""/>
          <p:cNvPicPr/>
          <p:nvPr/>
        </p:nvPicPr>
        <p:blipFill>
          <a:blip r:embed="rId4"/>
          <a:stretch/>
        </p:blipFill>
        <p:spPr>
          <a:xfrm>
            <a:off x="-171360" y="2951280"/>
            <a:ext cx="9321840" cy="118260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8" descr=""/>
          <p:cNvPicPr/>
          <p:nvPr/>
        </p:nvPicPr>
        <p:blipFill>
          <a:blip r:embed="rId5"/>
          <a:stretch/>
        </p:blipFill>
        <p:spPr>
          <a:xfrm>
            <a:off x="-152280" y="4475160"/>
            <a:ext cx="9381960" cy="68724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9" descr=""/>
          <p:cNvPicPr/>
          <p:nvPr/>
        </p:nvPicPr>
        <p:blipFill>
          <a:blip r:embed="rId6"/>
          <a:stretch/>
        </p:blipFill>
        <p:spPr>
          <a:xfrm>
            <a:off x="-152280" y="6072120"/>
            <a:ext cx="9455040" cy="68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Documents and Settings\Admin\Рабочий стол\Новая папка\ooo.gif"/>
          <p:cNvPicPr/>
          <p:nvPr/>
        </p:nvPicPr>
        <p:blipFill>
          <a:blip r:embed="rId1"/>
          <a:stretch/>
        </p:blipFill>
        <p:spPr>
          <a:xfrm>
            <a:off x="0" y="-81000"/>
            <a:ext cx="9144000" cy="693900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3" descr=""/>
          <p:cNvPicPr/>
          <p:nvPr/>
        </p:nvPicPr>
        <p:blipFill>
          <a:blip r:embed="rId2"/>
          <a:stretch/>
        </p:blipFill>
        <p:spPr>
          <a:xfrm>
            <a:off x="-189000" y="4187880"/>
            <a:ext cx="9339480" cy="2676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2329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1298520"/>
            <a:ext cx="9229680" cy="379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C:\Documents and Settings\Admin\Рабочий стол\Новая папка\sianie3.jpg"/>
          <p:cNvPicPr/>
          <p:nvPr/>
        </p:nvPicPr>
        <p:blipFill>
          <a:blip r:embed="rId1"/>
          <a:stretch/>
        </p:blipFill>
        <p:spPr>
          <a:xfrm>
            <a:off x="1219320" y="1447920"/>
            <a:ext cx="7315200" cy="4495680"/>
          </a:xfrm>
          <a:prstGeom prst="rect">
            <a:avLst/>
          </a:prstGeom>
          <a:ln w="0">
            <a:noFill/>
          </a:ln>
        </p:spPr>
      </p:pic>
      <p:pic>
        <p:nvPicPr>
          <p:cNvPr id="119" name="Заголовок 1" descr=""/>
          <p:cNvPicPr/>
          <p:nvPr/>
        </p:nvPicPr>
        <p:blipFill>
          <a:blip r:embed="rId2"/>
          <a:stretch/>
        </p:blipFill>
        <p:spPr>
          <a:xfrm>
            <a:off x="-1762200" y="-73080"/>
            <a:ext cx="7980480" cy="127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Admin\Рабочий стол\Новая папка\Arktika.jpg"/>
          <p:cNvPicPr/>
          <p:nvPr/>
        </p:nvPicPr>
        <p:blipFill>
          <a:blip r:embed="rId1"/>
          <a:stretch/>
        </p:blipFill>
        <p:spPr>
          <a:xfrm>
            <a:off x="0" y="0"/>
            <a:ext cx="975528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2" descr=""/>
          <p:cNvPicPr/>
          <p:nvPr/>
        </p:nvPicPr>
        <p:blipFill>
          <a:blip r:embed="rId2"/>
          <a:stretch/>
        </p:blipFill>
        <p:spPr>
          <a:xfrm>
            <a:off x="847800" y="1841400"/>
            <a:ext cx="8015040" cy="1378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Admin\Рабочий стол\Новая папка\x_b2b0d8d9.jpg"/>
          <p:cNvPicPr/>
          <p:nvPr/>
        </p:nvPicPr>
        <p:blipFill>
          <a:blip r:embed="rId1"/>
          <a:stretch/>
        </p:blipFill>
        <p:spPr>
          <a:xfrm>
            <a:off x="0" y="0"/>
            <a:ext cx="10233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3"/>
          <p:cNvSpPr/>
          <p:nvPr/>
        </p:nvSpPr>
        <p:spPr>
          <a:xfrm>
            <a:off x="0" y="43038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редние температуры самого холодного зимнего месяца — января — колеблются от —2, —4 °C в южной части Арктического района до —25 °C на севере. Средние температуры июня +2, +3 °C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nts and Settings\Admin\Рабочий стол\Новая папка\169558_image_large.jpg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4" descr=""/>
          <p:cNvPicPr/>
          <p:nvPr/>
        </p:nvPicPr>
        <p:blipFill>
          <a:blip r:embed="rId2"/>
          <a:stretch/>
        </p:blipFill>
        <p:spPr>
          <a:xfrm>
            <a:off x="755640" y="2322360"/>
            <a:ext cx="8547120" cy="1249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ущёв Алексей 8"В"</dc:creator>
  <dc:description/>
  <dc:language>en-US</dc:language>
  <cp:lastModifiedBy>Admin</cp:lastModifiedBy>
  <dcterms:modified xsi:type="dcterms:W3CDTF">2013-02-28T06:22:22Z</dcterms:modified>
  <cp:revision>23</cp:revision>
  <dc:subject/>
  <dc:title>Арктика</dc:title>
</cp:coreProperties>
</file>