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image18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A41-60D6-40D1-A4B5-C52EF1A3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9F6-5258-47DC-A784-9359D0F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2BB-CF9D-4E7A-A5E8-48435BD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2A6-772C-4B72-A848-71EB85D2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8B3-266B-4CA9-A1B5-B85F939B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84D9-93EE-4BCD-81D7-7A61438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A471-9467-4E00-9928-8C19C1E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746-A62C-4A1A-84DF-5B1E5237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2E8C-FD33-4208-966C-F2D080FD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5399-E132-4A12-8032-42CF4DE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304D-43CC-4D86-8E4C-41EF7BD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D9D-F54F-4AAB-92F6-CF440DF9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A02-021D-458E-9A5D-BF15CAD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BA35-88FD-4BFF-A510-0690E5A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EBF-41F0-484D-9C5B-48DB614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A9C-D375-4877-AC08-DBA725EB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718B-BD33-4E62-B36F-009121E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5D47-03B2-461B-9C6B-2A438600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9AE7-01FB-4186-8642-DFF6A2BE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217C-EB76-4CF9-99CB-3AB93B4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AA7D-8261-4BBA-9ABE-D66C77CD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36CD-C0D3-4E15-9581-96B5D4B7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784-F336-460E-BCD7-506984D5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AF21-D7DD-461B-AF6A-90801D7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561A-E763-442E-A6F2-A9191C6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1050-B64A-4281-90F9-981E0B2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E27D-3083-4723-ABEE-5E76D3B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D1DE-E7B8-425D-997E-A941F812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F32A-56A2-4E5D-8461-8724D123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4E99-C01A-4678-AE50-BBBDF212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6C97-6B17-4962-9C4D-BBBE69EA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268B-87C1-4FC2-AC2E-D0846A6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631C-88C7-493D-99CF-17C02A2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384-CF42-404E-BC84-31976CF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A1FC7-3B65-4166-86BC-52DC232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CBA0-358F-4A0A-B212-A9C3A95B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A009-C20E-4AD6-80F0-65503A4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4E48-AC64-4D35-A5D3-54B863C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1599-D452-4E5B-ADB3-AC9C700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C3FE-29CC-4D78-93EE-829C00D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0F12-BF08-42D4-A560-FE9BA93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6B55-3358-412B-B4D0-5F78168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216B-117C-424D-A54E-066D5D32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6B3E-BD3A-4B7A-9EEF-F0C7ECA3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517-D2BB-41C0-A0F6-881F358C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BB4C-AA04-4222-8C47-BAF68D25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BEA0-8D1F-487D-9C29-9FEEDBBB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2D6E5-D558-4D95-9BA0-96A53D5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2447-EAC3-48F2-9DCC-A96308BB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A7F99-8637-4B2A-837E-E7F2A25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7F6F-D2E3-46FD-8C5E-5F054FC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C172-3D23-4F05-99D1-AC9C875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361F-B07A-4AF0-9B5C-F833683C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FAF13-A4B9-428D-BBF1-F3B0770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8ADE-EE2A-4B97-95AE-FE8B4339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818-C779-46F0-A6DE-5DB2FF0A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3A3E-6E90-4975-9170-88E2825B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BEB9-4106-4AD8-B4AB-B88246F9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90E22-D686-45F3-BCC7-6DF8194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909B-9E7D-4C9E-B0EF-FD83772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BBE5-4E41-498A-95E3-9D9563E1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B9F8-CF3D-4101-A56E-22F4F01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0FE7-D693-4BFE-A71A-D685904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7DCAF-AB16-470A-840A-5DDE6DD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CE07C-6DA7-427E-B81B-0C9716E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A372-52DA-487D-A37D-4E65E3D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79-EE58-44B3-BFAA-5AD6BAF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8C6A-D6C7-4E90-B65A-58DE0A32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BEA4-FE70-49E8-B9DE-D4ED5727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4744-6FA6-499D-8761-E0874072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41E8-0CCD-4601-9DB9-CB863EF5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20577-69F0-4505-B2E2-6434E3B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5277E-4B8F-4724-91BA-D8CA52C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3877-A008-4177-9A66-3AEA242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B0A60-5ED8-46CE-A9DD-0228C902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8344-513F-4516-90F0-6FF89D6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5F06-CAAA-4653-B55F-F1EB77F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D24-1184-4C0C-94B9-EB19BCE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4298-242D-43FD-8C8B-473F1FD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89FD-4F84-4BF0-82D7-3E1E60A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4D94-368E-4262-8782-95C3930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A2BC-1C38-4198-B83A-67F51242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4AEB-9366-4A8B-BFE0-C26E19AD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9B13-D71E-44E8-A0A5-3550D954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59841-A348-4800-8A23-19E299AC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5354-40F2-4C04-BF90-859B810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0B4B-4EE2-4332-AA9F-1417792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0606-2BDF-4042-82CD-9B7A50B4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B68-284F-48C0-870E-5B9D3BC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6D32D-FBD0-4F9D-9550-A65A7F9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3460-07A3-43D7-93E3-42F0D2D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F357D-F2B0-4D54-90C9-E712314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DBB3-8721-42F9-9335-DA68AA5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9B47-AEA4-4279-9FEE-59300DA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51FD-719B-4DF3-997D-A927019B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1D8F8-2742-43D1-9651-5A8B3F6E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22D-7659-448F-AEEE-FBE9110B7878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59B-E48D-4615-B9FD-9E717DF4828E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2E8-F0D5-4B94-A737-31C750A2ECAD}" type="slidenum">
              <a:rPr b="0" lang="ru-RU" sz="14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DA3D-A080-4FC3-9083-C571383BAFE2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66E3-4031-40F6-9F4C-B8FE9980586F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145-A831-46EB-9479-923060B9FEE6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95C-2AAD-4398-8D7E-2856547625D4}" type="slidenum">
              <a:rPr b="0" lang="ru-RU" sz="14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E0E-60F4-4270-974A-82607C0550F1}" type="slidenum">
              <a:rPr b="0" lang="ru-RU" sz="14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eacher-of-russia.ru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71360" y="5143320"/>
            <a:ext cx="7127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МОУ «Средняя общеобразовательная школа №3 г.Козьмодемьянска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учитель технологии, Пакутина Т.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332000" y="378936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ехнология проведения и оценивания Мастер-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мк2"/>
          <p:cNvPicPr/>
          <p:nvPr/>
        </p:nvPicPr>
        <p:blipFill>
          <a:blip r:embed="rId1"/>
          <a:stretch/>
        </p:blipFill>
        <p:spPr>
          <a:xfrm>
            <a:off x="2484360" y="476280"/>
            <a:ext cx="403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onstantia"/>
              </a:rPr>
              <a:t>В ходе мастер – класса участники: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ают разработки по теме мастер – клас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ствуют в обсуждении полученных результато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дают вопросы, получают консульт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лагают для обсуждения собственные проблемы, вопросы, разработк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ысказывают свои предложения по решению обсуждаемых пробл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2" name="Picture 9" descr="O6fd8540dd52b317af79dd3c7846e2c49"/>
          <p:cNvPicPr/>
          <p:nvPr/>
        </p:nvPicPr>
        <p:blipFill>
          <a:blip r:embed="rId1"/>
          <a:stretch/>
        </p:blipFill>
        <p:spPr>
          <a:xfrm rot="1133400">
            <a:off x="4642920" y="2060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nstantia"/>
              </a:rPr>
              <a:t>Структура проведения Мастер - класса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45370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зентация педагогического опыта педагога-масте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ставление системы учебных занят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(занятие)                           или имитационная игра            со слушателями                            с демонстрацией приемов эффективной работы                 с учащимися (воспитанникам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4" descr="Edu01"/>
          <p:cNvPicPr/>
          <p:nvPr/>
        </p:nvPicPr>
        <p:blipFill>
          <a:blip r:embed="rId1"/>
          <a:stretch/>
        </p:blipFill>
        <p:spPr>
          <a:xfrm>
            <a:off x="5796000" y="1700280"/>
            <a:ext cx="302400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nstantia"/>
              </a:rPr>
              <a:t>Презентация опыта Мастера</a:t>
            </a:r>
            <a:endParaRPr b="0" lang="en-US" sz="4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1120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основание основных идей педагогической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арактеристика творческой лаборатории Масте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пределение проблем          и перспекти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писание системы уроков (занятий) в режиме эффективной педагогической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8" name="Picture 4" descr="Копия (2) TEACHER"/>
          <p:cNvPicPr/>
          <p:nvPr/>
        </p:nvPicPr>
        <p:blipFill>
          <a:blip r:embed="rId1"/>
          <a:stretch/>
        </p:blipFill>
        <p:spPr>
          <a:xfrm>
            <a:off x="324000" y="256536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nstantia"/>
              </a:rPr>
              <a:t>Представление занятия</a:t>
            </a:r>
            <a:endParaRPr b="0" lang="en-US" sz="4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сказ педагога           о проекте занят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пределение основных приемов и методов работ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ткая характеристика результативности используемой технолог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просы педагогу        по изложенному проект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nstantia"/>
              </a:rPr>
              <a:t>Проведение занятия или имитационной игры со слушателями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13712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монстрация приемов эффективной работы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 учащимися (воспитанникам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4" descr="bs00559_"/>
          <p:cNvPicPr/>
          <p:nvPr/>
        </p:nvPicPr>
        <p:blipFill>
          <a:blip r:embed="rId1"/>
          <a:stretch/>
        </p:blipFill>
        <p:spPr>
          <a:xfrm>
            <a:off x="4915080" y="2349360"/>
            <a:ext cx="39049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nstantia"/>
              </a:rPr>
              <a:t>Моделирование 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амостоятельная работа слушателей по разработке собственной модели урока (занятия) в режиме продемонстрированной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суждение авторских моделей урока (занятия) слушателям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4" descr="258"/>
          <p:cNvPicPr/>
          <p:nvPr/>
        </p:nvPicPr>
        <p:blipFill>
          <a:blip r:embed="rId1"/>
          <a:stretch/>
        </p:blipFill>
        <p:spPr>
          <a:xfrm>
            <a:off x="6923160" y="115920"/>
            <a:ext cx="20415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nstantia"/>
              </a:rPr>
              <a:t>Рефлексия </a:t>
            </a:r>
            <a:endParaRPr b="0" lang="en-US" sz="4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172960"/>
            <a:ext cx="76741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искуссия по результатам совместной деятельности Мастера  и слушат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лючительное слово Мастера по всем замечаниям  и предложения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4" descr="s112"/>
          <p:cNvPicPr/>
          <p:nvPr/>
        </p:nvPicPr>
        <p:blipFill>
          <a:blip r:embed="rId1"/>
          <a:stretch/>
        </p:blipFill>
        <p:spPr>
          <a:xfrm flipH="1">
            <a:off x="7020000" y="62064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onstantia"/>
              </a:rPr>
              <a:t>Мастер-класс         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onstantia"/>
              </a:rPr>
              <a:t>как форма обучения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е мотивации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познавательной потреб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имулирование познавательного интере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ланирование, самоорганизац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самоконтроль педагогической дея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уальный подход к каждому участник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2" name="Picture 4" descr="отккрытая книга"/>
          <p:cNvPicPr/>
          <p:nvPr/>
        </p:nvPicPr>
        <p:blipFill>
          <a:blip r:embed="rId1"/>
          <a:stretch/>
        </p:blipFill>
        <p:spPr>
          <a:xfrm>
            <a:off x="7093080" y="476280"/>
            <a:ext cx="1401480" cy="10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</a:t>
            </a:r>
            <a:br>
              <a:rPr sz="2900"/>
            </a:b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ридумайте проблему, вопрос, парадокс, вводящие в вашу тему занятия и представляющие интерес для «учащихся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</a:t>
            </a:r>
            <a:br>
              <a:rPr sz="2900"/>
            </a:b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6. Включите фантазию, придумайте интересный замысел мастер-класс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. Составьте подробный план занят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onstantia"/>
              </a:rPr>
              <a:t>Что такое мастер-класс?</a:t>
            </a:r>
            <a:endParaRPr b="0" lang="en-US" sz="48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англий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лучший в какой-либо области +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</a:t>
            </a:r>
            <a:br>
              <a:rPr sz="2900"/>
            </a:b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8. Тщательно проверьте технику и работу микрофонов перед началом мастер-класс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9. Расставьте стулья, столы и доску так, как вам нуж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0. Когда все готово — дайте команду организаторам, что можно начин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5050"/>
                </a:solidFill>
                <a:latin typeface="Constantia"/>
              </a:rPr>
              <a:t>. </a:t>
            </a:r>
            <a:r>
              <a:rPr b="1" lang="ru-RU" sz="2600" spc="-1" strike="noStrike">
                <a:solidFill>
                  <a:srgbClr val="ff5050"/>
                </a:solidFill>
                <a:latin typeface="Constantia"/>
              </a:rPr>
              <a:t>Содержатель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ущность предлагаемой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идея реализации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актуальность и нау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пособность к методическому и научному обобще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6" descr="214624_html_m53baace6"/>
          <p:cNvPicPr/>
          <p:nvPr/>
        </p:nvPicPr>
        <p:blipFill>
          <a:blip r:embed="rId1"/>
          <a:stretch/>
        </p:blipFill>
        <p:spPr>
          <a:xfrm>
            <a:off x="5435640" y="3789360"/>
            <a:ext cx="2762280" cy="252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214624_html_m53baace6"/>
          <p:cNvPicPr/>
          <p:nvPr/>
        </p:nvPicPr>
        <p:blipFill>
          <a:blip r:embed="rId2"/>
          <a:stretch/>
        </p:blipFill>
        <p:spPr>
          <a:xfrm>
            <a:off x="2987640" y="4365720"/>
            <a:ext cx="2087640" cy="1904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214624_html_m53baace6"/>
          <p:cNvPicPr/>
          <p:nvPr/>
        </p:nvPicPr>
        <p:blipFill>
          <a:blip r:embed="rId3"/>
          <a:stretch/>
        </p:blipFill>
        <p:spPr>
          <a:xfrm>
            <a:off x="971640" y="4967280"/>
            <a:ext cx="1584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95280" y="112500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600" spc="-1" strike="noStrike">
                <a:solidFill>
                  <a:srgbClr val="ff5050"/>
                </a:solidFill>
                <a:latin typeface="Constantia"/>
              </a:rPr>
              <a:t>. Деятельност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приемы мотивации участников мастер-кла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пособность к распространению педагогического опы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технолог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оптимальность используемых средств решения пробл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5" descr="яб"/>
          <p:cNvPicPr/>
          <p:nvPr/>
        </p:nvPicPr>
        <p:blipFill>
          <a:blip r:embed="rId1"/>
          <a:stretch/>
        </p:blipFill>
        <p:spPr>
          <a:xfrm>
            <a:off x="971640" y="4160880"/>
            <a:ext cx="2663640" cy="2081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sprav"/>
          <p:cNvPicPr/>
          <p:nvPr/>
        </p:nvPicPr>
        <p:blipFill>
          <a:blip r:embed="rId2"/>
          <a:stretch/>
        </p:blipFill>
        <p:spPr>
          <a:xfrm>
            <a:off x="5364000" y="4005360"/>
            <a:ext cx="27352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5050"/>
                </a:solidFill>
                <a:latin typeface="Constantia"/>
              </a:rPr>
              <a:t>3. Личностные качест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пособность к импровиз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тепень воздействия на аудитор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эрудиц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стиль общ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артист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общая культу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0" name="Picture 5" descr="091222121815-large"/>
          <p:cNvPicPr/>
          <p:nvPr/>
        </p:nvPicPr>
        <p:blipFill>
          <a:blip r:embed="rId1"/>
          <a:stretch/>
        </p:blipFill>
        <p:spPr>
          <a:xfrm>
            <a:off x="4067280" y="3068640"/>
            <a:ext cx="45860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onstantia"/>
              </a:rPr>
              <a:t>Полезные адреса </a:t>
            </a:r>
            <a:endParaRPr b="0" lang="en-US" sz="6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www.teacher-of-russia.ru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558ed5"/>
                </a:solidFill>
                <a:uFillTx/>
                <a:latin typeface="Constantia"/>
              </a:rPr>
              <a:t>http://apkpro.com/ikio/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Идея мастер-класса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обуче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совершенствова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5" descr="мк"/>
          <p:cNvPicPr/>
          <p:nvPr/>
        </p:nvPicPr>
        <p:blipFill>
          <a:blip r:embed="rId1"/>
          <a:stretch/>
        </p:blipFill>
        <p:spPr>
          <a:xfrm>
            <a:off x="468360" y="2997360"/>
            <a:ext cx="3313080" cy="2966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мк3"/>
          <p:cNvPicPr/>
          <p:nvPr/>
        </p:nvPicPr>
        <p:blipFill>
          <a:blip r:embed="rId2"/>
          <a:stretch/>
        </p:blipFill>
        <p:spPr>
          <a:xfrm>
            <a:off x="4211640" y="3284640"/>
            <a:ext cx="40021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nstantia"/>
              </a:rPr>
              <a:t>Я знаю, как это делать. Я научу вас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-класс — это двусторонний процесс: «преподаватель — слушатель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казывает, включает в работу, просит повтор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ушатель-участник М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выполняет предложенное, повторяет, предлагает свой способ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Picture 5" descr="уч-уч"/>
          <p:cNvPicPr/>
          <p:nvPr/>
        </p:nvPicPr>
        <p:blipFill>
          <a:blip r:embed="rId1"/>
          <a:stretch/>
        </p:blipFill>
        <p:spPr>
          <a:xfrm>
            <a:off x="3059280" y="3860640"/>
            <a:ext cx="3384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onstantia"/>
              </a:rPr>
              <a:t>Участники мастер- класса: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едагогами и для них без участия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группой обучающихся дете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ли с отдельными детьми дл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дагогической аудитор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Picture 4" descr="мастер-класс педагог года"/>
          <p:cNvPicPr/>
          <p:nvPr/>
        </p:nvPicPr>
        <p:blipFill>
          <a:blip r:embed="rId1"/>
          <a:stretch/>
        </p:blipFill>
        <p:spPr>
          <a:xfrm>
            <a:off x="1116000" y="1557360"/>
            <a:ext cx="2840040" cy="2109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552add05"/>
          <p:cNvPicPr/>
          <p:nvPr/>
        </p:nvPicPr>
        <p:blipFill>
          <a:blip r:embed="rId2"/>
          <a:stretch/>
        </p:blipFill>
        <p:spPr>
          <a:xfrm>
            <a:off x="5724360" y="4278240"/>
            <a:ext cx="30560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Формы Мастер - класса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44528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кц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ктическое занят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тегрированное занятие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4" descr="j0233018"/>
          <p:cNvPicPr/>
          <p:nvPr/>
        </p:nvPicPr>
        <p:blipFill>
          <a:blip r:embed="rId1"/>
          <a:stretch/>
        </p:blipFill>
        <p:spPr>
          <a:xfrm>
            <a:off x="5265720" y="1658880"/>
            <a:ext cx="3255840" cy="35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onstantia"/>
              </a:rPr>
              <a:t>Цель Мастер - класса</a:t>
            </a:r>
            <a:endParaRPr b="0" lang="en-US" sz="4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573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здание условий         для профессионального самосовершенствования учителя, при котором формируется индивидуальный стиль педагогической деятельности в процессе опытно-экспериментальной рабо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Picture 4" descr="concierge_podium_writing_reservations_md_wht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72360" y="2565360"/>
            <a:ext cx="234144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onstantia"/>
              </a:rPr>
              <a:t>Задачи мастер - класса</a:t>
            </a:r>
            <a:endParaRPr b="0" lang="en-US" sz="44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457200" y="1749600"/>
            <a:ext cx="4038480" cy="3848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ача учителем- мастером своего опы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вместная отработка методических подходов учителя  - мастера и приемов решения поставленной в программе мастер – класса проблем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флексия собственного профессионального мастерства участниками мастер – класс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казание помощи участникам мастер – класса в определении задач саморазвития и формировании индивидуальной программы самообразования и самосовершенств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onstantia"/>
              </a:rPr>
              <a:t>Тематика мастер – классов включает в себя:</a:t>
            </a:r>
            <a:endParaRPr b="0" lang="en-US" sz="28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зор актуальных проблем и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личные аспекты и приемы использования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вторские методы применения технологий на практи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9" name="Picture 7" descr="master_klass"/>
          <p:cNvPicPr/>
          <p:nvPr/>
        </p:nvPicPr>
        <p:blipFill>
          <a:blip r:embed="rId1"/>
          <a:stretch/>
        </p:blipFill>
        <p:spPr>
          <a:xfrm>
            <a:off x="4788000" y="1817640"/>
            <a:ext cx="3816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5:30Z</dcterms:created>
  <dc:creator>Пахомова</dc:creator>
  <dc:description/>
  <dc:language>en-US</dc:language>
  <cp:lastModifiedBy>Ольга</cp:lastModifiedBy>
  <dcterms:modified xsi:type="dcterms:W3CDTF">2013-02-27T11:46:53Z</dcterms:modified>
  <cp:revision>20</cp:revision>
  <dc:subject/>
  <dc:title>Слайд 1</dc:title>
</cp:coreProperties>
</file>