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9F7-6041-4919-8B08-752D79F3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AFF-D58E-461C-96FE-CF82772B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4B4-1363-45A2-BBE8-BDD3B44A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7EB-1E43-4C42-8BD6-2ED821BD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1F1E-1E6E-4D68-87AA-2A63E452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29A0-BE40-4EEA-BD61-62C924BE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CBC9-9AAA-472F-9A26-0171E4F8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127E-8F71-483F-8FBE-66B8D44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8DD6-B5C2-4A95-A05E-F28282E3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EE8D-D9BA-4799-8DD8-D10EF4E6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7D84-DEF9-41ED-A1C8-61285D33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782-8ED6-40C7-AF9D-79DF0495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3DE1-6436-4549-92D2-007A1FA8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16F9-1D07-4653-99D5-CBC34B0F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AD23-87F4-4E6C-AE46-E610E321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0F28-0179-43AC-AB6C-1259919D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EBF6-4F6F-4EAF-9409-180C7326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715-8F37-428B-B904-A924977D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CFB-8804-44FE-8162-309583E0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6EB-3587-4CAB-B3F5-5CA7D09D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5DA-4C4C-4D4A-B8E1-0573D493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585-6C24-4C7B-8ACC-F0E44A1A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CB7-ABD9-463E-B46E-FBAA6992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720-7D94-443B-BAAA-F8E664DA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6971-C58B-439E-BBEC-438DA89AA9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583D-30B0-4144-B88F-8CF56F90A3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cards.yandex.ru/sendcard.xhtml?cardid=2257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&#1090;&#1088;&#1077;&#1091;...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&#1090;&#1088;&#1077;&#1091;...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&#1090;&#1088;&#1077;&#1091;...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42472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a500"/>
                </a:solidFill>
                <a:latin typeface="Tahoma"/>
              </a:rPr>
              <a:t>«</a:t>
            </a:r>
            <a:r>
              <a:rPr b="1" lang="tt-RU" sz="4000" spc="-1" strike="noStrike">
                <a:solidFill>
                  <a:srgbClr val="f8a500"/>
                </a:solidFill>
                <a:latin typeface="Tahoma"/>
              </a:rPr>
              <a:t>Турыпочмаклы өчпочмакның яклары белән почмаклары арасындагы бәйләнешләр.</a:t>
            </a:r>
            <a:r>
              <a:rPr b="1" lang="ru-RU" sz="4000" spc="-1" strike="noStrike">
                <a:solidFill>
                  <a:srgbClr val="f8a500"/>
                </a:solidFill>
                <a:latin typeface="Tahoma"/>
              </a:rPr>
              <a:t>»</a:t>
            </a: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711360" y="189000"/>
            <a:ext cx="4074840" cy="5612040"/>
            <a:chOff x="711360" y="189000"/>
            <a:chExt cx="4074840" cy="5612040"/>
          </a:xfrm>
        </p:grpSpPr>
        <p:sp>
          <p:nvSpPr>
            <p:cNvPr id="253" name=""/>
            <p:cNvSpPr/>
            <p:nvPr/>
          </p:nvSpPr>
          <p:spPr>
            <a:xfrm>
              <a:off x="1165320" y="549360"/>
              <a:ext cx="3240000" cy="4535280"/>
            </a:xfrm>
            <a:prstGeom prst="rtTriangl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55880" y="4581360"/>
              <a:ext cx="648000" cy="503280"/>
            </a:xfrm>
            <a:custGeom>
              <a:avLst/>
              <a:gdLst/>
              <a:ahLst/>
              <a:rect l="l" t="t" r="r" b="b"/>
              <a:pathLst>
                <a:path w="408" h="317">
                  <a:moveTo>
                    <a:pt x="408" y="317"/>
                  </a:moveTo>
                  <a:lnTo>
                    <a:pt x="182" y="0"/>
                  </a:lnTo>
                  <a:lnTo>
                    <a:pt x="45" y="45"/>
                  </a:lnTo>
                  <a:lnTo>
                    <a:pt x="0" y="91"/>
                  </a:lnTo>
                  <a:lnTo>
                    <a:pt x="0" y="181"/>
                  </a:lnTo>
                  <a:lnTo>
                    <a:pt x="0" y="317"/>
                  </a:lnTo>
                </a:path>
              </a:pathLst>
            </a:custGeom>
            <a:solidFill>
              <a:srgbClr val="99ff66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5520" y="5219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136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34040" y="5219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87280" y="4581360"/>
              <a:ext cx="503280" cy="503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87280" y="549360"/>
              <a:ext cx="3240360" cy="4535280"/>
            </a:xfrm>
            <a:prstGeom prst="rtTriangl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148360" y="0"/>
            <a:ext cx="3995640" cy="6858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54a9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796000" y="333360"/>
                <a:ext cx="21607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796000" y="1916280"/>
                <a:ext cx="2235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796000" y="3500280"/>
                <a:ext cx="190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877080" y="5157720"/>
                <a:ext cx="1407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845400" y="5661000"/>
                <a:ext cx="1471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843600" y="6134040"/>
                <a:ext cx="11844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B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5445000"/>
            <a:ext cx="1258920" cy="1087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5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-13320" y="20530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20" y="2917080"/>
            <a:ext cx="29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60" y="40460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60" y="4973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7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0" y="3284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59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рем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B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sB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gB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-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1413000"/>
            <a:ext cx="2304720" cy="208908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8255400">
            <a:off x="3491640" y="4768560"/>
            <a:ext cx="2305080" cy="208908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2920" y="3429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07800" y="3422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10040" y="1109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72840" y="20890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38400" y="2333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36560" y="3413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419280" y="3373560"/>
            <a:ext cx="152640" cy="126720"/>
            <a:chOff x="3419280" y="3373560"/>
            <a:chExt cx="152640" cy="126720"/>
          </a:xfrm>
        </p:grpSpPr>
        <p:sp>
          <p:nvSpPr>
            <p:cNvPr id="285" name=""/>
            <p:cNvSpPr/>
            <p:nvPr/>
          </p:nvSpPr>
          <p:spPr>
            <a:xfrm flipH="1">
              <a:off x="3419280" y="3373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71920" y="337356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403280" y="141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59640" y="4300200"/>
            <a:ext cx="14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320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660360" y="5123160"/>
            <a:ext cx="8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57960" y="56894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38720" y="5661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34280" y="40053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98cf0f"/>
                </a:solidFill>
                <a:latin typeface="Tahoma"/>
              </a:rPr>
              <a:t>Әгәр бер турыпочмаклы өчпочмакның кысынкы почмагы икенче турыпочмаклы өчпочмакның кысынкы почмагына тигез булса , ул вакытта бу почмакларның синуслары тигез, бу почмакларның косинуслары тигез, бу почмакларның тангенслары тигез бу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711360" y="189000"/>
            <a:ext cx="4074840" cy="5612040"/>
            <a:chOff x="711360" y="189000"/>
            <a:chExt cx="4074840" cy="5612040"/>
          </a:xfrm>
        </p:grpSpPr>
        <p:sp>
          <p:nvSpPr>
            <p:cNvPr id="296" name=""/>
            <p:cNvSpPr/>
            <p:nvPr/>
          </p:nvSpPr>
          <p:spPr>
            <a:xfrm>
              <a:off x="1165320" y="549360"/>
              <a:ext cx="3240000" cy="4535280"/>
            </a:xfrm>
            <a:prstGeom prst="rtTriangl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55880" y="4581360"/>
              <a:ext cx="648000" cy="503280"/>
            </a:xfrm>
            <a:custGeom>
              <a:avLst/>
              <a:gdLst/>
              <a:ahLst/>
              <a:rect l="l" t="t" r="r" b="b"/>
              <a:pathLst>
                <a:path w="408" h="317">
                  <a:moveTo>
                    <a:pt x="408" y="317"/>
                  </a:moveTo>
                  <a:lnTo>
                    <a:pt x="182" y="0"/>
                  </a:lnTo>
                  <a:lnTo>
                    <a:pt x="45" y="45"/>
                  </a:lnTo>
                  <a:lnTo>
                    <a:pt x="0" y="91"/>
                  </a:lnTo>
                  <a:lnTo>
                    <a:pt x="0" y="181"/>
                  </a:lnTo>
                  <a:lnTo>
                    <a:pt x="0" y="317"/>
                  </a:lnTo>
                </a:path>
              </a:pathLst>
            </a:custGeom>
            <a:solidFill>
              <a:srgbClr val="99ff66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5520" y="5219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136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34040" y="5219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87280" y="4581360"/>
              <a:ext cx="503280" cy="503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87280" y="549360"/>
              <a:ext cx="3240360" cy="4535280"/>
            </a:xfrm>
            <a:prstGeom prst="rtTriangl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 rot="4392600">
            <a:off x="5384880" y="518760"/>
            <a:ext cx="3240000" cy="45352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4388400">
            <a:off x="5139360" y="4367880"/>
            <a:ext cx="647640" cy="50328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408" y="317"/>
                </a:moveTo>
                <a:lnTo>
                  <a:pt x="182" y="0"/>
                </a:lnTo>
                <a:lnTo>
                  <a:pt x="45" y="45"/>
                </a:lnTo>
                <a:lnTo>
                  <a:pt x="0" y="91"/>
                </a:lnTo>
                <a:lnTo>
                  <a:pt x="0" y="181"/>
                </a:lnTo>
                <a:lnTo>
                  <a:pt x="0" y="317"/>
                </a:lnTo>
              </a:path>
            </a:pathLst>
          </a:custGeom>
          <a:solidFill>
            <a:srgbClr val="99ff66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21364200">
            <a:off x="3683880" y="160452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tt-RU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17800">
            <a:off x="8457480" y="42480"/>
            <a:ext cx="69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tt-RU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0943000">
            <a:off x="4874400" y="492696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tt-RU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4387800">
            <a:off x="4429080" y="1846080"/>
            <a:ext cx="502920" cy="503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4392600">
            <a:off x="5390640" y="539280"/>
            <a:ext cx="3240360" cy="4535640"/>
          </a:xfrm>
          <a:prstGeom prst="rtTriangl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251892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419640" y="1557360"/>
                <a:ext cx="387000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258920" y="3068640"/>
                <a:ext cx="26431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 rot="10800000">
            <a:off x="4140360" y="3860280"/>
            <a:ext cx="1584000" cy="358920"/>
          </a:xfrm>
          <a:prstGeom prst="leftArrow">
            <a:avLst>
              <a:gd name="adj1" fmla="val 40713"/>
              <a:gd name="adj2" fmla="val 110535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796000" y="3716280"/>
                <a:ext cx="29685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6877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Bookman Old Style"/>
              </a:rPr>
              <a:t>Төп тригонометрик бердәйлек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835280" y="1700280"/>
                <a:ext cx="41781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4067280" y="5516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658280" y="3716280"/>
            <a:ext cx="148572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971640" y="2708280"/>
                <a:ext cx="7196040" cy="32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checker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2960" y="1629000"/>
            <a:ext cx="925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0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Турыпочмаклы өчпочмакларны чишәр өч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0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1. Ике катеты буен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0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2. Катеты һәм гипотенузасы буен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0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3. Гипотенуза һәм  кысынкы почмагы буен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0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4.Катеты һәм аңа каршы яткан почмагы буенча.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0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5. Катеты һәм катет  янында яткан почмагы буенч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308720" y="5445000"/>
            <a:ext cx="905040" cy="87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596360" y="2781360"/>
            <a:ext cx="1257120" cy="1143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2781360"/>
            <a:ext cx="1257480" cy="1143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95640" y="2781360"/>
            <a:ext cx="1257480" cy="1143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2708280"/>
            <a:ext cx="1257120" cy="1143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2708280"/>
            <a:ext cx="1257120" cy="1143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1828800"/>
                <a:gridCol w="1830240"/>
                <a:gridCol w="1825920"/>
                <a:gridCol w="1830240"/>
                <a:gridCol w="1828800"/>
              </a:tblGrid>
              <a:tr h="217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ке катеты буен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теты һәм ике гипотенузасы буен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потенуза һәм кысынкы почмагы буен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теты һәм аңа каршы ятучы почмак буен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теты һәм катет янында ятучы почмагы буенч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451640" y="5229360"/>
                <a:ext cx="1548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179280" y="241452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50920" y="2349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1280" y="242100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2436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16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675640" y="386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364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38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476360" y="378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928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5092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5128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651640" y="3860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5164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68360" y="4437000"/>
            <a:ext cx="7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43657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=90º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79280" y="5950080"/>
                <a:ext cx="100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79280" y="5373720"/>
                <a:ext cx="14400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50920" y="5916600"/>
                <a:ext cx="1368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963800" y="5423040"/>
                <a:ext cx="13986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1023840" y="2435400"/>
            <a:ext cx="7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43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=90º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51280" y="4292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780000" y="5900760"/>
                <a:ext cx="15127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3780000" y="5415120"/>
                <a:ext cx="15127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*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651640" y="5229360"/>
                <a:ext cx="1439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51640" y="6051600"/>
                <a:ext cx="1512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tg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7380360" y="5950080"/>
                <a:ext cx="17636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tg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3780000" y="44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=90º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0000" y="4437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=90º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80360" y="44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=90º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cc66"/>
                </a:solidFill>
                <a:latin typeface="Arial"/>
              </a:rPr>
              <a:t>30</a:t>
            </a:r>
            <a:r>
              <a:rPr b="1" i="1" lang="en-US" sz="3300" spc="-1" strike="noStrike">
                <a:solidFill>
                  <a:srgbClr val="ffcc66"/>
                </a:solidFill>
                <a:latin typeface="Arial"/>
                <a:ea typeface="Arial"/>
              </a:rPr>
              <a:t>°</a:t>
            </a:r>
            <a:r>
              <a:rPr b="1" i="1" lang="ru-RU" sz="3300" spc="-1" strike="noStrike">
                <a:solidFill>
                  <a:srgbClr val="ffcc66"/>
                </a:solidFill>
                <a:latin typeface="Arial"/>
                <a:ea typeface="Arial"/>
              </a:rPr>
              <a:t> почмакны</a:t>
            </a:r>
            <a:r>
              <a:rPr b="1" i="1" lang="tt-RU" sz="3300" spc="-1" strike="noStrike">
                <a:solidFill>
                  <a:srgbClr val="ffcc66"/>
                </a:solidFill>
                <a:latin typeface="Arial"/>
                <a:ea typeface="Arial"/>
              </a:rPr>
              <a:t>ң </a:t>
            </a:r>
            <a:r>
              <a:rPr b="1" i="1" lang="ru-RU" sz="3300" spc="-1" strike="noStrike">
                <a:solidFill>
                  <a:srgbClr val="ffcc66"/>
                </a:solidFill>
                <a:latin typeface="Arial"/>
              </a:rPr>
              <a:t>синусы, косинусы </a:t>
            </a:r>
            <a:br>
              <a:rPr sz="3300"/>
            </a:br>
            <a:r>
              <a:rPr b="1" i="1" lang="ru-RU" sz="3300" spc="-1" strike="noStrike">
                <a:solidFill>
                  <a:srgbClr val="ffcc66"/>
                </a:solidFill>
                <a:latin typeface="Arial"/>
              </a:rPr>
              <a:t>һәм тангенсы</a:t>
            </a:r>
            <a:r>
              <a:rPr b="1" i="1" lang="ru-RU" sz="3300" spc="-1" strike="noStrike">
                <a:solidFill>
                  <a:srgbClr val="ffcc66"/>
                </a:solidFill>
                <a:latin typeface="Arial"/>
                <a:ea typeface="Arial"/>
              </a:rPr>
              <a:t>.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427280" y="981000"/>
            <a:ext cx="47163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ahoma"/>
              </a:rPr>
              <a:t>30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  <a:ea typeface="Arial"/>
              </a:rPr>
              <a:t>°</a:t>
            </a:r>
            <a:r>
              <a:rPr b="0" lang="tt-RU" sz="2400" spc="-1" strike="noStrike">
                <a:solidFill>
                  <a:srgbClr val="0033cc"/>
                </a:solidFill>
                <a:latin typeface="Tahoma"/>
                <a:ea typeface="Arial"/>
              </a:rPr>
              <a:t> почмакка каршы яткан катет</a:t>
            </a:r>
            <a:r>
              <a:rPr b="0" lang="ru-RU" sz="2400" spc="-1" strike="noStrike">
                <a:solidFill>
                  <a:srgbClr val="0033cc"/>
                </a:solidFill>
                <a:latin typeface="Tahoma"/>
                <a:ea typeface="Arial"/>
              </a:rPr>
              <a:t>,  гипотенузаның яртысына тиг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ahoma"/>
                <a:ea typeface="Arial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ahoma"/>
                <a:ea typeface="Arial"/>
              </a:rPr>
              <a:t>ләки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ahoma"/>
                <a:ea typeface="Arial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Tahoma"/>
                <a:ea typeface="Arial"/>
              </a:rPr>
              <a:t>димә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ahoma"/>
                <a:ea typeface="Arial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Tahoma"/>
                <a:ea typeface="Arial"/>
              </a:rPr>
              <a:t>төп тригонометрик бердәйле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ahoma"/>
                <a:ea typeface="Arial"/>
              </a:rPr>
              <a:t>  </a:t>
            </a:r>
            <a:r>
              <a:rPr b="0" lang="ru-RU" sz="2400" spc="-1" strike="noStrike">
                <a:solidFill>
                  <a:srgbClr val="0033cc"/>
                </a:solidFill>
                <a:latin typeface="Tahoma"/>
                <a:ea typeface="Arial"/>
              </a:rPr>
              <a:t>монн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375240" y="1771560"/>
                <a:ext cx="11732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684360" y="3429000"/>
            <a:ext cx="0" cy="208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4360" y="5516640"/>
            <a:ext cx="33112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684360" y="3428640"/>
            <a:ext cx="3311280" cy="208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28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0600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5300640"/>
            <a:ext cx="215640" cy="216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16360" y="51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9280" y="1125360"/>
            <a:ext cx="51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АВС турыпочмаклы өчпочмак карыйк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  <a:cs typeface="Arial"/>
              </a:rPr>
              <a:t>ﮮ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=3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°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,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  <a:cs typeface="Arial"/>
              </a:rPr>
              <a:t>ﮮ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=6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3480" y="37162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1268280"/>
            <a:ext cx="0" cy="532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869080" y="2496960"/>
                <a:ext cx="23781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6443640" y="3284640"/>
                <a:ext cx="1589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716360" y="4581360"/>
                <a:ext cx="442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788000" y="5877000"/>
                <a:ext cx="4356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hecker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cc66"/>
                </a:solidFill>
                <a:latin typeface="Arial"/>
                <a:ea typeface="Arial"/>
              </a:rPr>
              <a:t>60</a:t>
            </a:r>
            <a:r>
              <a:rPr b="1" i="1" lang="en-US" sz="3300" spc="-1" strike="noStrike">
                <a:solidFill>
                  <a:srgbClr val="ffcc66"/>
                </a:solidFill>
                <a:latin typeface="Arial"/>
                <a:ea typeface="Arial"/>
              </a:rPr>
              <a:t>°</a:t>
            </a:r>
            <a:r>
              <a:rPr b="1" i="1" lang="ru-RU" sz="3300" spc="-1" strike="noStrike">
                <a:solidFill>
                  <a:srgbClr val="ffcc66"/>
                </a:solidFill>
                <a:latin typeface="Arial"/>
              </a:rPr>
              <a:t> почмакның синусы, косинусы </a:t>
            </a:r>
            <a:br>
              <a:rPr sz="3300"/>
            </a:br>
            <a:r>
              <a:rPr b="1" i="1" lang="ru-RU" sz="3300" spc="-1" strike="noStrike">
                <a:solidFill>
                  <a:srgbClr val="ffcc66"/>
                </a:solidFill>
                <a:latin typeface="Arial"/>
              </a:rPr>
              <a:t>һәм тангенсы </a:t>
            </a:r>
            <a:r>
              <a:rPr b="1" i="1" lang="ru-RU" sz="3300" spc="-1" strike="noStrike">
                <a:solidFill>
                  <a:srgbClr val="ffcc66"/>
                </a:solidFill>
                <a:latin typeface="Arial"/>
                <a:ea typeface="Arial"/>
              </a:rPr>
              <a:t>.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27280" y="1125000"/>
            <a:ext cx="4716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1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33cc"/>
                </a:solidFill>
                <a:latin typeface="Tahoma"/>
              </a:rPr>
              <a:t>30</a:t>
            </a:r>
            <a:r>
              <a:rPr b="0" lang="en-US" sz="2100" spc="-1" strike="noStrike">
                <a:solidFill>
                  <a:srgbClr val="0033cc"/>
                </a:solidFill>
                <a:latin typeface="Tahoma"/>
                <a:ea typeface="Arial"/>
              </a:rPr>
              <a:t>°</a:t>
            </a:r>
            <a:r>
              <a:rPr b="0" lang="tt-RU" sz="2100" spc="-1" strike="noStrike">
                <a:solidFill>
                  <a:srgbClr val="0033cc"/>
                </a:solidFill>
                <a:latin typeface="Tahoma"/>
                <a:ea typeface="Arial"/>
              </a:rPr>
              <a:t> почмакка каршы яткан катете</a:t>
            </a:r>
            <a:r>
              <a:rPr b="0" lang="ru-RU" sz="2100" spc="-1" strike="noStrike">
                <a:solidFill>
                  <a:srgbClr val="0033cc"/>
                </a:solidFill>
                <a:latin typeface="Tahoma"/>
                <a:ea typeface="Arial"/>
              </a:rPr>
              <a:t>,гипотенузаның яртысына тигез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Tahoma"/>
                <a:ea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Tahoma"/>
                <a:ea typeface="Arial"/>
              </a:rPr>
              <a:t>   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Tahoma"/>
                <a:ea typeface="Arial"/>
              </a:rPr>
              <a:t>   </a:t>
            </a:r>
            <a:r>
              <a:rPr b="0" lang="ru-RU" sz="2100" spc="-1" strike="noStrike">
                <a:solidFill>
                  <a:srgbClr val="0033cc"/>
                </a:solidFill>
                <a:latin typeface="Tahoma"/>
                <a:ea typeface="Arial"/>
              </a:rPr>
              <a:t>димәк,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Tahoma"/>
                <a:ea typeface="Arial"/>
              </a:rPr>
              <a:t>   </a:t>
            </a:r>
            <a:r>
              <a:rPr b="0" lang="ru-RU" sz="2100" spc="-1" strike="noStrike">
                <a:solidFill>
                  <a:srgbClr val="0033cc"/>
                </a:solidFill>
                <a:latin typeface="Tahoma"/>
                <a:ea typeface="Arial"/>
              </a:rPr>
              <a:t>төп тригонометрик бердәйлектән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Tahoma"/>
                <a:ea typeface="Arial"/>
              </a:rPr>
              <a:t>   </a:t>
            </a:r>
            <a:r>
              <a:rPr b="0" lang="ru-RU" sz="2100" spc="-1" strike="noStrike">
                <a:solidFill>
                  <a:srgbClr val="0033cc"/>
                </a:solidFill>
                <a:latin typeface="Tahoma"/>
                <a:ea typeface="Arial"/>
              </a:rPr>
              <a:t>моннан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6734160" y="1765440"/>
                <a:ext cx="12254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684360" y="3429000"/>
            <a:ext cx="0" cy="208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4360" y="5516640"/>
            <a:ext cx="33112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684360" y="3428640"/>
            <a:ext cx="3311280" cy="208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28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0600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4360" y="5300640"/>
            <a:ext cx="215640" cy="216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16360" y="51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31840" y="119700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АВС турыпочмаклы өчпочмак карый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  <a:cs typeface="Arial"/>
              </a:rPr>
              <a:t>ﮮ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=3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°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,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  <a:cs typeface="Arial"/>
              </a:rPr>
              <a:t>ﮮ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=6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3480" y="37162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1268280"/>
            <a:ext cx="0" cy="54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0000" y="2421000"/>
                <a:ext cx="2303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867280" y="3284640"/>
                <a:ext cx="15354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705200" y="4581360"/>
                <a:ext cx="4438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716360" y="5805360"/>
                <a:ext cx="4248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checker dir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00000" y="549360"/>
            <a:ext cx="32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56600"/>
            <a:ext cx="8280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инди өчпочмаклар турыпочмаклы өчпочмаклар дип ата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Өчпочмакның яклары ничек ничек атал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421000"/>
            <a:ext cx="1729080" cy="158436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2240" y="2266200"/>
            <a:ext cx="22885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26920" y="3860640"/>
            <a:ext cx="152640" cy="127080"/>
            <a:chOff x="826920" y="3860640"/>
            <a:chExt cx="152640" cy="127080"/>
          </a:xfrm>
        </p:grpSpPr>
        <p:sp>
          <p:nvSpPr>
            <p:cNvPr id="159" name=""/>
            <p:cNvSpPr/>
            <p:nvPr/>
          </p:nvSpPr>
          <p:spPr>
            <a:xfrm flipH="1">
              <a:off x="826920" y="38606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9560" y="386064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451640" y="5157720"/>
            <a:ext cx="1320840" cy="1413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66"/>
                </a:solidFill>
                <a:latin typeface="Arial"/>
                <a:ea typeface="Arial"/>
              </a:rPr>
              <a:t>45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ffcc66"/>
                </a:solidFill>
                <a:latin typeface="Arial"/>
              </a:rPr>
              <a:t>  почмакның  синусы, косинусы </a:t>
            </a:r>
            <a:br>
              <a:rPr sz="3600"/>
            </a:br>
            <a:r>
              <a:rPr b="1" i="1" lang="ru-RU" sz="3600" spc="-1" strike="noStrike">
                <a:solidFill>
                  <a:srgbClr val="ffcc66"/>
                </a:solidFill>
                <a:latin typeface="Arial"/>
              </a:rPr>
              <a:t>һәм тангенсы.</a:t>
            </a:r>
            <a:r>
              <a:rPr b="1" i="1" lang="ru-RU" sz="3600" spc="-1" strike="noStrike">
                <a:solidFill>
                  <a:srgbClr val="ffcc66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427280" y="1268280"/>
            <a:ext cx="4716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33cc"/>
                </a:solidFill>
                <a:latin typeface="Tahoma"/>
              </a:rPr>
              <a:t>Пифагор теоремас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0033cc"/>
                </a:solidFill>
                <a:latin typeface="Tahoma"/>
              </a:rPr>
              <a:t>АВ</a:t>
            </a:r>
            <a:r>
              <a:rPr b="0" lang="ru-RU" sz="2200" spc="-1" strike="noStrike" baseline="30000">
                <a:solidFill>
                  <a:srgbClr val="0033cc"/>
                </a:solidFill>
                <a:latin typeface="Tahoma"/>
              </a:rPr>
              <a:t>2</a:t>
            </a:r>
            <a:r>
              <a:rPr b="0" lang="ru-RU" sz="2200" spc="-1" strike="noStrike">
                <a:solidFill>
                  <a:srgbClr val="0033cc"/>
                </a:solidFill>
                <a:latin typeface="Tahoma"/>
              </a:rPr>
              <a:t>= АС</a:t>
            </a:r>
            <a:r>
              <a:rPr b="0" lang="ru-RU" sz="2200" spc="-1" strike="noStrike" baseline="30000">
                <a:solidFill>
                  <a:srgbClr val="0033cc"/>
                </a:solidFill>
                <a:latin typeface="Tahoma"/>
              </a:rPr>
              <a:t>2</a:t>
            </a:r>
            <a:r>
              <a:rPr b="0" lang="ru-RU" sz="2200" spc="-1" strike="noStrike">
                <a:solidFill>
                  <a:srgbClr val="0033cc"/>
                </a:solidFill>
                <a:latin typeface="Tahoma"/>
              </a:rPr>
              <a:t>+ ВС</a:t>
            </a:r>
            <a:r>
              <a:rPr b="0" lang="ru-RU" sz="2200" spc="-1" strike="noStrike" baseline="30000">
                <a:solidFill>
                  <a:srgbClr val="0033cc"/>
                </a:solidFill>
                <a:latin typeface="Tahoma"/>
              </a:rPr>
              <a:t>2 </a:t>
            </a:r>
            <a:r>
              <a:rPr b="0" lang="ru-RU" sz="2200" spc="-1" strike="noStrike">
                <a:solidFill>
                  <a:srgbClr val="0033cc"/>
                </a:solidFill>
                <a:latin typeface="Tahoma"/>
              </a:rPr>
              <a:t>= 2 АС</a:t>
            </a:r>
            <a:r>
              <a:rPr b="0" lang="ru-RU" sz="2200" spc="-1" strike="noStrike" baseline="30000">
                <a:solidFill>
                  <a:srgbClr val="0033cc"/>
                </a:solidFill>
                <a:latin typeface="Tahoma"/>
              </a:rPr>
              <a:t>2 </a:t>
            </a:r>
            <a:r>
              <a:rPr b="0" lang="ru-RU" sz="2200" spc="-1" strike="noStrike">
                <a:solidFill>
                  <a:srgbClr val="0033cc"/>
                </a:solidFill>
                <a:latin typeface="Tahoma"/>
              </a:rPr>
              <a:t>= 2 ВС</a:t>
            </a:r>
            <a:r>
              <a:rPr b="0" lang="ru-RU" sz="2200" spc="-1" strike="noStrike" baseline="30000">
                <a:solidFill>
                  <a:srgbClr val="0033cc"/>
                </a:solidFill>
                <a:latin typeface="Tahoma"/>
              </a:rPr>
              <a:t>2</a:t>
            </a:r>
            <a:r>
              <a:rPr b="0" lang="ru-RU" sz="2200" spc="-1" strike="noStrike">
                <a:solidFill>
                  <a:srgbClr val="0033cc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Tahom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baseline="30000">
                <a:solidFill>
                  <a:srgbClr val="0033cc"/>
                </a:solidFill>
                <a:latin typeface="Tahom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159600" y="2136600"/>
                <a:ext cx="1725480" cy="8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684360" y="3429000"/>
            <a:ext cx="0" cy="208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4360" y="5516640"/>
            <a:ext cx="2232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84360" y="3428640"/>
            <a:ext cx="2232000" cy="208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28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4360" y="5300640"/>
            <a:ext cx="215640" cy="216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5640" y="5157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341360"/>
            <a:ext cx="43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АВС турыпочмаклы тигезьянлы өчпочмак карый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АС=В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  <a:cs typeface="Arial"/>
              </a:rPr>
              <a:t>ﮮ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=45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°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,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  <a:cs typeface="Arial"/>
              </a:rPr>
              <a:t>ﮮ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=45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63480" y="37162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1268280"/>
            <a:ext cx="0" cy="518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33720" y="53737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315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722840" y="3933720"/>
                <a:ext cx="4421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716360" y="5013360"/>
                <a:ext cx="4206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788000" y="5950080"/>
                <a:ext cx="2520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hecker dir="horz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Мәсьәлә №1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20360" y="1657440"/>
            <a:ext cx="40323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ысынкы почмакларның синус, косинус и тангенс табар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6588000" y="1989000"/>
            <a:ext cx="0" cy="230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0" y="4292640"/>
            <a:ext cx="136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588000" y="1916280"/>
            <a:ext cx="0" cy="727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43640" y="155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372360" y="429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12000" y="429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88000" y="4149720"/>
            <a:ext cx="14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32720" y="4149720"/>
            <a:ext cx="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88000" y="1989000"/>
            <a:ext cx="0" cy="2303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588000" y="4292640"/>
            <a:ext cx="13687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6588000" y="1989000"/>
            <a:ext cx="1368720" cy="2376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588000" y="1916280"/>
            <a:ext cx="0" cy="727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43640" y="155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429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812000" y="429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88000" y="4149720"/>
            <a:ext cx="14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732720" y="4149720"/>
            <a:ext cx="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6360" y="28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93080" y="42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8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Мәсьәлә №2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355640" y="256536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 = 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см, ә почмак  В  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1" lang="en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тигез булса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ВС табар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187280" y="3429000"/>
            <a:ext cx="2232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419640" y="2205000"/>
            <a:ext cx="0" cy="122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187280" y="2205000"/>
            <a:ext cx="2232360" cy="122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71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276360" y="32130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321300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19640" y="2637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4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059280" y="2349360"/>
                <a:ext cx="34740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hecker dir="horz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8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826920" y="1844640"/>
                <a:ext cx="2876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50920" y="5529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Турыпочмаклы өчпочмакта нинди бәйләнешләр беләбез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10160" y="184356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90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537372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30º почмакка каршы яткан катет гипотенузаның яртысына тиге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2708280"/>
            <a:ext cx="2305080" cy="208908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30240" y="4653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53800" y="473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6040" y="2421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8840" y="340056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8440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2920" y="4724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03280" y="4653000"/>
            <a:ext cx="152640" cy="127080"/>
            <a:chOff x="3203280" y="4653000"/>
            <a:chExt cx="152640" cy="127080"/>
          </a:xfrm>
        </p:grpSpPr>
        <p:sp>
          <p:nvSpPr>
            <p:cNvPr id="174" name=""/>
            <p:cNvSpPr/>
            <p:nvPr/>
          </p:nvSpPr>
          <p:spPr>
            <a:xfrm flipH="1">
              <a:off x="3203280" y="4653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5920" y="465300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5564160"/>
            <a:ext cx="1081080" cy="104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451640" y="1557360"/>
            <a:ext cx="1121040" cy="1082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0920" y="14828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а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в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=с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A+&lt;B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066920" y="836280"/>
            <a:ext cx="404316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А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гипотену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В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А почмагына каршы ятучы кате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А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А почмагы янында ятучы кате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2708280"/>
            <a:ext cx="0" cy="2808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5516640"/>
            <a:ext cx="33112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84360" y="2707920"/>
            <a:ext cx="3311280" cy="2808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0000" y="22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28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0600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5300640"/>
            <a:ext cx="215640" cy="216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87280" y="549360"/>
            <a:ext cx="3240360" cy="453528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55880" y="4581360"/>
            <a:ext cx="648000" cy="503280"/>
          </a:xfrm>
          <a:custGeom>
            <a:avLst/>
            <a:gdLst/>
            <a:ahLst/>
            <a:rect l="l" t="t" r="r" b="b"/>
            <a:pathLst>
              <a:path w="408" h="317">
                <a:moveTo>
                  <a:pt x="408" y="317"/>
                </a:moveTo>
                <a:lnTo>
                  <a:pt x="182" y="0"/>
                </a:lnTo>
                <a:lnTo>
                  <a:pt x="45" y="45"/>
                </a:lnTo>
                <a:lnTo>
                  <a:pt x="0" y="91"/>
                </a:lnTo>
                <a:lnTo>
                  <a:pt x="0" y="181"/>
                </a:lnTo>
                <a:lnTo>
                  <a:pt x="0" y="317"/>
                </a:lnTo>
              </a:path>
            </a:pathLst>
          </a:custGeom>
          <a:solidFill>
            <a:srgbClr val="99ff66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5520" y="5219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1360" y="1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34040" y="5219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65320" y="4581360"/>
            <a:ext cx="503280" cy="503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549360"/>
            <a:ext cx="3240360" cy="4535280"/>
          </a:xfrm>
          <a:prstGeom prst="rtTriangl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0"/>
            <a:ext cx="3995640" cy="6858000"/>
          </a:xfrm>
          <a:prstGeom prst="rect">
            <a:avLst/>
          </a:prstGeom>
          <a:gradFill rotWithShape="0">
            <a:gsLst>
              <a:gs pos="0">
                <a:srgbClr val="0049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404640"/>
            <a:ext cx="3600720" cy="5259960"/>
          </a:xfrm>
          <a:prstGeom prst="rect">
            <a:avLst/>
          </a:prstGeom>
          <a:gradFill rotWithShape="0">
            <a:gsLst>
              <a:gs pos="0">
                <a:srgbClr val="319831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 почмагы янында ятучы катетны атар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 почмагы янында ятучы катетны атар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 почмагына каршы ятучы катетны атар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 почмагына каршы ятучы катетны атар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Синус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3280" y="836280"/>
            <a:ext cx="404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Турыпочмаклы өчпочмакта кысынкы почмакка </a:t>
            </a: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каршы яткан катетның гипотенузага чагыштырмасы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бу почмакның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 синусы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дип атала.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2708280"/>
            <a:ext cx="0" cy="2808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5516640"/>
            <a:ext cx="331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684360" y="2707920"/>
            <a:ext cx="3311280" cy="2808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00" y="22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28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0600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5300640"/>
            <a:ext cx="215640" cy="216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859280" y="5300640"/>
                <a:ext cx="3816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7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8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3880" y="30636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К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осинус</a:t>
            </a:r>
            <a:r>
              <a:rPr b="0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708280"/>
            <a:ext cx="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516640"/>
            <a:ext cx="33112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684360" y="2707920"/>
            <a:ext cx="3311280" cy="2808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00" y="22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528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0600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5300640"/>
            <a:ext cx="215640" cy="216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076720" y="5516640"/>
                <a:ext cx="35989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3280" y="836280"/>
            <a:ext cx="404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Турыпочмаклы өчпочмакта кысынкы почмакка  </a:t>
            </a: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янәшә яткан катетның  гипотенузага чагыштырмасы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бу почмакның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косинус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дип атал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Т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ангенс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708280"/>
            <a:ext cx="0" cy="2808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5516640"/>
            <a:ext cx="33112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84360" y="2707920"/>
            <a:ext cx="331128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0000" y="22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528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06000" y="539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5300640"/>
            <a:ext cx="215640" cy="216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105520" y="5516640"/>
                <a:ext cx="364320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3280" y="836280"/>
            <a:ext cx="404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Турыпочмаклы өчпочмакта кысынкы почмакка </a:t>
            </a: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каршы яткан катетның янәшә яткан катетка  чагыштырмасы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бу почмакның 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тангенсы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дип атал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12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218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ahoma"/>
              </a:rPr>
              <a:t>          </a:t>
            </a:r>
            <a:r>
              <a:rPr b="1" i="1" lang="ru-RU" sz="3200" spc="-1" strike="noStrike">
                <a:solidFill>
                  <a:srgbClr val="0033cc"/>
                </a:solidFill>
                <a:latin typeface="Tahoma"/>
              </a:rPr>
              <a:t>Почмакның тангенсы  шул почмакның синусының косинусы чагыштырмасына тигез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627280" y="3213000"/>
                <a:ext cx="2660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763640" y="6308640"/>
            <a:ext cx="8636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5950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in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63640" y="630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3280" y="6308640"/>
            <a:ext cx="216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43280" y="6381720"/>
            <a:ext cx="216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6308640"/>
            <a:ext cx="5745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5950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4800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67280" y="5516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27640" y="6308640"/>
            <a:ext cx="6476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630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292720" y="6237360"/>
            <a:ext cx="216000" cy="72720"/>
            <a:chOff x="5292720" y="6237360"/>
            <a:chExt cx="216000" cy="72720"/>
          </a:xfrm>
        </p:grpSpPr>
        <p:sp>
          <p:nvSpPr>
            <p:cNvPr id="241" name=""/>
            <p:cNvSpPr/>
            <p:nvPr/>
          </p:nvSpPr>
          <p:spPr>
            <a:xfrm>
              <a:off x="5292720" y="6237360"/>
              <a:ext cx="21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92720" y="6310080"/>
              <a:ext cx="21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580000" y="6308640"/>
            <a:ext cx="5763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164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630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72360" y="6237360"/>
            <a:ext cx="215640" cy="72720"/>
            <a:chOff x="6372360" y="6237360"/>
            <a:chExt cx="215640" cy="72720"/>
          </a:xfrm>
        </p:grpSpPr>
        <p:sp>
          <p:nvSpPr>
            <p:cNvPr id="247" name=""/>
            <p:cNvSpPr/>
            <p:nvPr/>
          </p:nvSpPr>
          <p:spPr>
            <a:xfrm>
              <a:off x="6372360" y="6237360"/>
              <a:ext cx="2156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72360" y="6310080"/>
              <a:ext cx="2156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659640" y="602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g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5805360"/>
            <a:ext cx="2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58280" y="3716280"/>
            <a:ext cx="148572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7:16:56Z</dcterms:created>
  <dc:creator>Dimon</dc:creator>
  <dc:description/>
  <dc:language>en-US</dc:language>
  <cp:lastModifiedBy>Гульназ</cp:lastModifiedBy>
  <dcterms:modified xsi:type="dcterms:W3CDTF">2010-03-16T06:31:11Z</dcterms:modified>
  <cp:revision>7</cp:revision>
  <dc:subject/>
  <dc:title>Слайд 1</dc:title>
</cp:coreProperties>
</file>