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C574E-DD52-43E6-96B7-BE75C909F2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98EFF-F61C-4CAB-A11A-CC2EE7F8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BE090-FC41-47E8-BB0C-C09ABF99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25E7E-3B14-48D6-AF60-7071968716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2E496-2009-4292-A2B6-E255978E3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75C0E-5286-453F-804D-EBB3ABEA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7965A-521C-4E6D-9375-51AD4EA5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F945B-5FC6-409E-A2B5-57570524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71BE9-B4C7-4998-B4B9-6247D75D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03276-D295-4FAF-B38E-F1A86360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F4120D-B19D-4A1C-9F60-F95D265B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75FBA-7607-4AB0-AEEB-F7730FE8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B42F2-4BFD-4682-AB9A-C9AD6907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E7684-F2F3-4B52-94A8-BC1C4971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38AFF-C359-4730-B7EB-62675A6C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2BD4B-E4C2-4CD1-B6F1-D4A0DDD3E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DED93-6923-4E88-8E81-AF7B971AC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E9343-79FC-4E20-8CDC-06CC7C76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C1E2D-FC1C-4E2B-8461-5D25514C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13C71-3C2F-47C5-9112-2CC2FC3CB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36624-F6DF-407C-97D3-0C456239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99506-83E1-47E3-BAB9-BD4069CA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1AA7E-6D00-41CB-98BC-EDE8C1AE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7B5CE-A86C-4B76-B3CD-2891C7CD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1000" y="0"/>
            <a:ext cx="1143000" cy="6858000"/>
          </a:xfrm>
          <a:prstGeom prst="rect">
            <a:avLst/>
          </a:prstGeom>
          <a:gradFill rotWithShape="0">
            <a:gsLst>
              <a:gs pos="0">
                <a:srgbClr val="ff9900">
                  <a:alpha val="82352"/>
                </a:srgbClr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816120" cy="83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6EAC-A078-490B-B8CD-F0FAB729BE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9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4114800" cy="6858000"/>
          </a:xfrm>
          <a:custGeom>
            <a:avLst/>
            <a:gdLst/>
            <a:ahLst/>
            <a:rect l="l" t="t" r="r" b="b"/>
            <a:pathLst>
              <a:path w="2592" h="4320">
                <a:moveTo>
                  <a:pt x="624" y="0"/>
                </a:moveTo>
                <a:lnTo>
                  <a:pt x="0" y="0"/>
                </a:lnTo>
                <a:lnTo>
                  <a:pt x="0" y="4320"/>
                </a:lnTo>
                <a:lnTo>
                  <a:pt x="2592" y="4320"/>
                </a:lnTo>
                <a:cubicBezTo>
                  <a:pt x="2592" y="4320"/>
                  <a:pt x="1828" y="4051"/>
                  <a:pt x="1552" y="3891"/>
                </a:cubicBezTo>
                <a:cubicBezTo>
                  <a:pt x="1276" y="3731"/>
                  <a:pt x="1095" y="3545"/>
                  <a:pt x="935" y="3362"/>
                </a:cubicBezTo>
                <a:cubicBezTo>
                  <a:pt x="775" y="3179"/>
                  <a:pt x="675" y="2997"/>
                  <a:pt x="570" y="2809"/>
                </a:cubicBezTo>
                <a:cubicBezTo>
                  <a:pt x="465" y="2621"/>
                  <a:pt x="369" y="2413"/>
                  <a:pt x="306" y="2233"/>
                </a:cubicBezTo>
                <a:cubicBezTo>
                  <a:pt x="239" y="2056"/>
                  <a:pt x="212" y="1928"/>
                  <a:pt x="192" y="1728"/>
                </a:cubicBezTo>
                <a:cubicBezTo>
                  <a:pt x="175" y="1551"/>
                  <a:pt x="162" y="1336"/>
                  <a:pt x="170" y="1176"/>
                </a:cubicBezTo>
                <a:cubicBezTo>
                  <a:pt x="171" y="1018"/>
                  <a:pt x="176" y="899"/>
                  <a:pt x="200" y="782"/>
                </a:cubicBezTo>
                <a:cubicBezTo>
                  <a:pt x="224" y="665"/>
                  <a:pt x="305" y="430"/>
                  <a:pt x="376" y="312"/>
                </a:cubicBezTo>
                <a:cubicBezTo>
                  <a:pt x="447" y="194"/>
                  <a:pt x="563" y="62"/>
                  <a:pt x="624" y="0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8001000" y="41911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dt" idx="3"/>
          </p:nvPr>
        </p:nvSpPr>
        <p:spPr>
          <a:xfrm>
            <a:off x="-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4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5"/>
          </p:nvPr>
        </p:nvSpPr>
        <p:spPr>
          <a:xfrm>
            <a:off x="66290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12C6-2F54-4EB9-B8A8-1CE17F53DA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4114800"/>
            <a:ext cx="7848720" cy="2286000"/>
          </a:xfrm>
          <a:prstGeom prst="roundRect">
            <a:avLst>
              <a:gd name="adj" fmla="val 16667"/>
            </a:avLst>
          </a:prstGeom>
          <a:solidFill>
            <a:srgbClr val="336699">
              <a:alpha val="4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762120" y="419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808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419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Цвета и условные знаки физической карты России</a:t>
            </a:r>
            <a:endParaRPr b="0" lang="en-US" sz="54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57909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Поверхность суши обозначают разными условными цветами, в зависимости от высоты местности. Высота местности измеряется от уровня океана или моря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189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99"/>
                </a:solidFill>
                <a:latin typeface="Arial"/>
              </a:rPr>
              <a:t>Работа с учебником стр. 85 рис. 77</a:t>
            </a:r>
            <a:endParaRPr b="0" lang="en-US" sz="8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Низкие места высотой до 200м над уровнем моря- </a:t>
            </a: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это равнины или низменности обозначаются зелёным цветом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3505320"/>
            <a:ext cx="2830320" cy="274320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Возвышенности расположенные от 200 до 500м над уровнем моря окрашены в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желтый цвет разных оттенков чем выше местность тем ярче цвет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3352680"/>
            <a:ext cx="3149640" cy="3017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cfcba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Горы- </a:t>
            </a:r>
            <a:r>
              <a:rPr b="0" lang="en-US" sz="4800" spc="-1" strike="noStrike">
                <a:solidFill>
                  <a:srgbClr val="996600"/>
                </a:solidFill>
                <a:latin typeface="Arial"/>
              </a:rPr>
              <a:t>коричневый цвет. Чем выше горы тем темнее цвет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2895480"/>
            <a:ext cx="3149640" cy="30924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Физминутка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К речке быстрой мы спустились,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Наклонились и умылись.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Раз, два, три, четыре…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Вот так славно освежились,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А теперь поплыли дружно: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Делать так руками нужно: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Вместе раз - это брасс,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дной, другой - это кроль.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Три, два, один-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лывём как дельфин,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Качаясь на волне,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лывём на спине.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Вышли на берег крутой,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тряхнулись - и дом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Работа с учебником.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-прочитать тему на стр. 86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-зарисовать условные знаки в тетрадь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равила работы с картой: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еографические объекты на карте показывают только указкой;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океаны, моря, озёра,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внины, возвышенности, горы надо обводить указкой вокруг;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ки показывают от истока к устью;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раницы обводят по условному знаку границ, полуострова и острова- по береговой линии;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орода показывают указкой направляя её на кружок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ую тему проходил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зовите условные цвета физической карт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обозначается на физической карте условными знакам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нания которые вы получили на уроке пригодятся вам в жизн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99"/>
                </a:solidFill>
                <a:latin typeface="Arial"/>
              </a:rPr>
              <a:t>Наше путешествие окончено.</a:t>
            </a:r>
            <a:br>
              <a:rPr sz="7200"/>
            </a:br>
            <a:r>
              <a:rPr b="0" lang="en-US" sz="7200" spc="-1" strike="noStrike">
                <a:solidFill>
                  <a:srgbClr val="ffff99"/>
                </a:solidFill>
                <a:latin typeface="Arial"/>
              </a:rPr>
              <a:t>Спасибо за урок!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419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ждый день - всегда, везде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 занятиях, в игре 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мело, чётко говорим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 тихонечко сидим.</a:t>
            </a:r>
            <a:endParaRPr b="0" lang="en-US" sz="40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57909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19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Путешествие по стране Картографии»</a:t>
            </a:r>
            <a:endParaRPr b="0" lang="en-US" sz="80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57909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190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ля того, чтобы путешествовать по карте, надо научиться «читать» её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«Читать»  карту – не значит читать только надписи на ней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до понимать и особый язык карты – условные знаки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 ним относятся различные цвета и другие обозначения.</a:t>
            </a:r>
            <a:endParaRPr b="0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57909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19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ша планета имеет неровную поверхность. Огромные пространства заняты морями и океанами, озёрами, множество рек течёт по Земле</a:t>
            </a:r>
            <a:endParaRPr b="0" lang="en-US" sz="40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57909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На суше выделяют низменности, возвышенности, горы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819520" y="2438280"/>
            <a:ext cx="4444920" cy="39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Физическая карта- это географическая карта, на которой изображают поверхность суши, моря и океаны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Океаны, моря, реки и озёра- </a:t>
            </a:r>
            <a:r>
              <a:rPr b="0" lang="en-US" sz="4000" spc="-1" strike="noStrike">
                <a:solidFill>
                  <a:srgbClr val="1a1fea"/>
                </a:solidFill>
                <a:latin typeface="Arial"/>
              </a:rPr>
              <a:t>синий, чем глубже участок тем темнее цвет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3276720"/>
            <a:ext cx="3149640" cy="3090600"/>
          </a:xfrm>
          <a:prstGeom prst="rect">
            <a:avLst/>
          </a:prstGeom>
          <a:gradFill rotWithShape="0">
            <a:gsLst>
              <a:gs pos="0">
                <a:srgbClr val="1a1fea"/>
              </a:gs>
              <a:gs pos="100000">
                <a:srgbClr val="6d6fc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дмитрий</cp:lastModifiedBy>
  <dcterms:modified xsi:type="dcterms:W3CDTF">2010-10-24T06:56:54Z</dcterms:modified>
  <cp:revision>10</cp:revision>
  <dc:subject>географ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