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615-07C1-4A00-A0D3-6AD37492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44D-5939-44AC-A50F-06C5D830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AE8-B21D-4BE6-AE4E-AB38DBCD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1DB-834D-4553-861C-E7FF677F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791-B1FA-4876-B520-627CF471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7409-6182-4ED7-ADB3-BB64128C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91E2-3E77-4589-8837-3B2AE910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394-F3B6-414C-A574-0CC09542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6F4-C3AE-430F-9D06-E6F7037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2299-F517-439C-BE12-9E2AA953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33E9-4610-44A4-BAED-E5C33C76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EC8-523A-4858-A242-3BB1014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5AE-8B88-4A55-9C41-C43ECEA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0FA2-C291-4521-BACB-BD5BCF41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5E2C-E1FB-4F22-BFBD-91F44C3E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F915-AC82-4FCE-9D9D-2E8BB319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CB0A-7137-4650-B323-2852D8B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D52-7383-4875-983D-603515DF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88C-2652-4246-B583-9EBE129A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4D9-B4E1-4CE6-88DB-CF83BE91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F21-6FCE-45E7-95A7-2876A797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61D-BABB-4D67-AF9B-3BBBD72F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1CF-2EE2-4E00-B893-0C10314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194-FD18-4822-BAC1-A4493C7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23EE-1DB5-41BF-97DB-652A0B2043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925-ADF4-430B-9E7A-B7BA2AD8AF6B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765000"/>
            <a:ext cx="82263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иперактивный ребено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казание психолого-педагогической поддержки семьям  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 допускайте ссор в присутствии реб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8" descr="1289920590-2896"/>
          <p:cNvPicPr/>
          <p:nvPr/>
        </p:nvPicPr>
        <p:blipFill>
          <a:blip r:embed="rId1"/>
          <a:stretch/>
        </p:blipFill>
        <p:spPr>
          <a:xfrm>
            <a:off x="2738520" y="1598760"/>
            <a:ext cx="3659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Как помочь организовать гиперактивного реб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48428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становить режим дн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казывать, как лучше выполнить задание, не отвлекаяс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низить влияние отвлекающих факторов во время выполнения домашнего зада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23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12" descr="2009-06-0134__ro__za__copil-la-calculator"/>
          <p:cNvPicPr/>
          <p:nvPr/>
        </p:nvPicPr>
        <p:blipFill>
          <a:blip r:embed="rId1"/>
          <a:stretch/>
        </p:blipFill>
        <p:spPr>
          <a:xfrm>
            <a:off x="1835280" y="333360"/>
            <a:ext cx="5113080" cy="3436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4149720"/>
            <a:ext cx="82263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градить гиперактивных детей от длительных занятий на компьютере и просмотра телепередач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-1296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62028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мните, что переутомление способствует снижению самоконтроля  нарастанию гиперактив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рганизуйте, поддерживающие группы, состоящие из родителей, имеющих детей с аналогичными проблема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прибегайте к физическому наказан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аще хвалите ребен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ректируйте по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ставьте список обязанностей, подпишите соглаш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оспитывайте навыки управления гнев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старайтесь предотвратить последствия забывчивости ребен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разрешайте откладывать выполнение задания на другое врем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мни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26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ребенка с синдромом дефицита внимания и гиперактивности наиболее действенными будут средства убеждения «через тело» (лишение удовольствий, лакомства, изоляция, дежурство по кухн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6" descr="12340428908"/>
          <p:cNvPicPr/>
          <p:nvPr/>
        </p:nvPicPr>
        <p:blipFill>
          <a:blip r:embed="rId1"/>
          <a:stretch/>
        </p:blipFill>
        <p:spPr>
          <a:xfrm>
            <a:off x="2195640" y="3645000"/>
            <a:ext cx="382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перактивность – это патолог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лавное вовремя диагностировать и проводить комплексную коррекцию: психологическую, медицинскую, педагогическу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чинать коррекцию лучше в возраст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5-10 л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9" descr="1273526050_metodika_vospitaniya_giperaktivnyx_detej"/>
          <p:cNvPicPr/>
          <p:nvPr/>
        </p:nvPicPr>
        <p:blipFill>
          <a:blip r:embed="rId1"/>
          <a:stretch/>
        </p:blipFill>
        <p:spPr>
          <a:xfrm>
            <a:off x="5183280" y="1598760"/>
            <a:ext cx="296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дители не упустите врем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6" descr="548096_9309-0x600"/>
          <p:cNvPicPr/>
          <p:nvPr/>
        </p:nvPicPr>
        <p:blipFill>
          <a:blip r:embed="rId1"/>
          <a:stretch/>
        </p:blipFill>
        <p:spPr>
          <a:xfrm>
            <a:off x="1619280" y="1628640"/>
            <a:ext cx="561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езруких М.,Ефимова С., Круглов Б. Почему учиться трудно. М.199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Физиология развития ребенка\Под ред.М.М.Безруких. Изд.Образование отА до Я-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оменский Я.Л., ПанькоЕ.А.Диагностика и коррекция психического развития дошкольников-Минск:Ун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рс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эцкае,199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айт 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ages yandex.r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куда пошло это сл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Гипер…» - (от греч. –над сверху) составная часть сложных слов, указывающая на превышение норм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Активный»-(латин.) обозначает действенный, деятельны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69894"/>
          <p:cNvPicPr/>
          <p:nvPr/>
        </p:nvPicPr>
        <p:blipFill>
          <a:blip r:embed="rId1"/>
          <a:stretch/>
        </p:blipFill>
        <p:spPr>
          <a:xfrm>
            <a:off x="5133960" y="2108160"/>
            <a:ext cx="30574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ерты гиперактивного реб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1309680" y="1773000"/>
            <a:ext cx="6518160" cy="3830400"/>
            <a:chOff x="1309680" y="1773000"/>
            <a:chExt cx="6518160" cy="3830400"/>
          </a:xfrm>
        </p:grpSpPr>
        <p:sp>
          <p:nvSpPr>
            <p:cNvPr id="219" name="_s1028"/>
            <p:cNvSpPr/>
            <p:nvPr/>
          </p:nvSpPr>
          <p:spPr>
            <a:xfrm>
              <a:off x="3726000" y="2361960"/>
              <a:ext cx="1687320" cy="1685520"/>
            </a:xfrm>
            <a:prstGeom prst="ellipse">
              <a:avLst/>
            </a:prstGeom>
            <a:solidFill>
              <a:srgbClr val="54547a">
                <a:alpha val="50000"/>
              </a:srgbClr>
            </a:solidFill>
            <a:ln w="4680">
              <a:solidFill>
                <a:srgbClr val="5454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_s1029"/>
            <p:cNvSpPr/>
            <p:nvPr/>
          </p:nvSpPr>
          <p:spPr>
            <a:xfrm>
              <a:off x="3726000" y="1773000"/>
              <a:ext cx="168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Излишняя подвижность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_s1030"/>
            <p:cNvSpPr/>
            <p:nvPr/>
          </p:nvSpPr>
          <p:spPr>
            <a:xfrm>
              <a:off x="4335480" y="2804760"/>
              <a:ext cx="1687320" cy="1685520"/>
            </a:xfrm>
            <a:prstGeom prst="ellipse">
              <a:avLst/>
            </a:prstGeom>
            <a:solidFill>
              <a:srgbClr val="65b2ff">
                <a:alpha val="50000"/>
              </a:srgbClr>
            </a:solidFill>
            <a:ln w="468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_s1031"/>
            <p:cNvSpPr/>
            <p:nvPr/>
          </p:nvSpPr>
          <p:spPr>
            <a:xfrm>
              <a:off x="6140520" y="2914560"/>
              <a:ext cx="168732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суетливость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_s1032"/>
            <p:cNvSpPr/>
            <p:nvPr/>
          </p:nvSpPr>
          <p:spPr>
            <a:xfrm>
              <a:off x="4102200" y="3520800"/>
              <a:ext cx="1687320" cy="1685520"/>
            </a:xfrm>
            <a:prstGeom prst="ellipse">
              <a:avLst/>
            </a:prstGeom>
            <a:solidFill>
              <a:srgbClr val="9900ff">
                <a:alpha val="50000"/>
              </a:srgbClr>
            </a:solidFill>
            <a:ln w="46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_s1033"/>
            <p:cNvSpPr/>
            <p:nvPr/>
          </p:nvSpPr>
          <p:spPr>
            <a:xfrm>
              <a:off x="5540400" y="5182920"/>
              <a:ext cx="168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импульсивность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3349800" y="3520800"/>
              <a:ext cx="1687320" cy="1685520"/>
            </a:xfrm>
            <a:prstGeom prst="ellipse">
              <a:avLst/>
            </a:prstGeom>
            <a:solidFill>
              <a:srgbClr val="6b6b99">
                <a:alpha val="50000"/>
              </a:srgbClr>
            </a:solidFill>
            <a:ln w="468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35"/>
            <p:cNvSpPr/>
            <p:nvPr/>
          </p:nvSpPr>
          <p:spPr>
            <a:xfrm>
              <a:off x="1909800" y="5182920"/>
              <a:ext cx="168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болтливость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36"/>
            <p:cNvSpPr/>
            <p:nvPr/>
          </p:nvSpPr>
          <p:spPr>
            <a:xfrm>
              <a:off x="3116160" y="2804760"/>
              <a:ext cx="1687680" cy="1685520"/>
            </a:xfrm>
            <a:prstGeom prst="ellipse">
              <a:avLst/>
            </a:prstGeom>
            <a:solidFill>
              <a:srgbClr val="9900ff">
                <a:alpha val="50000"/>
              </a:srgbClr>
            </a:solidFill>
            <a:ln w="46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37"/>
            <p:cNvSpPr/>
            <p:nvPr/>
          </p:nvSpPr>
          <p:spPr>
            <a:xfrm>
              <a:off x="1309680" y="2914560"/>
              <a:ext cx="1687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эмоциональность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ведение взрослых и их отношение к ребенк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являйте достаточно твердости и последовательности в воспитан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мните, что чрезмерная болтливость, подвижность, недисциплинированность не является умышлен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нтролируйте поведение ребенка, не навязывая ему жестоких прави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81760" y="-5235840"/>
            <a:ext cx="137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549000"/>
            <a:ext cx="8226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давайте ребенку категорических указаний, избегайте слов «нет», «Нельзя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ройте взаимоотношения с ребенком на взаимопонимании и дов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збегайте, чрезмерной мягкости и завышенны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еагируйте на действия ребенка неожиданным способом (пошутите, повторите его действия, оставьте в комнате одного и т.д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-4428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692280"/>
            <a:ext cx="82263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торяйте свою просьбу одними и теми же словами; много раз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настаивайте на том, чтобы ребенок обязательно принес извинения за поступ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слушивайте то, что хочет сказать ребе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ля подкрепления устных инструкций используйте зрительную стимуляц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Как создать психологический  комфорт в семь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9" descr="p46telloffkids_468x460"/>
          <p:cNvPicPr/>
          <p:nvPr/>
        </p:nvPicPr>
        <p:blipFill>
          <a:blip r:embed="rId1"/>
          <a:stretch/>
        </p:blipFill>
        <p:spPr>
          <a:xfrm>
            <a:off x="2340000" y="1655640"/>
            <a:ext cx="44575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деляйте ребенку достаточно вним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6" descr="85d74606de43b352dcc80c33beaae8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одите досуг всей семь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7" descr="FigSemRelFam_B"/>
          <p:cNvPicPr/>
          <p:nvPr/>
        </p:nvPicPr>
        <p:blipFill>
          <a:blip r:embed="rId1"/>
          <a:stretch/>
        </p:blipFill>
        <p:spPr>
          <a:xfrm>
            <a:off x="861840" y="1598760"/>
            <a:ext cx="7413840" cy="4497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6095880"/>
            <a:ext cx="40370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6:12:09Z</dcterms:created>
  <dc:creator>1</dc:creator>
  <dc:description/>
  <dc:language>en-US</dc:language>
  <cp:lastModifiedBy>ADMIN</cp:lastModifiedBy>
  <dcterms:modified xsi:type="dcterms:W3CDTF">2013-02-25T10:20:12Z</dcterms:modified>
  <cp:revision>13</cp:revision>
  <dc:subject/>
  <dc:title>Гиперактивный ребенок</dc:title>
</cp:coreProperties>
</file>