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E8F8-D7BD-497C-B66A-C7EFE67E6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B6C2-3A38-4A37-81EF-974CE244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98D1-8199-4D89-94B7-7E4791CA1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E7F3-67CB-419F-A814-30C6F0B90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4501-0CEE-4DA5-9D3C-8A0A3CBAE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957D-DD32-430C-B0B5-DABD2F50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864D-74E8-4E1B-B21A-4E4FFFF7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137F-26C6-434E-916C-DBFC0017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E871-D59D-4883-BEC8-395ECFBF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E91D-9B4D-4B84-8CE3-492BF3BB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0E8B-4762-452F-AEEC-C555A7B6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090C-C891-4046-A2B2-52967564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A5020-B651-4920-B040-5000E2C0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8CCF-0668-46E7-B98F-9C86DE84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BA63-7D9E-4D4E-8C1D-F2AEE69C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8BC4-77A7-426C-A0D1-A3DE4E541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5EF4-D81A-4DF8-A40B-1D7AFB644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48D6-FC73-4BED-8D8B-31CB6FAF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5284-FF51-49CE-B37B-3CFD0000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01F5-8243-4CDA-9CA5-6E1304FB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BC6F-492C-4836-A212-D2D844B0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E7F0-9C47-4549-AD3B-E2798716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CE6A-F0D5-43B8-A702-0F3B3E00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0D20-B742-442A-8243-06803427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EAE1-01D0-4CDB-A844-7E7E5394F6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4400-D62F-490B-BB98-94067A07FE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Те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ма уро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708280"/>
            <a:ext cx="6400800" cy="29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Модели и изображения Земл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0" y="980640"/>
            <a:ext cx="41940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Христофор Колум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003640" y="1557360"/>
            <a:ext cx="3672000" cy="4757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24000" y="1844640"/>
            <a:ext cx="4138560" cy="4162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0" y="907920"/>
            <a:ext cx="41940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аско да Га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950000" y="907920"/>
            <a:ext cx="41940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жеймс Ку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3529080" cy="44690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003640" y="2133720"/>
            <a:ext cx="3313440" cy="3816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Кто первым увидел нашу Землю сверху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340000" y="2421000"/>
            <a:ext cx="7128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979640" y="2133720"/>
            <a:ext cx="5256360" cy="42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Юрий Гагарин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784836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 апреля 1961г.               состоялся 1-ый полёт человека в космо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716360" y="3213000"/>
            <a:ext cx="295272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изминут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лнце спит, и небо спи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аже ветер не шуми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но утром солнце встало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се лучи свои послал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друг повеял ветеро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бо тучей завол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деревья раскача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ождь по крышам застучал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арабанит дождь по крыш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лнце клонится всё ниж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т и спряталось за туч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и один не виден лучи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768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2" dur="768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4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6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Что можно показать на глобусе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еверный полю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Южный полю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Эквато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Земная ос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768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9" dur="768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1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3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Океан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еверный Ледовит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Тих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Атлантическ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Индийск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768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0" dur="768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2" dur="768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4" dur="768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Материк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Евраз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Афр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еверная Амер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Южная Амер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Австрал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Антаркти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768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1" dur="768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3" dur="768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5" dur="768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Итог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699920"/>
            <a:ext cx="854064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 такое глобус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понимаете слово «модель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чем нужен глобус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 на нём можно увидеть и показа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768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6" dur="768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8" dur="768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0" dur="768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971640" y="836640"/>
            <a:ext cx="7200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олодцы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332000" y="3933720"/>
            <a:ext cx="2879640" cy="2519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651640" y="3933720"/>
            <a:ext cx="2736720" cy="2664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Загад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0138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н в безбрежном океан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Туч касается крыло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Развернётся над лугами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тливает серебро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(Самолёт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68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68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68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68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55640" y="1052640"/>
            <a:ext cx="7416720" cy="511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Задани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Сравните модель с натуральным предмет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 размер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 форм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Что такое модел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68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68" fill="hold"/>
                                        <p:tgtEl>
                                          <p:spTgt spid="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68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68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7058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Модель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– это точная, уменьшенная копия натурального объекта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8920" y="3284280"/>
            <a:ext cx="85410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Зачем людям нужны модели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акие модели вы здесь видит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Загад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6000" y="1676160"/>
            <a:ext cx="77263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а ноге стоит одной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Крутит-вертит голово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ам показывает страны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еки, горы, океан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(Глобус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768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768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" dur="768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" dur="768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Что такое глобус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2276640"/>
            <a:ext cx="41940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Глобус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– модель Земли, позволяющая сразу увидеть всю Земл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43280" y="1700280"/>
            <a:ext cx="424980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907920"/>
            <a:ext cx="8510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Откуда мы знаем, какая наша Земля?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3499920"/>
            <a:ext cx="854064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азовите имена великих путешественник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768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768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7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9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Великие путешественник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ернан Магелла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073480" y="2006640"/>
            <a:ext cx="3333960" cy="3809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68360" y="2492280"/>
            <a:ext cx="3816360" cy="360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8:09:33Z</dcterms:created>
  <dc:creator>user</dc:creator>
  <dc:description/>
  <dc:language>en-US</dc:language>
  <cp:lastModifiedBy>user</cp:lastModifiedBy>
  <dcterms:modified xsi:type="dcterms:W3CDTF">2013-02-27T18:16:49Z</dcterms:modified>
  <cp:revision>7</cp:revision>
  <dc:subject/>
  <dc:title>Загадка</dc:title>
</cp:coreProperties>
</file>