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2B025-2D8F-4EFE-B92E-82178A16E97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74DC0-9E4A-4850-A6E4-1BEC9F5ED75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4767-E1F1-467D-9C16-8B7077E65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7264-BF69-4333-B762-25B2AD0B2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B250-DB83-4490-8B91-E49BDB83E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6B7E-925B-4EC0-B6AA-F2877E757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C22E8-1536-4E40-8BC0-4DC67FF03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74B43-9C6D-45E0-843D-D105A7878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BF891-A042-44C0-8DD4-71D450854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5C2B7-ED94-4B20-B688-2F80B6813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168A0-EF97-4637-B205-AAC57AD83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4DDAE-9A8C-4E1B-BCE9-06B3B3E55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6B11E-0228-4434-AE7F-282F3511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0C5E-DE96-4199-9447-7A78EA7F6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4987A-0D14-4ACA-BFD3-F2327EA9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7D9ED-10CD-4B7C-B159-F5D7EC7D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27E30-1765-4F81-8391-C96490B5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C5D79-4D45-4F7B-A6EA-D1029466F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3ACCC-A526-404F-AE5D-7EB58F1BB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1E1C-DBEA-4CD9-9EBF-C5E871ECE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58F1-C17A-4E94-A071-A029E710B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49A9-C045-4E70-B077-A0C914AB8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C915-B534-4993-AB33-1173E1D24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F4EA-AB0F-42FC-B6D9-6353E2C1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CBFB-7353-4007-AD4F-F93F8601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5A67-0608-4DBE-BDC1-A1337BA8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FA388-A94C-4792-88B0-2C618956207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8C4E8-4B56-45E9-9660-85B761F518C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8" name="Содержимое 3" descr="69LAPKCAZ2DZP1CA6WE6F6CAZTEO40CAYE91O3CARA52M3CAYNFODWCAQ2E3N8CA5YKBIUCAV35N6LCA2YXHE4CAXFM2EMCALLEWHKCAIDXGIOCA2TZMBPCAGS8UGWCAURAA8ECA0YD87HCAY5JK5VCAUGWTTL.jpg"/>
          <p:cNvPicPr/>
          <p:nvPr/>
        </p:nvPicPr>
        <p:blipFill>
          <a:blip r:embed="rId1"/>
          <a:stretch/>
        </p:blipFill>
        <p:spPr>
          <a:xfrm>
            <a:off x="7093080" y="0"/>
            <a:ext cx="1800000" cy="257184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6" descr="i[5].jpg"/>
          <p:cNvPicPr/>
          <p:nvPr/>
        </p:nvPicPr>
        <p:blipFill>
          <a:blip r:embed="rId2"/>
          <a:stretch/>
        </p:blipFill>
        <p:spPr>
          <a:xfrm>
            <a:off x="4211640" y="0"/>
            <a:ext cx="1979640" cy="256536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8" descr="NFW5WZCAWF1FW4CAF4K926CASCWRZCCAODD62NCAGI93E8CAL1TY2GCAB2XL0GCAHVLE1CCAR07ZGHCARLNCK8CAYI8CT3CAF9UVRZCAPOEBRUCA1350XLCAAK1V2YCATX2CQSCAXRPZLECAZJSWP1CA1XYQBG.jpg"/>
          <p:cNvPicPr/>
          <p:nvPr/>
        </p:nvPicPr>
        <p:blipFill>
          <a:blip r:embed="rId3"/>
          <a:stretch/>
        </p:blipFill>
        <p:spPr>
          <a:xfrm>
            <a:off x="0" y="0"/>
            <a:ext cx="3459240" cy="2565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172"/>
          <p:cNvPicPr/>
          <p:nvPr/>
        </p:nvPicPr>
        <p:blipFill>
          <a:blip r:embed="rId4"/>
          <a:stretch/>
        </p:blipFill>
        <p:spPr>
          <a:xfrm>
            <a:off x="2195640" y="2349360"/>
            <a:ext cx="4537080" cy="3402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C:\Users\маг Рустам\Desktop\1i.jpeg"/>
          <p:cNvPicPr/>
          <p:nvPr/>
        </p:nvPicPr>
        <p:blipFill>
          <a:blip r:embed="rId5"/>
          <a:stretch/>
        </p:blipFill>
        <p:spPr>
          <a:xfrm>
            <a:off x="6156360" y="4183200"/>
            <a:ext cx="2987640" cy="27874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C:\Users\маг Рустам\Desktop\кошка.jpg"/>
          <p:cNvPicPr/>
          <p:nvPr/>
        </p:nvPicPr>
        <p:blipFill>
          <a:blip r:embed="rId6"/>
          <a:stretch/>
        </p:blipFill>
        <p:spPr>
          <a:xfrm>
            <a:off x="0" y="4060800"/>
            <a:ext cx="305928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 rot="21134400">
            <a:off x="693360" y="17859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eec94"/>
                </a:solidFill>
                <a:latin typeface="Times New Roman"/>
              </a:rPr>
              <a:t>I have got many pet</a:t>
            </a:r>
            <a:r>
              <a:rPr b="1" lang="en-US" sz="8000" spc="-1" strike="noStrike">
                <a:solidFill>
                  <a:srgbClr val="feec94"/>
                </a:solidFill>
                <a:latin typeface="Calibri"/>
                <a:ea typeface="Calibri"/>
              </a:rPr>
              <a:t>´</a:t>
            </a:r>
            <a:r>
              <a:rPr b="1" lang="en-US" sz="8000" spc="-1" strike="noStrike">
                <a:solidFill>
                  <a:srgbClr val="feec94"/>
                </a:solidFill>
                <a:latin typeface="Times New Roman"/>
              </a:rPr>
              <a:t>s.</a:t>
            </a:r>
            <a:br>
              <a:rPr sz="8000"/>
            </a:br>
            <a:endParaRPr b="1" lang="en-US" sz="8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95640" y="259920"/>
            <a:ext cx="194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a cow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7" name="Picture 6" descr="172"/>
          <p:cNvPicPr/>
          <p:nvPr/>
        </p:nvPicPr>
        <p:blipFill>
          <a:blip r:embed="rId1"/>
          <a:stretch/>
        </p:blipFill>
        <p:spPr>
          <a:xfrm>
            <a:off x="250920" y="189000"/>
            <a:ext cx="2689200" cy="201600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5" descr="NFW5WZCAWF1FW4CAF4K926CASCWRZCCAODD62NCAGI93E8CAL1TY2GCAB2XL0GCAHVLE1CCAR07ZGHCARLNCK8CAYI8CT3CAF9UVRZCAPOEBRUCA1350XLCAAK1V2YCATX2CQSCAXRPZLECAZJSWP1CA1XYQBG.jpg"/>
          <p:cNvPicPr/>
          <p:nvPr/>
        </p:nvPicPr>
        <p:blipFill>
          <a:blip r:embed="rId2"/>
          <a:stretch/>
        </p:blipFill>
        <p:spPr>
          <a:xfrm>
            <a:off x="250920" y="2421000"/>
            <a:ext cx="2665440" cy="19764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4067280" y="2421000"/>
            <a:ext cx="2233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a mous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1476360" y="4941720"/>
            <a:ext cx="194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a tiger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Рисунок 8" descr="CSQPPMCAF5A6NRCAZT5UUICAU4G9X6CAJL35SECA42PRQMCAFV7JXSCAWVSJX5CAONFWO1CAHR4CI8CALJHDIVCAS0KJ8NCAWRUL9YCAEHDRT0CA81Z8YPCAD50MPMCANFCYQ9CAIUI4PFCAH216G4CAS59YIN.jpg"/>
          <p:cNvPicPr/>
          <p:nvPr/>
        </p:nvPicPr>
        <p:blipFill>
          <a:blip r:embed="rId3"/>
          <a:stretch/>
        </p:blipFill>
        <p:spPr>
          <a:xfrm>
            <a:off x="6012000" y="3860640"/>
            <a:ext cx="2305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3" name="Picture 6" descr="180"/>
          <p:cNvPicPr/>
          <p:nvPr/>
        </p:nvPicPr>
        <p:blipFill>
          <a:blip r:embed="rId1"/>
          <a:stretch/>
        </p:blipFill>
        <p:spPr>
          <a:xfrm>
            <a:off x="250920" y="115920"/>
            <a:ext cx="3552840" cy="266544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5" descr="IV4ZLHCA9IW0LYCAEKU21RCA2TX6KACAFJGXG7CAPHJV7YCA2QB70MCAM6XYL7CAE65V0SCANVDDRBCAXZI6IDCAW94G0DCAL5SGNUCALN4PN1CA2B7PIRCACVRDZGCA8A15KHCAH3NGH9CAIRCN57CAHN8ILS.jpg"/>
          <p:cNvPicPr/>
          <p:nvPr/>
        </p:nvPicPr>
        <p:blipFill>
          <a:blip r:embed="rId2"/>
          <a:stretch/>
        </p:blipFill>
        <p:spPr>
          <a:xfrm>
            <a:off x="5867280" y="2133720"/>
            <a:ext cx="3097440" cy="2476440"/>
          </a:xfrm>
          <a:prstGeom prst="rect">
            <a:avLst/>
          </a:prstGeom>
          <a:ln w="0">
            <a:noFill/>
          </a:ln>
        </p:spPr>
      </p:pic>
      <p:pic>
        <p:nvPicPr>
          <p:cNvPr id="145" name="Содержимое 3" descr="69LAPKCAZ2DZP1CA6WE6F6CAZTEO40CAYE91O3CARA52M3CAYNFODWCAQ2E3N8CA5YKBIUCAV35N6LCA2YXHE4CAXFM2EMCALLEWHKCAIDXGIOCA2TZMBPCAGS8UGWCAURAA8ECA0YD87HCAY5JK5VCAUGWTTL.jpg"/>
          <p:cNvPicPr/>
          <p:nvPr/>
        </p:nvPicPr>
        <p:blipFill>
          <a:blip r:embed="rId3"/>
          <a:stretch/>
        </p:blipFill>
        <p:spPr>
          <a:xfrm>
            <a:off x="250920" y="4005360"/>
            <a:ext cx="2665440" cy="285264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4"/>
          <p:cNvSpPr/>
          <p:nvPr/>
        </p:nvSpPr>
        <p:spPr>
          <a:xfrm>
            <a:off x="4572000" y="765000"/>
            <a:ext cx="194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a lion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3708360" y="5013360"/>
            <a:ext cx="194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a hors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3708360" y="2852640"/>
            <a:ext cx="194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a fro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Grammar in focus</a:t>
            </a: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: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   have got (</a:t>
            </a: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иметь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)    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50560" y="907920"/>
            <a:ext cx="87850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гда мы говорим о том, что у нас есть, мы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спользуем глагол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have go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Yo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e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  </a:t>
            </a:r>
            <a:r>
              <a:rPr b="0" lang="en-US" sz="2000" spc="-1" strike="noStrike">
                <a:solidFill>
                  <a:srgbClr val="feec94"/>
                </a:solidFill>
                <a:latin typeface="Times New Roman"/>
              </a:rPr>
              <a:t>a c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 местоимениями в 3-м лице единственного числа глагол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ave got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имеет форму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has go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гда мы говорим о том, чего у нас нет, мы используем частицу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ежду глаголами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hav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got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, например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</a:rPr>
              <a:t>hav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</a:rPr>
              <a:t>go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have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´t got) a cat.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У меня нет кош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</a:rPr>
              <a:t>ha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not 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</a:rPr>
              <a:t>go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has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´t got) a dog.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У него нет соба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1116000" y="1557360"/>
            <a:ext cx="1152360" cy="934920"/>
          </a:xfrm>
          <a:prstGeom prst="rect">
            <a:avLst/>
          </a:prstGeom>
          <a:solidFill>
            <a:srgbClr val="1616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ec94"/>
                </a:solidFill>
                <a:latin typeface="Times New Roman"/>
              </a:rPr>
              <a:t>have go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ec94"/>
                </a:solidFill>
                <a:latin typeface="Times New Roman"/>
              </a:rPr>
              <a:t>´ve go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2411280" y="1773360"/>
            <a:ext cx="936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ec94"/>
                </a:solidFill>
                <a:latin typeface="Times New Roman"/>
              </a:rPr>
              <a:t>a dog</a:t>
            </a:r>
            <a:br>
              <a:rPr sz="4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3419640" y="1413000"/>
            <a:ext cx="3779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eec94"/>
                </a:solidFill>
                <a:latin typeface="Times New Roman"/>
              </a:rPr>
              <a:t>У меня есть собак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eec94"/>
                </a:solidFill>
                <a:latin typeface="Times New Roman"/>
              </a:rPr>
              <a:t>У тебя есть собак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eec94"/>
                </a:solidFill>
                <a:latin typeface="Times New Roman"/>
              </a:rPr>
              <a:t>У нас есть собак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eec94"/>
                </a:solidFill>
                <a:latin typeface="Times New Roman"/>
              </a:rPr>
              <a:t>У них есть собак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187280" y="3141720"/>
            <a:ext cx="1081080" cy="718920"/>
          </a:xfrm>
          <a:prstGeom prst="rect">
            <a:avLst/>
          </a:prstGeom>
          <a:solidFill>
            <a:srgbClr val="1616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2000" spc="-1" strike="noStrike">
                <a:solidFill>
                  <a:srgbClr val="feec94"/>
                </a:solidFill>
                <a:latin typeface="Times New Roman"/>
              </a:rPr>
              <a:t>has go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ec94"/>
                </a:solidFill>
                <a:latin typeface="Times New Roman"/>
              </a:rPr>
              <a:t>´s go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3492360" y="3141720"/>
            <a:ext cx="1943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eec94"/>
                </a:solidFill>
                <a:latin typeface="Times New Roman"/>
              </a:rPr>
              <a:t>У него есть ко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eec94"/>
                </a:solidFill>
                <a:latin typeface="Times New Roman"/>
              </a:rPr>
              <a:t>У нее есть кот.</a:t>
            </a:r>
            <a:br>
              <a:rPr sz="4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6840" y="2852280"/>
            <a:ext cx="397044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I have got …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Рисунок 5" descr="42464_2[1].jpg"/>
          <p:cNvPicPr/>
          <p:nvPr/>
        </p:nvPicPr>
        <p:blipFill>
          <a:blip r:embed="rId1"/>
          <a:stretch/>
        </p:blipFill>
        <p:spPr>
          <a:xfrm>
            <a:off x="4572000" y="1844640"/>
            <a:ext cx="3778200" cy="252108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3" descr="GJZ3I9CA0ALC5TCA1WQL1TCAFBJH6GCANK3J0ICAXQERVTCAJ2KXMOCA906UVGCATTFC3RCAVDZ8SRCAWEP5HVCAIOUBHWCAVYE8SXCATXFRLNCANZDWI7CA8OYEYMCAV9KD2BCAXUWZPUCA1JUCELCAKYY02B.jpg"/>
          <p:cNvPicPr/>
          <p:nvPr/>
        </p:nvPicPr>
        <p:blipFill>
          <a:blip r:embed="rId2"/>
          <a:stretch/>
        </p:blipFill>
        <p:spPr>
          <a:xfrm>
            <a:off x="6588000" y="4135320"/>
            <a:ext cx="2305080" cy="272268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4" descr="73925433_4269403_0_10add_6d9d6ef5_XL.jpg"/>
          <p:cNvPicPr/>
          <p:nvPr/>
        </p:nvPicPr>
        <p:blipFill>
          <a:blip r:embed="rId3"/>
          <a:stretch/>
        </p:blipFill>
        <p:spPr>
          <a:xfrm>
            <a:off x="6084720" y="0"/>
            <a:ext cx="293220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Grammar in focus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: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Articl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28640"/>
            <a:ext cx="850752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английском языке, кроме неопределенного артикля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существует артикль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который в основном используется тогда, когда мы говорим об определенных, конкретных предметах и людях, например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b –Cub the pi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4" name="Рисунок 4" descr="1i.jpeg"/>
          <p:cNvPicPr/>
          <p:nvPr/>
        </p:nvPicPr>
        <p:blipFill>
          <a:blip r:embed="rId1"/>
          <a:stretch/>
        </p:blipFill>
        <p:spPr>
          <a:xfrm>
            <a:off x="250920" y="3284640"/>
            <a:ext cx="4033800" cy="356220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5" descr="2HMCZWCA0HNWAKCAE119UACA8AITVXCAE3QFB4CAXICRG0CAVG8YBVCAXNADHOCA0R3J3ACA5FZN31CAJDQHW5CAQ86BAKCAWG52L2CAQ1CAICCAPB76QOCAH4W38JCAQK6QB7CA7T5FFOCAFOR8AKCATUHYBJ.jpg"/>
          <p:cNvPicPr/>
          <p:nvPr/>
        </p:nvPicPr>
        <p:blipFill>
          <a:blip r:embed="rId2"/>
          <a:stretch/>
        </p:blipFill>
        <p:spPr>
          <a:xfrm>
            <a:off x="250920" y="115920"/>
            <a:ext cx="4033800" cy="30384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4932360" y="691920"/>
            <a:ext cx="37432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olynesia the parr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Содержимое 6"/>
          <p:cNvSpPr/>
          <p:nvPr/>
        </p:nvSpPr>
        <p:spPr>
          <a:xfrm>
            <a:off x="5003640" y="3933720"/>
            <a:ext cx="3178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ip the do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 rot="20898000">
            <a:off x="45684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THANKS A L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FOR THE LESS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01:44:01Z</dcterms:created>
  <dc:creator>1</dc:creator>
  <dc:description/>
  <dc:language>en-US</dc:language>
  <cp:lastModifiedBy>Admin</cp:lastModifiedBy>
  <dcterms:modified xsi:type="dcterms:W3CDTF">2013-02-27T17:02:22Z</dcterms:modified>
  <cp:revision>37</cp:revision>
  <dc:subject/>
  <dc:title>5 класс</dc:title>
</cp:coreProperties>
</file>