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C40-481B-4BCD-A677-A15192DB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64C-598D-4B8B-A4F8-FE7D5DA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A91-5B15-4097-88BC-0D4B86AC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18C-3DD4-45FA-B76D-65B408B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FF62-C030-4B44-A988-C4D01F77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B5C2-E17E-406A-BB61-A0EE4ED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EAC7-8D2A-4A81-B868-85F4B53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09F-B261-4A54-893F-A2818755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B4BC-793D-431A-A6C5-0398C38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FFF-BEA6-42F8-B800-A2F3F5A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46B-6BC8-42E6-8997-CA41163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292-70AF-4F6B-9C90-16205D7F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777D-B192-4519-9F29-88C590F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899-0613-4A28-992B-5B4A021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D2FA-5D4D-43D2-A6D6-BE8BC90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E5A0-B3E4-4504-9FB8-0FA8748C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0A6-0819-4CB5-B817-56204F51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90E-5B6C-4FEC-ABEC-0E85AFF7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36C-3E18-4C31-874E-DEF0D57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D29-E43B-44AF-9898-A6A85FE4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EC3-4273-4E3C-AB6C-CCBBE8E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EF7-7EB2-4037-8DC3-8FA73DA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5B5-1394-4D77-B4BE-1F6E08F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C4A-6C64-4725-9119-3D29680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FB1E-8C25-452E-89D6-A75DD004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F32-C8B1-4AA7-9370-6FF09115A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84692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работа на тему: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электрического тока на организм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4005360"/>
            <a:ext cx="720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ащийся 118 группы по профе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лектромонтер по ремонту электрооборуд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чевского профессионального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иев Джах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Каращук С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ы направлений движения тока по телу человек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асании одной рукой к источнику путь тока замыкается через обе ноги на землю “рука-ноги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бое изоляции токоведущих частей оборудования на корпус под напряжением оказываются руки работающего-путь тока “руки-ноги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варианты различаются степенью опасности. Наиболее опасными являются варианты “голова-руки”, “голова-ноги”, “руки-ноги” (петля полная). Это объясняется тем, что в зону поражения попадают жизненно важные системы организма — головной мозг,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919080"/>
            <a:ext cx="82296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оздействия т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лияет на конечный исход поражения. Чем дольше воздействуeт электрический ток на организм, тем тяжелее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внешней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ют опасность поражения током повышенная температура и влажность, металлический или другой токопроводящий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от воздействия электрического то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еспечения электробезопасности необходимо точное соблюдение правил технической эксплуатации электроустановок и проведение мероприятий по защите от электротравма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255420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32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опасный т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ым следует считать ток, при котором человек может самостоятельно освободиться от электрической цепи. Его величина зависит от скорости прохождения тока через тело человека: при длительности действия более 10 с — 2 мА, а при 120 с и менее — 6 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ым напряжением считают 36 В (для светильников местного стационарного освещения, переносных светильников и т. д.) и 12 В (для переносных светильников при работе внутри металлических резервуаров, котлов). Но при определенных ситуациях и такие напряжения могут представлять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ами и способами обеспечения электробезопасности служа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безопасного напря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золяции электрических пров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лючение случайного прикосновения к токоведущим част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о защитного заземления и зану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редств индивидуальной защи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организационных мер обеспечения электро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азание помощи пострадавшему от электрического тока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медицина располагает совершенными средствами для эффективной помощи пострадавшим в результате различных несчастных случаев, травм. Однако медицинская помощь не всегда может срочно прибыть на место происшествия. Поэтому первую доврачебную помощь должен уметь оказать кажды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164200" y="1857240"/>
            <a:ext cx="3006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бождение пострадавшего от действия то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тключить соответствующие части электроустан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если по какой-либо причине отключить нельзя, можно перерезать или перерубить провода (при напряжении не выше 1000 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резать провод только инструментом с изолируемыми рукоятками или в диэлектрических перчатках, можно перерубить провода инструментом с сухой деревянной рукоят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ожно отбросить провод сухой палкой, доской или другими подобными предме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тобы оторвать человека от токоведущих частей, можно взяться за его одежду, если она сухая или свою руку обмотать сухой одеждой (шапка, ша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ттянуть пострадавшего от токоведущих частей, отбросить от него провод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ое действие оказывает электрический ток на организм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айтесь не приближаться близко к электрическим установкам, находящимся на улице и, в особенности, во время сырой, дождливой или очень жаркой погоды. Неприятности могут настигнуть в любую минуту. Контакт с электрическим током очень опасен для здоровья и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736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Виды поражения организма человека </a:t>
            </a: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электрическим то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46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Факторы, определяющие исход воздействия электрического тока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46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Безопасны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46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Найти  способы обеспечения электро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46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Оказание помощи пострадавшему от электрического тока (составить памятку)</a:t>
            </a:r>
            <a:br>
              <a:rPr sz="2800"/>
            </a:br>
            <a:r>
              <a:rPr b="0" lang="ru-RU" sz="2800" spc="-1" strike="noStrike" u="sng">
                <a:solidFill>
                  <a:srgbClr val="046e04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поражения людей электрическим током на производстве и в быту появляется при несоблюдении мер безопасности, а также при отказе или неисправности электрического оборудования и бытовых приборов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равнению с другими видами производственного травматизма электротравматизм составляет небольшой процент, однако по числу травм с тяжелым и особенно летальным исходом занимает одно из первых ме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производстве из-за несоблюдения правил электробезопасности происходит 75% электропо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 воз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ходя через организм человека, электроток производит термическое, электролитическое, механическое, биологическое, световое воз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32036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826920" y="58680"/>
            <a:ext cx="749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ическое воздействие т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изуется нагревом кожи и тканей до высокой температуры вплоть до ож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литическое воздейств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ается в разложении органической жидкости, в том числе крови, и нарушении ее физико-химического со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ческое 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ка приводит к расслоению, разрыву тканей организма в результате электродинамического эффекта, а также мгновенного взрывоподобного образования пара из тканевой жидкости и крови. Механическое действие связано с сильным сокращением мышц вплоть до их разры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ческое 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является в раздражении и возбуждении живых тканей и сопровождается судорожными сокращениями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овое 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водит к поражению слизистых оболочек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ражения организма человека электрическим ток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1773000"/>
            <a:ext cx="409104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ический у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Текст 4"/>
          <p:cNvSpPr/>
          <p:nvPr/>
        </p:nvSpPr>
        <p:spPr>
          <a:xfrm>
            <a:off x="4903920" y="1679400"/>
            <a:ext cx="3752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826920" y="2593800"/>
            <a:ext cx="3168720" cy="328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5259240" y="2289240"/>
            <a:ext cx="30416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8013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определяющие исход воздействия электрического тока на челове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ГОСТу 12.1.019 “ССБТ. Электробезопасность. Общие требования” степень опасного и вредного воздействия на человека электрического тока зависит о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илы тока, напряжения, рода тока, частоты электрического тока и пути прохождения через тело человека, продолжительности воздействия и условий внешн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следующие варианты направлений движения тока по телу человека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обеими руками дотрагивается до токоведущих проводов (частей оборудования), в этом случае возникает направление движения тока от одной руки к другой, т. е. “рука-рука”, эта петля встречается чаще вс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5433840" y="3933720"/>
            <a:ext cx="29545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04:45Z</dcterms:created>
  <dc:creator/>
  <dc:description/>
  <dc:language>en-US</dc:language>
  <cp:lastModifiedBy>Илья</cp:lastModifiedBy>
  <dcterms:modified xsi:type="dcterms:W3CDTF">2013-02-27T14:31:35Z</dcterms:modified>
  <cp:revision>15</cp:revision>
  <dc:subject/>
  <dc:title>шаблон для презентации</dc:title>
</cp:coreProperties>
</file>