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DE0-FF0C-4741-A5E0-F5D0F499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3C4-E056-4D9A-BB3E-CC9DCE5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44C-DCBD-41F3-952D-EC871E3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A36-FA6D-417A-ABB4-A7F034F4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EC6-B081-404F-AE92-F4CAAED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B77-8041-4D69-8694-89BE9260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4D8-724A-489E-8236-5F17D384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CE5-A519-4346-8DD2-13C8FDAF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C60-F5D8-4139-81EA-4CE5BA01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B94-D876-4044-8C8E-68CC37C4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C09-5FBF-4F6A-901E-36575C8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66F-B287-4832-9D32-999978A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6CA-80A4-455C-8DC4-636F10F94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1214280" y="664380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ый треугольник 9"/>
          <p:cNvSpPr/>
          <p:nvPr/>
        </p:nvSpPr>
        <p:spPr>
          <a:xfrm>
            <a:off x="0" y="5929200"/>
            <a:ext cx="92880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ый треугольник 10"/>
          <p:cNvSpPr/>
          <p:nvPr/>
        </p:nvSpPr>
        <p:spPr>
          <a:xfrm rot="5400000">
            <a:off x="0" y="0"/>
            <a:ext cx="92880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ый треугольник 11"/>
          <p:cNvSpPr/>
          <p:nvPr/>
        </p:nvSpPr>
        <p:spPr>
          <a:xfrm rot="10800000">
            <a:off x="8215200" y="0"/>
            <a:ext cx="92880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ый треугольник 12"/>
          <p:cNvSpPr/>
          <p:nvPr/>
        </p:nvSpPr>
        <p:spPr>
          <a:xfrm rot="16200000">
            <a:off x="8215200" y="5929200"/>
            <a:ext cx="92880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" descr="C:\Documents and Settings\Admin\Рабочий стол\новые фоны\4428dfa35edd.jpg"/>
          <p:cNvPicPr/>
          <p:nvPr/>
        </p:nvPicPr>
        <p:blipFill>
          <a:blip r:embed="rId2"/>
          <a:stretch/>
        </p:blipFill>
        <p:spPr>
          <a:xfrm>
            <a:off x="0" y="142920"/>
            <a:ext cx="642960" cy="7142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" descr=""/>
          <p:cNvPicPr/>
          <p:nvPr/>
        </p:nvPicPr>
        <p:blipFill>
          <a:blip r:embed="rId3"/>
          <a:stretch/>
        </p:blipFill>
        <p:spPr>
          <a:xfrm>
            <a:off x="8501040" y="5776920"/>
            <a:ext cx="785880" cy="1081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4" descr=""/>
          <p:cNvPicPr/>
          <p:nvPr/>
        </p:nvPicPr>
        <p:blipFill>
          <a:blip r:embed="rId4"/>
          <a:stretch/>
        </p:blipFill>
        <p:spPr>
          <a:xfrm>
            <a:off x="0" y="5829480"/>
            <a:ext cx="785880" cy="10285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5" descr=""/>
          <p:cNvPicPr/>
          <p:nvPr/>
        </p:nvPicPr>
        <p:blipFill>
          <a:blip r:embed="rId5"/>
          <a:stretch/>
        </p:blipFill>
        <p:spPr>
          <a:xfrm>
            <a:off x="8429760" y="-142920"/>
            <a:ext cx="87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554040" y="176040"/>
            <a:ext cx="80535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Подзаголовок 2" descr=""/>
          <p:cNvPicPr/>
          <p:nvPr/>
        </p:nvPicPr>
        <p:blipFill>
          <a:blip r:embed="rId2"/>
          <a:stretch/>
        </p:blipFill>
        <p:spPr>
          <a:xfrm>
            <a:off x="1139760" y="1639800"/>
            <a:ext cx="6705720" cy="221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FaNtoM\Desktop\королёк.jpeg"/>
          <p:cNvPicPr/>
          <p:nvPr/>
        </p:nvPicPr>
        <p:blipFill>
          <a:blip r:embed="rId3"/>
          <a:stretch/>
        </p:blipFill>
        <p:spPr>
          <a:xfrm>
            <a:off x="2286000" y="4189320"/>
            <a:ext cx="45720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85840" y="1643040"/>
            <a:ext cx="8429400" cy="210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ролёк, изгиб ручья, корабл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устился, вспорхнул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ну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Box 1" descr=""/>
          <p:cNvPicPr/>
          <p:nvPr/>
        </p:nvPicPr>
        <p:blipFill>
          <a:blip r:embed="rId1"/>
          <a:stretch/>
        </p:blipFill>
        <p:spPr>
          <a:xfrm>
            <a:off x="646200" y="219240"/>
            <a:ext cx="7705800" cy="77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FaNtoM\Desktop\картинки\Новые картинки\Школа\школа.jpg"/>
          <p:cNvPicPr/>
          <p:nvPr/>
        </p:nvPicPr>
        <p:blipFill>
          <a:blip r:embed="rId2"/>
          <a:stretch/>
        </p:blipFill>
        <p:spPr>
          <a:xfrm>
            <a:off x="285840" y="1143000"/>
            <a:ext cx="8572320" cy="55008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3" descr=""/>
          <p:cNvPicPr/>
          <p:nvPr/>
        </p:nvPicPr>
        <p:blipFill>
          <a:blip r:embed="rId3"/>
          <a:stretch/>
        </p:blipFill>
        <p:spPr>
          <a:xfrm>
            <a:off x="1773360" y="2530440"/>
            <a:ext cx="47433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FaNtoM\Desktop\осенью.jpeg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42952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2" descr=""/>
          <p:cNvPicPr/>
          <p:nvPr/>
        </p:nvPicPr>
        <p:blipFill>
          <a:blip r:embed="rId2"/>
          <a:stretch/>
        </p:blipFill>
        <p:spPr>
          <a:xfrm>
            <a:off x="762120" y="311040"/>
            <a:ext cx="768672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85840" y="28584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тоголовый королёк  — мелкая певчая птица  Это самый маленький представитель в России, у этой птицы — яркая золотисто-жёлтая полоска на темени, «корона», благодаря которой птица приобрела своё научное и русское название. Очень подвижная птица, постоянно перепархивает с одной ветки на другую. Гнездится в хвойных и смешанных лесах, в том числе глухой темнохвойной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FaNtoM\Desktop\птица королёк.jpeg"/>
          <p:cNvPicPr/>
          <p:nvPr/>
        </p:nvPicPr>
        <p:blipFill>
          <a:blip r:embed="rId1"/>
          <a:stretch/>
        </p:blipFill>
        <p:spPr>
          <a:xfrm>
            <a:off x="2714760" y="421488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6880" y="213840"/>
            <a:ext cx="5572440" cy="500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утешествен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ень. В лесу тихо журчал ручей. На воде ручья плыл парад листиков. На одном листке сидела маленькая птичка. Это королёк: путешественница доплыла до изгиба ручья. Там она вспорхнула и вернулась назад. Птичка села на веточку и стала ждать. Тут подплыл яркий листик. Королёк опустился на листик и поплыл, как на корабл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FaNtoM\Desktop\лист.jpeg"/>
          <p:cNvPicPr/>
          <p:nvPr/>
        </p:nvPicPr>
        <p:blipFill>
          <a:blip r:embed="rId1"/>
          <a:stretch/>
        </p:blipFill>
        <p:spPr>
          <a:xfrm>
            <a:off x="214200" y="4929120"/>
            <a:ext cx="457380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FaNtoM\Desktop\п.к..jpeg"/>
          <p:cNvPicPr/>
          <p:nvPr/>
        </p:nvPicPr>
        <p:blipFill>
          <a:blip r:embed="rId2"/>
          <a:stretch/>
        </p:blipFill>
        <p:spPr>
          <a:xfrm>
            <a:off x="6883560" y="4792680"/>
            <a:ext cx="20462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3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9284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равился вам текс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особенно показалось интерес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 ком говорится в эт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интересного вы узнали об этой птич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текст назван «Путешественниц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им образом она путешествовала по ручь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FaNtoM\Desktop\кораблик.jpeg"/>
          <p:cNvPicPr/>
          <p:nvPr/>
        </p:nvPicPr>
        <p:blipFill>
          <a:blip r:embed="rId2"/>
          <a:stretch/>
        </p:blipFill>
        <p:spPr>
          <a:xfrm>
            <a:off x="6500880" y="4910040"/>
            <a:ext cx="2428920" cy="173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FaNtoM\Desktop\осенние листья.jpeg"/>
          <p:cNvPicPr/>
          <p:nvPr/>
        </p:nvPicPr>
        <p:blipFill>
          <a:blip r:embed="rId3"/>
          <a:stretch/>
        </p:blipFill>
        <p:spPr>
          <a:xfrm>
            <a:off x="214200" y="5072040"/>
            <a:ext cx="3286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85840" y="857160"/>
            <a:ext cx="8572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рад листик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утешественниц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ое путешеств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торое путешеств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FaNtoM\Desktop\п.jpeg"/>
          <p:cNvPicPr/>
          <p:nvPr/>
        </p:nvPicPr>
        <p:blipFill>
          <a:blip r:embed="rId2"/>
          <a:stretch/>
        </p:blipFill>
        <p:spPr>
          <a:xfrm>
            <a:off x="3714840" y="3992400"/>
            <a:ext cx="44686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86800" cy="571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рфографическая подгот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..нь, тих…, журч…л, на в…де руч…я, пара…, на одн…м, птичка, к…р…лёк, д…плыла, до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з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ба,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с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хнула, в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нулас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наза…, на вет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чк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, п…дплыл, …пустился, на к…рабли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428840" y="1071720"/>
            <a:ext cx="71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3286080" y="1071720"/>
            <a:ext cx="8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286240" y="1071720"/>
            <a:ext cx="56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7215120" y="10717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643040" y="1714680"/>
            <a:ext cx="6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786120" y="1714680"/>
            <a:ext cx="6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6000840" y="1714680"/>
            <a:ext cx="8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1785960" y="2286000"/>
            <a:ext cx="5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3000240" y="2357280"/>
            <a:ext cx="6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3714840" y="2357280"/>
            <a:ext cx="5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5572080" y="23572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1928880" y="3714840"/>
            <a:ext cx="6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4500720" y="35719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715000" y="371484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857160" y="4429080"/>
            <a:ext cx="6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4572000" y="4429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Box 3" descr=""/>
          <p:cNvPicPr/>
          <p:nvPr/>
        </p:nvPicPr>
        <p:blipFill>
          <a:blip r:embed="rId1"/>
          <a:stretch/>
        </p:blipFill>
        <p:spPr>
          <a:xfrm>
            <a:off x="774720" y="171360"/>
            <a:ext cx="7740720" cy="126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FaNtoM\Desktop\картинки\Зарядка\кот.jpeg"/>
          <p:cNvPicPr/>
          <p:nvPr/>
        </p:nvPicPr>
        <p:blipFill>
          <a:blip r:embed="rId2"/>
          <a:stretch/>
        </p:blipFill>
        <p:spPr>
          <a:xfrm>
            <a:off x="2500200" y="1785960"/>
            <a:ext cx="3500640" cy="4500720"/>
          </a:xfrm>
          <a:prstGeom prst="rect">
            <a:avLst/>
          </a:prstGeom>
          <a:ln w="0">
            <a:noFill/>
          </a:ln>
        </p:spPr>
      </p:pic>
      <p:pic>
        <p:nvPicPr>
          <p:cNvPr id="87" name="снеговик.mp3" descr=""/>
          <p:cNvPicPr/>
          <p:nvPr/>
        </p:nvPicPr>
        <p:blipFill>
          <a:blip r:embed="rId3"/>
          <a:stretch/>
        </p:blipFill>
        <p:spPr>
          <a:xfrm>
            <a:off x="7286760" y="6143760"/>
            <a:ext cx="8571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3080" y="285840"/>
            <a:ext cx="5572080" cy="642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ересказ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5840" y="1143000"/>
            <a:ext cx="84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. В лесу тихо журчал ручей. На воде ручья плыл парад листиков. На одном листке сидела маленькая птичка. Это королёк: путешественница доплыла до изгиба ручья. Там она вспорхнула и вернулась назад. Птичка села на веточку и стала ждать. Тут подплыл яркий листик. Королёк опустился на листик и поплыл, как на кораб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19972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FaNtoM\Desktop\картинки\Новые картинки\Школа\два.jpeg"/>
          <p:cNvPicPr/>
          <p:nvPr/>
        </p:nvPicPr>
        <p:blipFill>
          <a:blip r:embed="rId2"/>
          <a:stretch/>
        </p:blipFill>
        <p:spPr>
          <a:xfrm>
            <a:off x="1643040" y="2714760"/>
            <a:ext cx="5643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02:31:06Z</dcterms:created>
  <dc:creator>FaNtoM</dc:creator>
  <dc:description/>
  <dc:language>en-US</dc:language>
  <cp:lastModifiedBy>user</cp:lastModifiedBy>
  <dcterms:modified xsi:type="dcterms:W3CDTF">2011-09-30T09:39:52Z</dcterms:modified>
  <cp:revision>10</cp:revision>
  <dc:subject/>
  <dc:title>Русский язык</dc:title>
</cp:coreProperties>
</file>