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2BA-5B2A-40F1-B51E-AE9E4A32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404-D50E-4D27-9DD3-C0D49131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4BB-A851-4246-BCD9-E452B33B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7EA-C458-4583-AD81-B9C1A1E5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E861-22B7-4352-8344-C9D032C3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08BD-2D93-4EE0-8183-FFE6BE8D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33BD-C458-4D8B-884E-8B133C6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056F-425B-41FF-BFA4-44A2470A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EEE-B0CC-4A0C-AB5A-53DB326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CC6-C02F-4D28-8CC4-2981C77A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2C8F-BE4E-4FFB-A53A-41D6B28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5AE-3CE1-4131-8F10-545A598F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8AAD-378B-42AA-821B-C0B291B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042F-748E-41C0-81F1-FEE3B8F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BA6A-C3B5-4197-8871-3A349D11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949F-FA9D-492C-93FC-2A9BCC11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9CEF-2321-435A-B55B-C447A4C4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598-0E64-4549-AD8F-381D125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47A-7AC0-4B2B-8D05-7707BF5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1B6-38F8-49CD-B17C-0106896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653-E489-45AF-99D5-28989FB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536-C23D-4416-AD2B-2A9A317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DC7-8648-4EF5-A23D-91B994F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68D-6251-476F-938B-FD80091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31FB-BF2D-4EEF-BA5D-0B1CD3363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3D86-5A1C-4958-A2AA-3EEDB9417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3_alco_rolik.avi_cut.mp4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F:/&#1072;&#1083;&#1082;&#1086;&#1075;&#1086;&#1083;&#1080;&#1079;&#1084;/alco_pesnya.avi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700360" cy="2138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87280" y="669960"/>
            <a:ext cx="583416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Не в войну потеряла девчонка отц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Не запомнила рук и не помнит лиц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Только память, как будто из горького сн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Ей приносит тревогу и запах вин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Слышит голос беды, что сидит за столом: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«Я вошла, я разрушила счастье и дом»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И жалеют соседи четвертый этаж: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«Был отец твой, родная, последний алкаш»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Ох, не слышать бы горькие эти слов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Но гуляет по свету людская молв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В школе, дома, везде об отце говорят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И опять на щеках две слезинки блестят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Знает лишь об отце, что он горькую пил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От него лишь осталось короткое «был»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Был, пропал, не вернется, наверно, вовек…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Этот ставший чужим для нее человек…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Не в войну потеряла девчонка отца…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Не запомнила рук и не помнит лиц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Только память, как будто из горького сна,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Ей приносит тревогу и запах вина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76360" y="18900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adley Hand ITC"/>
              </a:rPr>
              <a:t>Классный час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adley Hand ITC"/>
              <a:ea typeface="Bradley Hand ITC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72360" y="2421000"/>
            <a:ext cx="2638440" cy="2017800"/>
            <a:chOff x="6372360" y="2421000"/>
            <a:chExt cx="2638440" cy="201780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372360" y="2421000"/>
              <a:ext cx="2638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372360" y="2421000"/>
              <a:ext cx="0" cy="20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2360" y="4437000"/>
              <a:ext cx="259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72360" y="2421000"/>
              <a:ext cx="259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964720" y="2421000"/>
              <a:ext cx="0" cy="20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346800" y="4637160"/>
            <a:ext cx="2617920" cy="2085840"/>
            <a:chOff x="6346800" y="4637160"/>
            <a:chExt cx="2617920" cy="2085840"/>
          </a:xfrm>
        </p:grpSpPr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6384960" y="4653000"/>
              <a:ext cx="257976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372360" y="4653000"/>
              <a:ext cx="2880" cy="207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346800" y="6697440"/>
              <a:ext cx="2565360" cy="1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372360" y="4637160"/>
              <a:ext cx="2565360" cy="1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950320" y="4653000"/>
              <a:ext cx="14400" cy="205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259560"/>
            <a:ext cx="7812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Как давно пьют водку на Рус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916360" y="1052280"/>
            <a:ext cx="5184720" cy="130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Три века – 300 лет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18, 19, 20,…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5832720" cy="4352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2475000" y="2421000"/>
            <a:ext cx="9360" cy="43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95520" y="6757920"/>
            <a:ext cx="583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17080" y="2421000"/>
            <a:ext cx="1440" cy="43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4360" y="2421000"/>
            <a:ext cx="583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03280" y="2157480"/>
            <a:ext cx="749160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Видеоролик снятый по заказу Всемирной Организации Здравоохранения (ВО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91240" cy="16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666633"/>
                </a:solidFill>
                <a:latin typeface="Times New Roman"/>
              </a:rPr>
              <a:t>Внимание!!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491600" cy="22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Пьющая мать, пропивает не только свое здоровье! </a:t>
            </a:r>
            <a:endParaRPr b="1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92360" y="3789360"/>
            <a:ext cx="2471760" cy="2889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333600" cy="2504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692360" y="3789360"/>
            <a:ext cx="0" cy="28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3789360"/>
            <a:ext cx="244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0360" y="3789360"/>
            <a:ext cx="0" cy="28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92360" y="6669000"/>
            <a:ext cx="244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48360" y="4005360"/>
            <a:ext cx="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48360" y="6524640"/>
            <a:ext cx="33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4005360"/>
            <a:ext cx="33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9640" y="4005360"/>
            <a:ext cx="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258560" y="0"/>
            <a:ext cx="749124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33"/>
                </a:solidFill>
                <a:latin typeface="Arial"/>
              </a:rPr>
              <a:t>Говорят, что трезвость – это здоровье нации, </a:t>
            </a:r>
            <a:endParaRPr b="1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050920" y="1773360"/>
            <a:ext cx="5905440" cy="4895280"/>
            <a:chOff x="2050920" y="1773360"/>
            <a:chExt cx="5905440" cy="48952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050920" y="1773360"/>
              <a:ext cx="5905440" cy="48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050920" y="1799640"/>
              <a:ext cx="590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258560" y="0"/>
            <a:ext cx="749124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33"/>
                </a:solidFill>
                <a:latin typeface="Arial"/>
              </a:rPr>
              <a:t>трезвость – это мудрость нации,</a:t>
            </a:r>
            <a:endParaRPr b="1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840720" cy="4905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763640" y="1773360"/>
            <a:ext cx="684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604360" y="1773360"/>
            <a:ext cx="0" cy="48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99640" y="-360"/>
            <a:ext cx="84265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6633"/>
                </a:solidFill>
                <a:latin typeface="Arial"/>
              </a:rPr>
              <a:t>трезвость - это будущее наци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19280" y="907920"/>
            <a:ext cx="6985080" cy="5616720"/>
            <a:chOff x="1619280" y="907920"/>
            <a:chExt cx="6985080" cy="56167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619280" y="949320"/>
              <a:ext cx="698508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619280" y="907920"/>
              <a:ext cx="0" cy="561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19280" y="6524640"/>
              <a:ext cx="698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19280" y="907920"/>
              <a:ext cx="698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04360" y="907920"/>
              <a:ext cx="0" cy="561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1640" y="-1440"/>
            <a:ext cx="7491240" cy="27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Кто же заставляет человека еще в юношеском возрасте прикоснуться к пиву или водк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5267520" cy="3990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050920" y="2708280"/>
            <a:ext cx="0" cy="396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666900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270828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708280"/>
            <a:ext cx="0" cy="396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835280" y="3933720"/>
            <a:ext cx="6481800" cy="29242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258560" y="0"/>
            <a:ext cx="7491240" cy="39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Авторитет компании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и психологическая неспособность, точнее неготовность противостоять ему ( только 5% мальчиков и 2% девочек, попробовавших крепкие алкогольные напитки, называют их приятными на вкус)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124000" y="4797360"/>
            <a:ext cx="64389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adley Hand ITC"/>
              </a:rPr>
              <a:t>Вывод: не хотим, «не любим»,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adley Hand ITC"/>
              </a:rPr>
              <a:t>но пьём!!!</a:t>
            </a:r>
            <a:endParaRPr b="0" lang="en-US" sz="2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331640" y="0"/>
            <a:ext cx="765972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633"/>
                </a:solidFill>
                <a:latin typeface="Times New Roman"/>
              </a:rPr>
              <a:t>На втором месте: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Я пью чтобы расслаби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633"/>
                </a:solidFill>
                <a:latin typeface="Times New Roman"/>
              </a:rPr>
              <a:t>На третьем месте ответ: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Я пью чтобы повеселить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5616720" cy="3454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268360" y="2924280"/>
            <a:ext cx="0" cy="345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8360" y="6381720"/>
            <a:ext cx="561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68360" y="2924280"/>
            <a:ext cx="561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2924280"/>
            <a:ext cx="0" cy="345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д, который не действует сразу, не становится менее опасным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1990800" cy="2295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692360" y="2349360"/>
            <a:ext cx="0" cy="230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2360" y="4653000"/>
            <a:ext cx="1942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234936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08360" y="2349360"/>
            <a:ext cx="0" cy="230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284720" y="3357720"/>
            <a:ext cx="4127400" cy="2954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284720" y="3357720"/>
            <a:ext cx="0" cy="2950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4720" y="6308640"/>
            <a:ext cx="410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84720" y="3357720"/>
            <a:ext cx="410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388360" y="3357720"/>
            <a:ext cx="0" cy="2950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76360" y="0"/>
            <a:ext cx="766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00"/>
                </a:solidFill>
                <a:latin typeface="Times New Roman"/>
              </a:rPr>
              <a:t>Водка белая, но красит нос и чернит репутацию.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                                          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А.П. Чехов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11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7488000" cy="541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332000" y="476280"/>
            <a:ext cx="0" cy="540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476280"/>
            <a:ext cx="748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820000" y="476280"/>
            <a:ext cx="0" cy="540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609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Далее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560" y="285228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елаем всем трезвого и счастливого будущего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58920" y="56674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00"/>
                </a:solidFill>
                <a:latin typeface="Times New Roman"/>
              </a:rPr>
              <a:t>Ещё попей – увидишь чертей.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                                  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3810240" cy="2733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19640" y="2637000"/>
            <a:ext cx="0" cy="27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19640" y="2637000"/>
            <a:ext cx="38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36000" y="2637000"/>
            <a:ext cx="0" cy="27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5373720"/>
            <a:ext cx="37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115920"/>
            <a:ext cx="0" cy="266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278136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115920"/>
            <a:ext cx="0" cy="266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15920"/>
            <a:ext cx="35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32416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940360" y="189000"/>
            <a:ext cx="0" cy="22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2421000"/>
            <a:ext cx="230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44000" y="189000"/>
            <a:ext cx="0" cy="22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189000"/>
            <a:ext cx="230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124000" y="2924280"/>
            <a:ext cx="2121120" cy="2825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124000" y="2924280"/>
            <a:ext cx="0" cy="28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5734080"/>
            <a:ext cx="20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11640" y="2923920"/>
            <a:ext cx="0" cy="28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2924280"/>
            <a:ext cx="20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32000" y="4294080"/>
            <a:ext cx="781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00"/>
                </a:solidFill>
                <a:latin typeface="Times New Roman"/>
              </a:rPr>
              <a:t>«Пьянство» и «культура» - вот два понятия, взаимоисключающие друг друга; как лед и огонь, свет и тьма.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                                          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Н. Семашко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050920" y="115920"/>
            <a:ext cx="6048000" cy="4104720"/>
            <a:chOff x="2050920" y="115920"/>
            <a:chExt cx="6048000" cy="41047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050920" y="115920"/>
              <a:ext cx="6048000" cy="40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050920" y="115920"/>
              <a:ext cx="0" cy="410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0920" y="4220640"/>
              <a:ext cx="6048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98920" y="115920"/>
              <a:ext cx="0" cy="410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0920" y="115920"/>
              <a:ext cx="6048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258560" y="1413000"/>
            <a:ext cx="7885080" cy="504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Родился – пьют,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Крестился – пьют,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Женился  - пьют,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С водкой жизнь проживают,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333300"/>
                </a:solidFill>
                <a:latin typeface="Arial"/>
              </a:rPr>
              <a:t>А потом слезы льют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</a:t>
            </a: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Народная мудрость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84720" y="115920"/>
            <a:ext cx="2808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68000" y="3068280"/>
            <a:ext cx="6659640" cy="137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666633"/>
                </a:solidFill>
                <a:latin typeface="Times New Roman"/>
              </a:rPr>
              <a:t>Алкоголизм – повод, причины… и  последстви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1628640"/>
            <a:ext cx="63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Times New Roman"/>
              </a:rPr>
              <a:t>Эпиграф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Алкоголизм делает больше опустошения, чем три исторических бича, вместе взятые: голод, чума, и войны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У. Гладстон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1736640" cy="13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1736640" cy="1305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1736640" cy="1305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564000" y="4597560"/>
            <a:ext cx="2808360" cy="2111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79640" y="1890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48428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18900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1890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26028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1557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26028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26028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26028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26028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2720" y="26028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1557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4581360"/>
            <a:ext cx="280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4581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4581360"/>
            <a:ext cx="0" cy="216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4000" y="6713640"/>
            <a:ext cx="280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607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Как известно первым коварство вина испытал на себе Ной. Из библии мы знаем, что этот пожилой человек, впервые отведав зародившегося сока виноградной лозы, захмелел и погрузился в крепкий сон… Обессилившего старца увидел сын. Найдя зрелище забавным, он пригласил двух братьев, чтобы посмеяться вместе. С этого момента потянулась цепь несчастий. Удивительное наказание постигло глупого сына. Его потомство было определено в услужение потомкам более умных братьев…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76720" y="-36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Кто изобрел водк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95640" y="1052280"/>
            <a:ext cx="309708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Bradley Hand ITC"/>
              </a:rPr>
              <a:t>Впервые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Bradley Hand ITC"/>
              </a:rPr>
              <a:t>в 860 году –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Bradley Hand ITC"/>
              </a:rPr>
              <a:t>араб Рагез.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87280" y="907920"/>
            <a:ext cx="4340520" cy="5604120"/>
            <a:chOff x="1187280" y="907920"/>
            <a:chExt cx="4340520" cy="5604120"/>
          </a:xfrm>
        </p:grpSpPr>
        <p:pic>
          <p:nvPicPr>
            <p:cNvPr id="235" name="Рисунок 6" descr="Безимени-2.jpg"/>
            <p:cNvPicPr/>
            <p:nvPr/>
          </p:nvPicPr>
          <p:blipFill>
            <a:blip r:embed="rId1"/>
            <a:stretch/>
          </p:blipFill>
          <p:spPr>
            <a:xfrm>
              <a:off x="1403280" y="1197000"/>
              <a:ext cx="4124520" cy="53150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grpSp>
          <p:nvGrpSpPr>
            <p:cNvPr id="236" name="Группа 8"/>
            <p:cNvGrpSpPr/>
            <p:nvPr/>
          </p:nvGrpSpPr>
          <p:grpSpPr>
            <a:xfrm>
              <a:off x="1187280" y="907920"/>
              <a:ext cx="3071880" cy="3676680"/>
              <a:chOff x="1187280" y="907920"/>
              <a:chExt cx="3071880" cy="3676680"/>
            </a:xfrm>
          </p:grpSpPr>
          <p:pic>
            <p:nvPicPr>
              <p:cNvPr id="237" name="Рисунок 4" descr="Муххамед.jpg"/>
              <p:cNvPicPr/>
              <p:nvPr/>
            </p:nvPicPr>
            <p:blipFill>
              <a:blip r:embed="rId2">
                <a:lum contrast="10000"/>
              </a:blip>
              <a:stretch/>
            </p:blipFill>
            <p:spPr>
              <a:xfrm>
                <a:off x="1701360" y="1422000"/>
                <a:ext cx="2071800" cy="276696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pic>
            <p:nvPicPr>
              <p:cNvPr id="238" name="Рисунок 7" descr="ed338249a9e8.png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907920"/>
                <a:ext cx="3071880" cy="36766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50166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Кто изобрел водку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76360" y="765000"/>
            <a:ext cx="74916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Bradley Hand ITC"/>
              </a:rPr>
              <a:t>Средние века – итальянский химик Валентиус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1" name="Рисунок 3" descr="Безимени-2.jpg"/>
          <p:cNvPicPr/>
          <p:nvPr/>
        </p:nvPicPr>
        <p:blipFill>
          <a:blip r:embed="rId1"/>
          <a:stretch/>
        </p:blipFill>
        <p:spPr>
          <a:xfrm>
            <a:off x="4140360" y="1773360"/>
            <a:ext cx="4448160" cy="48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"/>
          <p:cNvSpPr/>
          <p:nvPr/>
        </p:nvSpPr>
        <p:spPr>
          <a:xfrm>
            <a:off x="4140360" y="1773360"/>
            <a:ext cx="439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40360" y="1773360"/>
            <a:ext cx="0" cy="482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6597720"/>
            <a:ext cx="446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04360" y="1773360"/>
            <a:ext cx="0" cy="482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76360" y="1989000"/>
            <a:ext cx="25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Bradley Hand ITC"/>
              </a:rPr>
              <a:t>Испробовав, вновь полученный, продукт и придя в состояние сильного алкогольного опьянения, алхимик заявил, что он открыл чудодейственный эликсир, делающий старца молодым, утомленного бодрым, тоскующего веселым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53:57Z</dcterms:created>
  <dc:creator>Администратор1</dc:creator>
  <dc:description/>
  <dc:language>en-US</dc:language>
  <cp:lastModifiedBy>Наталья</cp:lastModifiedBy>
  <dcterms:modified xsi:type="dcterms:W3CDTF">2013-02-27T16:39:21Z</dcterms:modified>
  <cp:revision>10</cp:revision>
  <dc:subject/>
  <dc:title>Слайд 1</dc:title>
</cp:coreProperties>
</file>