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9B616-3546-413C-B7D8-71FAF2A2B7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C915B-D5CB-49DD-9268-3E0ED1331B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A4499-8663-4F70-AE31-39C6F76E24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0C6F-0DAB-4459-B13B-5BD4F396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6EF-4671-4D55-B269-47AFFD69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AE6B-B453-4979-9D2E-8C4DA236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0C97-6DC9-4563-B1C2-6978EE50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54A-C038-4E89-B070-8967131D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038-34A5-430E-8496-4638E8F7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4E4A-FAA5-4FDB-B55A-DD334E9D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CA4-959C-4DA9-80AE-C059DC57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FC1-90E9-40EE-9CF7-375723EB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EAF-82DB-4C6D-9C1A-65619718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66F5-F683-4AB8-A691-87A2B2A2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652-23DD-4AE7-AF14-628CCB07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A9B83-8A99-4BDB-A559-8A1B4E49C2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539640" y="422280"/>
            <a:ext cx="8856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менения производно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 исследованию функц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468160" y="327924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3095640" y="1979640"/>
            <a:ext cx="3008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"/>
          <p:cNvPicPr/>
          <p:nvPr/>
        </p:nvPicPr>
        <p:blipFill>
          <a:blip r:embed="rId1"/>
          <a:stretch/>
        </p:blipFill>
        <p:spPr>
          <a:xfrm>
            <a:off x="287280" y="324000"/>
            <a:ext cx="8785440" cy="1363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2"/>
          <a:stretch/>
        </p:blipFill>
        <p:spPr>
          <a:xfrm>
            <a:off x="360360" y="466560"/>
            <a:ext cx="1295280" cy="635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"/>
          <p:cNvPicPr/>
          <p:nvPr/>
        </p:nvPicPr>
        <p:blipFill>
          <a:blip r:embed="rId3"/>
          <a:stretch/>
        </p:blipFill>
        <p:spPr>
          <a:xfrm>
            <a:off x="2160720" y="2627280"/>
            <a:ext cx="5256000" cy="1486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4"/>
          <a:stretch/>
        </p:blipFill>
        <p:spPr>
          <a:xfrm>
            <a:off x="1511280" y="3995640"/>
            <a:ext cx="7345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4"/>
          <p:cNvSpPr/>
          <p:nvPr/>
        </p:nvSpPr>
        <p:spPr>
          <a:xfrm flipV="1">
            <a:off x="4319640" y="699840"/>
            <a:ext cx="20520" cy="415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20840" y="3500280"/>
            <a:ext cx="783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6"/>
          <p:cNvSpPr/>
          <p:nvPr/>
        </p:nvSpPr>
        <p:spPr>
          <a:xfrm>
            <a:off x="420840" y="857160"/>
            <a:ext cx="5392440" cy="1467000"/>
          </a:xfrm>
          <a:custGeom>
            <a:avLst/>
            <a:gdLst>
              <a:gd name="textAreaLeft" fmla="*/ 0 w 5392440"/>
              <a:gd name="textAreaRight" fmla="*/ 5392800 w 539244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7706" h="2094">
                <a:moveTo>
                  <a:pt x="0" y="2094"/>
                </a:moveTo>
                <a:cubicBezTo>
                  <a:pt x="45" y="2094"/>
                  <a:pt x="45" y="2094"/>
                  <a:pt x="45" y="2094"/>
                </a:cubicBezTo>
                <a:cubicBezTo>
                  <a:pt x="90" y="2093"/>
                  <a:pt x="90" y="2093"/>
                  <a:pt x="90" y="2093"/>
                </a:cubicBezTo>
                <a:cubicBezTo>
                  <a:pt x="134" y="2093"/>
                  <a:pt x="134" y="2093"/>
                  <a:pt x="134" y="2093"/>
                </a:cubicBezTo>
                <a:cubicBezTo>
                  <a:pt x="179" y="2092"/>
                  <a:pt x="179" y="2092"/>
                  <a:pt x="179" y="2092"/>
                </a:cubicBezTo>
                <a:cubicBezTo>
                  <a:pt x="224" y="2092"/>
                  <a:pt x="224" y="2092"/>
                  <a:pt x="224" y="2092"/>
                </a:cubicBezTo>
                <a:cubicBezTo>
                  <a:pt x="269" y="2091"/>
                  <a:pt x="269" y="2091"/>
                  <a:pt x="269" y="2091"/>
                </a:cubicBezTo>
                <a:cubicBezTo>
                  <a:pt x="314" y="2091"/>
                  <a:pt x="314" y="2091"/>
                  <a:pt x="314" y="2091"/>
                </a:cubicBezTo>
                <a:cubicBezTo>
                  <a:pt x="358" y="2090"/>
                  <a:pt x="358" y="2090"/>
                  <a:pt x="358" y="2090"/>
                </a:cubicBezTo>
                <a:cubicBezTo>
                  <a:pt x="403" y="2090"/>
                  <a:pt x="403" y="2090"/>
                  <a:pt x="403" y="2090"/>
                </a:cubicBezTo>
                <a:cubicBezTo>
                  <a:pt x="448" y="2089"/>
                  <a:pt x="448" y="2089"/>
                  <a:pt x="448" y="2089"/>
                </a:cubicBezTo>
                <a:cubicBezTo>
                  <a:pt x="493" y="2089"/>
                  <a:pt x="493" y="2089"/>
                  <a:pt x="493" y="2089"/>
                </a:cubicBezTo>
                <a:cubicBezTo>
                  <a:pt x="538" y="2088"/>
                  <a:pt x="538" y="2088"/>
                  <a:pt x="538" y="2088"/>
                </a:cubicBezTo>
                <a:cubicBezTo>
                  <a:pt x="582" y="2088"/>
                  <a:pt x="582" y="2088"/>
                  <a:pt x="582" y="2088"/>
                </a:cubicBezTo>
                <a:cubicBezTo>
                  <a:pt x="627" y="2087"/>
                  <a:pt x="627" y="2087"/>
                  <a:pt x="627" y="2087"/>
                </a:cubicBezTo>
                <a:cubicBezTo>
                  <a:pt x="672" y="2087"/>
                  <a:pt x="672" y="2087"/>
                  <a:pt x="672" y="2087"/>
                </a:cubicBezTo>
                <a:cubicBezTo>
                  <a:pt x="717" y="2086"/>
                  <a:pt x="717" y="2086"/>
                  <a:pt x="717" y="2086"/>
                </a:cubicBezTo>
                <a:cubicBezTo>
                  <a:pt x="762" y="2086"/>
                  <a:pt x="762" y="2086"/>
                  <a:pt x="762" y="2086"/>
                </a:cubicBezTo>
                <a:cubicBezTo>
                  <a:pt x="806" y="2085"/>
                  <a:pt x="806" y="2085"/>
                  <a:pt x="806" y="2085"/>
                </a:cubicBezTo>
                <a:cubicBezTo>
                  <a:pt x="851" y="2084"/>
                  <a:pt x="851" y="2084"/>
                  <a:pt x="851" y="2084"/>
                </a:cubicBezTo>
                <a:cubicBezTo>
                  <a:pt x="896" y="2084"/>
                  <a:pt x="896" y="2084"/>
                  <a:pt x="896" y="2084"/>
                </a:cubicBezTo>
                <a:cubicBezTo>
                  <a:pt x="941" y="2083"/>
                  <a:pt x="941" y="2083"/>
                  <a:pt x="941" y="2083"/>
                </a:cubicBezTo>
                <a:cubicBezTo>
                  <a:pt x="986" y="2083"/>
                  <a:pt x="986" y="2083"/>
                  <a:pt x="986" y="2083"/>
                </a:cubicBezTo>
                <a:cubicBezTo>
                  <a:pt x="1030" y="2082"/>
                  <a:pt x="1030" y="2082"/>
                  <a:pt x="1030" y="2082"/>
                </a:cubicBezTo>
                <a:cubicBezTo>
                  <a:pt x="1075" y="2082"/>
                  <a:pt x="1075" y="2082"/>
                  <a:pt x="1075" y="2082"/>
                </a:cubicBezTo>
                <a:cubicBezTo>
                  <a:pt x="1120" y="2081"/>
                  <a:pt x="1120" y="2081"/>
                  <a:pt x="1120" y="2081"/>
                </a:cubicBezTo>
                <a:cubicBezTo>
                  <a:pt x="1165" y="2080"/>
                  <a:pt x="1165" y="2080"/>
                  <a:pt x="1165" y="2080"/>
                </a:cubicBezTo>
                <a:cubicBezTo>
                  <a:pt x="1210" y="2080"/>
                  <a:pt x="1210" y="2080"/>
                  <a:pt x="1210" y="2080"/>
                </a:cubicBezTo>
                <a:cubicBezTo>
                  <a:pt x="1254" y="2079"/>
                  <a:pt x="1254" y="2079"/>
                  <a:pt x="1254" y="2079"/>
                </a:cubicBezTo>
                <a:cubicBezTo>
                  <a:pt x="1299" y="2078"/>
                  <a:pt x="1299" y="2078"/>
                  <a:pt x="1299" y="2078"/>
                </a:cubicBezTo>
                <a:cubicBezTo>
                  <a:pt x="1344" y="2078"/>
                  <a:pt x="1344" y="2078"/>
                  <a:pt x="1344" y="2078"/>
                </a:cubicBezTo>
                <a:cubicBezTo>
                  <a:pt x="1389" y="2077"/>
                  <a:pt x="1389" y="2077"/>
                  <a:pt x="1389" y="2077"/>
                </a:cubicBezTo>
                <a:cubicBezTo>
                  <a:pt x="1434" y="2077"/>
                  <a:pt x="1434" y="2077"/>
                  <a:pt x="1434" y="2077"/>
                </a:cubicBezTo>
                <a:cubicBezTo>
                  <a:pt x="1478" y="2076"/>
                  <a:pt x="1478" y="2076"/>
                  <a:pt x="1478" y="2076"/>
                </a:cubicBezTo>
                <a:cubicBezTo>
                  <a:pt x="1523" y="2075"/>
                  <a:pt x="1523" y="2075"/>
                  <a:pt x="1523" y="2075"/>
                </a:cubicBezTo>
                <a:cubicBezTo>
                  <a:pt x="1568" y="2074"/>
                  <a:pt x="1568" y="2074"/>
                  <a:pt x="1568" y="2074"/>
                </a:cubicBezTo>
                <a:cubicBezTo>
                  <a:pt x="1613" y="2074"/>
                  <a:pt x="1613" y="2074"/>
                  <a:pt x="1613" y="2074"/>
                </a:cubicBezTo>
                <a:cubicBezTo>
                  <a:pt x="1658" y="2073"/>
                  <a:pt x="1658" y="2073"/>
                  <a:pt x="1658" y="2073"/>
                </a:cubicBezTo>
                <a:cubicBezTo>
                  <a:pt x="1702" y="2072"/>
                  <a:pt x="1702" y="2072"/>
                  <a:pt x="1702" y="2072"/>
                </a:cubicBezTo>
                <a:cubicBezTo>
                  <a:pt x="1747" y="2072"/>
                  <a:pt x="1747" y="2072"/>
                  <a:pt x="1747" y="2072"/>
                </a:cubicBezTo>
                <a:cubicBezTo>
                  <a:pt x="1792" y="2071"/>
                  <a:pt x="1792" y="2071"/>
                  <a:pt x="1792" y="2071"/>
                </a:cubicBezTo>
                <a:cubicBezTo>
                  <a:pt x="1837" y="2070"/>
                  <a:pt x="1837" y="2070"/>
                  <a:pt x="1837" y="2070"/>
                </a:cubicBezTo>
                <a:cubicBezTo>
                  <a:pt x="1882" y="2069"/>
                  <a:pt x="1882" y="2069"/>
                  <a:pt x="1882" y="2069"/>
                </a:cubicBezTo>
                <a:cubicBezTo>
                  <a:pt x="1926" y="2069"/>
                  <a:pt x="1926" y="2069"/>
                  <a:pt x="1926" y="2069"/>
                </a:cubicBezTo>
                <a:cubicBezTo>
                  <a:pt x="1971" y="2068"/>
                  <a:pt x="1971" y="2068"/>
                  <a:pt x="1971" y="2068"/>
                </a:cubicBezTo>
                <a:cubicBezTo>
                  <a:pt x="2016" y="2067"/>
                  <a:pt x="2016" y="2067"/>
                  <a:pt x="2016" y="2067"/>
                </a:cubicBezTo>
                <a:cubicBezTo>
                  <a:pt x="2061" y="2066"/>
                  <a:pt x="2061" y="2066"/>
                  <a:pt x="2061" y="2066"/>
                </a:cubicBezTo>
                <a:cubicBezTo>
                  <a:pt x="2106" y="2065"/>
                  <a:pt x="2106" y="2065"/>
                  <a:pt x="2106" y="2065"/>
                </a:cubicBezTo>
                <a:cubicBezTo>
                  <a:pt x="2150" y="2065"/>
                  <a:pt x="2150" y="2065"/>
                  <a:pt x="2150" y="2065"/>
                </a:cubicBezTo>
                <a:cubicBezTo>
                  <a:pt x="2195" y="2064"/>
                  <a:pt x="2195" y="2064"/>
                  <a:pt x="2195" y="2064"/>
                </a:cubicBezTo>
                <a:cubicBezTo>
                  <a:pt x="2240" y="2063"/>
                  <a:pt x="2240" y="2063"/>
                  <a:pt x="2240" y="2063"/>
                </a:cubicBezTo>
                <a:cubicBezTo>
                  <a:pt x="2285" y="2062"/>
                  <a:pt x="2285" y="2062"/>
                  <a:pt x="2285" y="2062"/>
                </a:cubicBezTo>
                <a:cubicBezTo>
                  <a:pt x="2330" y="2061"/>
                  <a:pt x="2330" y="2061"/>
                  <a:pt x="2330" y="2061"/>
                </a:cubicBezTo>
                <a:cubicBezTo>
                  <a:pt x="2374" y="2060"/>
                  <a:pt x="2374" y="2060"/>
                  <a:pt x="2374" y="2060"/>
                </a:cubicBezTo>
                <a:cubicBezTo>
                  <a:pt x="2419" y="2059"/>
                  <a:pt x="2419" y="2059"/>
                  <a:pt x="2419" y="2059"/>
                </a:cubicBezTo>
                <a:cubicBezTo>
                  <a:pt x="2464" y="2058"/>
                  <a:pt x="2464" y="2058"/>
                  <a:pt x="2464" y="2058"/>
                </a:cubicBezTo>
                <a:cubicBezTo>
                  <a:pt x="2509" y="2057"/>
                  <a:pt x="2509" y="2057"/>
                  <a:pt x="2509" y="2057"/>
                </a:cubicBezTo>
                <a:cubicBezTo>
                  <a:pt x="2554" y="2056"/>
                  <a:pt x="2554" y="2056"/>
                  <a:pt x="2554" y="2056"/>
                </a:cubicBezTo>
                <a:cubicBezTo>
                  <a:pt x="2598" y="2056"/>
                  <a:pt x="2598" y="2056"/>
                  <a:pt x="2598" y="2056"/>
                </a:cubicBezTo>
                <a:cubicBezTo>
                  <a:pt x="2643" y="2055"/>
                  <a:pt x="2643" y="2055"/>
                  <a:pt x="2643" y="2055"/>
                </a:cubicBezTo>
                <a:cubicBezTo>
                  <a:pt x="2688" y="2054"/>
                  <a:pt x="2688" y="2054"/>
                  <a:pt x="2688" y="2054"/>
                </a:cubicBezTo>
                <a:cubicBezTo>
                  <a:pt x="2733" y="2052"/>
                  <a:pt x="2733" y="2052"/>
                  <a:pt x="2733" y="2052"/>
                </a:cubicBezTo>
                <a:cubicBezTo>
                  <a:pt x="2778" y="2051"/>
                  <a:pt x="2778" y="2051"/>
                  <a:pt x="2778" y="2051"/>
                </a:cubicBezTo>
                <a:cubicBezTo>
                  <a:pt x="2822" y="2050"/>
                  <a:pt x="2822" y="2050"/>
                  <a:pt x="2822" y="2050"/>
                </a:cubicBezTo>
                <a:cubicBezTo>
                  <a:pt x="2867" y="2049"/>
                  <a:pt x="2867" y="2049"/>
                  <a:pt x="2867" y="2049"/>
                </a:cubicBezTo>
                <a:cubicBezTo>
                  <a:pt x="2912" y="2048"/>
                  <a:pt x="2912" y="2048"/>
                  <a:pt x="2912" y="2048"/>
                </a:cubicBezTo>
                <a:cubicBezTo>
                  <a:pt x="2957" y="2047"/>
                  <a:pt x="2957" y="2047"/>
                  <a:pt x="2957" y="2047"/>
                </a:cubicBezTo>
                <a:cubicBezTo>
                  <a:pt x="3002" y="2046"/>
                  <a:pt x="3002" y="2046"/>
                  <a:pt x="3002" y="2046"/>
                </a:cubicBezTo>
                <a:cubicBezTo>
                  <a:pt x="3046" y="2045"/>
                  <a:pt x="3046" y="2045"/>
                  <a:pt x="3046" y="2045"/>
                </a:cubicBezTo>
                <a:cubicBezTo>
                  <a:pt x="3091" y="2044"/>
                  <a:pt x="3091" y="2044"/>
                  <a:pt x="3091" y="2044"/>
                </a:cubicBezTo>
                <a:cubicBezTo>
                  <a:pt x="3136" y="2042"/>
                  <a:pt x="3136" y="2042"/>
                  <a:pt x="3136" y="2042"/>
                </a:cubicBezTo>
                <a:cubicBezTo>
                  <a:pt x="3181" y="2041"/>
                  <a:pt x="3181" y="2041"/>
                  <a:pt x="3181" y="2041"/>
                </a:cubicBezTo>
                <a:cubicBezTo>
                  <a:pt x="3226" y="2040"/>
                  <a:pt x="3226" y="2040"/>
                  <a:pt x="3226" y="2040"/>
                </a:cubicBezTo>
                <a:cubicBezTo>
                  <a:pt x="3270" y="2039"/>
                  <a:pt x="3270" y="2039"/>
                  <a:pt x="3270" y="2039"/>
                </a:cubicBezTo>
                <a:cubicBezTo>
                  <a:pt x="3315" y="2037"/>
                  <a:pt x="3315" y="2037"/>
                  <a:pt x="3315" y="2037"/>
                </a:cubicBezTo>
                <a:cubicBezTo>
                  <a:pt x="3360" y="2036"/>
                  <a:pt x="3360" y="2036"/>
                  <a:pt x="3360" y="2036"/>
                </a:cubicBezTo>
                <a:cubicBezTo>
                  <a:pt x="3405" y="2035"/>
                  <a:pt x="3405" y="2035"/>
                  <a:pt x="3405" y="2035"/>
                </a:cubicBezTo>
                <a:cubicBezTo>
                  <a:pt x="3450" y="2033"/>
                  <a:pt x="3450" y="2033"/>
                  <a:pt x="3450" y="2033"/>
                </a:cubicBezTo>
                <a:cubicBezTo>
                  <a:pt x="3494" y="2032"/>
                  <a:pt x="3494" y="2032"/>
                  <a:pt x="3494" y="2032"/>
                </a:cubicBezTo>
                <a:cubicBezTo>
                  <a:pt x="3539" y="2031"/>
                  <a:pt x="3539" y="2031"/>
                  <a:pt x="3539" y="2031"/>
                </a:cubicBezTo>
                <a:cubicBezTo>
                  <a:pt x="3584" y="2029"/>
                  <a:pt x="3584" y="2029"/>
                  <a:pt x="3584" y="2029"/>
                </a:cubicBezTo>
                <a:cubicBezTo>
                  <a:pt x="3629" y="2028"/>
                  <a:pt x="3629" y="2028"/>
                  <a:pt x="3629" y="2028"/>
                </a:cubicBezTo>
                <a:cubicBezTo>
                  <a:pt x="3674" y="2026"/>
                  <a:pt x="3674" y="2026"/>
                  <a:pt x="3674" y="2026"/>
                </a:cubicBezTo>
                <a:cubicBezTo>
                  <a:pt x="3718" y="2025"/>
                  <a:pt x="3718" y="2025"/>
                  <a:pt x="3718" y="2025"/>
                </a:cubicBezTo>
                <a:cubicBezTo>
                  <a:pt x="3763" y="2023"/>
                  <a:pt x="3763" y="2023"/>
                  <a:pt x="3763" y="2023"/>
                </a:cubicBezTo>
                <a:cubicBezTo>
                  <a:pt x="3808" y="2021"/>
                  <a:pt x="3808" y="2021"/>
                  <a:pt x="3808" y="2021"/>
                </a:cubicBezTo>
                <a:cubicBezTo>
                  <a:pt x="3853" y="2020"/>
                  <a:pt x="3853" y="2020"/>
                  <a:pt x="3853" y="2020"/>
                </a:cubicBezTo>
                <a:cubicBezTo>
                  <a:pt x="3898" y="2018"/>
                  <a:pt x="3898" y="2018"/>
                  <a:pt x="3898" y="2018"/>
                </a:cubicBezTo>
                <a:cubicBezTo>
                  <a:pt x="3942" y="2016"/>
                  <a:pt x="3942" y="2016"/>
                  <a:pt x="3942" y="2016"/>
                </a:cubicBezTo>
                <a:cubicBezTo>
                  <a:pt x="3987" y="2015"/>
                  <a:pt x="3987" y="2015"/>
                  <a:pt x="3987" y="2015"/>
                </a:cubicBezTo>
                <a:cubicBezTo>
                  <a:pt x="4032" y="2013"/>
                  <a:pt x="4032" y="2013"/>
                  <a:pt x="4032" y="2013"/>
                </a:cubicBezTo>
                <a:cubicBezTo>
                  <a:pt x="4077" y="2011"/>
                  <a:pt x="4077" y="2011"/>
                  <a:pt x="4077" y="2011"/>
                </a:cubicBezTo>
                <a:cubicBezTo>
                  <a:pt x="4122" y="2009"/>
                  <a:pt x="4122" y="2009"/>
                  <a:pt x="4122" y="2009"/>
                </a:cubicBezTo>
                <a:cubicBezTo>
                  <a:pt x="4166" y="2007"/>
                  <a:pt x="4166" y="2007"/>
                  <a:pt x="4166" y="2007"/>
                </a:cubicBezTo>
                <a:cubicBezTo>
                  <a:pt x="4211" y="2005"/>
                  <a:pt x="4211" y="2005"/>
                  <a:pt x="4211" y="2005"/>
                </a:cubicBezTo>
                <a:cubicBezTo>
                  <a:pt x="4256" y="2003"/>
                  <a:pt x="4256" y="2003"/>
                  <a:pt x="4256" y="2003"/>
                </a:cubicBezTo>
                <a:cubicBezTo>
                  <a:pt x="4301" y="2001"/>
                  <a:pt x="4301" y="2001"/>
                  <a:pt x="4301" y="2001"/>
                </a:cubicBezTo>
                <a:cubicBezTo>
                  <a:pt x="4346" y="1999"/>
                  <a:pt x="4346" y="1999"/>
                  <a:pt x="4346" y="1999"/>
                </a:cubicBezTo>
                <a:cubicBezTo>
                  <a:pt x="4390" y="1997"/>
                  <a:pt x="4390" y="1997"/>
                  <a:pt x="4390" y="1997"/>
                </a:cubicBezTo>
                <a:cubicBezTo>
                  <a:pt x="4435" y="1994"/>
                  <a:pt x="4435" y="1994"/>
                  <a:pt x="4435" y="1994"/>
                </a:cubicBezTo>
                <a:cubicBezTo>
                  <a:pt x="4480" y="1992"/>
                  <a:pt x="4480" y="1992"/>
                  <a:pt x="4480" y="1992"/>
                </a:cubicBezTo>
                <a:cubicBezTo>
                  <a:pt x="4525" y="1990"/>
                  <a:pt x="4525" y="1990"/>
                  <a:pt x="4525" y="1990"/>
                </a:cubicBezTo>
                <a:cubicBezTo>
                  <a:pt x="4570" y="1987"/>
                  <a:pt x="4570" y="1987"/>
                  <a:pt x="4570" y="1987"/>
                </a:cubicBezTo>
                <a:cubicBezTo>
                  <a:pt x="4614" y="1985"/>
                  <a:pt x="4614" y="1985"/>
                  <a:pt x="4614" y="1985"/>
                </a:cubicBezTo>
                <a:cubicBezTo>
                  <a:pt x="4659" y="1982"/>
                  <a:pt x="4659" y="1982"/>
                  <a:pt x="4659" y="1982"/>
                </a:cubicBezTo>
                <a:cubicBezTo>
                  <a:pt x="4704" y="1980"/>
                  <a:pt x="4704" y="1980"/>
                  <a:pt x="4704" y="1980"/>
                </a:cubicBezTo>
                <a:cubicBezTo>
                  <a:pt x="4749" y="1977"/>
                  <a:pt x="4749" y="1977"/>
                  <a:pt x="4749" y="1977"/>
                </a:cubicBezTo>
                <a:cubicBezTo>
                  <a:pt x="4794" y="1974"/>
                  <a:pt x="4794" y="1974"/>
                  <a:pt x="4794" y="1974"/>
                </a:cubicBezTo>
                <a:cubicBezTo>
                  <a:pt x="4838" y="1972"/>
                  <a:pt x="4838" y="1972"/>
                  <a:pt x="4838" y="1972"/>
                </a:cubicBezTo>
                <a:cubicBezTo>
                  <a:pt x="4883" y="1969"/>
                  <a:pt x="4883" y="1969"/>
                  <a:pt x="4883" y="1969"/>
                </a:cubicBezTo>
                <a:cubicBezTo>
                  <a:pt x="4928" y="1966"/>
                  <a:pt x="4928" y="1966"/>
                  <a:pt x="4928" y="1966"/>
                </a:cubicBezTo>
                <a:cubicBezTo>
                  <a:pt x="4973" y="1963"/>
                  <a:pt x="4973" y="1963"/>
                  <a:pt x="4973" y="1963"/>
                </a:cubicBezTo>
                <a:cubicBezTo>
                  <a:pt x="5018" y="1959"/>
                  <a:pt x="5018" y="1959"/>
                  <a:pt x="5018" y="1959"/>
                </a:cubicBezTo>
                <a:cubicBezTo>
                  <a:pt x="5062" y="1956"/>
                  <a:pt x="5062" y="1956"/>
                  <a:pt x="5062" y="1956"/>
                </a:cubicBezTo>
                <a:cubicBezTo>
                  <a:pt x="5107" y="1953"/>
                  <a:pt x="5107" y="1953"/>
                  <a:pt x="5107" y="1953"/>
                </a:cubicBezTo>
                <a:cubicBezTo>
                  <a:pt x="5152" y="1949"/>
                  <a:pt x="5152" y="1949"/>
                  <a:pt x="5152" y="1949"/>
                </a:cubicBezTo>
                <a:cubicBezTo>
                  <a:pt x="5197" y="1946"/>
                  <a:pt x="5197" y="1946"/>
                  <a:pt x="5197" y="1946"/>
                </a:cubicBezTo>
                <a:cubicBezTo>
                  <a:pt x="5242" y="1942"/>
                  <a:pt x="5242" y="1942"/>
                  <a:pt x="5242" y="1942"/>
                </a:cubicBezTo>
                <a:cubicBezTo>
                  <a:pt x="5286" y="1938"/>
                  <a:pt x="5286" y="1938"/>
                  <a:pt x="5286" y="1938"/>
                </a:cubicBezTo>
                <a:cubicBezTo>
                  <a:pt x="5331" y="1934"/>
                  <a:pt x="5331" y="1934"/>
                  <a:pt x="5331" y="1934"/>
                </a:cubicBezTo>
                <a:cubicBezTo>
                  <a:pt x="5376" y="1930"/>
                  <a:pt x="5376" y="1930"/>
                  <a:pt x="5376" y="1930"/>
                </a:cubicBezTo>
                <a:cubicBezTo>
                  <a:pt x="5421" y="1926"/>
                  <a:pt x="5421" y="1926"/>
                  <a:pt x="5421" y="1926"/>
                </a:cubicBezTo>
                <a:cubicBezTo>
                  <a:pt x="5466" y="1921"/>
                  <a:pt x="5466" y="1921"/>
                  <a:pt x="5466" y="1921"/>
                </a:cubicBezTo>
                <a:cubicBezTo>
                  <a:pt x="5510" y="1917"/>
                  <a:pt x="5510" y="1917"/>
                  <a:pt x="5510" y="1917"/>
                </a:cubicBezTo>
                <a:cubicBezTo>
                  <a:pt x="5555" y="1912"/>
                  <a:pt x="5555" y="1912"/>
                  <a:pt x="5555" y="1912"/>
                </a:cubicBezTo>
                <a:cubicBezTo>
                  <a:pt x="5600" y="1907"/>
                  <a:pt x="5600" y="1907"/>
                  <a:pt x="5600" y="1907"/>
                </a:cubicBezTo>
                <a:cubicBezTo>
                  <a:pt x="5645" y="1902"/>
                  <a:pt x="5645" y="1902"/>
                  <a:pt x="5645" y="1902"/>
                </a:cubicBezTo>
                <a:cubicBezTo>
                  <a:pt x="5690" y="1897"/>
                  <a:pt x="5690" y="1897"/>
                  <a:pt x="5690" y="1897"/>
                </a:cubicBezTo>
                <a:cubicBezTo>
                  <a:pt x="5734" y="1892"/>
                  <a:pt x="5734" y="1892"/>
                  <a:pt x="5734" y="1892"/>
                </a:cubicBezTo>
                <a:cubicBezTo>
                  <a:pt x="5779" y="1886"/>
                  <a:pt x="5779" y="1886"/>
                  <a:pt x="5779" y="1886"/>
                </a:cubicBezTo>
                <a:cubicBezTo>
                  <a:pt x="5824" y="1880"/>
                  <a:pt x="5824" y="1880"/>
                  <a:pt x="5824" y="1880"/>
                </a:cubicBezTo>
                <a:cubicBezTo>
                  <a:pt x="5869" y="1874"/>
                  <a:pt x="5869" y="1874"/>
                  <a:pt x="5869" y="1874"/>
                </a:cubicBezTo>
                <a:cubicBezTo>
                  <a:pt x="5914" y="1867"/>
                  <a:pt x="5914" y="1867"/>
                  <a:pt x="5914" y="1867"/>
                </a:cubicBezTo>
                <a:cubicBezTo>
                  <a:pt x="5958" y="1861"/>
                  <a:pt x="5958" y="1861"/>
                  <a:pt x="5958" y="1861"/>
                </a:cubicBezTo>
                <a:cubicBezTo>
                  <a:pt x="6003" y="1853"/>
                  <a:pt x="6003" y="1853"/>
                  <a:pt x="6003" y="1853"/>
                </a:cubicBezTo>
                <a:cubicBezTo>
                  <a:pt x="6048" y="1846"/>
                  <a:pt x="6048" y="1846"/>
                  <a:pt x="6048" y="1846"/>
                </a:cubicBezTo>
                <a:cubicBezTo>
                  <a:pt x="6093" y="1838"/>
                  <a:pt x="6093" y="1838"/>
                  <a:pt x="6093" y="1838"/>
                </a:cubicBezTo>
                <a:cubicBezTo>
                  <a:pt x="6138" y="1830"/>
                  <a:pt x="6138" y="1830"/>
                  <a:pt x="6138" y="1830"/>
                </a:cubicBezTo>
                <a:cubicBezTo>
                  <a:pt x="6182" y="1822"/>
                  <a:pt x="6182" y="1822"/>
                  <a:pt x="6182" y="1822"/>
                </a:cubicBezTo>
                <a:cubicBezTo>
                  <a:pt x="6227" y="1813"/>
                  <a:pt x="6227" y="1813"/>
                  <a:pt x="6227" y="1813"/>
                </a:cubicBezTo>
                <a:cubicBezTo>
                  <a:pt x="6272" y="1804"/>
                  <a:pt x="6272" y="1804"/>
                  <a:pt x="6272" y="1804"/>
                </a:cubicBezTo>
                <a:cubicBezTo>
                  <a:pt x="6317" y="1794"/>
                  <a:pt x="6317" y="1794"/>
                  <a:pt x="6317" y="1794"/>
                </a:cubicBezTo>
                <a:cubicBezTo>
                  <a:pt x="6362" y="1783"/>
                  <a:pt x="6362" y="1783"/>
                  <a:pt x="6362" y="1783"/>
                </a:cubicBezTo>
                <a:cubicBezTo>
                  <a:pt x="6406" y="1772"/>
                  <a:pt x="6406" y="1772"/>
                  <a:pt x="6406" y="1772"/>
                </a:cubicBezTo>
                <a:cubicBezTo>
                  <a:pt x="6451" y="1761"/>
                  <a:pt x="6451" y="1761"/>
                  <a:pt x="6451" y="1761"/>
                </a:cubicBezTo>
                <a:cubicBezTo>
                  <a:pt x="6496" y="1748"/>
                  <a:pt x="6496" y="1748"/>
                  <a:pt x="6496" y="1748"/>
                </a:cubicBezTo>
                <a:cubicBezTo>
                  <a:pt x="6541" y="1735"/>
                  <a:pt x="6541" y="1735"/>
                  <a:pt x="6541" y="1735"/>
                </a:cubicBezTo>
                <a:cubicBezTo>
                  <a:pt x="6586" y="1722"/>
                  <a:pt x="6586" y="1722"/>
                  <a:pt x="6586" y="1722"/>
                </a:cubicBezTo>
                <a:cubicBezTo>
                  <a:pt x="6630" y="1707"/>
                  <a:pt x="6630" y="1707"/>
                  <a:pt x="6630" y="1707"/>
                </a:cubicBezTo>
                <a:cubicBezTo>
                  <a:pt x="6675" y="1691"/>
                  <a:pt x="6675" y="1691"/>
                  <a:pt x="6675" y="1691"/>
                </a:cubicBezTo>
                <a:cubicBezTo>
                  <a:pt x="6720" y="1674"/>
                  <a:pt x="6720" y="1674"/>
                  <a:pt x="6720" y="1674"/>
                </a:cubicBezTo>
                <a:cubicBezTo>
                  <a:pt x="6765" y="1656"/>
                  <a:pt x="6765" y="1656"/>
                  <a:pt x="6765" y="1656"/>
                </a:cubicBezTo>
                <a:cubicBezTo>
                  <a:pt x="6810" y="1636"/>
                  <a:pt x="6810" y="1636"/>
                  <a:pt x="6810" y="1636"/>
                </a:cubicBezTo>
                <a:cubicBezTo>
                  <a:pt x="6854" y="1615"/>
                  <a:pt x="6854" y="1615"/>
                  <a:pt x="6854" y="1615"/>
                </a:cubicBezTo>
                <a:cubicBezTo>
                  <a:pt x="6899" y="1593"/>
                  <a:pt x="6899" y="1593"/>
                  <a:pt x="6899" y="1593"/>
                </a:cubicBezTo>
                <a:cubicBezTo>
                  <a:pt x="6944" y="1568"/>
                  <a:pt x="6944" y="1568"/>
                  <a:pt x="6944" y="1568"/>
                </a:cubicBezTo>
                <a:cubicBezTo>
                  <a:pt x="6989" y="1541"/>
                  <a:pt x="6989" y="1541"/>
                  <a:pt x="6989" y="1541"/>
                </a:cubicBezTo>
                <a:cubicBezTo>
                  <a:pt x="7034" y="1512"/>
                  <a:pt x="7034" y="1512"/>
                  <a:pt x="7034" y="1512"/>
                </a:cubicBezTo>
                <a:cubicBezTo>
                  <a:pt x="7078" y="1480"/>
                  <a:pt x="7078" y="1480"/>
                  <a:pt x="7078" y="1480"/>
                </a:cubicBezTo>
                <a:cubicBezTo>
                  <a:pt x="7123" y="1444"/>
                  <a:pt x="7123" y="1444"/>
                  <a:pt x="7123" y="1444"/>
                </a:cubicBezTo>
                <a:cubicBezTo>
                  <a:pt x="7168" y="1405"/>
                  <a:pt x="7168" y="1405"/>
                  <a:pt x="7168" y="1405"/>
                </a:cubicBezTo>
                <a:cubicBezTo>
                  <a:pt x="7213" y="1361"/>
                  <a:pt x="7213" y="1361"/>
                  <a:pt x="7213" y="1361"/>
                </a:cubicBezTo>
                <a:cubicBezTo>
                  <a:pt x="7258" y="1312"/>
                  <a:pt x="7258" y="1312"/>
                  <a:pt x="7258" y="1312"/>
                </a:cubicBezTo>
                <a:cubicBezTo>
                  <a:pt x="7302" y="1257"/>
                  <a:pt x="7302" y="1257"/>
                  <a:pt x="7302" y="1257"/>
                </a:cubicBezTo>
                <a:cubicBezTo>
                  <a:pt x="7347" y="1194"/>
                  <a:pt x="7347" y="1194"/>
                  <a:pt x="7347" y="1194"/>
                </a:cubicBezTo>
                <a:cubicBezTo>
                  <a:pt x="7392" y="1121"/>
                  <a:pt x="7392" y="1121"/>
                  <a:pt x="7392" y="1121"/>
                </a:cubicBezTo>
                <a:cubicBezTo>
                  <a:pt x="7437" y="1038"/>
                  <a:pt x="7437" y="1038"/>
                  <a:pt x="7437" y="1038"/>
                </a:cubicBezTo>
                <a:cubicBezTo>
                  <a:pt x="7482" y="939"/>
                  <a:pt x="7482" y="939"/>
                  <a:pt x="7482" y="939"/>
                </a:cubicBezTo>
                <a:cubicBezTo>
                  <a:pt x="7526" y="823"/>
                  <a:pt x="7526" y="823"/>
                  <a:pt x="7526" y="823"/>
                </a:cubicBezTo>
                <a:cubicBezTo>
                  <a:pt x="7571" y="681"/>
                  <a:pt x="7571" y="681"/>
                  <a:pt x="7571" y="681"/>
                </a:cubicBezTo>
                <a:cubicBezTo>
                  <a:pt x="7616" y="507"/>
                  <a:pt x="7616" y="507"/>
                  <a:pt x="7616" y="507"/>
                </a:cubicBezTo>
                <a:cubicBezTo>
                  <a:pt x="7661" y="287"/>
                  <a:pt x="7661" y="287"/>
                  <a:pt x="7661" y="287"/>
                </a:cubicBezTo>
                <a:cubicBezTo>
                  <a:pt x="7706" y="0"/>
                  <a:pt x="7706" y="0"/>
                  <a:pt x="7706" y="0"/>
                </a:cubicBezTo>
              </a:path>
            </a:pathLst>
          </a:custGeom>
          <a:noFill/>
          <a:ln w="28440">
            <a:solidFill>
              <a:srgbClr val="006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7"/>
          <p:cNvSpPr/>
          <p:nvPr/>
        </p:nvSpPr>
        <p:spPr>
          <a:xfrm>
            <a:off x="6129360" y="2523960"/>
            <a:ext cx="2068560" cy="2773440"/>
          </a:xfrm>
          <a:custGeom>
            <a:avLst/>
            <a:gdLst>
              <a:gd name="textAreaLeft" fmla="*/ 0 w 2068560"/>
              <a:gd name="textAreaRight" fmla="*/ 2068920 w 2068560"/>
              <a:gd name="textAreaTop" fmla="*/ 0 h 2773440"/>
              <a:gd name="textAreaBottom" fmla="*/ 2773800 h 2773440"/>
            </a:gdLst>
            <a:ahLst/>
            <a:rect l="textAreaLeft" t="textAreaTop" r="textAreaRight" b="textAreaBottom"/>
            <a:pathLst>
              <a:path w="2956" h="3961">
                <a:moveTo>
                  <a:pt x="0" y="3961"/>
                </a:moveTo>
                <a:cubicBezTo>
                  <a:pt x="44" y="3020"/>
                  <a:pt x="44" y="3020"/>
                  <a:pt x="44" y="3020"/>
                </a:cubicBezTo>
                <a:cubicBezTo>
                  <a:pt x="89" y="2426"/>
                  <a:pt x="89" y="2426"/>
                  <a:pt x="89" y="2426"/>
                </a:cubicBezTo>
                <a:cubicBezTo>
                  <a:pt x="134" y="2016"/>
                  <a:pt x="134" y="2016"/>
                  <a:pt x="134" y="2016"/>
                </a:cubicBezTo>
                <a:cubicBezTo>
                  <a:pt x="179" y="1717"/>
                  <a:pt x="179" y="1717"/>
                  <a:pt x="179" y="1717"/>
                </a:cubicBezTo>
                <a:cubicBezTo>
                  <a:pt x="224" y="1489"/>
                  <a:pt x="224" y="1489"/>
                  <a:pt x="224" y="1489"/>
                </a:cubicBezTo>
                <a:cubicBezTo>
                  <a:pt x="268" y="1309"/>
                  <a:pt x="268" y="1309"/>
                  <a:pt x="268" y="1309"/>
                </a:cubicBezTo>
                <a:cubicBezTo>
                  <a:pt x="313" y="1164"/>
                  <a:pt x="313" y="1164"/>
                  <a:pt x="313" y="1164"/>
                </a:cubicBezTo>
                <a:cubicBezTo>
                  <a:pt x="358" y="1044"/>
                  <a:pt x="358" y="1044"/>
                  <a:pt x="358" y="1044"/>
                </a:cubicBezTo>
                <a:cubicBezTo>
                  <a:pt x="403" y="943"/>
                  <a:pt x="403" y="943"/>
                  <a:pt x="403" y="943"/>
                </a:cubicBezTo>
                <a:cubicBezTo>
                  <a:pt x="448" y="858"/>
                  <a:pt x="448" y="858"/>
                  <a:pt x="448" y="858"/>
                </a:cubicBezTo>
                <a:cubicBezTo>
                  <a:pt x="492" y="784"/>
                  <a:pt x="492" y="784"/>
                  <a:pt x="492" y="784"/>
                </a:cubicBezTo>
                <a:cubicBezTo>
                  <a:pt x="537" y="720"/>
                  <a:pt x="537" y="720"/>
                  <a:pt x="537" y="720"/>
                </a:cubicBezTo>
                <a:cubicBezTo>
                  <a:pt x="582" y="664"/>
                  <a:pt x="582" y="664"/>
                  <a:pt x="582" y="664"/>
                </a:cubicBezTo>
                <a:cubicBezTo>
                  <a:pt x="627" y="614"/>
                  <a:pt x="627" y="614"/>
                  <a:pt x="627" y="614"/>
                </a:cubicBezTo>
                <a:cubicBezTo>
                  <a:pt x="672" y="569"/>
                  <a:pt x="672" y="569"/>
                  <a:pt x="672" y="569"/>
                </a:cubicBezTo>
                <a:cubicBezTo>
                  <a:pt x="716" y="529"/>
                  <a:pt x="716" y="529"/>
                  <a:pt x="716" y="529"/>
                </a:cubicBezTo>
                <a:cubicBezTo>
                  <a:pt x="761" y="493"/>
                  <a:pt x="761" y="493"/>
                  <a:pt x="761" y="493"/>
                </a:cubicBezTo>
                <a:cubicBezTo>
                  <a:pt x="806" y="461"/>
                  <a:pt x="806" y="461"/>
                  <a:pt x="806" y="461"/>
                </a:cubicBezTo>
                <a:cubicBezTo>
                  <a:pt x="851" y="431"/>
                  <a:pt x="851" y="431"/>
                  <a:pt x="851" y="431"/>
                </a:cubicBezTo>
                <a:cubicBezTo>
                  <a:pt x="896" y="404"/>
                  <a:pt x="896" y="404"/>
                  <a:pt x="896" y="404"/>
                </a:cubicBezTo>
                <a:cubicBezTo>
                  <a:pt x="940" y="379"/>
                  <a:pt x="940" y="379"/>
                  <a:pt x="940" y="379"/>
                </a:cubicBezTo>
                <a:cubicBezTo>
                  <a:pt x="985" y="356"/>
                  <a:pt x="985" y="356"/>
                  <a:pt x="985" y="356"/>
                </a:cubicBezTo>
                <a:cubicBezTo>
                  <a:pt x="1030" y="335"/>
                  <a:pt x="1030" y="335"/>
                  <a:pt x="1030" y="335"/>
                </a:cubicBezTo>
                <a:cubicBezTo>
                  <a:pt x="1075" y="315"/>
                  <a:pt x="1075" y="315"/>
                  <a:pt x="1075" y="315"/>
                </a:cubicBezTo>
                <a:cubicBezTo>
                  <a:pt x="1120" y="297"/>
                  <a:pt x="1120" y="297"/>
                  <a:pt x="1120" y="297"/>
                </a:cubicBezTo>
                <a:cubicBezTo>
                  <a:pt x="1164" y="279"/>
                  <a:pt x="1164" y="279"/>
                  <a:pt x="1164" y="279"/>
                </a:cubicBezTo>
                <a:cubicBezTo>
                  <a:pt x="1209" y="263"/>
                  <a:pt x="1209" y="263"/>
                  <a:pt x="1209" y="263"/>
                </a:cubicBezTo>
                <a:cubicBezTo>
                  <a:pt x="1254" y="249"/>
                  <a:pt x="1254" y="249"/>
                  <a:pt x="1254" y="249"/>
                </a:cubicBezTo>
                <a:cubicBezTo>
                  <a:pt x="1299" y="235"/>
                  <a:pt x="1299" y="235"/>
                  <a:pt x="1299" y="235"/>
                </a:cubicBezTo>
                <a:cubicBezTo>
                  <a:pt x="1344" y="221"/>
                  <a:pt x="1344" y="221"/>
                  <a:pt x="1344" y="221"/>
                </a:cubicBezTo>
                <a:cubicBezTo>
                  <a:pt x="1388" y="209"/>
                  <a:pt x="1388" y="209"/>
                  <a:pt x="1388" y="209"/>
                </a:cubicBezTo>
                <a:cubicBezTo>
                  <a:pt x="1433" y="197"/>
                  <a:pt x="1433" y="197"/>
                  <a:pt x="1433" y="197"/>
                </a:cubicBezTo>
                <a:cubicBezTo>
                  <a:pt x="1478" y="186"/>
                  <a:pt x="1478" y="186"/>
                  <a:pt x="1478" y="186"/>
                </a:cubicBezTo>
                <a:cubicBezTo>
                  <a:pt x="1523" y="176"/>
                  <a:pt x="1523" y="176"/>
                  <a:pt x="1523" y="176"/>
                </a:cubicBezTo>
                <a:cubicBezTo>
                  <a:pt x="1568" y="166"/>
                  <a:pt x="1568" y="166"/>
                  <a:pt x="1568" y="166"/>
                </a:cubicBezTo>
                <a:cubicBezTo>
                  <a:pt x="1612" y="156"/>
                  <a:pt x="1612" y="156"/>
                  <a:pt x="1612" y="156"/>
                </a:cubicBezTo>
                <a:cubicBezTo>
                  <a:pt x="1657" y="147"/>
                  <a:pt x="1657" y="147"/>
                  <a:pt x="1657" y="147"/>
                </a:cubicBezTo>
                <a:cubicBezTo>
                  <a:pt x="1702" y="139"/>
                  <a:pt x="1702" y="139"/>
                  <a:pt x="1702" y="139"/>
                </a:cubicBezTo>
                <a:cubicBezTo>
                  <a:pt x="1747" y="131"/>
                  <a:pt x="1747" y="131"/>
                  <a:pt x="1747" y="131"/>
                </a:cubicBezTo>
                <a:cubicBezTo>
                  <a:pt x="1792" y="123"/>
                  <a:pt x="1792" y="123"/>
                  <a:pt x="1792" y="123"/>
                </a:cubicBezTo>
                <a:cubicBezTo>
                  <a:pt x="1836" y="116"/>
                  <a:pt x="1836" y="116"/>
                  <a:pt x="1836" y="116"/>
                </a:cubicBezTo>
                <a:cubicBezTo>
                  <a:pt x="1881" y="108"/>
                  <a:pt x="1881" y="108"/>
                  <a:pt x="1881" y="108"/>
                </a:cubicBezTo>
                <a:cubicBezTo>
                  <a:pt x="1926" y="102"/>
                  <a:pt x="1926" y="102"/>
                  <a:pt x="1926" y="102"/>
                </a:cubicBezTo>
                <a:cubicBezTo>
                  <a:pt x="1971" y="95"/>
                  <a:pt x="1971" y="95"/>
                  <a:pt x="1971" y="95"/>
                </a:cubicBezTo>
                <a:cubicBezTo>
                  <a:pt x="2016" y="89"/>
                  <a:pt x="2016" y="89"/>
                  <a:pt x="2016" y="89"/>
                </a:cubicBezTo>
                <a:cubicBezTo>
                  <a:pt x="2060" y="83"/>
                  <a:pt x="2060" y="83"/>
                  <a:pt x="2060" y="83"/>
                </a:cubicBezTo>
                <a:cubicBezTo>
                  <a:pt x="2105" y="77"/>
                  <a:pt x="2105" y="77"/>
                  <a:pt x="2105" y="77"/>
                </a:cubicBezTo>
                <a:cubicBezTo>
                  <a:pt x="2150" y="72"/>
                  <a:pt x="2150" y="72"/>
                  <a:pt x="2150" y="72"/>
                </a:cubicBezTo>
                <a:cubicBezTo>
                  <a:pt x="2195" y="66"/>
                  <a:pt x="2195" y="66"/>
                  <a:pt x="2195" y="66"/>
                </a:cubicBezTo>
                <a:cubicBezTo>
                  <a:pt x="2240" y="61"/>
                  <a:pt x="2240" y="61"/>
                  <a:pt x="2240" y="61"/>
                </a:cubicBezTo>
                <a:cubicBezTo>
                  <a:pt x="2284" y="56"/>
                  <a:pt x="2284" y="56"/>
                  <a:pt x="2284" y="56"/>
                </a:cubicBezTo>
                <a:cubicBezTo>
                  <a:pt x="2329" y="52"/>
                  <a:pt x="2329" y="52"/>
                  <a:pt x="2329" y="52"/>
                </a:cubicBezTo>
                <a:cubicBezTo>
                  <a:pt x="2374" y="47"/>
                  <a:pt x="2374" y="47"/>
                  <a:pt x="2374" y="47"/>
                </a:cubicBezTo>
                <a:cubicBezTo>
                  <a:pt x="2419" y="43"/>
                  <a:pt x="2419" y="43"/>
                  <a:pt x="2419" y="43"/>
                </a:cubicBezTo>
                <a:cubicBezTo>
                  <a:pt x="2464" y="38"/>
                  <a:pt x="2464" y="38"/>
                  <a:pt x="2464" y="38"/>
                </a:cubicBezTo>
                <a:cubicBezTo>
                  <a:pt x="2508" y="34"/>
                  <a:pt x="2508" y="34"/>
                  <a:pt x="2508" y="34"/>
                </a:cubicBezTo>
                <a:cubicBezTo>
                  <a:pt x="2553" y="30"/>
                  <a:pt x="2553" y="30"/>
                  <a:pt x="2553" y="30"/>
                </a:cubicBezTo>
                <a:cubicBezTo>
                  <a:pt x="2598" y="27"/>
                  <a:pt x="2598" y="27"/>
                  <a:pt x="2598" y="27"/>
                </a:cubicBezTo>
                <a:cubicBezTo>
                  <a:pt x="2643" y="23"/>
                  <a:pt x="2643" y="23"/>
                  <a:pt x="2643" y="23"/>
                </a:cubicBezTo>
                <a:cubicBezTo>
                  <a:pt x="2688" y="19"/>
                  <a:pt x="2688" y="19"/>
                  <a:pt x="2688" y="19"/>
                </a:cubicBezTo>
                <a:cubicBezTo>
                  <a:pt x="2732" y="16"/>
                  <a:pt x="2732" y="16"/>
                  <a:pt x="2732" y="16"/>
                </a:cubicBezTo>
                <a:cubicBezTo>
                  <a:pt x="2777" y="12"/>
                  <a:pt x="2777" y="12"/>
                  <a:pt x="2777" y="12"/>
                </a:cubicBezTo>
                <a:cubicBezTo>
                  <a:pt x="2822" y="9"/>
                  <a:pt x="2822" y="9"/>
                  <a:pt x="2822" y="9"/>
                </a:cubicBezTo>
                <a:cubicBezTo>
                  <a:pt x="2867" y="6"/>
                  <a:pt x="2867" y="6"/>
                  <a:pt x="2867" y="6"/>
                </a:cubicBezTo>
                <a:cubicBezTo>
                  <a:pt x="2912" y="3"/>
                  <a:pt x="2912" y="3"/>
                  <a:pt x="2912" y="3"/>
                </a:cubicBezTo>
                <a:cubicBezTo>
                  <a:pt x="2956" y="0"/>
                  <a:pt x="2956" y="0"/>
                  <a:pt x="2956" y="0"/>
                </a:cubicBezTo>
              </a:path>
            </a:pathLst>
          </a:custGeom>
          <a:noFill/>
          <a:ln w="28440">
            <a:solidFill>
              <a:srgbClr val="006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8"/>
          <p:cNvSpPr/>
          <p:nvPr/>
        </p:nvSpPr>
        <p:spPr>
          <a:xfrm>
            <a:off x="984240" y="714240"/>
            <a:ext cx="5581800" cy="5581800"/>
          </a:xfrm>
          <a:custGeom>
            <a:avLst/>
            <a:gdLst>
              <a:gd name="textAreaLeft" fmla="*/ 0 w 5581800"/>
              <a:gd name="textAreaRight" fmla="*/ 5582160 w 5581800"/>
              <a:gd name="textAreaTop" fmla="*/ 0 h 5581800"/>
              <a:gd name="textAreaBottom" fmla="*/ 5582160 h 5581800"/>
            </a:gdLst>
            <a:ahLst/>
            <a:rect l="textAreaLeft" t="textAreaTop" r="textAreaRight" b="textAreaBottom"/>
            <a:pathLst>
              <a:path w="7975" h="7975">
                <a:moveTo>
                  <a:pt x="0" y="7975"/>
                </a:moveTo>
                <a:cubicBezTo>
                  <a:pt x="45" y="7930"/>
                  <a:pt x="45" y="7930"/>
                  <a:pt x="45" y="7930"/>
                </a:cubicBezTo>
                <a:cubicBezTo>
                  <a:pt x="90" y="7885"/>
                  <a:pt x="90" y="7885"/>
                  <a:pt x="90" y="7885"/>
                </a:cubicBezTo>
                <a:cubicBezTo>
                  <a:pt x="135" y="7840"/>
                  <a:pt x="135" y="7840"/>
                  <a:pt x="135" y="7840"/>
                </a:cubicBezTo>
                <a:cubicBezTo>
                  <a:pt x="180" y="7795"/>
                  <a:pt x="180" y="7795"/>
                  <a:pt x="180" y="7795"/>
                </a:cubicBezTo>
                <a:cubicBezTo>
                  <a:pt x="224" y="7751"/>
                  <a:pt x="224" y="7751"/>
                  <a:pt x="224" y="7751"/>
                </a:cubicBezTo>
                <a:cubicBezTo>
                  <a:pt x="269" y="7706"/>
                  <a:pt x="269" y="7706"/>
                  <a:pt x="269" y="7706"/>
                </a:cubicBezTo>
                <a:cubicBezTo>
                  <a:pt x="314" y="7661"/>
                  <a:pt x="314" y="7661"/>
                  <a:pt x="314" y="7661"/>
                </a:cubicBezTo>
                <a:cubicBezTo>
                  <a:pt x="359" y="7616"/>
                  <a:pt x="359" y="7616"/>
                  <a:pt x="359" y="7616"/>
                </a:cubicBezTo>
                <a:cubicBezTo>
                  <a:pt x="404" y="7571"/>
                  <a:pt x="404" y="7571"/>
                  <a:pt x="404" y="7571"/>
                </a:cubicBezTo>
                <a:cubicBezTo>
                  <a:pt x="448" y="7527"/>
                  <a:pt x="448" y="7527"/>
                  <a:pt x="448" y="7527"/>
                </a:cubicBezTo>
                <a:cubicBezTo>
                  <a:pt x="493" y="7482"/>
                  <a:pt x="493" y="7482"/>
                  <a:pt x="493" y="7482"/>
                </a:cubicBezTo>
                <a:cubicBezTo>
                  <a:pt x="538" y="7437"/>
                  <a:pt x="538" y="7437"/>
                  <a:pt x="538" y="7437"/>
                </a:cubicBezTo>
                <a:cubicBezTo>
                  <a:pt x="583" y="7392"/>
                  <a:pt x="583" y="7392"/>
                  <a:pt x="583" y="7392"/>
                </a:cubicBezTo>
                <a:cubicBezTo>
                  <a:pt x="628" y="7347"/>
                  <a:pt x="628" y="7347"/>
                  <a:pt x="628" y="7347"/>
                </a:cubicBezTo>
                <a:cubicBezTo>
                  <a:pt x="672" y="7303"/>
                  <a:pt x="672" y="7303"/>
                  <a:pt x="672" y="7303"/>
                </a:cubicBezTo>
                <a:cubicBezTo>
                  <a:pt x="717" y="7258"/>
                  <a:pt x="717" y="7258"/>
                  <a:pt x="717" y="7258"/>
                </a:cubicBezTo>
                <a:cubicBezTo>
                  <a:pt x="762" y="7213"/>
                  <a:pt x="762" y="7213"/>
                  <a:pt x="762" y="7213"/>
                </a:cubicBezTo>
                <a:cubicBezTo>
                  <a:pt x="807" y="7168"/>
                  <a:pt x="807" y="7168"/>
                  <a:pt x="807" y="7168"/>
                </a:cubicBezTo>
                <a:cubicBezTo>
                  <a:pt x="852" y="7123"/>
                  <a:pt x="852" y="7123"/>
                  <a:pt x="852" y="7123"/>
                </a:cubicBezTo>
                <a:cubicBezTo>
                  <a:pt x="896" y="7079"/>
                  <a:pt x="896" y="7079"/>
                  <a:pt x="896" y="7079"/>
                </a:cubicBezTo>
                <a:cubicBezTo>
                  <a:pt x="941" y="7034"/>
                  <a:pt x="941" y="7034"/>
                  <a:pt x="941" y="7034"/>
                </a:cubicBezTo>
                <a:cubicBezTo>
                  <a:pt x="986" y="6989"/>
                  <a:pt x="986" y="6989"/>
                  <a:pt x="986" y="6989"/>
                </a:cubicBezTo>
                <a:cubicBezTo>
                  <a:pt x="1031" y="6944"/>
                  <a:pt x="1031" y="6944"/>
                  <a:pt x="1031" y="6944"/>
                </a:cubicBezTo>
                <a:cubicBezTo>
                  <a:pt x="1076" y="6899"/>
                  <a:pt x="1076" y="6899"/>
                  <a:pt x="1076" y="6899"/>
                </a:cubicBezTo>
                <a:cubicBezTo>
                  <a:pt x="1120" y="6855"/>
                  <a:pt x="1120" y="6855"/>
                  <a:pt x="1120" y="6855"/>
                </a:cubicBezTo>
                <a:cubicBezTo>
                  <a:pt x="1165" y="6810"/>
                  <a:pt x="1165" y="6810"/>
                  <a:pt x="1165" y="6810"/>
                </a:cubicBezTo>
                <a:cubicBezTo>
                  <a:pt x="1210" y="6765"/>
                  <a:pt x="1210" y="6765"/>
                  <a:pt x="1210" y="6765"/>
                </a:cubicBezTo>
                <a:cubicBezTo>
                  <a:pt x="1255" y="6720"/>
                  <a:pt x="1255" y="6720"/>
                  <a:pt x="1255" y="6720"/>
                </a:cubicBezTo>
                <a:cubicBezTo>
                  <a:pt x="1300" y="6675"/>
                  <a:pt x="1300" y="6675"/>
                  <a:pt x="1300" y="6675"/>
                </a:cubicBezTo>
                <a:cubicBezTo>
                  <a:pt x="1344" y="6631"/>
                  <a:pt x="1344" y="6631"/>
                  <a:pt x="1344" y="6631"/>
                </a:cubicBezTo>
                <a:cubicBezTo>
                  <a:pt x="1389" y="6586"/>
                  <a:pt x="1389" y="6586"/>
                  <a:pt x="1389" y="6586"/>
                </a:cubicBezTo>
                <a:cubicBezTo>
                  <a:pt x="1434" y="6541"/>
                  <a:pt x="1434" y="6541"/>
                  <a:pt x="1434" y="6541"/>
                </a:cubicBezTo>
                <a:cubicBezTo>
                  <a:pt x="1479" y="6496"/>
                  <a:pt x="1479" y="6496"/>
                  <a:pt x="1479" y="6496"/>
                </a:cubicBezTo>
                <a:cubicBezTo>
                  <a:pt x="1524" y="6451"/>
                  <a:pt x="1524" y="6451"/>
                  <a:pt x="1524" y="6451"/>
                </a:cubicBezTo>
                <a:cubicBezTo>
                  <a:pt x="1568" y="6407"/>
                  <a:pt x="1568" y="6407"/>
                  <a:pt x="1568" y="6407"/>
                </a:cubicBezTo>
                <a:cubicBezTo>
                  <a:pt x="1613" y="6362"/>
                  <a:pt x="1613" y="6362"/>
                  <a:pt x="1613" y="6362"/>
                </a:cubicBezTo>
                <a:cubicBezTo>
                  <a:pt x="1658" y="6317"/>
                  <a:pt x="1658" y="6317"/>
                  <a:pt x="1658" y="6317"/>
                </a:cubicBezTo>
                <a:cubicBezTo>
                  <a:pt x="1703" y="6272"/>
                  <a:pt x="1703" y="6272"/>
                  <a:pt x="1703" y="6272"/>
                </a:cubicBezTo>
                <a:cubicBezTo>
                  <a:pt x="1748" y="6227"/>
                  <a:pt x="1748" y="6227"/>
                  <a:pt x="1748" y="6227"/>
                </a:cubicBezTo>
                <a:cubicBezTo>
                  <a:pt x="1792" y="6183"/>
                  <a:pt x="1792" y="6183"/>
                  <a:pt x="1792" y="6183"/>
                </a:cubicBezTo>
                <a:cubicBezTo>
                  <a:pt x="1837" y="6138"/>
                  <a:pt x="1837" y="6138"/>
                  <a:pt x="1837" y="6138"/>
                </a:cubicBezTo>
                <a:cubicBezTo>
                  <a:pt x="1882" y="6093"/>
                  <a:pt x="1882" y="6093"/>
                  <a:pt x="1882" y="6093"/>
                </a:cubicBezTo>
                <a:cubicBezTo>
                  <a:pt x="1927" y="6048"/>
                  <a:pt x="1927" y="6048"/>
                  <a:pt x="1927" y="6048"/>
                </a:cubicBezTo>
                <a:cubicBezTo>
                  <a:pt x="1972" y="6003"/>
                  <a:pt x="1972" y="6003"/>
                  <a:pt x="1972" y="6003"/>
                </a:cubicBezTo>
                <a:cubicBezTo>
                  <a:pt x="2016" y="5959"/>
                  <a:pt x="2016" y="5959"/>
                  <a:pt x="2016" y="5959"/>
                </a:cubicBezTo>
                <a:cubicBezTo>
                  <a:pt x="2061" y="5914"/>
                  <a:pt x="2061" y="5914"/>
                  <a:pt x="2061" y="5914"/>
                </a:cubicBezTo>
                <a:cubicBezTo>
                  <a:pt x="2106" y="5869"/>
                  <a:pt x="2106" y="5869"/>
                  <a:pt x="2106" y="5869"/>
                </a:cubicBezTo>
                <a:cubicBezTo>
                  <a:pt x="2151" y="5824"/>
                  <a:pt x="2151" y="5824"/>
                  <a:pt x="2151" y="5824"/>
                </a:cubicBezTo>
                <a:cubicBezTo>
                  <a:pt x="2196" y="5779"/>
                  <a:pt x="2196" y="5779"/>
                  <a:pt x="2196" y="5779"/>
                </a:cubicBezTo>
                <a:cubicBezTo>
                  <a:pt x="2240" y="5735"/>
                  <a:pt x="2240" y="5735"/>
                  <a:pt x="2240" y="5735"/>
                </a:cubicBezTo>
                <a:cubicBezTo>
                  <a:pt x="2285" y="5690"/>
                  <a:pt x="2285" y="5690"/>
                  <a:pt x="2285" y="5690"/>
                </a:cubicBezTo>
                <a:cubicBezTo>
                  <a:pt x="2330" y="5645"/>
                  <a:pt x="2330" y="5645"/>
                  <a:pt x="2330" y="5645"/>
                </a:cubicBezTo>
                <a:cubicBezTo>
                  <a:pt x="2375" y="5600"/>
                  <a:pt x="2375" y="5600"/>
                  <a:pt x="2375" y="5600"/>
                </a:cubicBezTo>
                <a:cubicBezTo>
                  <a:pt x="2420" y="5555"/>
                  <a:pt x="2420" y="5555"/>
                  <a:pt x="2420" y="5555"/>
                </a:cubicBezTo>
                <a:cubicBezTo>
                  <a:pt x="2464" y="5511"/>
                  <a:pt x="2464" y="5511"/>
                  <a:pt x="2464" y="5511"/>
                </a:cubicBezTo>
                <a:cubicBezTo>
                  <a:pt x="2509" y="5466"/>
                  <a:pt x="2509" y="5466"/>
                  <a:pt x="2509" y="5466"/>
                </a:cubicBezTo>
                <a:cubicBezTo>
                  <a:pt x="2554" y="5421"/>
                  <a:pt x="2554" y="5421"/>
                  <a:pt x="2554" y="5421"/>
                </a:cubicBezTo>
                <a:cubicBezTo>
                  <a:pt x="2599" y="5376"/>
                  <a:pt x="2599" y="5376"/>
                  <a:pt x="2599" y="5376"/>
                </a:cubicBezTo>
                <a:cubicBezTo>
                  <a:pt x="2644" y="5331"/>
                  <a:pt x="2644" y="5331"/>
                  <a:pt x="2644" y="5331"/>
                </a:cubicBezTo>
                <a:cubicBezTo>
                  <a:pt x="2688" y="5287"/>
                  <a:pt x="2688" y="5287"/>
                  <a:pt x="2688" y="5287"/>
                </a:cubicBezTo>
                <a:cubicBezTo>
                  <a:pt x="2733" y="5242"/>
                  <a:pt x="2733" y="5242"/>
                  <a:pt x="2733" y="5242"/>
                </a:cubicBezTo>
                <a:cubicBezTo>
                  <a:pt x="2778" y="5197"/>
                  <a:pt x="2778" y="5197"/>
                  <a:pt x="2778" y="5197"/>
                </a:cubicBezTo>
                <a:cubicBezTo>
                  <a:pt x="2823" y="5152"/>
                  <a:pt x="2823" y="5152"/>
                  <a:pt x="2823" y="5152"/>
                </a:cubicBezTo>
                <a:cubicBezTo>
                  <a:pt x="2868" y="5107"/>
                  <a:pt x="2868" y="5107"/>
                  <a:pt x="2868" y="5107"/>
                </a:cubicBezTo>
                <a:cubicBezTo>
                  <a:pt x="2912" y="5063"/>
                  <a:pt x="2912" y="5063"/>
                  <a:pt x="2912" y="5063"/>
                </a:cubicBezTo>
                <a:cubicBezTo>
                  <a:pt x="2957" y="5018"/>
                  <a:pt x="2957" y="5018"/>
                  <a:pt x="2957" y="5018"/>
                </a:cubicBezTo>
                <a:cubicBezTo>
                  <a:pt x="3002" y="4973"/>
                  <a:pt x="3002" y="4973"/>
                  <a:pt x="3002" y="4973"/>
                </a:cubicBezTo>
                <a:cubicBezTo>
                  <a:pt x="3047" y="4928"/>
                  <a:pt x="3047" y="4928"/>
                  <a:pt x="3047" y="4928"/>
                </a:cubicBezTo>
                <a:cubicBezTo>
                  <a:pt x="3092" y="4883"/>
                  <a:pt x="3092" y="4883"/>
                  <a:pt x="3092" y="4883"/>
                </a:cubicBezTo>
                <a:cubicBezTo>
                  <a:pt x="3136" y="4839"/>
                  <a:pt x="3136" y="4839"/>
                  <a:pt x="3136" y="4839"/>
                </a:cubicBezTo>
                <a:cubicBezTo>
                  <a:pt x="3181" y="4794"/>
                  <a:pt x="3181" y="4794"/>
                  <a:pt x="3181" y="4794"/>
                </a:cubicBezTo>
                <a:cubicBezTo>
                  <a:pt x="3226" y="4749"/>
                  <a:pt x="3226" y="4749"/>
                  <a:pt x="3226" y="4749"/>
                </a:cubicBezTo>
                <a:cubicBezTo>
                  <a:pt x="3271" y="4704"/>
                  <a:pt x="3271" y="4704"/>
                  <a:pt x="3271" y="4704"/>
                </a:cubicBezTo>
                <a:cubicBezTo>
                  <a:pt x="3316" y="4659"/>
                  <a:pt x="3316" y="4659"/>
                  <a:pt x="3316" y="4659"/>
                </a:cubicBezTo>
                <a:cubicBezTo>
                  <a:pt x="3360" y="4615"/>
                  <a:pt x="3360" y="4615"/>
                  <a:pt x="3360" y="4615"/>
                </a:cubicBezTo>
                <a:cubicBezTo>
                  <a:pt x="3405" y="4570"/>
                  <a:pt x="3405" y="4570"/>
                  <a:pt x="3405" y="4570"/>
                </a:cubicBezTo>
                <a:cubicBezTo>
                  <a:pt x="3450" y="4525"/>
                  <a:pt x="3450" y="4525"/>
                  <a:pt x="3450" y="4525"/>
                </a:cubicBezTo>
                <a:cubicBezTo>
                  <a:pt x="3495" y="4480"/>
                  <a:pt x="3495" y="4480"/>
                  <a:pt x="3495" y="4480"/>
                </a:cubicBezTo>
                <a:cubicBezTo>
                  <a:pt x="3540" y="4435"/>
                  <a:pt x="3540" y="4435"/>
                  <a:pt x="3540" y="4435"/>
                </a:cubicBezTo>
                <a:cubicBezTo>
                  <a:pt x="3584" y="4391"/>
                  <a:pt x="3584" y="4391"/>
                  <a:pt x="3584" y="4391"/>
                </a:cubicBezTo>
                <a:cubicBezTo>
                  <a:pt x="3629" y="4346"/>
                  <a:pt x="3629" y="4346"/>
                  <a:pt x="3629" y="4346"/>
                </a:cubicBezTo>
                <a:cubicBezTo>
                  <a:pt x="3674" y="4301"/>
                  <a:pt x="3674" y="4301"/>
                  <a:pt x="3674" y="4301"/>
                </a:cubicBezTo>
                <a:cubicBezTo>
                  <a:pt x="3719" y="4256"/>
                  <a:pt x="3719" y="4256"/>
                  <a:pt x="3719" y="4256"/>
                </a:cubicBezTo>
                <a:cubicBezTo>
                  <a:pt x="3764" y="4211"/>
                  <a:pt x="3764" y="4211"/>
                  <a:pt x="3764" y="4211"/>
                </a:cubicBezTo>
                <a:cubicBezTo>
                  <a:pt x="3808" y="4167"/>
                  <a:pt x="3808" y="4167"/>
                  <a:pt x="3808" y="4167"/>
                </a:cubicBezTo>
                <a:cubicBezTo>
                  <a:pt x="3853" y="4122"/>
                  <a:pt x="3853" y="4122"/>
                  <a:pt x="3853" y="4122"/>
                </a:cubicBezTo>
                <a:cubicBezTo>
                  <a:pt x="3898" y="4077"/>
                  <a:pt x="3898" y="4077"/>
                  <a:pt x="3898" y="4077"/>
                </a:cubicBezTo>
                <a:cubicBezTo>
                  <a:pt x="3943" y="4032"/>
                  <a:pt x="3943" y="4032"/>
                  <a:pt x="3943" y="4032"/>
                </a:cubicBezTo>
                <a:cubicBezTo>
                  <a:pt x="3988" y="3987"/>
                  <a:pt x="3988" y="3987"/>
                  <a:pt x="3988" y="3987"/>
                </a:cubicBezTo>
                <a:cubicBezTo>
                  <a:pt x="4032" y="3943"/>
                  <a:pt x="4032" y="3943"/>
                  <a:pt x="4032" y="3943"/>
                </a:cubicBezTo>
                <a:cubicBezTo>
                  <a:pt x="4077" y="3898"/>
                  <a:pt x="4077" y="3898"/>
                  <a:pt x="4077" y="3898"/>
                </a:cubicBezTo>
                <a:cubicBezTo>
                  <a:pt x="4122" y="3853"/>
                  <a:pt x="4122" y="3853"/>
                  <a:pt x="4122" y="3853"/>
                </a:cubicBezTo>
                <a:cubicBezTo>
                  <a:pt x="4167" y="3808"/>
                  <a:pt x="4167" y="3808"/>
                  <a:pt x="4167" y="3808"/>
                </a:cubicBezTo>
                <a:cubicBezTo>
                  <a:pt x="4212" y="3763"/>
                  <a:pt x="4212" y="3763"/>
                  <a:pt x="4212" y="3763"/>
                </a:cubicBezTo>
                <a:cubicBezTo>
                  <a:pt x="4256" y="3719"/>
                  <a:pt x="4256" y="3719"/>
                  <a:pt x="4256" y="3719"/>
                </a:cubicBezTo>
                <a:cubicBezTo>
                  <a:pt x="4301" y="3674"/>
                  <a:pt x="4301" y="3674"/>
                  <a:pt x="4301" y="3674"/>
                </a:cubicBezTo>
                <a:cubicBezTo>
                  <a:pt x="4346" y="3629"/>
                  <a:pt x="4346" y="3629"/>
                  <a:pt x="4346" y="3629"/>
                </a:cubicBezTo>
                <a:cubicBezTo>
                  <a:pt x="4391" y="3584"/>
                  <a:pt x="4391" y="3584"/>
                  <a:pt x="4391" y="3584"/>
                </a:cubicBezTo>
                <a:cubicBezTo>
                  <a:pt x="4436" y="3539"/>
                  <a:pt x="4436" y="3539"/>
                  <a:pt x="4436" y="3539"/>
                </a:cubicBezTo>
                <a:cubicBezTo>
                  <a:pt x="4480" y="3495"/>
                  <a:pt x="4480" y="3495"/>
                  <a:pt x="4480" y="3495"/>
                </a:cubicBezTo>
                <a:cubicBezTo>
                  <a:pt x="4525" y="3450"/>
                  <a:pt x="4525" y="3450"/>
                  <a:pt x="4525" y="3450"/>
                </a:cubicBezTo>
                <a:cubicBezTo>
                  <a:pt x="4570" y="3405"/>
                  <a:pt x="4570" y="3405"/>
                  <a:pt x="4570" y="3405"/>
                </a:cubicBezTo>
                <a:cubicBezTo>
                  <a:pt x="4615" y="3360"/>
                  <a:pt x="4615" y="3360"/>
                  <a:pt x="4615" y="3360"/>
                </a:cubicBezTo>
                <a:cubicBezTo>
                  <a:pt x="4660" y="3315"/>
                  <a:pt x="4660" y="3315"/>
                  <a:pt x="4660" y="3315"/>
                </a:cubicBezTo>
                <a:cubicBezTo>
                  <a:pt x="4704" y="3271"/>
                  <a:pt x="4704" y="3271"/>
                  <a:pt x="4704" y="3271"/>
                </a:cubicBezTo>
                <a:cubicBezTo>
                  <a:pt x="4749" y="3226"/>
                  <a:pt x="4749" y="3226"/>
                  <a:pt x="4749" y="3226"/>
                </a:cubicBezTo>
                <a:cubicBezTo>
                  <a:pt x="4794" y="3181"/>
                  <a:pt x="4794" y="3181"/>
                  <a:pt x="4794" y="3181"/>
                </a:cubicBezTo>
                <a:cubicBezTo>
                  <a:pt x="4839" y="3136"/>
                  <a:pt x="4839" y="3136"/>
                  <a:pt x="4839" y="3136"/>
                </a:cubicBezTo>
                <a:cubicBezTo>
                  <a:pt x="4884" y="3091"/>
                  <a:pt x="4884" y="3091"/>
                  <a:pt x="4884" y="3091"/>
                </a:cubicBezTo>
                <a:cubicBezTo>
                  <a:pt x="4928" y="3047"/>
                  <a:pt x="4928" y="3047"/>
                  <a:pt x="4928" y="3047"/>
                </a:cubicBezTo>
                <a:cubicBezTo>
                  <a:pt x="4973" y="3002"/>
                  <a:pt x="4973" y="3002"/>
                  <a:pt x="4973" y="3002"/>
                </a:cubicBezTo>
                <a:cubicBezTo>
                  <a:pt x="5018" y="2957"/>
                  <a:pt x="5018" y="2957"/>
                  <a:pt x="5018" y="2957"/>
                </a:cubicBezTo>
                <a:cubicBezTo>
                  <a:pt x="5063" y="2912"/>
                  <a:pt x="5063" y="2912"/>
                  <a:pt x="5063" y="2912"/>
                </a:cubicBezTo>
                <a:cubicBezTo>
                  <a:pt x="5108" y="2867"/>
                  <a:pt x="5108" y="2867"/>
                  <a:pt x="5108" y="2867"/>
                </a:cubicBezTo>
                <a:cubicBezTo>
                  <a:pt x="5152" y="2823"/>
                  <a:pt x="5152" y="2823"/>
                  <a:pt x="5152" y="2823"/>
                </a:cubicBezTo>
                <a:cubicBezTo>
                  <a:pt x="5197" y="2778"/>
                  <a:pt x="5197" y="2778"/>
                  <a:pt x="5197" y="2778"/>
                </a:cubicBezTo>
                <a:cubicBezTo>
                  <a:pt x="5242" y="2733"/>
                  <a:pt x="5242" y="2733"/>
                  <a:pt x="5242" y="2733"/>
                </a:cubicBezTo>
                <a:cubicBezTo>
                  <a:pt x="5287" y="2688"/>
                  <a:pt x="5287" y="2688"/>
                  <a:pt x="5287" y="2688"/>
                </a:cubicBezTo>
                <a:cubicBezTo>
                  <a:pt x="5332" y="2643"/>
                  <a:pt x="5332" y="2643"/>
                  <a:pt x="5332" y="2643"/>
                </a:cubicBezTo>
                <a:cubicBezTo>
                  <a:pt x="5376" y="2599"/>
                  <a:pt x="5376" y="2599"/>
                  <a:pt x="5376" y="2599"/>
                </a:cubicBezTo>
                <a:cubicBezTo>
                  <a:pt x="5421" y="2554"/>
                  <a:pt x="5421" y="2554"/>
                  <a:pt x="5421" y="2554"/>
                </a:cubicBezTo>
                <a:cubicBezTo>
                  <a:pt x="5466" y="2509"/>
                  <a:pt x="5466" y="2509"/>
                  <a:pt x="5466" y="2509"/>
                </a:cubicBezTo>
                <a:cubicBezTo>
                  <a:pt x="5511" y="2464"/>
                  <a:pt x="5511" y="2464"/>
                  <a:pt x="5511" y="2464"/>
                </a:cubicBezTo>
                <a:cubicBezTo>
                  <a:pt x="5556" y="2419"/>
                  <a:pt x="5556" y="2419"/>
                  <a:pt x="5556" y="2419"/>
                </a:cubicBezTo>
                <a:cubicBezTo>
                  <a:pt x="5600" y="2375"/>
                  <a:pt x="5600" y="2375"/>
                  <a:pt x="5600" y="2375"/>
                </a:cubicBezTo>
                <a:cubicBezTo>
                  <a:pt x="5645" y="2330"/>
                  <a:pt x="5645" y="2330"/>
                  <a:pt x="5645" y="2330"/>
                </a:cubicBezTo>
                <a:cubicBezTo>
                  <a:pt x="5690" y="2285"/>
                  <a:pt x="5690" y="2285"/>
                  <a:pt x="5690" y="2285"/>
                </a:cubicBezTo>
                <a:cubicBezTo>
                  <a:pt x="5735" y="2240"/>
                  <a:pt x="5735" y="2240"/>
                  <a:pt x="5735" y="2240"/>
                </a:cubicBezTo>
                <a:cubicBezTo>
                  <a:pt x="5780" y="2195"/>
                  <a:pt x="5780" y="2195"/>
                  <a:pt x="5780" y="2195"/>
                </a:cubicBezTo>
                <a:cubicBezTo>
                  <a:pt x="5824" y="2151"/>
                  <a:pt x="5824" y="2151"/>
                  <a:pt x="5824" y="2151"/>
                </a:cubicBezTo>
                <a:cubicBezTo>
                  <a:pt x="5869" y="2106"/>
                  <a:pt x="5869" y="2106"/>
                  <a:pt x="5869" y="2106"/>
                </a:cubicBezTo>
                <a:cubicBezTo>
                  <a:pt x="5914" y="2061"/>
                  <a:pt x="5914" y="2061"/>
                  <a:pt x="5914" y="2061"/>
                </a:cubicBezTo>
                <a:cubicBezTo>
                  <a:pt x="5959" y="2016"/>
                  <a:pt x="5959" y="2016"/>
                  <a:pt x="5959" y="2016"/>
                </a:cubicBezTo>
                <a:cubicBezTo>
                  <a:pt x="6004" y="1971"/>
                  <a:pt x="6004" y="1971"/>
                  <a:pt x="6004" y="1971"/>
                </a:cubicBezTo>
                <a:cubicBezTo>
                  <a:pt x="6048" y="1927"/>
                  <a:pt x="6048" y="1927"/>
                  <a:pt x="6048" y="1927"/>
                </a:cubicBezTo>
                <a:cubicBezTo>
                  <a:pt x="6093" y="1882"/>
                  <a:pt x="6093" y="1882"/>
                  <a:pt x="6093" y="1882"/>
                </a:cubicBezTo>
                <a:cubicBezTo>
                  <a:pt x="6138" y="1837"/>
                  <a:pt x="6138" y="1837"/>
                  <a:pt x="6138" y="1837"/>
                </a:cubicBezTo>
                <a:cubicBezTo>
                  <a:pt x="6183" y="1792"/>
                  <a:pt x="6183" y="1792"/>
                  <a:pt x="6183" y="1792"/>
                </a:cubicBezTo>
                <a:cubicBezTo>
                  <a:pt x="6228" y="1747"/>
                  <a:pt x="6228" y="1747"/>
                  <a:pt x="6228" y="1747"/>
                </a:cubicBezTo>
                <a:cubicBezTo>
                  <a:pt x="6272" y="1703"/>
                  <a:pt x="6272" y="1703"/>
                  <a:pt x="6272" y="1703"/>
                </a:cubicBezTo>
                <a:cubicBezTo>
                  <a:pt x="6317" y="1658"/>
                  <a:pt x="6317" y="1658"/>
                  <a:pt x="6317" y="1658"/>
                </a:cubicBezTo>
                <a:cubicBezTo>
                  <a:pt x="6362" y="1613"/>
                  <a:pt x="6362" y="1613"/>
                  <a:pt x="6362" y="1613"/>
                </a:cubicBezTo>
                <a:cubicBezTo>
                  <a:pt x="6407" y="1568"/>
                  <a:pt x="6407" y="1568"/>
                  <a:pt x="6407" y="1568"/>
                </a:cubicBezTo>
                <a:cubicBezTo>
                  <a:pt x="6452" y="1523"/>
                  <a:pt x="6452" y="1523"/>
                  <a:pt x="6452" y="1523"/>
                </a:cubicBezTo>
                <a:cubicBezTo>
                  <a:pt x="6496" y="1479"/>
                  <a:pt x="6496" y="1479"/>
                  <a:pt x="6496" y="1479"/>
                </a:cubicBezTo>
                <a:cubicBezTo>
                  <a:pt x="6541" y="1434"/>
                  <a:pt x="6541" y="1434"/>
                  <a:pt x="6541" y="1434"/>
                </a:cubicBezTo>
                <a:cubicBezTo>
                  <a:pt x="6586" y="1389"/>
                  <a:pt x="6586" y="1389"/>
                  <a:pt x="6586" y="1389"/>
                </a:cubicBezTo>
                <a:cubicBezTo>
                  <a:pt x="6631" y="1344"/>
                  <a:pt x="6631" y="1344"/>
                  <a:pt x="6631" y="1344"/>
                </a:cubicBezTo>
                <a:cubicBezTo>
                  <a:pt x="6676" y="1299"/>
                  <a:pt x="6676" y="1299"/>
                  <a:pt x="6676" y="1299"/>
                </a:cubicBezTo>
                <a:cubicBezTo>
                  <a:pt x="6720" y="1255"/>
                  <a:pt x="6720" y="1255"/>
                  <a:pt x="6720" y="1255"/>
                </a:cubicBezTo>
                <a:cubicBezTo>
                  <a:pt x="6765" y="1210"/>
                  <a:pt x="6765" y="1210"/>
                  <a:pt x="6765" y="1210"/>
                </a:cubicBezTo>
                <a:cubicBezTo>
                  <a:pt x="6810" y="1165"/>
                  <a:pt x="6810" y="1165"/>
                  <a:pt x="6810" y="1165"/>
                </a:cubicBezTo>
                <a:cubicBezTo>
                  <a:pt x="6855" y="1120"/>
                  <a:pt x="6855" y="1120"/>
                  <a:pt x="6855" y="1120"/>
                </a:cubicBezTo>
                <a:cubicBezTo>
                  <a:pt x="6900" y="1075"/>
                  <a:pt x="6900" y="1075"/>
                  <a:pt x="6900" y="1075"/>
                </a:cubicBezTo>
                <a:cubicBezTo>
                  <a:pt x="6944" y="1031"/>
                  <a:pt x="6944" y="1031"/>
                  <a:pt x="6944" y="1031"/>
                </a:cubicBezTo>
                <a:cubicBezTo>
                  <a:pt x="6989" y="986"/>
                  <a:pt x="6989" y="986"/>
                  <a:pt x="6989" y="986"/>
                </a:cubicBezTo>
                <a:cubicBezTo>
                  <a:pt x="7034" y="941"/>
                  <a:pt x="7034" y="941"/>
                  <a:pt x="7034" y="941"/>
                </a:cubicBezTo>
                <a:cubicBezTo>
                  <a:pt x="7079" y="896"/>
                  <a:pt x="7079" y="896"/>
                  <a:pt x="7079" y="896"/>
                </a:cubicBezTo>
                <a:cubicBezTo>
                  <a:pt x="7124" y="851"/>
                  <a:pt x="7124" y="851"/>
                  <a:pt x="7124" y="851"/>
                </a:cubicBezTo>
                <a:cubicBezTo>
                  <a:pt x="7168" y="807"/>
                  <a:pt x="7168" y="807"/>
                  <a:pt x="7168" y="807"/>
                </a:cubicBezTo>
                <a:cubicBezTo>
                  <a:pt x="7213" y="762"/>
                  <a:pt x="7213" y="762"/>
                  <a:pt x="7213" y="762"/>
                </a:cubicBezTo>
                <a:cubicBezTo>
                  <a:pt x="7258" y="717"/>
                  <a:pt x="7258" y="717"/>
                  <a:pt x="7258" y="717"/>
                </a:cubicBezTo>
                <a:cubicBezTo>
                  <a:pt x="7303" y="672"/>
                  <a:pt x="7303" y="672"/>
                  <a:pt x="7303" y="672"/>
                </a:cubicBezTo>
                <a:cubicBezTo>
                  <a:pt x="7348" y="627"/>
                  <a:pt x="7348" y="627"/>
                  <a:pt x="7348" y="627"/>
                </a:cubicBezTo>
                <a:cubicBezTo>
                  <a:pt x="7392" y="583"/>
                  <a:pt x="7392" y="583"/>
                  <a:pt x="7392" y="583"/>
                </a:cubicBezTo>
                <a:cubicBezTo>
                  <a:pt x="7437" y="538"/>
                  <a:pt x="7437" y="538"/>
                  <a:pt x="7437" y="538"/>
                </a:cubicBezTo>
                <a:cubicBezTo>
                  <a:pt x="7482" y="493"/>
                  <a:pt x="7482" y="493"/>
                  <a:pt x="7482" y="493"/>
                </a:cubicBezTo>
                <a:cubicBezTo>
                  <a:pt x="7527" y="448"/>
                  <a:pt x="7527" y="448"/>
                  <a:pt x="7527" y="448"/>
                </a:cubicBezTo>
                <a:cubicBezTo>
                  <a:pt x="7572" y="403"/>
                  <a:pt x="7572" y="403"/>
                  <a:pt x="7572" y="403"/>
                </a:cubicBezTo>
                <a:cubicBezTo>
                  <a:pt x="7616" y="359"/>
                  <a:pt x="7616" y="359"/>
                  <a:pt x="7616" y="359"/>
                </a:cubicBezTo>
                <a:cubicBezTo>
                  <a:pt x="7661" y="314"/>
                  <a:pt x="7661" y="314"/>
                  <a:pt x="7661" y="314"/>
                </a:cubicBezTo>
                <a:cubicBezTo>
                  <a:pt x="7706" y="269"/>
                  <a:pt x="7706" y="269"/>
                  <a:pt x="7706" y="269"/>
                </a:cubicBezTo>
                <a:cubicBezTo>
                  <a:pt x="7751" y="224"/>
                  <a:pt x="7751" y="224"/>
                  <a:pt x="7751" y="224"/>
                </a:cubicBezTo>
                <a:cubicBezTo>
                  <a:pt x="7796" y="179"/>
                  <a:pt x="7796" y="179"/>
                  <a:pt x="7796" y="179"/>
                </a:cubicBezTo>
                <a:cubicBezTo>
                  <a:pt x="7840" y="135"/>
                  <a:pt x="7840" y="135"/>
                  <a:pt x="7840" y="135"/>
                </a:cubicBezTo>
                <a:cubicBezTo>
                  <a:pt x="7885" y="90"/>
                  <a:pt x="7885" y="90"/>
                  <a:pt x="7885" y="90"/>
                </a:cubicBezTo>
                <a:cubicBezTo>
                  <a:pt x="7930" y="45"/>
                  <a:pt x="7930" y="45"/>
                  <a:pt x="7930" y="45"/>
                </a:cubicBezTo>
                <a:cubicBezTo>
                  <a:pt x="7975" y="0"/>
                  <a:pt x="7975" y="0"/>
                  <a:pt x="7975" y="0"/>
                </a:cubicBezTo>
              </a:path>
            </a:pathLst>
          </a:custGeom>
          <a:noFill/>
          <a:ln w="28440">
            <a:solidFill>
              <a:srgbClr val="006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 flipH="1" flipV="1">
            <a:off x="4896000" y="1042920"/>
            <a:ext cx="72720" cy="388944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1"/>
          <p:cNvSpPr/>
          <p:nvPr/>
        </p:nvSpPr>
        <p:spPr>
          <a:xfrm flipH="1" flipV="1">
            <a:off x="5460480" y="699840"/>
            <a:ext cx="11160" cy="415908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2"/>
          <p:cNvSpPr/>
          <p:nvPr/>
        </p:nvSpPr>
        <p:spPr>
          <a:xfrm flipV="1">
            <a:off x="5977080" y="684360"/>
            <a:ext cx="15840" cy="424800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420840" y="2940120"/>
            <a:ext cx="78390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420840" y="2379600"/>
            <a:ext cx="78390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5"/>
          <p:cNvSpPr/>
          <p:nvPr/>
        </p:nvSpPr>
        <p:spPr>
          <a:xfrm>
            <a:off x="420840" y="1819440"/>
            <a:ext cx="78390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6"/>
          <p:cNvSpPr/>
          <p:nvPr/>
        </p:nvSpPr>
        <p:spPr>
          <a:xfrm flipV="1">
            <a:off x="3745080" y="1186920"/>
            <a:ext cx="0" cy="374508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4007880" y="604800"/>
            <a:ext cx="3441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7897320" y="3462480"/>
            <a:ext cx="3441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4325400" y="3462480"/>
            <a:ext cx="3441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4801680" y="3462480"/>
            <a:ext cx="3441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5437080" y="3462480"/>
            <a:ext cx="3985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3690000" y="3462480"/>
            <a:ext cx="429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4007880" y="2589120"/>
            <a:ext cx="3441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4007880" y="1477800"/>
            <a:ext cx="3441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3452760" y="3144960"/>
            <a:ext cx="5223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5118480" y="1398600"/>
            <a:ext cx="3866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6"/>
          <p:cNvSpPr/>
          <p:nvPr/>
        </p:nvSpPr>
        <p:spPr>
          <a:xfrm>
            <a:off x="5436720" y="3144960"/>
            <a:ext cx="3866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1"/>
          <p:cNvSpPr/>
          <p:nvPr/>
        </p:nvSpPr>
        <p:spPr>
          <a:xfrm flipV="1">
            <a:off x="3770280" y="1874880"/>
            <a:ext cx="1666800" cy="158760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2"/>
          <p:cNvSpPr/>
          <p:nvPr/>
        </p:nvSpPr>
        <p:spPr>
          <a:xfrm>
            <a:off x="5437080" y="1874880"/>
            <a:ext cx="0" cy="158760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3"/>
          <p:cNvSpPr/>
          <p:nvPr/>
        </p:nvSpPr>
        <p:spPr>
          <a:xfrm>
            <a:off x="3770280" y="3462480"/>
            <a:ext cx="1666800" cy="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47"/>
          <p:cNvSpPr/>
          <p:nvPr/>
        </p:nvSpPr>
        <p:spPr>
          <a:xfrm>
            <a:off x="4405320" y="2906640"/>
            <a:ext cx="157320" cy="555840"/>
          </a:xfrm>
          <a:custGeom>
            <a:avLst/>
            <a:gdLst>
              <a:gd name="textAreaLeft" fmla="*/ 0 w 157320"/>
              <a:gd name="textAreaRight" fmla="*/ 157680 w 15732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126" h="245">
                <a:moveTo>
                  <a:pt x="0" y="0"/>
                </a:moveTo>
                <a:cubicBezTo>
                  <a:pt x="54" y="13"/>
                  <a:pt x="47" y="28"/>
                  <a:pt x="85" y="66"/>
                </a:cubicBezTo>
                <a:cubicBezTo>
                  <a:pt x="94" y="95"/>
                  <a:pt x="121" y="121"/>
                  <a:pt x="123" y="151"/>
                </a:cubicBezTo>
                <a:cubicBezTo>
                  <a:pt x="126" y="182"/>
                  <a:pt x="123" y="214"/>
                  <a:pt x="123" y="245"/>
                </a:cubicBezTo>
              </a:path>
            </a:pathLst>
          </a:custGeom>
          <a:noFill/>
          <a:ln w="7632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31"/>
          <p:cNvSpPr txBox="1"/>
          <p:nvPr/>
        </p:nvSpPr>
        <p:spPr>
          <a:xfrm>
            <a:off x="287280" y="0"/>
            <a:ext cx="8496360" cy="6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ычисление значения производной 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точке по графику и касательной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Text Box 32"/>
          <p:cNvSpPr/>
          <p:nvPr/>
        </p:nvSpPr>
        <p:spPr>
          <a:xfrm>
            <a:off x="2160720" y="4932360"/>
            <a:ext cx="4392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 Black"/>
              </a:rPr>
              <a:t>Геометрический смысл</a:t>
            </a:r>
            <a:r>
              <a:rPr b="1" lang="en-US" sz="2000" spc="-1" strike="noStrike">
                <a:solidFill>
                  <a:srgbClr val="000066"/>
                </a:solidFill>
                <a:latin typeface="Arial Black"/>
              </a:rPr>
              <a:t>                       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 Black"/>
              </a:rPr>
              <a:t> производ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7"/>
              <p:cNvSpPr txBox="1"/>
              <p:nvPr/>
            </p:nvSpPr>
            <p:spPr>
              <a:xfrm>
                <a:off x="5977080" y="4859280"/>
                <a:ext cx="35287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A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7"/>
              <p:cNvSpPr txBox="1"/>
              <p:nvPr/>
            </p:nvSpPr>
            <p:spPr>
              <a:xfrm>
                <a:off x="3095640" y="5651640"/>
                <a:ext cx="404496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7"/>
              <p:cNvSpPr txBox="1"/>
              <p:nvPr/>
            </p:nvSpPr>
            <p:spPr>
              <a:xfrm>
                <a:off x="6119640" y="1116000"/>
                <a:ext cx="331344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0" y="324000"/>
            <a:ext cx="4133880" cy="4176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2"/>
          <a:stretch/>
        </p:blipFill>
        <p:spPr>
          <a:xfrm>
            <a:off x="4680000" y="0"/>
            <a:ext cx="4825800" cy="450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3" name="Object 17"/>
              <p:cNvSpPr txBox="1"/>
              <p:nvPr/>
            </p:nvSpPr>
            <p:spPr>
              <a:xfrm>
                <a:off x="360360" y="3851280"/>
                <a:ext cx="3600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айти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7"/>
              <p:cNvSpPr txBox="1"/>
              <p:nvPr/>
            </p:nvSpPr>
            <p:spPr>
              <a:xfrm>
                <a:off x="5111640" y="3851280"/>
                <a:ext cx="37944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айти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Line 34"/>
          <p:cNvSpPr/>
          <p:nvPr/>
        </p:nvSpPr>
        <p:spPr>
          <a:xfrm>
            <a:off x="2952720" y="1692360"/>
            <a:ext cx="0" cy="201600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5"/>
          <p:cNvSpPr/>
          <p:nvPr/>
        </p:nvSpPr>
        <p:spPr>
          <a:xfrm>
            <a:off x="503280" y="3708360"/>
            <a:ext cx="25210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9"/>
          <p:cNvSpPr/>
          <p:nvPr/>
        </p:nvSpPr>
        <p:spPr>
          <a:xfrm>
            <a:off x="3168720" y="2484360"/>
            <a:ext cx="503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0"/>
          <p:cNvSpPr/>
          <p:nvPr/>
        </p:nvSpPr>
        <p:spPr>
          <a:xfrm>
            <a:off x="2016000" y="3274920"/>
            <a:ext cx="7207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1"/>
          <p:cNvSpPr/>
          <p:nvPr/>
        </p:nvSpPr>
        <p:spPr>
          <a:xfrm>
            <a:off x="576360" y="684360"/>
            <a:ext cx="2305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4 :5 = 0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2"/>
          <p:cNvSpPr/>
          <p:nvPr/>
        </p:nvSpPr>
        <p:spPr>
          <a:xfrm>
            <a:off x="5616720" y="755640"/>
            <a:ext cx="0" cy="216072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3"/>
          <p:cNvSpPr/>
          <p:nvPr/>
        </p:nvSpPr>
        <p:spPr>
          <a:xfrm>
            <a:off x="5616720" y="2916360"/>
            <a:ext cx="266544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4"/>
          <p:cNvSpPr/>
          <p:nvPr/>
        </p:nvSpPr>
        <p:spPr>
          <a:xfrm>
            <a:off x="6192720" y="395280"/>
            <a:ext cx="2952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 Black"/>
              </a:rPr>
              <a:t>6 : 8 = 0,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45"/>
          <p:cNvSpPr/>
          <p:nvPr/>
        </p:nvSpPr>
        <p:spPr>
          <a:xfrm>
            <a:off x="7615080" y="2193840"/>
            <a:ext cx="1416240" cy="647640"/>
          </a:xfrm>
          <a:custGeom>
            <a:avLst/>
            <a:gdLst>
              <a:gd name="textAreaLeft" fmla="*/ 0 w 1416240"/>
              <a:gd name="textAreaRight" fmla="*/ 1416600 w 14162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fill="none" w="28273" h="21600">
                <a:moveTo>
                  <a:pt x="-1" y="1056"/>
                </a:moveTo>
                <a:cubicBezTo>
                  <a:pt x="2155" y="356"/>
                  <a:pt x="4406" y="-1"/>
                  <a:pt x="6673" y="0"/>
                </a:cubicBezTo>
                <a:cubicBezTo>
                  <a:pt x="18602" y="0"/>
                  <a:pt x="28273" y="9670"/>
                  <a:pt x="28273" y="21600"/>
                </a:cubicBezTo>
              </a:path>
              <a:path stroke="0" w="28273" h="21600">
                <a:moveTo>
                  <a:pt x="-1" y="1056"/>
                </a:moveTo>
                <a:cubicBezTo>
                  <a:pt x="2155" y="356"/>
                  <a:pt x="4406" y="-1"/>
                  <a:pt x="6673" y="0"/>
                </a:cubicBezTo>
                <a:cubicBezTo>
                  <a:pt x="18602" y="0"/>
                  <a:pt x="28273" y="9670"/>
                  <a:pt x="28273" y="21600"/>
                </a:cubicBezTo>
                <a:lnTo>
                  <a:pt x="6673" y="21600"/>
                </a:lnTo>
                <a:lnTo>
                  <a:pt x="-1" y="1056"/>
                </a:lnTo>
                <a:close/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6"/>
          <p:cNvSpPr/>
          <p:nvPr/>
        </p:nvSpPr>
        <p:spPr>
          <a:xfrm>
            <a:off x="4824360" y="179280"/>
            <a:ext cx="3529080" cy="2664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7"/>
          <p:cNvSpPr/>
          <p:nvPr/>
        </p:nvSpPr>
        <p:spPr>
          <a:xfrm>
            <a:off x="8280360" y="2843280"/>
            <a:ext cx="93492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8"/>
          <p:cNvSpPr/>
          <p:nvPr/>
        </p:nvSpPr>
        <p:spPr>
          <a:xfrm>
            <a:off x="7704000" y="1835280"/>
            <a:ext cx="180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ол ту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9"/>
          <p:cNvSpPr/>
          <p:nvPr/>
        </p:nvSpPr>
        <p:spPr>
          <a:xfrm>
            <a:off x="6985080" y="971640"/>
            <a:ext cx="237636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- 0,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0" descr=""/>
          <p:cNvPicPr/>
          <p:nvPr/>
        </p:nvPicPr>
        <p:blipFill>
          <a:blip r:embed="rId3"/>
          <a:stretch/>
        </p:blipFill>
        <p:spPr>
          <a:xfrm>
            <a:off x="6840360" y="900000"/>
            <a:ext cx="1440000" cy="649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7" descr=""/>
          <p:cNvPicPr/>
          <p:nvPr/>
        </p:nvPicPr>
        <p:blipFill>
          <a:blip r:embed="rId4"/>
          <a:stretch/>
        </p:blipFill>
        <p:spPr>
          <a:xfrm>
            <a:off x="1440000" y="4500720"/>
            <a:ext cx="7993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5" descr=""/>
          <p:cNvPicPr/>
          <p:nvPr/>
        </p:nvPicPr>
        <p:blipFill>
          <a:blip r:embed="rId1"/>
          <a:stretch/>
        </p:blipFill>
        <p:spPr>
          <a:xfrm>
            <a:off x="216000" y="250920"/>
            <a:ext cx="2663640" cy="2485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680000" cy="72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I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68720" y="-360"/>
            <a:ext cx="4608720" cy="738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6" descr=""/>
          <p:cNvPicPr/>
          <p:nvPr/>
        </p:nvPicPr>
        <p:blipFill>
          <a:blip r:embed="rId2"/>
          <a:stretch/>
        </p:blipFill>
        <p:spPr>
          <a:xfrm>
            <a:off x="6335640" y="324000"/>
            <a:ext cx="2521080" cy="2201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7" descr=""/>
          <p:cNvPicPr/>
          <p:nvPr/>
        </p:nvPicPr>
        <p:blipFill>
          <a:blip r:embed="rId3"/>
          <a:stretch/>
        </p:blipFill>
        <p:spPr>
          <a:xfrm>
            <a:off x="3960720" y="324000"/>
            <a:ext cx="1944720" cy="458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8" descr=""/>
          <p:cNvPicPr/>
          <p:nvPr/>
        </p:nvPicPr>
        <p:blipFill>
          <a:blip r:embed="rId4"/>
          <a:stretch/>
        </p:blipFill>
        <p:spPr>
          <a:xfrm>
            <a:off x="2808360" y="1042920"/>
            <a:ext cx="1079280" cy="581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9" descr=""/>
          <p:cNvPicPr/>
          <p:nvPr/>
        </p:nvPicPr>
        <p:blipFill>
          <a:blip r:embed="rId5"/>
          <a:stretch/>
        </p:blipFill>
        <p:spPr>
          <a:xfrm>
            <a:off x="5184720" y="1042920"/>
            <a:ext cx="1303560" cy="577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0" descr=""/>
          <p:cNvPicPr/>
          <p:nvPr/>
        </p:nvPicPr>
        <p:blipFill>
          <a:blip r:embed="rId6"/>
          <a:stretch/>
        </p:blipFill>
        <p:spPr>
          <a:xfrm>
            <a:off x="2808360" y="1835280"/>
            <a:ext cx="1865160" cy="35272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1"/>
          <p:cNvSpPr/>
          <p:nvPr/>
        </p:nvSpPr>
        <p:spPr>
          <a:xfrm>
            <a:off x="360360" y="3203640"/>
            <a:ext cx="22320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дите сумму экстрему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2" descr=""/>
          <p:cNvPicPr/>
          <p:nvPr/>
        </p:nvPicPr>
        <p:blipFill>
          <a:blip r:embed="rId7"/>
          <a:stretch/>
        </p:blipFill>
        <p:spPr>
          <a:xfrm>
            <a:off x="7157880" y="2411280"/>
            <a:ext cx="2352960" cy="29545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3"/>
          <p:cNvSpPr/>
          <p:nvPr/>
        </p:nvSpPr>
        <p:spPr>
          <a:xfrm>
            <a:off x="5184720" y="3203640"/>
            <a:ext cx="21589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дите сумму экстрему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5"/>
          <p:cNvSpPr/>
          <p:nvPr/>
        </p:nvSpPr>
        <p:spPr>
          <a:xfrm>
            <a:off x="1727280" y="5651640"/>
            <a:ext cx="1657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8"/>
          <p:cNvSpPr/>
          <p:nvPr/>
        </p:nvSpPr>
        <p:spPr>
          <a:xfrm>
            <a:off x="4968720" y="0"/>
            <a:ext cx="0" cy="395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9"/>
          <p:cNvSpPr/>
          <p:nvPr/>
        </p:nvSpPr>
        <p:spPr>
          <a:xfrm>
            <a:off x="4968720" y="755640"/>
            <a:ext cx="0" cy="46083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0"/>
          <p:cNvSpPr/>
          <p:nvPr/>
        </p:nvSpPr>
        <p:spPr>
          <a:xfrm>
            <a:off x="4968720" y="5651640"/>
            <a:ext cx="0" cy="4330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51"/>
          <p:cNvSpPr/>
          <p:nvPr/>
        </p:nvSpPr>
        <p:spPr>
          <a:xfrm>
            <a:off x="7128000" y="1835280"/>
            <a:ext cx="73080" cy="727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52"/>
          <p:cNvSpPr/>
          <p:nvPr/>
        </p:nvSpPr>
        <p:spPr>
          <a:xfrm>
            <a:off x="7777080" y="1187280"/>
            <a:ext cx="73080" cy="730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53"/>
          <p:cNvSpPr/>
          <p:nvPr/>
        </p:nvSpPr>
        <p:spPr>
          <a:xfrm>
            <a:off x="2087640" y="900000"/>
            <a:ext cx="73080" cy="730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54"/>
          <p:cNvSpPr/>
          <p:nvPr/>
        </p:nvSpPr>
        <p:spPr>
          <a:xfrm>
            <a:off x="1440000" y="1547640"/>
            <a:ext cx="72720" cy="730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5"/>
          <p:cNvSpPr/>
          <p:nvPr/>
        </p:nvSpPr>
        <p:spPr>
          <a:xfrm>
            <a:off x="4968720" y="7020000"/>
            <a:ext cx="0" cy="2887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6"/>
          <p:cNvSpPr/>
          <p:nvPr/>
        </p:nvSpPr>
        <p:spPr>
          <a:xfrm>
            <a:off x="3672000" y="324000"/>
            <a:ext cx="503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7"/>
          <p:cNvSpPr/>
          <p:nvPr/>
        </p:nvSpPr>
        <p:spPr>
          <a:xfrm>
            <a:off x="216000" y="3203640"/>
            <a:ext cx="503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8"/>
          <p:cNvSpPr/>
          <p:nvPr/>
        </p:nvSpPr>
        <p:spPr>
          <a:xfrm>
            <a:off x="5040360" y="3274920"/>
            <a:ext cx="503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86920" y="323640"/>
            <a:ext cx="921708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«Для меня сегодняшний урок…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60360" y="1619280"/>
          <a:ext cx="8640720" cy="3889440"/>
        </p:xfrm>
        <a:graphic>
          <a:graphicData uri="http://schemas.openxmlformats.org/drawingml/2006/table">
            <a:tbl>
              <a:tblPr/>
              <a:tblGrid>
                <a:gridCol w="2960640"/>
                <a:gridCol w="2481480"/>
                <a:gridCol w="319860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на урок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интересн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бота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онял материа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кучн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тдыха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узнал больше, чем зна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безразличн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омогал друг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не поня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87280" y="1476360"/>
            <a:ext cx="885672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полнить тест «Задания ЕГЭ - В8, В11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WordArt 4"/>
          <p:cNvSpPr txBox="1"/>
          <p:nvPr/>
        </p:nvSpPr>
        <p:spPr>
          <a:xfrm>
            <a:off x="1511280" y="324000"/>
            <a:ext cx="65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машнее задание: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5"/>
          <p:cNvSpPr txBox="1"/>
          <p:nvPr/>
        </p:nvSpPr>
        <p:spPr>
          <a:xfrm>
            <a:off x="1655640" y="1116000"/>
            <a:ext cx="6624720" cy="53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пешной сдачи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замена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073680" y="0"/>
            <a:ext cx="4812120" cy="72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ествуют функции различ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ные и квадратич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азвания их не прозаически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гарифм и тригонометриче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яют узы их семей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зательные и ещё линей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о дело их семейное расследов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рупулёзно функцию исслед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 не сомневаться нам в презумп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ательно находим нули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олюбие проявим, непреклон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уем её на моното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и определения и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ленясь поищем, с увлеч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, макси мы свед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экстремумы найд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ёт и нечет, минус, плюс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т такой нелёгкий гру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ый раз мы подним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рекрасно понима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Чтоб ЕГЭ прилично сд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Функцию нам нужно знат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49560" y="1474920"/>
            <a:ext cx="9513360" cy="36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ить и систематизировать наши знания по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именять полученные знания, умения и навы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шении задач, в тесте ЕГ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овести самоконтроль знаний, если нужно,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рекцию этих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Развивать логическое мышление, внимание, памя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актив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Воспитывать интерес к предм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78920"/>
            <a:ext cx="90694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"/>
              </a:rPr>
              <a:t>НАЙДИТЕ ПРОИЗВОДНУ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5"/>
              <p:cNvSpPr txBox="1"/>
              <p:nvPr/>
            </p:nvSpPr>
            <p:spPr>
              <a:xfrm>
                <a:off x="1152360" y="900000"/>
                <a:ext cx="316872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7"/>
              <p:cNvSpPr txBox="1"/>
              <p:nvPr/>
            </p:nvSpPr>
            <p:spPr>
              <a:xfrm>
                <a:off x="1871640" y="2195640"/>
                <a:ext cx="2448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7"/>
              <p:cNvSpPr txBox="1"/>
              <p:nvPr/>
            </p:nvSpPr>
            <p:spPr>
              <a:xfrm>
                <a:off x="5307120" y="2266920"/>
                <a:ext cx="27795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In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Text Box 52"/>
          <p:cNvSpPr/>
          <p:nvPr/>
        </p:nvSpPr>
        <p:spPr>
          <a:xfrm>
            <a:off x="6985080" y="3697200"/>
            <a:ext cx="5032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4"/>
          <p:cNvSpPr/>
          <p:nvPr/>
        </p:nvSpPr>
        <p:spPr>
          <a:xfrm>
            <a:off x="4968720" y="2351160"/>
            <a:ext cx="4105440" cy="863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9"/>
              <p:cNvSpPr txBox="1"/>
              <p:nvPr/>
            </p:nvSpPr>
            <p:spPr>
              <a:xfrm>
                <a:off x="936720" y="3635280"/>
                <a:ext cx="3527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9"/>
              <p:cNvSpPr txBox="1"/>
              <p:nvPr/>
            </p:nvSpPr>
            <p:spPr>
              <a:xfrm>
                <a:off x="5256360" y="3419640"/>
                <a:ext cx="32763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Rectangle 26"/>
          <p:cNvSpPr/>
          <p:nvPr/>
        </p:nvSpPr>
        <p:spPr>
          <a:xfrm>
            <a:off x="4968720" y="3492360"/>
            <a:ext cx="4105440" cy="93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8"/>
          <p:cNvSpPr/>
          <p:nvPr/>
        </p:nvSpPr>
        <p:spPr>
          <a:xfrm>
            <a:off x="1440000" y="5940360"/>
            <a:ext cx="865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11"/>
              <p:cNvSpPr txBox="1"/>
              <p:nvPr/>
            </p:nvSpPr>
            <p:spPr>
              <a:xfrm>
                <a:off x="1655640" y="4572000"/>
                <a:ext cx="30117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1"/>
              <p:cNvSpPr txBox="1"/>
              <p:nvPr/>
            </p:nvSpPr>
            <p:spPr>
              <a:xfrm>
                <a:off x="5327640" y="4716360"/>
                <a:ext cx="3433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3"/>
              <p:cNvSpPr txBox="1"/>
              <p:nvPr/>
            </p:nvSpPr>
            <p:spPr>
              <a:xfrm>
                <a:off x="2087640" y="5724360"/>
                <a:ext cx="431964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3"/>
              <p:cNvSpPr txBox="1"/>
              <p:nvPr/>
            </p:nvSpPr>
            <p:spPr>
              <a:xfrm>
                <a:off x="2770200" y="6516720"/>
                <a:ext cx="48690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25"/>
          <p:cNvSpPr/>
          <p:nvPr/>
        </p:nvSpPr>
        <p:spPr>
          <a:xfrm>
            <a:off x="4968720" y="4643280"/>
            <a:ext cx="4084920" cy="871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6"/>
          <p:cNvSpPr/>
          <p:nvPr/>
        </p:nvSpPr>
        <p:spPr>
          <a:xfrm>
            <a:off x="2664000" y="6443640"/>
            <a:ext cx="5040000" cy="801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5 отв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5315040" y="1141560"/>
                <a:ext cx="3267000" cy="66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Rectangle 9"/>
          <p:cNvSpPr/>
          <p:nvPr/>
        </p:nvSpPr>
        <p:spPr>
          <a:xfrm>
            <a:off x="4968720" y="1116000"/>
            <a:ext cx="410544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8"/>
          <p:cNvSpPr/>
          <p:nvPr/>
        </p:nvSpPr>
        <p:spPr>
          <a:xfrm>
            <a:off x="1008000" y="4859280"/>
            <a:ext cx="865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9"/>
          <p:cNvSpPr/>
          <p:nvPr/>
        </p:nvSpPr>
        <p:spPr>
          <a:xfrm>
            <a:off x="287280" y="3780000"/>
            <a:ext cx="865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0"/>
          <p:cNvSpPr/>
          <p:nvPr/>
        </p:nvSpPr>
        <p:spPr>
          <a:xfrm>
            <a:off x="1224000" y="2700360"/>
            <a:ext cx="865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360360" y="1332000"/>
            <a:ext cx="865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reeform 5"/>
          <p:cNvSpPr/>
          <p:nvPr/>
        </p:nvSpPr>
        <p:spPr>
          <a:xfrm>
            <a:off x="1071720" y="1477800"/>
            <a:ext cx="1746000" cy="5492880"/>
          </a:xfrm>
          <a:custGeom>
            <a:avLst/>
            <a:gdLst>
              <a:gd name="textAreaLeft" fmla="*/ 0 w 1746000"/>
              <a:gd name="textAreaRight" fmla="*/ 1746360 w 1746000"/>
              <a:gd name="textAreaTop" fmla="*/ 0 h 5492880"/>
              <a:gd name="textAreaBottom" fmla="*/ 5492880 h 5492880"/>
            </a:gdLst>
            <a:ahLst/>
            <a:rect l="textAreaLeft" t="textAreaTop" r="textAreaRight" b="textAreaBottom"/>
            <a:pathLst>
              <a:path w="2531" h="9504">
                <a:moveTo>
                  <a:pt x="0" y="9504"/>
                </a:moveTo>
                <a:cubicBezTo>
                  <a:pt x="41" y="7702"/>
                  <a:pt x="41" y="7702"/>
                  <a:pt x="41" y="7702"/>
                </a:cubicBezTo>
                <a:cubicBezTo>
                  <a:pt x="82" y="6200"/>
                  <a:pt x="82" y="6200"/>
                  <a:pt x="82" y="6200"/>
                </a:cubicBezTo>
                <a:cubicBezTo>
                  <a:pt x="123" y="4965"/>
                  <a:pt x="123" y="4965"/>
                  <a:pt x="123" y="4965"/>
                </a:cubicBezTo>
                <a:cubicBezTo>
                  <a:pt x="163" y="3965"/>
                  <a:pt x="163" y="3965"/>
                  <a:pt x="163" y="3965"/>
                </a:cubicBezTo>
                <a:cubicBezTo>
                  <a:pt x="204" y="3172"/>
                  <a:pt x="204" y="3172"/>
                  <a:pt x="204" y="3172"/>
                </a:cubicBezTo>
                <a:cubicBezTo>
                  <a:pt x="245" y="2559"/>
                  <a:pt x="245" y="2559"/>
                  <a:pt x="245" y="2559"/>
                </a:cubicBezTo>
                <a:cubicBezTo>
                  <a:pt x="286" y="2101"/>
                  <a:pt x="286" y="2101"/>
                  <a:pt x="286" y="2101"/>
                </a:cubicBezTo>
                <a:cubicBezTo>
                  <a:pt x="327" y="1775"/>
                  <a:pt x="327" y="1775"/>
                  <a:pt x="327" y="1775"/>
                </a:cubicBezTo>
                <a:cubicBezTo>
                  <a:pt x="368" y="1562"/>
                  <a:pt x="368" y="1562"/>
                  <a:pt x="368" y="1562"/>
                </a:cubicBezTo>
                <a:cubicBezTo>
                  <a:pt x="408" y="1443"/>
                  <a:pt x="408" y="1443"/>
                  <a:pt x="408" y="1443"/>
                </a:cubicBezTo>
                <a:cubicBezTo>
                  <a:pt x="449" y="1400"/>
                  <a:pt x="449" y="1400"/>
                  <a:pt x="449" y="1400"/>
                </a:cubicBezTo>
                <a:cubicBezTo>
                  <a:pt x="490" y="1418"/>
                  <a:pt x="490" y="1418"/>
                  <a:pt x="490" y="1418"/>
                </a:cubicBezTo>
                <a:cubicBezTo>
                  <a:pt x="531" y="1484"/>
                  <a:pt x="531" y="1484"/>
                  <a:pt x="531" y="1484"/>
                </a:cubicBezTo>
                <a:cubicBezTo>
                  <a:pt x="572" y="1586"/>
                  <a:pt x="572" y="1586"/>
                  <a:pt x="572" y="1586"/>
                </a:cubicBezTo>
                <a:cubicBezTo>
                  <a:pt x="612" y="1713"/>
                  <a:pt x="612" y="1713"/>
                  <a:pt x="612" y="1713"/>
                </a:cubicBezTo>
                <a:cubicBezTo>
                  <a:pt x="653" y="1855"/>
                  <a:pt x="653" y="1855"/>
                  <a:pt x="653" y="1855"/>
                </a:cubicBezTo>
                <a:cubicBezTo>
                  <a:pt x="694" y="2006"/>
                  <a:pt x="694" y="2006"/>
                  <a:pt x="694" y="2006"/>
                </a:cubicBezTo>
                <a:cubicBezTo>
                  <a:pt x="735" y="2159"/>
                  <a:pt x="735" y="2159"/>
                  <a:pt x="735" y="2159"/>
                </a:cubicBezTo>
                <a:cubicBezTo>
                  <a:pt x="776" y="2308"/>
                  <a:pt x="776" y="2308"/>
                  <a:pt x="776" y="2308"/>
                </a:cubicBezTo>
                <a:cubicBezTo>
                  <a:pt x="817" y="2449"/>
                  <a:pt x="817" y="2449"/>
                  <a:pt x="817" y="2449"/>
                </a:cubicBezTo>
                <a:cubicBezTo>
                  <a:pt x="857" y="2579"/>
                  <a:pt x="857" y="2579"/>
                  <a:pt x="857" y="2579"/>
                </a:cubicBezTo>
                <a:cubicBezTo>
                  <a:pt x="898" y="2695"/>
                  <a:pt x="898" y="2695"/>
                  <a:pt x="898" y="2695"/>
                </a:cubicBezTo>
                <a:cubicBezTo>
                  <a:pt x="939" y="2796"/>
                  <a:pt x="939" y="2796"/>
                  <a:pt x="939" y="2796"/>
                </a:cubicBezTo>
                <a:cubicBezTo>
                  <a:pt x="980" y="2881"/>
                  <a:pt x="980" y="2881"/>
                  <a:pt x="980" y="2881"/>
                </a:cubicBezTo>
                <a:cubicBezTo>
                  <a:pt x="1021" y="2950"/>
                  <a:pt x="1021" y="2950"/>
                  <a:pt x="1021" y="2950"/>
                </a:cubicBezTo>
                <a:cubicBezTo>
                  <a:pt x="1062" y="3003"/>
                  <a:pt x="1062" y="3003"/>
                  <a:pt x="1062" y="3003"/>
                </a:cubicBezTo>
                <a:cubicBezTo>
                  <a:pt x="1102" y="3043"/>
                  <a:pt x="1102" y="3043"/>
                  <a:pt x="1102" y="3043"/>
                </a:cubicBezTo>
                <a:cubicBezTo>
                  <a:pt x="1143" y="3071"/>
                  <a:pt x="1143" y="3071"/>
                  <a:pt x="1143" y="3071"/>
                </a:cubicBezTo>
                <a:cubicBezTo>
                  <a:pt x="1184" y="3087"/>
                  <a:pt x="1184" y="3087"/>
                  <a:pt x="1184" y="3087"/>
                </a:cubicBezTo>
                <a:cubicBezTo>
                  <a:pt x="1225" y="3096"/>
                  <a:pt x="1225" y="3096"/>
                  <a:pt x="1225" y="3096"/>
                </a:cubicBezTo>
                <a:cubicBezTo>
                  <a:pt x="1266" y="3100"/>
                  <a:pt x="1266" y="3100"/>
                  <a:pt x="1266" y="3100"/>
                </a:cubicBezTo>
                <a:cubicBezTo>
                  <a:pt x="1306" y="3100"/>
                  <a:pt x="1306" y="3100"/>
                  <a:pt x="1306" y="3100"/>
                </a:cubicBezTo>
                <a:cubicBezTo>
                  <a:pt x="1347" y="3100"/>
                  <a:pt x="1347" y="3100"/>
                  <a:pt x="1347" y="3100"/>
                </a:cubicBezTo>
                <a:cubicBezTo>
                  <a:pt x="1388" y="3104"/>
                  <a:pt x="1388" y="3104"/>
                  <a:pt x="1388" y="3104"/>
                </a:cubicBezTo>
                <a:cubicBezTo>
                  <a:pt x="1429" y="3113"/>
                  <a:pt x="1429" y="3113"/>
                  <a:pt x="1429" y="3113"/>
                </a:cubicBezTo>
                <a:cubicBezTo>
                  <a:pt x="1470" y="3129"/>
                  <a:pt x="1470" y="3129"/>
                  <a:pt x="1470" y="3129"/>
                </a:cubicBezTo>
                <a:cubicBezTo>
                  <a:pt x="1511" y="3157"/>
                  <a:pt x="1511" y="3157"/>
                  <a:pt x="1511" y="3157"/>
                </a:cubicBezTo>
                <a:cubicBezTo>
                  <a:pt x="1551" y="3197"/>
                  <a:pt x="1551" y="3197"/>
                  <a:pt x="1551" y="3197"/>
                </a:cubicBezTo>
                <a:cubicBezTo>
                  <a:pt x="1592" y="3250"/>
                  <a:pt x="1592" y="3250"/>
                  <a:pt x="1592" y="3250"/>
                </a:cubicBezTo>
                <a:cubicBezTo>
                  <a:pt x="1633" y="3319"/>
                  <a:pt x="1633" y="3319"/>
                  <a:pt x="1633" y="3319"/>
                </a:cubicBezTo>
                <a:cubicBezTo>
                  <a:pt x="1674" y="3404"/>
                  <a:pt x="1674" y="3404"/>
                  <a:pt x="1674" y="3404"/>
                </a:cubicBezTo>
                <a:cubicBezTo>
                  <a:pt x="1715" y="3505"/>
                  <a:pt x="1715" y="3505"/>
                  <a:pt x="1715" y="3505"/>
                </a:cubicBezTo>
                <a:cubicBezTo>
                  <a:pt x="1756" y="3621"/>
                  <a:pt x="1756" y="3621"/>
                  <a:pt x="1756" y="3621"/>
                </a:cubicBezTo>
                <a:cubicBezTo>
                  <a:pt x="1796" y="3751"/>
                  <a:pt x="1796" y="3751"/>
                  <a:pt x="1796" y="3751"/>
                </a:cubicBezTo>
                <a:cubicBezTo>
                  <a:pt x="1837" y="3892"/>
                  <a:pt x="1837" y="3892"/>
                  <a:pt x="1837" y="3892"/>
                </a:cubicBezTo>
                <a:cubicBezTo>
                  <a:pt x="1878" y="4041"/>
                  <a:pt x="1878" y="4041"/>
                  <a:pt x="1878" y="4041"/>
                </a:cubicBezTo>
                <a:cubicBezTo>
                  <a:pt x="1919" y="4194"/>
                  <a:pt x="1919" y="4194"/>
                  <a:pt x="1919" y="4194"/>
                </a:cubicBezTo>
                <a:cubicBezTo>
                  <a:pt x="1960" y="4345"/>
                  <a:pt x="1960" y="4345"/>
                  <a:pt x="1960" y="4345"/>
                </a:cubicBezTo>
                <a:cubicBezTo>
                  <a:pt x="2001" y="4487"/>
                  <a:pt x="2001" y="4487"/>
                  <a:pt x="2001" y="4487"/>
                </a:cubicBezTo>
                <a:cubicBezTo>
                  <a:pt x="2041" y="4614"/>
                  <a:pt x="2041" y="4614"/>
                  <a:pt x="2041" y="4614"/>
                </a:cubicBezTo>
                <a:cubicBezTo>
                  <a:pt x="2082" y="4716"/>
                  <a:pt x="2082" y="4716"/>
                  <a:pt x="2082" y="4716"/>
                </a:cubicBezTo>
                <a:cubicBezTo>
                  <a:pt x="2123" y="4782"/>
                  <a:pt x="2123" y="4782"/>
                  <a:pt x="2123" y="4782"/>
                </a:cubicBezTo>
                <a:cubicBezTo>
                  <a:pt x="2164" y="4800"/>
                  <a:pt x="2164" y="4800"/>
                  <a:pt x="2164" y="4800"/>
                </a:cubicBezTo>
                <a:cubicBezTo>
                  <a:pt x="2205" y="4757"/>
                  <a:pt x="2205" y="4757"/>
                  <a:pt x="2205" y="4757"/>
                </a:cubicBezTo>
                <a:cubicBezTo>
                  <a:pt x="2245" y="4638"/>
                  <a:pt x="2245" y="4638"/>
                  <a:pt x="2245" y="4638"/>
                </a:cubicBezTo>
                <a:cubicBezTo>
                  <a:pt x="2286" y="4425"/>
                  <a:pt x="2286" y="4425"/>
                  <a:pt x="2286" y="4425"/>
                </a:cubicBezTo>
                <a:cubicBezTo>
                  <a:pt x="2327" y="4099"/>
                  <a:pt x="2327" y="4099"/>
                  <a:pt x="2327" y="4099"/>
                </a:cubicBezTo>
                <a:cubicBezTo>
                  <a:pt x="2368" y="3641"/>
                  <a:pt x="2368" y="3641"/>
                  <a:pt x="2368" y="3641"/>
                </a:cubicBezTo>
                <a:cubicBezTo>
                  <a:pt x="2409" y="3028"/>
                  <a:pt x="2409" y="3028"/>
                  <a:pt x="2409" y="3028"/>
                </a:cubicBezTo>
                <a:cubicBezTo>
                  <a:pt x="2450" y="2235"/>
                  <a:pt x="2450" y="2235"/>
                  <a:pt x="2450" y="2235"/>
                </a:cubicBezTo>
                <a:cubicBezTo>
                  <a:pt x="2490" y="1235"/>
                  <a:pt x="2490" y="1235"/>
                  <a:pt x="2490" y="1235"/>
                </a:cubicBezTo>
                <a:cubicBezTo>
                  <a:pt x="2531" y="0"/>
                  <a:pt x="2531" y="0"/>
                  <a:pt x="2531" y="0"/>
                </a:cubicBezTo>
              </a:path>
            </a:pathLst>
          </a:custGeom>
          <a:noFill/>
          <a:ln w="28440">
            <a:solidFill>
              <a:srgbClr val="006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 flipV="1">
            <a:off x="1944720" y="1477800"/>
            <a:ext cx="0" cy="5397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357120" y="4255920"/>
            <a:ext cx="341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 flipV="1">
            <a:off x="6865920" y="1557000"/>
            <a:ext cx="0" cy="539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5119560" y="4255920"/>
            <a:ext cx="4087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0"/>
          <p:cNvSpPr/>
          <p:nvPr/>
        </p:nvSpPr>
        <p:spPr>
          <a:xfrm>
            <a:off x="6230880" y="1874880"/>
            <a:ext cx="1314360" cy="46101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4610160"/>
              <a:gd name="textAreaBottom" fmla="*/ 4610520 h 4610160"/>
            </a:gdLst>
            <a:ahLst/>
            <a:rect l="textAreaLeft" t="textAreaTop" r="textAreaRight" b="textAreaBottom"/>
            <a:pathLst>
              <a:path w="1877" h="6587">
                <a:moveTo>
                  <a:pt x="0" y="0"/>
                </a:moveTo>
                <a:cubicBezTo>
                  <a:pt x="40" y="1764"/>
                  <a:pt x="40" y="1764"/>
                  <a:pt x="40" y="1764"/>
                </a:cubicBezTo>
                <a:cubicBezTo>
                  <a:pt x="81" y="3194"/>
                  <a:pt x="81" y="3194"/>
                  <a:pt x="81" y="3194"/>
                </a:cubicBezTo>
                <a:cubicBezTo>
                  <a:pt x="122" y="4324"/>
                  <a:pt x="122" y="4324"/>
                  <a:pt x="122" y="4324"/>
                </a:cubicBezTo>
                <a:cubicBezTo>
                  <a:pt x="163" y="5187"/>
                  <a:pt x="163" y="5187"/>
                  <a:pt x="163" y="5187"/>
                </a:cubicBezTo>
                <a:cubicBezTo>
                  <a:pt x="204" y="5816"/>
                  <a:pt x="204" y="5816"/>
                  <a:pt x="204" y="5816"/>
                </a:cubicBezTo>
                <a:cubicBezTo>
                  <a:pt x="244" y="6240"/>
                  <a:pt x="244" y="6240"/>
                  <a:pt x="244" y="6240"/>
                </a:cubicBezTo>
                <a:cubicBezTo>
                  <a:pt x="285" y="6488"/>
                  <a:pt x="285" y="6488"/>
                  <a:pt x="285" y="6488"/>
                </a:cubicBezTo>
                <a:cubicBezTo>
                  <a:pt x="326" y="6587"/>
                  <a:pt x="326" y="6587"/>
                  <a:pt x="326" y="6587"/>
                </a:cubicBezTo>
                <a:cubicBezTo>
                  <a:pt x="367" y="6561"/>
                  <a:pt x="367" y="6561"/>
                  <a:pt x="367" y="6561"/>
                </a:cubicBezTo>
                <a:cubicBezTo>
                  <a:pt x="408" y="6435"/>
                  <a:pt x="408" y="6435"/>
                  <a:pt x="408" y="6435"/>
                </a:cubicBezTo>
                <a:cubicBezTo>
                  <a:pt x="449" y="6230"/>
                  <a:pt x="449" y="6230"/>
                  <a:pt x="449" y="6230"/>
                </a:cubicBezTo>
                <a:cubicBezTo>
                  <a:pt x="489" y="5967"/>
                  <a:pt x="489" y="5967"/>
                  <a:pt x="489" y="5967"/>
                </a:cubicBezTo>
                <a:cubicBezTo>
                  <a:pt x="530" y="5664"/>
                  <a:pt x="530" y="5664"/>
                  <a:pt x="530" y="5664"/>
                </a:cubicBezTo>
                <a:cubicBezTo>
                  <a:pt x="571" y="5339"/>
                  <a:pt x="571" y="5339"/>
                  <a:pt x="571" y="5339"/>
                </a:cubicBezTo>
                <a:cubicBezTo>
                  <a:pt x="612" y="5006"/>
                  <a:pt x="612" y="5006"/>
                  <a:pt x="612" y="5006"/>
                </a:cubicBezTo>
                <a:cubicBezTo>
                  <a:pt x="653" y="4680"/>
                  <a:pt x="653" y="4680"/>
                  <a:pt x="653" y="4680"/>
                </a:cubicBezTo>
                <a:cubicBezTo>
                  <a:pt x="694" y="4372"/>
                  <a:pt x="694" y="4372"/>
                  <a:pt x="694" y="4372"/>
                </a:cubicBezTo>
                <a:cubicBezTo>
                  <a:pt x="734" y="4095"/>
                  <a:pt x="734" y="4095"/>
                  <a:pt x="734" y="4095"/>
                </a:cubicBezTo>
                <a:cubicBezTo>
                  <a:pt x="775" y="3855"/>
                  <a:pt x="775" y="3855"/>
                  <a:pt x="775" y="3855"/>
                </a:cubicBezTo>
                <a:cubicBezTo>
                  <a:pt x="816" y="3661"/>
                  <a:pt x="816" y="3661"/>
                  <a:pt x="816" y="3661"/>
                </a:cubicBezTo>
                <a:cubicBezTo>
                  <a:pt x="857" y="3518"/>
                  <a:pt x="857" y="3518"/>
                  <a:pt x="857" y="3518"/>
                </a:cubicBezTo>
                <a:cubicBezTo>
                  <a:pt x="898" y="3431"/>
                  <a:pt x="898" y="3431"/>
                  <a:pt x="898" y="3431"/>
                </a:cubicBezTo>
                <a:cubicBezTo>
                  <a:pt x="938" y="3402"/>
                  <a:pt x="938" y="3402"/>
                  <a:pt x="938" y="3402"/>
                </a:cubicBezTo>
                <a:cubicBezTo>
                  <a:pt x="979" y="3431"/>
                  <a:pt x="979" y="3431"/>
                  <a:pt x="979" y="3431"/>
                </a:cubicBezTo>
                <a:cubicBezTo>
                  <a:pt x="1020" y="3518"/>
                  <a:pt x="1020" y="3518"/>
                  <a:pt x="1020" y="3518"/>
                </a:cubicBezTo>
                <a:cubicBezTo>
                  <a:pt x="1061" y="3661"/>
                  <a:pt x="1061" y="3661"/>
                  <a:pt x="1061" y="3661"/>
                </a:cubicBezTo>
                <a:cubicBezTo>
                  <a:pt x="1102" y="3855"/>
                  <a:pt x="1102" y="3855"/>
                  <a:pt x="1102" y="3855"/>
                </a:cubicBezTo>
                <a:cubicBezTo>
                  <a:pt x="1143" y="4095"/>
                  <a:pt x="1143" y="4095"/>
                  <a:pt x="1143" y="4095"/>
                </a:cubicBezTo>
                <a:cubicBezTo>
                  <a:pt x="1183" y="4372"/>
                  <a:pt x="1183" y="4372"/>
                  <a:pt x="1183" y="4372"/>
                </a:cubicBezTo>
                <a:cubicBezTo>
                  <a:pt x="1224" y="4680"/>
                  <a:pt x="1224" y="4680"/>
                  <a:pt x="1224" y="4680"/>
                </a:cubicBezTo>
                <a:cubicBezTo>
                  <a:pt x="1265" y="5006"/>
                  <a:pt x="1265" y="5006"/>
                  <a:pt x="1265" y="5006"/>
                </a:cubicBezTo>
                <a:cubicBezTo>
                  <a:pt x="1306" y="5339"/>
                  <a:pt x="1306" y="5339"/>
                  <a:pt x="1306" y="5339"/>
                </a:cubicBezTo>
                <a:cubicBezTo>
                  <a:pt x="1347" y="5664"/>
                  <a:pt x="1347" y="5664"/>
                  <a:pt x="1347" y="5664"/>
                </a:cubicBezTo>
                <a:cubicBezTo>
                  <a:pt x="1388" y="5967"/>
                  <a:pt x="1388" y="5967"/>
                  <a:pt x="1388" y="5967"/>
                </a:cubicBezTo>
                <a:cubicBezTo>
                  <a:pt x="1428" y="6230"/>
                  <a:pt x="1428" y="6230"/>
                  <a:pt x="1428" y="6230"/>
                </a:cubicBezTo>
                <a:cubicBezTo>
                  <a:pt x="1469" y="6435"/>
                  <a:pt x="1469" y="6435"/>
                  <a:pt x="1469" y="6435"/>
                </a:cubicBezTo>
                <a:cubicBezTo>
                  <a:pt x="1510" y="6561"/>
                  <a:pt x="1510" y="6561"/>
                  <a:pt x="1510" y="6561"/>
                </a:cubicBezTo>
                <a:cubicBezTo>
                  <a:pt x="1551" y="6587"/>
                  <a:pt x="1551" y="6587"/>
                  <a:pt x="1551" y="6587"/>
                </a:cubicBezTo>
                <a:cubicBezTo>
                  <a:pt x="1592" y="6488"/>
                  <a:pt x="1592" y="6488"/>
                  <a:pt x="1592" y="6488"/>
                </a:cubicBezTo>
                <a:cubicBezTo>
                  <a:pt x="1633" y="6240"/>
                  <a:pt x="1633" y="6240"/>
                  <a:pt x="1633" y="6240"/>
                </a:cubicBezTo>
                <a:cubicBezTo>
                  <a:pt x="1673" y="5816"/>
                  <a:pt x="1673" y="5816"/>
                  <a:pt x="1673" y="5816"/>
                </a:cubicBezTo>
                <a:cubicBezTo>
                  <a:pt x="1714" y="5187"/>
                  <a:pt x="1714" y="5187"/>
                  <a:pt x="1714" y="5187"/>
                </a:cubicBezTo>
                <a:cubicBezTo>
                  <a:pt x="1755" y="4324"/>
                  <a:pt x="1755" y="4324"/>
                  <a:pt x="1755" y="4324"/>
                </a:cubicBezTo>
                <a:cubicBezTo>
                  <a:pt x="1796" y="3194"/>
                  <a:pt x="1796" y="3194"/>
                  <a:pt x="1796" y="3194"/>
                </a:cubicBezTo>
                <a:cubicBezTo>
                  <a:pt x="1837" y="1764"/>
                  <a:pt x="1837" y="1764"/>
                  <a:pt x="1837" y="1764"/>
                </a:cubicBezTo>
                <a:cubicBezTo>
                  <a:pt x="1877" y="0"/>
                  <a:pt x="1877" y="0"/>
                  <a:pt x="1877" y="0"/>
                </a:cubicBezTo>
              </a:path>
            </a:pathLst>
          </a:custGeom>
          <a:noFill/>
          <a:ln w="28440">
            <a:solidFill>
              <a:srgbClr val="006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668040" y="4278240"/>
            <a:ext cx="3441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1486080" y="1069920"/>
            <a:ext cx="203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1467720" y="1319040"/>
            <a:ext cx="3441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809640" y="228600"/>
            <a:ext cx="203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17"/>
              <p:cNvSpPr txBox="1"/>
              <p:nvPr/>
            </p:nvSpPr>
            <p:spPr>
              <a:xfrm>
                <a:off x="576360" y="826920"/>
                <a:ext cx="34941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19"/>
          <p:cNvSpPr/>
          <p:nvPr/>
        </p:nvSpPr>
        <p:spPr>
          <a:xfrm>
            <a:off x="5653080" y="388800"/>
            <a:ext cx="203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23"/>
              <p:cNvSpPr txBox="1"/>
              <p:nvPr/>
            </p:nvSpPr>
            <p:spPr>
              <a:xfrm>
                <a:off x="5472000" y="826920"/>
                <a:ext cx="3256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7" name="Text Box 24"/>
          <p:cNvSpPr/>
          <p:nvPr/>
        </p:nvSpPr>
        <p:spPr>
          <a:xfrm>
            <a:off x="6468480" y="1398600"/>
            <a:ext cx="3441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9145080" y="4278240"/>
            <a:ext cx="3441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7"/>
          <p:cNvSpPr/>
          <p:nvPr/>
        </p:nvSpPr>
        <p:spPr>
          <a:xfrm>
            <a:off x="1368360" y="2340000"/>
            <a:ext cx="0" cy="1984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1864800" y="3222720"/>
            <a:ext cx="3441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1308600" y="4255920"/>
            <a:ext cx="429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2341440" y="4255920"/>
            <a:ext cx="3985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1"/>
          <p:cNvSpPr/>
          <p:nvPr/>
        </p:nvSpPr>
        <p:spPr>
          <a:xfrm>
            <a:off x="1387440" y="227160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1920960" y="2055960"/>
            <a:ext cx="3441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1944720" y="4255920"/>
            <a:ext cx="3175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5"/>
          <p:cNvSpPr/>
          <p:nvPr/>
        </p:nvSpPr>
        <p:spPr>
          <a:xfrm>
            <a:off x="5913360" y="4255920"/>
            <a:ext cx="426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6"/>
          <p:cNvSpPr/>
          <p:nvPr/>
        </p:nvSpPr>
        <p:spPr>
          <a:xfrm>
            <a:off x="7421400" y="4255920"/>
            <a:ext cx="420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7"/>
          <p:cNvSpPr/>
          <p:nvPr/>
        </p:nvSpPr>
        <p:spPr>
          <a:xfrm>
            <a:off x="6865560" y="3859200"/>
            <a:ext cx="3441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8"/>
          <p:cNvSpPr/>
          <p:nvPr/>
        </p:nvSpPr>
        <p:spPr>
          <a:xfrm flipV="1">
            <a:off x="6469200" y="4255560"/>
            <a:ext cx="0" cy="214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9"/>
          <p:cNvSpPr/>
          <p:nvPr/>
        </p:nvSpPr>
        <p:spPr>
          <a:xfrm>
            <a:off x="7262640" y="4255920"/>
            <a:ext cx="0" cy="2224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6288120" y="3643200"/>
            <a:ext cx="203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2"/>
          <p:cNvSpPr/>
          <p:nvPr/>
        </p:nvSpPr>
        <p:spPr>
          <a:xfrm>
            <a:off x="6367320" y="3405240"/>
            <a:ext cx="203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3"/>
              <p:cNvSpPr txBox="1"/>
              <p:nvPr/>
            </p:nvSpPr>
            <p:spPr>
              <a:xfrm>
                <a:off x="6230880" y="3700440"/>
                <a:ext cx="4050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46"/>
              <p:cNvSpPr txBox="1"/>
              <p:nvPr/>
            </p:nvSpPr>
            <p:spPr>
              <a:xfrm>
                <a:off x="7104240" y="3700440"/>
                <a:ext cx="2934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50"/>
              <p:cNvSpPr txBox="1"/>
              <p:nvPr/>
            </p:nvSpPr>
            <p:spPr>
              <a:xfrm>
                <a:off x="6865920" y="6478560"/>
                <a:ext cx="349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Text Box 51"/>
          <p:cNvSpPr/>
          <p:nvPr/>
        </p:nvSpPr>
        <p:spPr>
          <a:xfrm>
            <a:off x="0" y="0"/>
            <a:ext cx="460836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Исследуйте функцию и постройте граф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2"/>
          <p:cNvSpPr/>
          <p:nvPr/>
        </p:nvSpPr>
        <p:spPr>
          <a:xfrm>
            <a:off x="4680000" y="0"/>
            <a:ext cx="47530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сследуйте производную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стройте граф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53"/>
          <p:cNvSpPr/>
          <p:nvPr/>
        </p:nvSpPr>
        <p:spPr>
          <a:xfrm>
            <a:off x="936720" y="7812000"/>
            <a:ext cx="237960" cy="2383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54"/>
          <p:cNvSpPr/>
          <p:nvPr/>
        </p:nvSpPr>
        <p:spPr>
          <a:xfrm>
            <a:off x="6230880" y="7559640"/>
            <a:ext cx="238320" cy="189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1"/>
          <p:cNvSpPr/>
          <p:nvPr/>
        </p:nvSpPr>
        <p:spPr>
          <a:xfrm>
            <a:off x="2736720" y="3132000"/>
            <a:ext cx="360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Если функция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озрастает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о произв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ложитель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1"/>
          <p:cNvSpPr/>
          <p:nvPr/>
        </p:nvSpPr>
        <p:spPr>
          <a:xfrm>
            <a:off x="2448000" y="550872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Если функция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убывает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о произв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трицатель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75584 C -0.00972 -0.66844 -0.01007 -0.58127 -0.00851 -0.49387 C -0.00833 -0.48208 -0.00573 -0.47075 -0.00521 -0.45896 C -0.00521 -0.45665 -0.00694 -0.45249 -0.00694 -0.45249 E">
                                      <p:cBhvr>
                                        <p:cTn id="149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-0.13086 C 0.00538 -0.24416 0.00816 -0.35745 0.01093 -0.4474 C 0.01371 -0.53734 0.0151 -0.62034 0.01909 -0.67006 C 0.02309 -0.71977 0.02916 -0.73318 0.03541 -0.74636 E">
                                      <p:cBhvr>
                                        <p:cTn id="151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1 -0.74636 C 0.03819 -0.75284 0.04097 -0.75908 0.04566 -0.74428 C 0.05052 -0.72925 0.05625 -0.67746 0.06371 -0.65573 C 0.071 -0.63399 0.08611 -0.61919 0.09062 -0.61249 E">
                                      <p:cBhvr>
                                        <p:cTn id="158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5 -0.45225 C -0.0066 -0.39168 -0.00608 -0.33087 -0.00365 -0.28208 C -0.00122 -0.23329 0.00295 -0.15977 0.00781 -0.15977 C 0.01267 -0.15977 0.021 -0.24208 0.02569 -0.28208 C 0.03038 -0.32208 0.03177 -0.37249 0.03559 -0.4 C 0.03941 -0.42751 0.04409 -0.43769 0.04878 -0.44786 E">
                                      <p:cBhvr>
                                        <p:cTn id="160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2 -0.61248 C 0.09635 -0.61063 0.10243 -0.60878 0.10607 -0.60439 C 0.10955 -0.59954 0.10555 -0.60439 0.11198 -0.58474 C 0.1184 -0.56532 0.13975 -0.50358 0.14583 -0.48763 E">
                                      <p:cBhvr>
                                        <p:cTn id="166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79 -0.44786 C 0.05295 -0.43768 0.05712 -0.42728 0.06146 -0.4 C 0.06563 -0.37294 0.06979 -0.32092 0.07413 -0.28462 C 0.0783 -0.24855 0.08351 -0.20416 0.08681 -0.18242 C 0.09011 -0.16069 0.09097 -0.1489 0.0941 -0.15398 C 0.09722 -0.15907 0.10261 -0.19213 0.10504 -0.21271 C 0.10764 -0.23352 0.10729 -0.23861 0.10868 -0.27815 C 0.11024 -0.31791 0.11215 -0.38404 0.11424 -0.44994 E">
                                      <p:cBhvr>
                                        <p:cTn id="168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583 -0.48763 C 0.15139 -0.50428 0.15712 -0.5207 0.16059 -0.55098 C 0.16406 -0.5815 0.1651 -0.61896 0.16701 -0.6689 C 0.16892 -0.71885 0.17049 -0.78451 0.17205 -0.85018 E">
                                      <p:cBhvr>
                                        <p:cTn id="172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24 -0.44994 C 0.11545 -0.57919 0.11684 -0.70844 0.11736 -0.76 E">
                                      <p:cBhvr>
                                        <p:cTn id="174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5"/>
          <p:cNvSpPr txBox="1"/>
          <p:nvPr/>
        </p:nvSpPr>
        <p:spPr>
          <a:xfrm>
            <a:off x="216000" y="250920"/>
            <a:ext cx="885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 графику  производной  функции укажите промежутки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озрастания,убывания,экстремумы функции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3" name="Picture 7" descr="task-5/ps/task-5.61"/>
          <p:cNvPicPr/>
          <p:nvPr/>
        </p:nvPicPr>
        <p:blipFill>
          <a:blip r:embed="rId1"/>
          <a:stretch/>
        </p:blipFill>
        <p:spPr>
          <a:xfrm>
            <a:off x="0" y="1403280"/>
            <a:ext cx="9215280" cy="36878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3095640" y="6227640"/>
            <a:ext cx="44658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Bookman Old Style"/>
              </a:rPr>
              <a:t>Максимум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 3;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Bookman Old Style"/>
              </a:rPr>
              <a:t>Минимум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736720" y="4932360"/>
            <a:ext cx="561672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Bookman Old Style"/>
              </a:rPr>
              <a:t>Возрастает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(-9;-3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]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[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;6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1295280" y="5580000"/>
            <a:ext cx="5905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Bookman Old Style"/>
              </a:rPr>
              <a:t>Убывает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-3;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]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[6;8)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3780000" y="5610240"/>
            <a:ext cx="280800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292720" y="4973760"/>
            <a:ext cx="280836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5761080" y="6227640"/>
            <a:ext cx="1800360" cy="43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5688000" y="6875640"/>
            <a:ext cx="180036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719280" y="3348000"/>
            <a:ext cx="26654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>
            <a:off x="6048360" y="3348000"/>
            <a:ext cx="12970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8"/>
          <p:cNvSpPr/>
          <p:nvPr/>
        </p:nvSpPr>
        <p:spPr>
          <a:xfrm>
            <a:off x="3384720" y="3348000"/>
            <a:ext cx="259236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9"/>
          <p:cNvSpPr/>
          <p:nvPr/>
        </p:nvSpPr>
        <p:spPr>
          <a:xfrm>
            <a:off x="3240000" y="3203640"/>
            <a:ext cx="216000" cy="216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0"/>
          <p:cNvSpPr/>
          <p:nvPr/>
        </p:nvSpPr>
        <p:spPr>
          <a:xfrm>
            <a:off x="7201080" y="3203640"/>
            <a:ext cx="215640" cy="216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1"/>
          <p:cNvSpPr/>
          <p:nvPr/>
        </p:nvSpPr>
        <p:spPr>
          <a:xfrm>
            <a:off x="5904000" y="320364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92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287280" y="179280"/>
            <a:ext cx="885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 графику производной функции</a:t>
            </a:r>
            <a:endParaRPr b="1" lang="en-US" sz="2000" spc="1" strike="noStrike">
              <a:ln w="9360">
                <a:solidFill>
                  <a:srgbClr val="000080"/>
                </a:solidFill>
                <a:miter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пределите сколько экстремумов имеет  функция </a:t>
            </a:r>
            <a:endParaRPr b="1" lang="en-US" sz="2000" spc="1" strike="noStrike">
              <a:ln w="9360">
                <a:solidFill>
                  <a:srgbClr val="000080"/>
                </a:solidFill>
                <a:miter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7" descr="task-5/ps/task-5.65"/>
          <p:cNvPicPr/>
          <p:nvPr/>
        </p:nvPicPr>
        <p:blipFill>
          <a:blip r:embed="rId1"/>
          <a:stretch/>
        </p:blipFill>
        <p:spPr>
          <a:xfrm>
            <a:off x="-431640" y="1619280"/>
            <a:ext cx="10296360" cy="4248000"/>
          </a:xfrm>
          <a:prstGeom prst="rect">
            <a:avLst/>
          </a:prstGeom>
          <a:ln w="0">
            <a:noFill/>
          </a:ln>
        </p:spPr>
      </p:pic>
      <p:sp>
        <p:nvSpPr>
          <p:cNvPr id="129" name="Oval 9"/>
          <p:cNvSpPr/>
          <p:nvPr/>
        </p:nvSpPr>
        <p:spPr>
          <a:xfrm>
            <a:off x="1727280" y="3780000"/>
            <a:ext cx="14436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3311640" y="3780000"/>
            <a:ext cx="14436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4103640" y="3780000"/>
            <a:ext cx="14436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5327640" y="3780000"/>
            <a:ext cx="14436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6480000" y="378000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4"/>
          <p:cNvSpPr/>
          <p:nvPr/>
        </p:nvSpPr>
        <p:spPr>
          <a:xfrm>
            <a:off x="7704000" y="378000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8496360" y="3780000"/>
            <a:ext cx="14436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287280" y="179280"/>
            <a:ext cx="87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лгоритм нахождения наибольшего </a:t>
            </a:r>
            <a:endParaRPr b="1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наименьшего значения функции на отрезке</a:t>
            </a:r>
            <a:endParaRPr b="1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AutoShape 41"/>
          <p:cNvSpPr/>
          <p:nvPr/>
        </p:nvSpPr>
        <p:spPr>
          <a:xfrm>
            <a:off x="2232000" y="1692360"/>
            <a:ext cx="5761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Bookman Old Style"/>
              </a:rPr>
              <a:t>Находим производную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2"/>
          <p:cNvSpPr/>
          <p:nvPr/>
        </p:nvSpPr>
        <p:spPr>
          <a:xfrm>
            <a:off x="1800360" y="2916360"/>
            <a:ext cx="7632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Bookman Old Style"/>
              </a:rPr>
              <a:t>Находим критические и стационар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Bookman Old Style"/>
              </a:rPr>
              <a:t>точки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3"/>
          <p:cNvSpPr/>
          <p:nvPr/>
        </p:nvSpPr>
        <p:spPr>
          <a:xfrm>
            <a:off x="1295280" y="4140360"/>
            <a:ext cx="3816360" cy="26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Если критически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стациона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точек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отрезке нет, значит фун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на отрезке монотонна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наибольшего и наименьш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значения функция достиг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на концах отре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4"/>
          <p:cNvSpPr/>
          <p:nvPr/>
        </p:nvSpPr>
        <p:spPr>
          <a:xfrm>
            <a:off x="5327640" y="4140360"/>
            <a:ext cx="4105440" cy="26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5"/>
          <p:cNvSpPr/>
          <p:nvPr/>
        </p:nvSpPr>
        <p:spPr>
          <a:xfrm>
            <a:off x="5184720" y="2411280"/>
            <a:ext cx="0" cy="4320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6"/>
          <p:cNvSpPr/>
          <p:nvPr/>
        </p:nvSpPr>
        <p:spPr>
          <a:xfrm flipH="1">
            <a:off x="3744720" y="3635280"/>
            <a:ext cx="1439640" cy="36036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7"/>
          <p:cNvSpPr/>
          <p:nvPr/>
        </p:nvSpPr>
        <p:spPr>
          <a:xfrm>
            <a:off x="5184720" y="3635280"/>
            <a:ext cx="1800360" cy="28908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8"/>
          <p:cNvSpPr/>
          <p:nvPr/>
        </p:nvSpPr>
        <p:spPr>
          <a:xfrm>
            <a:off x="5327640" y="4211640"/>
            <a:ext cx="410544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Если критические и стационарные точки на отрезке есть, значит нужно вычислить значения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во всех критических и стационарных точках и  на концах отрезка, и выбр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из полученных чис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наибольшее и наименьш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800360" y="2571480"/>
            <a:ext cx="44575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 = 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 = 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-1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3)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1)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(5/3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) =  16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7"/>
              <p:cNvSpPr txBox="1"/>
              <p:nvPr/>
            </p:nvSpPr>
            <p:spPr>
              <a:xfrm>
                <a:off x="2376360" y="2411280"/>
                <a:ext cx="403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7"/>
              <p:cNvSpPr txBox="1"/>
              <p:nvPr/>
            </p:nvSpPr>
            <p:spPr>
              <a:xfrm>
                <a:off x="1800360" y="1042920"/>
                <a:ext cx="5111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WordArt 7"/>
          <p:cNvSpPr txBox="1"/>
          <p:nvPr/>
        </p:nvSpPr>
        <p:spPr>
          <a:xfrm>
            <a:off x="287280" y="17928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йдите наибольшее </a:t>
            </a:r>
            <a:endParaRPr b="1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наименьшее значения функции </a:t>
            </a:r>
            <a:endParaRPr b="1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WordArt 8"/>
          <p:cNvSpPr txBox="1"/>
          <p:nvPr/>
        </p:nvSpPr>
        <p:spPr>
          <a:xfrm>
            <a:off x="2016000" y="1908000"/>
            <a:ext cx="47545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 отрезке [-1;3]</a:t>
            </a:r>
            <a:endParaRPr b="1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7"/>
              <p:cNvSpPr txBox="1"/>
              <p:nvPr/>
            </p:nvSpPr>
            <p:spPr>
              <a:xfrm>
                <a:off x="2736720" y="3059280"/>
                <a:ext cx="3716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Text Box 17"/>
          <p:cNvSpPr/>
          <p:nvPr/>
        </p:nvSpPr>
        <p:spPr>
          <a:xfrm>
            <a:off x="5472000" y="4500720"/>
            <a:ext cx="345600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max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=f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(-1)=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[-1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;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min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=f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)=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[-1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;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5400720" y="4356000"/>
            <a:ext cx="3527280" cy="230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0" y="2627280"/>
            <a:ext cx="1655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1:31:11Z</dcterms:created>
  <dc:creator/>
  <dc:description/>
  <dc:language>en-US</dc:language>
  <cp:lastModifiedBy>1</cp:lastModifiedBy>
  <dcterms:modified xsi:type="dcterms:W3CDTF">2013-02-26T23:41:35Z</dcterms:modified>
  <cp:revision>27</cp:revision>
  <dc:subject/>
  <dc:title>Мой университет – www.edu-reforma.ru </dc:title>
</cp:coreProperties>
</file>