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6D63-8126-4761-A783-FF7D198A3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FACC-FAB5-4669-96D6-E39E5FB3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EFFB-12E5-4AA8-86E5-2EFEF5381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D41E-5D6E-44ED-931B-3693845A3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9151-B97E-4C04-8D2A-5690BE19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0870-AC39-4DF8-A683-C625D827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17D0-FF8A-4E57-8927-9A4354FD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48CB-5AD3-4486-95DE-948CA26D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D799-1413-4EE7-9613-07C244E7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F261-A1A7-4D8C-954D-ABFF93D2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EEB3-2D9D-42BD-9677-D6A3F2F1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E87B-F577-4CF1-8B60-D4FDD8BE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6B49-EE29-44B3-827E-659111843C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8"/>
          <p:cNvSpPr txBox="1"/>
          <p:nvPr/>
        </p:nvSpPr>
        <p:spPr>
          <a:xfrm>
            <a:off x="900000" y="2924280"/>
            <a:ext cx="7272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" Почему снег белый?"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427640" y="4221000"/>
            <a:ext cx="401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ыполнил: Рассолов Вова 6 л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уководитель проект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ригорьева Ольга Владимиро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ЛЮМИКС 176"/>
          <p:cNvPicPr/>
          <p:nvPr/>
        </p:nvPicPr>
        <p:blipFill>
          <a:blip r:embed="rId2"/>
          <a:stretch/>
        </p:blipFill>
        <p:spPr>
          <a:xfrm>
            <a:off x="3071880" y="1500120"/>
            <a:ext cx="3143160" cy="3000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487800" y="5229360"/>
            <a:ext cx="81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збил его на мелкие кусочки. Он стал белого цве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3393720" y="115920"/>
            <a:ext cx="277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Заключ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586080" y="620640"/>
            <a:ext cx="8341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Из опытов я понял: полиэтилен и кус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льда – прозрачны. Свет через них проходи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не отражаясь. Кусочки полиэтилена и ль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лежат по – разному и отражают свет в разны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направления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3884040" y="2852640"/>
            <a:ext cx="159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Вывод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574920" y="3429000"/>
            <a:ext cx="646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Снег белый, потому – что кажда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снежинка отражает свет в разны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стороны. Свет, как говорят учёные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«рассеивается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Так получается белый цв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" name="Picture 9" descr="aimi"/>
          <p:cNvPicPr/>
          <p:nvPr/>
        </p:nvPicPr>
        <p:blipFill>
          <a:blip r:embed="rId2"/>
          <a:stretch/>
        </p:blipFill>
        <p:spPr>
          <a:xfrm>
            <a:off x="7500960" y="4786200"/>
            <a:ext cx="1268280" cy="15861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Копия ЛЮМИКС 151"/>
          <p:cNvPicPr/>
          <p:nvPr/>
        </p:nvPicPr>
        <p:blipFill>
          <a:blip r:embed="rId2"/>
          <a:stretch/>
        </p:blipFill>
        <p:spPr>
          <a:xfrm>
            <a:off x="3714840" y="1571760"/>
            <a:ext cx="4981320" cy="3733560"/>
          </a:xfrm>
          <a:prstGeom prst="rect">
            <a:avLst/>
          </a:prstGeom>
          <a:ln w="3240">
            <a:solidFill>
              <a:srgbClr val="00ccff"/>
            </a:solidFill>
            <a:miter/>
          </a:ln>
        </p:spPr>
      </p:pic>
      <p:sp>
        <p:nvSpPr>
          <p:cNvPr id="44" name="TextBox 4"/>
          <p:cNvSpPr/>
          <p:nvPr/>
        </p:nvSpPr>
        <p:spPr>
          <a:xfrm>
            <a:off x="214200" y="1714680"/>
            <a:ext cx="3143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лый снег пушист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воздухе кружи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на землю тих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дает, ложит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под утро снег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е забелело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чно пелено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 его одел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Копия ЛЮМИКС 151"/>
          <p:cNvPicPr/>
          <p:nvPr/>
        </p:nvPicPr>
        <p:blipFill>
          <a:blip r:embed="rId2"/>
          <a:stretch/>
        </p:blipFill>
        <p:spPr>
          <a:xfrm>
            <a:off x="357120" y="3357720"/>
            <a:ext cx="2944800" cy="2206440"/>
          </a:xfrm>
          <a:prstGeom prst="rect">
            <a:avLst/>
          </a:prstGeom>
          <a:ln w="3240">
            <a:solidFill>
              <a:srgbClr val="00ccff"/>
            </a:solidFill>
            <a:miter/>
          </a:ln>
        </p:spPr>
      </p:pic>
      <p:sp>
        <p:nvSpPr>
          <p:cNvPr id="46" name="Text Box 9"/>
          <p:cNvSpPr/>
          <p:nvPr/>
        </p:nvSpPr>
        <p:spPr>
          <a:xfrm>
            <a:off x="4602240" y="5429160"/>
            <a:ext cx="42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Почему снег всегда белый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2357280" y="285840"/>
            <a:ext cx="448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Постановка пробле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11" descr="aimi"/>
          <p:cNvPicPr/>
          <p:nvPr/>
        </p:nvPicPr>
        <p:blipFill>
          <a:blip r:embed="rId3"/>
          <a:stretch/>
        </p:blipFill>
        <p:spPr>
          <a:xfrm>
            <a:off x="6858000" y="2357280"/>
            <a:ext cx="1447920" cy="181008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214200" y="128592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аступила зима. На улице стало холодно. Однажды утром я проснулся 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ыглянул в окно. Я увидел, что все вокруг: земля, деревья, крыши домов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тало белым. Это выпал первый снег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TextBox 8"/>
          <p:cNvSpPr/>
          <p:nvPr/>
        </p:nvSpPr>
        <p:spPr>
          <a:xfrm>
            <a:off x="3904920" y="4214880"/>
            <a:ext cx="23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Я задумалс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814716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Объект исследования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сне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редмет исследования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цвет снег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Цель моей работы: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выяснить почему снег бел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5"/>
          <p:cNvSpPr txBox="1"/>
          <p:nvPr/>
        </p:nvSpPr>
        <p:spPr>
          <a:xfrm>
            <a:off x="1476360" y="333360"/>
            <a:ext cx="637236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ак я проводил исследование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435960" y="150480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1 ден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7" descr="ЛЮМИКС 165"/>
          <p:cNvPicPr/>
          <p:nvPr/>
        </p:nvPicPr>
        <p:blipFill>
          <a:blip r:embed="rId2"/>
          <a:stretch/>
        </p:blipFill>
        <p:spPr>
          <a:xfrm>
            <a:off x="3286080" y="1866960"/>
            <a:ext cx="4500720" cy="3205080"/>
          </a:xfrm>
          <a:prstGeom prst="rect">
            <a:avLst/>
          </a:prstGeom>
          <a:ln w="3240">
            <a:solidFill>
              <a:srgbClr val="00ccff"/>
            </a:solidFill>
            <a:miter/>
          </a:ln>
        </p:spPr>
      </p:pic>
      <p:sp>
        <p:nvSpPr>
          <p:cNvPr id="55" name="Text Box 8"/>
          <p:cNvSpPr/>
          <p:nvPr/>
        </p:nvSpPr>
        <p:spPr>
          <a:xfrm>
            <a:off x="156600" y="5429160"/>
            <a:ext cx="894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читал книги по теме. Решил проверить догадку о том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то белый цвет снега связан с отражением све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7"/>
          <p:cNvSpPr txBox="1"/>
          <p:nvPr/>
        </p:nvSpPr>
        <p:spPr>
          <a:xfrm>
            <a:off x="2411280" y="404640"/>
            <a:ext cx="4173840" cy="3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з книг я узнал: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2186640" y="1557360"/>
            <a:ext cx="68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каждая снежинка – это маленькая льдин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2380680" y="3500280"/>
            <a:ext cx="46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снежинки лежат по-разном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1959120" y="5286240"/>
            <a:ext cx="69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снежинки отражают свет в разные сторо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Солнце 7"/>
          <p:cNvSpPr/>
          <p:nvPr/>
        </p:nvSpPr>
        <p:spPr>
          <a:xfrm>
            <a:off x="971640" y="1413000"/>
            <a:ext cx="699840" cy="771480"/>
          </a:xfrm>
          <a:prstGeom prst="sun">
            <a:avLst>
              <a:gd name="adj" fmla="val 25000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Солнце 9"/>
          <p:cNvSpPr/>
          <p:nvPr/>
        </p:nvSpPr>
        <p:spPr>
          <a:xfrm>
            <a:off x="900000" y="3284640"/>
            <a:ext cx="771480" cy="771480"/>
          </a:xfrm>
          <a:prstGeom prst="sun">
            <a:avLst>
              <a:gd name="adj" fmla="val 25000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Солнце 10"/>
          <p:cNvSpPr/>
          <p:nvPr/>
        </p:nvSpPr>
        <p:spPr>
          <a:xfrm>
            <a:off x="971640" y="5013360"/>
            <a:ext cx="771480" cy="771480"/>
          </a:xfrm>
          <a:prstGeom prst="sun">
            <a:avLst>
              <a:gd name="adj" fmla="val 25000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218520" y="76500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2 ден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350440" y="115920"/>
            <a:ext cx="482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Как я проводил опы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4113720" y="836640"/>
            <a:ext cx="151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Опыт 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7" descr="ЛЮМИКС 166"/>
          <p:cNvPicPr/>
          <p:nvPr/>
        </p:nvPicPr>
        <p:blipFill>
          <a:blip r:embed="rId2"/>
          <a:stretch/>
        </p:blipFill>
        <p:spPr>
          <a:xfrm>
            <a:off x="2643120" y="2286000"/>
            <a:ext cx="3936960" cy="2952720"/>
          </a:xfrm>
          <a:prstGeom prst="rect">
            <a:avLst/>
          </a:prstGeom>
          <a:ln w="3240">
            <a:solidFill>
              <a:srgbClr val="ffcc00"/>
            </a:solidFill>
            <a:miter/>
          </a:ln>
        </p:spPr>
      </p:pic>
      <p:sp>
        <p:nvSpPr>
          <p:cNvPr id="67" name="Text Box 8"/>
          <p:cNvSpPr/>
          <p:nvPr/>
        </p:nvSpPr>
        <p:spPr>
          <a:xfrm>
            <a:off x="1229040" y="1557360"/>
            <a:ext cx="66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зял стакан, кусок полиэтилена, ножниц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1595520" y="5857920"/>
            <a:ext cx="589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Целый кусок полиэтилена прозраче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500"/>
                            </p:stCondLst>
                            <p:childTnLst>
                              <p:par>
                                <p:cTn id="1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ЛЮМИКС 167"/>
          <p:cNvPicPr/>
          <p:nvPr/>
        </p:nvPicPr>
        <p:blipFill>
          <a:blip r:embed="rId2"/>
          <a:stretch/>
        </p:blipFill>
        <p:spPr>
          <a:xfrm>
            <a:off x="3214800" y="1571760"/>
            <a:ext cx="3214440" cy="3500280"/>
          </a:xfrm>
          <a:prstGeom prst="rect">
            <a:avLst/>
          </a:prstGeom>
          <a:ln w="3240">
            <a:solidFill>
              <a:srgbClr val="00ccff"/>
            </a:solidFill>
            <a:miter/>
          </a:ln>
        </p:spPr>
      </p:pic>
      <p:sp>
        <p:nvSpPr>
          <p:cNvPr id="70" name="Text Box 5"/>
          <p:cNvSpPr/>
          <p:nvPr/>
        </p:nvSpPr>
        <p:spPr>
          <a:xfrm>
            <a:off x="-19800" y="357120"/>
            <a:ext cx="920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атем я его порезал на мелкие кусочки и положил в стака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аждый кусочек – модель снежин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1407240" y="5786280"/>
            <a:ext cx="652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езультат: « Снег» в стакане белого цве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3608640" y="0"/>
            <a:ext cx="151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Опыт 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7" descr="ЛЮМИКС 174"/>
          <p:cNvPicPr/>
          <p:nvPr/>
        </p:nvPicPr>
        <p:blipFill>
          <a:blip r:embed="rId2"/>
          <a:stretch/>
        </p:blipFill>
        <p:spPr>
          <a:xfrm>
            <a:off x="2214720" y="2714760"/>
            <a:ext cx="4351320" cy="3071520"/>
          </a:xfrm>
          <a:prstGeom prst="rect">
            <a:avLst/>
          </a:prstGeom>
          <a:ln w="3240">
            <a:solidFill>
              <a:srgbClr val="ffcc00"/>
            </a:solidFill>
            <a:miter/>
          </a:ln>
        </p:spPr>
      </p:pic>
      <p:sp>
        <p:nvSpPr>
          <p:cNvPr id="74" name="Text Box 8"/>
          <p:cNvSpPr/>
          <p:nvPr/>
        </p:nvSpPr>
        <p:spPr>
          <a:xfrm>
            <a:off x="151560" y="785880"/>
            <a:ext cx="847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лил воду в стакан и поставил в морозильник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ерез некоторое время вода замёрзла и превратилас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прозрачный лё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09:13:53Z</dcterms:created>
  <dc:creator>D</dc:creator>
  <dc:description/>
  <dc:language>en-US</dc:language>
  <cp:lastModifiedBy>-</cp:lastModifiedBy>
  <dcterms:modified xsi:type="dcterms:W3CDTF">2001-12-31T21:33:30Z</dcterms:modified>
  <cp:revision>35</cp:revision>
  <dc:subject/>
  <dc:title>Слайд 1</dc:title>
</cp:coreProperties>
</file>