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5EA-9068-4DB1-BE9D-C349B0AC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2FE-23EA-4997-8AB3-EBE8F9B5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70B-3071-4794-A275-AD3B0176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238-5E57-4B16-8570-AB889A36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7F6-DA47-44F2-A797-110A72D7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F41-2AFB-46CF-BE36-2D92DB15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4C2-D594-48A4-B948-792F94AA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B48-39F2-4B08-B0C5-58B193DB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F65-A96C-4E1A-819C-97D80843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0DB-3990-4112-85BD-C20C2C20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29A-6A64-4BC7-A32D-39A319C0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052-09C5-48EB-8943-41E178F3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7825-D703-4EDB-8EBC-7EBB4D0EA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0" y="0"/>
            <a:ext cx="9144000" cy="5578200"/>
          </a:xfrm>
          <a:prstGeom prst="rect">
            <a:avLst/>
          </a:prstGeom>
          <a:solidFill>
            <a:srgbClr val="1a9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0"/>
          <a:ext cx="7715160" cy="5273640"/>
        </p:xfrm>
        <a:graphic>
          <a:graphicData uri="http://schemas.openxmlformats.org/drawingml/2006/table">
            <a:tbl>
              <a:tblPr/>
              <a:tblGrid>
                <a:gridCol w="626760"/>
                <a:gridCol w="411480"/>
                <a:gridCol w="495000"/>
                <a:gridCol w="486000"/>
                <a:gridCol w="480960"/>
                <a:gridCol w="492120"/>
                <a:gridCol w="557280"/>
                <a:gridCol w="415800"/>
                <a:gridCol w="477720"/>
                <a:gridCol w="470160"/>
                <a:gridCol w="493560"/>
                <a:gridCol w="495360"/>
                <a:gridCol w="493560"/>
                <a:gridCol w="462240"/>
                <a:gridCol w="441000"/>
                <a:gridCol w="416160"/>
              </a:tblGrid>
              <a:tr h="428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9670"/>
                    </a:solidFill>
                  </a:tcPr>
                </a:tc>
              </a:tr>
              <a:tr h="50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39640" y="5300640"/>
          <a:ext cx="8320320" cy="2049480"/>
        </p:xfrm>
        <a:graphic>
          <a:graphicData uri="http://schemas.openxmlformats.org/drawingml/2006/table">
            <a:tbl>
              <a:tblPr/>
              <a:tblGrid>
                <a:gridCol w="3618000"/>
                <a:gridCol w="4702320"/>
              </a:tblGrid>
              <a:tr h="2049480">
                <a:tc>
                  <a:txBody>
                    <a:bodyPr lIns="66672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ros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bu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4   eat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  drin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6   make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  wi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  do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lo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 slee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220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        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ild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          7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e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writ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 tell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12  know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3   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   p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30:21Z</dcterms:created>
  <dc:creator>PC</dc:creator>
  <dc:description/>
  <dc:language>en-US</dc:language>
  <cp:lastModifiedBy>PC</cp:lastModifiedBy>
  <dcterms:modified xsi:type="dcterms:W3CDTF">2010-09-19T18:31:02Z</dcterms:modified>
  <cp:revision>1</cp:revision>
  <dc:subject/>
  <dc:title>Слайд 1</dc:title>
</cp:coreProperties>
</file>