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E82-9BF6-46E1-9C1E-B4445620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994-0A05-4507-85AD-2BAF00A3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CCD-F2DE-4B2A-874B-9F5F1850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197-81ED-4F2B-82DE-565436C9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B8C6-FD9F-407C-8671-B721B607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589E-6E4D-4BF7-8511-851736D7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F3DF-43F5-4D88-B4B2-DD5A7CDE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523C-1CFA-400E-AE6D-666B330B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7D3C-A56B-4BCD-9900-BE6A472A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F336-1635-43BD-AEA6-A6301CB5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9E72-4DC1-4468-BB2C-7190AA8D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6A6-575A-49EC-AA90-AF09AC79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93A6-4C2F-4879-A199-F568153D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1665-BDD0-41B4-B6E4-3D8E678A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BEBE-3EE2-44B0-9839-7990DA19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45C7-E756-4AC9-96CE-5B6CEA47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A772-E7BA-4D89-B52D-73D8B296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7DB-DC04-448B-A092-77FC23C4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40D-8A79-4F93-942A-4DC96623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2B3-45C8-4606-A066-36EA3B51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371-16DD-4E4C-9D62-7F04B5F1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AEC-5B8D-49FD-BB4E-BD50C06B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B47-1BE2-455D-8E54-650EB49A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99B-2E43-4317-9627-2FD6FF73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BCF0-C128-43D5-A143-F740FE0C38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2e5d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72E9-5FEE-4971-B74B-A863621F70F5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d1ddd4"/>
                </a:solidFill>
                <a:latin typeface="Arial"/>
              </a:rPr>
              <a:t>Крымская( Восточная) война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Verdana"/>
              </a:rPr>
              <a:t>1853-1856 гг.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700560" y="5943600"/>
            <a:ext cx="69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Учитель МОУ Бельская СОШ Тверской области Усачёва Н.В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dd4"/>
                </a:solidFill>
                <a:latin typeface="Arial"/>
              </a:rPr>
              <a:t>«Изменщиков». Поражение на реке Альме 8 сентября 1854 г.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37" name="Picture 7" descr="img694"/>
          <p:cNvPicPr/>
          <p:nvPr/>
        </p:nvPicPr>
        <p:blipFill>
          <a:blip r:embed="rId1"/>
          <a:stretch/>
        </p:blipFill>
        <p:spPr>
          <a:xfrm>
            <a:off x="1066680" y="1523880"/>
            <a:ext cx="2336760" cy="5029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img670"/>
          <p:cNvPicPr/>
          <p:nvPr/>
        </p:nvPicPr>
        <p:blipFill>
          <a:blip r:embed="rId2"/>
          <a:stretch/>
        </p:blipFill>
        <p:spPr>
          <a:xfrm>
            <a:off x="4648320" y="1635120"/>
            <a:ext cx="3914640" cy="491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ddd4"/>
                </a:solidFill>
                <a:latin typeface="Arial"/>
              </a:rPr>
              <a:t>Оборона Севастополя (349 дней): 13 сентября 1854 – 27 августа 1855 гг.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0" name="Picture 6" descr="img678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705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28800" y="540972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Худ. И.Айвазовский. 1859 г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Поражение под Балаклавой      13 октября 1854 г.</a:t>
            </a:r>
            <a:br>
              <a:rPr sz="2400"/>
            </a:b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Поражение при Инкермане          5 ноября  1854 г.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3" name="Picture 6" descr="img687"/>
          <p:cNvPicPr/>
          <p:nvPr/>
        </p:nvPicPr>
        <p:blipFill>
          <a:blip r:embed="rId1"/>
          <a:stretch/>
        </p:blipFill>
        <p:spPr>
          <a:xfrm>
            <a:off x="1219320" y="1600200"/>
            <a:ext cx="7003800" cy="471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dd4"/>
                </a:solidFill>
                <a:latin typeface="Arial"/>
              </a:rPr>
              <a:t>Владимир Алексеевич Корнилов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Вице-адмирал,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Начальник штаба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Черноморского флота возглавил оборону 13 сентября 1854 года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Погиб 5 октября 1854 года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6" name="Picture 10" descr="img672"/>
          <p:cNvPicPr/>
          <p:nvPr/>
        </p:nvPicPr>
        <p:blipFill>
          <a:blip r:embed="rId1"/>
          <a:stretch/>
        </p:blipFill>
        <p:spPr>
          <a:xfrm>
            <a:off x="762120" y="1600200"/>
            <a:ext cx="2919240" cy="49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dd4"/>
                </a:solidFill>
                <a:latin typeface="Arial"/>
              </a:rPr>
              <a:t>Защитники Севастополя: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54100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В.И. Истомин                Э.И. Тотлебен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9" name="Picture 8" descr="img673"/>
          <p:cNvPicPr/>
          <p:nvPr/>
        </p:nvPicPr>
        <p:blipFill>
          <a:blip r:embed="rId1"/>
          <a:stretch/>
        </p:blipFill>
        <p:spPr>
          <a:xfrm>
            <a:off x="1295280" y="1447920"/>
            <a:ext cx="2443320" cy="3733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681"/>
          <p:cNvPicPr/>
          <p:nvPr/>
        </p:nvPicPr>
        <p:blipFill>
          <a:blip r:embed="rId2"/>
          <a:stretch/>
        </p:blipFill>
        <p:spPr>
          <a:xfrm>
            <a:off x="5486400" y="1523880"/>
            <a:ext cx="2724120" cy="358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dd4"/>
                </a:solidFill>
                <a:latin typeface="Arial"/>
              </a:rPr>
              <a:t>Павел Степанович Нахимов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76560" y="2437920"/>
            <a:ext cx="380988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Руководил обороной города с 5 октября 1854 года до своей гибели 28 июня 1855 года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3" name="Picture 7" descr="img688"/>
          <p:cNvPicPr/>
          <p:nvPr/>
        </p:nvPicPr>
        <p:blipFill>
          <a:blip r:embed="rId1"/>
          <a:stretch/>
        </p:blipFill>
        <p:spPr>
          <a:xfrm>
            <a:off x="304920" y="1981080"/>
            <a:ext cx="4748040" cy="330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img699"/>
          <p:cNvPicPr/>
          <p:nvPr/>
        </p:nvPicPr>
        <p:blipFill>
          <a:blip r:embed="rId1"/>
          <a:stretch/>
        </p:blipFill>
        <p:spPr>
          <a:xfrm>
            <a:off x="506520" y="689040"/>
            <a:ext cx="825660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dd4"/>
                </a:solidFill>
                <a:latin typeface="Arial"/>
              </a:rPr>
              <a:t>Потери сторон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56" name="Object 8"/>
          <p:cNvGraphicFramePr/>
          <p:nvPr/>
        </p:nvGraphicFramePr>
        <p:xfrm>
          <a:off x="685800" y="1752480"/>
          <a:ext cx="784872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8487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dd4"/>
                </a:solidFill>
                <a:latin typeface="Arial"/>
              </a:rPr>
              <a:t>Защитники Севастополя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50288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Матросы Петр Кошка, Афанасий Елисеев, Федор Заика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0" name="Picture 7" descr="img674"/>
          <p:cNvPicPr/>
          <p:nvPr/>
        </p:nvPicPr>
        <p:blipFill>
          <a:blip r:embed="rId1"/>
          <a:stretch/>
        </p:blipFill>
        <p:spPr>
          <a:xfrm>
            <a:off x="1676520" y="1523880"/>
            <a:ext cx="5715000" cy="334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Н.И. Пирогов                  Л.Н.Толстой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2" name="Picture 8" descr="img676"/>
          <p:cNvPicPr/>
          <p:nvPr/>
        </p:nvPicPr>
        <p:blipFill>
          <a:blip r:embed="rId1"/>
          <a:stretch/>
        </p:blipFill>
        <p:spPr>
          <a:xfrm>
            <a:off x="762120" y="527040"/>
            <a:ext cx="3450960" cy="4349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img682"/>
          <p:cNvPicPr/>
          <p:nvPr/>
        </p:nvPicPr>
        <p:blipFill>
          <a:blip r:embed="rId2"/>
          <a:stretch/>
        </p:blipFill>
        <p:spPr>
          <a:xfrm>
            <a:off x="5029200" y="609480"/>
            <a:ext cx="326232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dd4"/>
                </a:solidFill>
                <a:latin typeface="Arial"/>
              </a:rPr>
              <a:t>Причины войны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Противоречия  между европейскими державами  на Ближнем Востоке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Борьба европейских государств  за влияние на  ослабленную и охваченную  национально- освободительным движением Османскую империю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dd4"/>
                </a:solidFill>
                <a:latin typeface="Arial"/>
              </a:rPr>
              <a:t>27 августа 1855 года закончилась 349-дневная оборона города.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5" name="Picture 6" descr="img689"/>
          <p:cNvPicPr/>
          <p:nvPr/>
        </p:nvPicPr>
        <p:blipFill>
          <a:blip r:embed="rId1"/>
          <a:stretch/>
        </p:blipFill>
        <p:spPr>
          <a:xfrm>
            <a:off x="344520" y="1752480"/>
            <a:ext cx="848844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img693"/>
          <p:cNvPicPr/>
          <p:nvPr/>
        </p:nvPicPr>
        <p:blipFill>
          <a:blip r:embed="rId1"/>
          <a:stretch/>
        </p:blipFill>
        <p:spPr>
          <a:xfrm>
            <a:off x="990720" y="201600"/>
            <a:ext cx="701028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0" i="1" lang="ru-RU" sz="4400" spc="-1" strike="noStrike">
                <a:solidFill>
                  <a:srgbClr val="c00000"/>
                </a:solidFill>
                <a:latin typeface="Verdana"/>
              </a:rPr>
              <a:t>Главная причина поражения России в Крымской войне – </a:t>
            </a:r>
            <a:r>
              <a:rPr b="0" lang="ru-RU" sz="4400" spc="-1" strike="noStrike">
                <a:solidFill>
                  <a:srgbClr val="f8f8f8"/>
                </a:solidFill>
                <a:latin typeface="Verdana"/>
              </a:rPr>
              <a:t>социально-экономическая отсталость России от стран Западной Европы.</a:t>
            </a: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dd4"/>
                </a:solidFill>
                <a:latin typeface="Arial"/>
              </a:rPr>
              <a:t>Парижский мир. 1856 год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Потеря Россией Южной Бессарабии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Закрытие на время мира проливов Чёрного моря для всех стран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Запрещение для России иметь военный флот, крепости и арсенал на Чёрном море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Все завоеванные в ходе войны города и области возвращались Турции и России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Arial"/>
              </a:rPr>
              <a:t>Последствия Парижского мира для России: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Незащищённость южнорусских рубежей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Ослабление позиций России  в Причерноморье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Падение международного авторитета России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Рост недовольства внутри страны. Выступления крестьян.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dd4"/>
                </a:solidFill>
                <a:latin typeface="Arial"/>
              </a:rPr>
              <a:t>Участники войны: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Турция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Англия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Франция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Сардинское королевство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171840" y="2895120"/>
            <a:ext cx="2514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Россия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2" name="AutoShape 7"/>
          <p:cNvSpPr/>
          <p:nvPr/>
        </p:nvSpPr>
        <p:spPr>
          <a:xfrm flipV="1">
            <a:off x="4495680" y="297180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33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581280" y="2133720"/>
            <a:ext cx="457200" cy="2133360"/>
          </a:xfrm>
          <a:custGeom>
            <a:avLst/>
            <a:gdLst>
              <a:gd name="textAreaLeft" fmla="*/ 0 w 457200"/>
              <a:gd name="textAreaRight" fmla="*/ 164880 w 4572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61"/>
                </a:lnTo>
                <a:cubicBezTo>
                  <a:pt x="10800" y="10061"/>
                  <a:pt x="16200" y="10961"/>
                  <a:pt x="21600" y="10961"/>
                </a:cubicBezTo>
                <a:cubicBezTo>
                  <a:pt x="16200" y="10961"/>
                  <a:pt x="10800" y="11861"/>
                  <a:pt x="10800" y="1276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dd4"/>
                </a:solidFill>
                <a:latin typeface="Arial"/>
              </a:rPr>
              <a:t>Повод к войне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Спор из-за палестинских святынь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Verdana"/>
              </a:rPr>
              <a:t>27 сентября 1853 года Турция объявила войну  России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Военные действия развернулись в Дунайских княжествах и в Закавказье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Турция предполагала высадить десант на побережье Грузии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ddd4"/>
                </a:solidFill>
                <a:latin typeface="Arial"/>
              </a:rPr>
              <a:t>Синопское сражение ( 18 ноября 1853 года).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9" name="Picture 6" descr="img700"/>
          <p:cNvPicPr/>
          <p:nvPr/>
        </p:nvPicPr>
        <p:blipFill>
          <a:blip r:embed="rId1"/>
          <a:stretch/>
        </p:blipFill>
        <p:spPr>
          <a:xfrm>
            <a:off x="762120" y="1523880"/>
            <a:ext cx="7515000" cy="45608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76212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Русская эскадра – 8 парусных кораблей. Турецкая – 14, из них 2 паровых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dd4"/>
                </a:solidFill>
                <a:latin typeface="Arial"/>
              </a:rPr>
              <a:t>В марте 1854 г. Англия и Франция объявили России войну.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32" name="Picture 6" descr="img685"/>
          <p:cNvPicPr/>
          <p:nvPr/>
        </p:nvPicPr>
        <p:blipFill>
          <a:blip r:embed="rId1"/>
          <a:stretch/>
        </p:blipFill>
        <p:spPr>
          <a:xfrm>
            <a:off x="1676520" y="1676520"/>
            <a:ext cx="5960880" cy="39621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571500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Вход англо-французского флота в Черное море через пролив Босфор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90720" y="609120"/>
            <a:ext cx="769608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  </a:t>
            </a:r>
            <a:r>
              <a:rPr b="0" lang="ru-RU" sz="4000" spc="-1" strike="noStrike">
                <a:solidFill>
                  <a:srgbClr val="f8f8f8"/>
                </a:solidFill>
                <a:latin typeface="Verdana"/>
              </a:rPr>
              <a:t>Нападению подверглись порты Черного моря, Аландские острова, Кронштадт и Свеаборг в Балтийском море,  Соловецкий монастырь, город Кола на Мурманском побережье, Петропавловск-Камчатский.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img692"/>
          <p:cNvPicPr/>
          <p:nvPr/>
        </p:nvPicPr>
        <p:blipFill>
          <a:blip r:embed="rId1"/>
          <a:stretch/>
        </p:blipFill>
        <p:spPr>
          <a:xfrm>
            <a:off x="609480" y="304920"/>
            <a:ext cx="815364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ачева</cp:lastModifiedBy>
  <dcterms:modified xsi:type="dcterms:W3CDTF">2013-02-27T15:06:12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