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12C-4FBA-4E20-81AF-82F60859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A92-C616-4E5C-943D-DB05AD64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292-6A74-4A37-BC0D-330526C1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A29-4B51-453B-A7E5-33857F98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59D-3FFF-4A9F-B614-01BA8589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D9F-8252-498C-A632-F3E90D2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2EA-4E68-4738-8578-EB7D5660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4FA-5367-4DAF-875B-DA24BED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2CE-044A-423B-872A-076FFB9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04B-4F2D-4685-9DAB-555C71C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496-24E6-4209-B06F-2792F95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D13-7D65-42F8-AF6C-B7FA456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05E-68F2-4A5D-9A92-44DB2099B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y-kuban.ru/wp-content/uploads/2011/12/&#1056;&#1080;&#1089;&#1091;&#1085;&#1086;&#1082;1-&#1082;&#1082;&#1077;&#1077;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y-kuban.ru/wp-content/uploads/2011/12/lineyny_kazak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y-kuban.ru/wp-content/uploads/2011/12/cherkesk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y-kuban.ru/wp-content/uploads/2011/12/&#1082;&#1086;&#1089;&#1090;&#1102;&#1084;-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y-kuban.ru/wp-content/uploads/2011/12/0_160d_6f9bc894_XL1.jpe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y-kuban.ru/wp-content/uploads/2011/12/kub_kar_ch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ежда кубанского каза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еница 4а класса МБОУ гимназия «Аврора» Низовцева Соф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оче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пристальнее изучаешь народный костюм, как произведение искусства, тем больше находишь в нем ценностей, и он становится образной летописью наших предков, которая языком цвета, формы орнамента раскрывает нам многие сокровенные тайны и законы красоты народного искус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костюм превратился в звено, которое связывает художественное прошлое нашего народа с его настоящим и буду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%D0%BA%D0%BE%D1%81%D1%82%D1%8E%D0%BC-6897979-300x222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kazachki1"/>
          <p:cNvPicPr/>
          <p:nvPr/>
        </p:nvPicPr>
        <p:blipFill>
          <a:blip r:embed="rId2"/>
          <a:stretch/>
        </p:blipFill>
        <p:spPr>
          <a:xfrm>
            <a:off x="4343400" y="160020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зачий костю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мог десятилетиями носиться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шмет, черкеска, также башлык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ивы на Кубани мужики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молодых – и то усы торчат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Чтоб привлечь внимание девчат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%D0%A0%D0%B8%D1%81%D1%83%D0%BD%D0%BE%D0%BA1-%D0%BA%D0%BA%D0%B5%D0%B51-225x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388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юм казаков состоял из военной формы и повседневной одежды. Старинная казачья одежда очень древняя. Костюм казаков складывался веками, задолго до того, как степняки стали именоваться казаками. Штаны кочевника – конника. За столетия покрой не изменился: это широкие шаровары – в узких штанах на коня не сядешь, да и ноги они будут стирать, и движения всадника сков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0" y="380880"/>
            <a:ext cx="40384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бахи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двух видов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ш-м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Русскую заправляли в шаровары, бешмет носили на выпуск. Шили из холста или шелка. Зимой носили нагольные полушубки, которые надевались шерстью на голое тело. От трения шерсти о тело возникает электрическое поле – так теплее, а если человек вспотеет – шерсть пот оботрёт, он не впитается в одежду и не превратится в лё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ерхней одежды казаки издавна предпочитал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алу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– «спиногрей» – нечто среднее между стёганным татарским халатом и кафтан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поверх тулупа зимой и в непогоду надевался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ахон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аляный из овечьей или верблюжьей шерсти плащ с капюш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ineyny_kazak-194x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5238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кеска похожа на длинный кафтан в талию, сверху облегающий, от пояса с расширяющимися полами. Впереди застегивался на крючки от груди до середины длины, так что полы внизу свободно расходились, не препятствуя широкому шагу во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herkeska-300x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523880"/>
            <a:ext cx="4038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пог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великое множество – без них верховая езда невозможна, да и по сухой степи не пройдешь босиком. Особой любовью пользовались мягкие сапоги без каблуков – ичини и «чирики» – туфли – галоши, их надевали поверх ичиг, в которой заправлялись шаровары. Носили и «башмаки» – кожаную обувь с ремнями, названную так потому, что изготовлялась она из телячьей кожи (тюрк. «башмак» – телено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%D0%BA%D0%BE%D1%81%D1%82%D1%8E%D0%BC-1-202x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всего казак ценил одежду не за ее стоимость , а за тот внутренний духовный смысл, которыми были наполнены каждый стежок, каждая деталь казачьего костюма. По верованиям древних, одежда – вторая кожа, поэтому коренные казаки никогда не носили чужую одежду, не совершив над ней очистительных обрядовую и тем более одежду с убитых. Надеть «чуждые покров» – означало «войти» в волю дарителя и потерять свою. Поэтому казак ни за что не надел бы «шубу с цар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0_160d_6f9bc894_XL1-219x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002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 веке носили высокие «папахи». В начале 20 века вошли в моду низкие «кубанки», их носили даже лет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пка – продолжение головы. У казаков папаха или фуражка играла огромную роль в обычаях и символ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kub_kar_cher-300x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3546-300x198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47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%D0%BA%D0%BE%D1%81%D1%82%D1%8E%D0%BC-4-261x300"/>
          <p:cNvPicPr/>
          <p:nvPr/>
        </p:nvPicPr>
        <p:blipFill>
          <a:blip r:embed="rId2"/>
          <a:stretch/>
        </p:blipFill>
        <p:spPr>
          <a:xfrm>
            <a:off x="4724280" y="1523880"/>
            <a:ext cx="3733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а</cp:lastModifiedBy>
  <dcterms:modified xsi:type="dcterms:W3CDTF">2013-02-27T11:47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