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0F7-D995-4909-8717-9DBBF1D2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EBB-F1B6-4536-B18C-8DB38AB1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48C-2056-4713-8690-52942BB6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C28-EE59-4CB9-AF68-6FE29DCE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96A2-4154-4AF8-A733-FB5F9164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A8F2-813C-4376-90B7-99B0D2BA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3280-7719-49ED-8F0F-B5F41133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11C5-CC64-49BB-82A0-8609E7F2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6073-EF21-46B6-984B-7F49D6F5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A3EA-4293-4E20-8087-BC5F58E4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657F-B686-42A8-92A7-271A2FA0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99E-F9AA-4606-AE29-FCC4ACD5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C01F-7782-4B12-B0F3-F5266B9C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4728-C7DA-4343-BA48-726B08ED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832C-ED9D-4DC8-8D3B-211C1A4F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CEA1-C497-4E94-8A73-EB9C446F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57ED-04E6-426F-9412-E68CD656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DC8-DDFB-4A3F-9B05-68BAE6C8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A68-F9D4-4B48-8AE3-EA6D547A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535-E622-4275-9714-C9CC78EE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111-D24A-48D8-9120-A31CA3AB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50B-7BE3-4498-AB9F-64D0919D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942-7E39-45B4-A699-C3F14CF9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74C9-483F-4A66-BB40-02BA3696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"/>
          <p:cNvSpPr/>
          <p:nvPr/>
        </p:nvSpPr>
        <p:spPr>
          <a:xfrm>
            <a:off x="1278000" y="2681280"/>
            <a:ext cx="70880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gradFill rotWithShape="0">
            <a:gsLst>
              <a:gs pos="0">
                <a:srgbClr val="e0c39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9966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CA63-BA5D-45AF-9346-B6FD654377A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8748-B91C-48AA-B668-4C2E14B752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440" y="2133720"/>
            <a:ext cx="4419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в Владимирович Щерба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ыдающийся русский ученый и педаго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880 -19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0289683545[1]"/>
          <p:cNvPicPr/>
          <p:nvPr/>
        </p:nvPicPr>
        <p:blipFill>
          <a:blip r:embed="rId1"/>
          <a:stretch/>
        </p:blipFill>
        <p:spPr>
          <a:xfrm>
            <a:off x="5562720" y="1447920"/>
            <a:ext cx="358128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838080" y="1143000"/>
            <a:ext cx="3657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клад « О разных стилях произношения и об идеальном фонетическом составе слова» является крупнейшей вехой в истории теоретического осмысления орфоэп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9"/>
          <p:cNvPicPr/>
          <p:nvPr/>
        </p:nvPicPr>
        <p:blipFill>
          <a:blip r:embed="rId1"/>
          <a:stretch/>
        </p:blipFill>
        <p:spPr>
          <a:xfrm>
            <a:off x="4913280" y="1143000"/>
            <a:ext cx="42307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начение дея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Щерба – создатель ленинградской фонологическ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Щерба  обосновал новый подход к учению о частях речи и выделил новую часть речи – слова категории состоя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ый проделал огромную работу по написанию русского нормативного словаря и русско – французского словар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Щерба - один из основоположников современной структурной лингвист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Щерба – первый стал производить лингвистический анализ художественных текс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в Владимирович является одним из авторов учебников по русскому языку 30-40 х годо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в Владимирович - выдающийся педагог, воспитавший множество замечательных лингвис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вехи 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аучные тру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начение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080c86a8bf7552ab73793ee3eecea970"/>
          <p:cNvPicPr/>
          <p:nvPr/>
        </p:nvPicPr>
        <p:blipFill>
          <a:blip r:embed="rId1"/>
          <a:stretch/>
        </p:blipFill>
        <p:spPr>
          <a:xfrm>
            <a:off x="5181480" y="3727440"/>
            <a:ext cx="396252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новные вехи жизн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дился 5 марта 1880 года в Петербурге, но вырос в Киеве, где в 1898 году закончил гимназию с золотой медалью. Начинал учиться на естественном факультете Киевского университета, затем перевелся на историко – филологический факультет Петербургского университета. Ученик И. А. Бодуэна де Куртенэ. В 1903 г. окончил Петербургский университет с золотой медалью. 1906 – 1908 г. жил в Европе, изучал сравнительно – историческое языкознание и фонетику в Лейпциге, Париже, Праге, исследовал тосканские и лужицкие диалек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1909 г. – приват-доцент Петербургского университета. В 1909 создал лабораторию экспериментальной фонетики.  В 1912 защитил диссертацию «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ские гласные в качественном и количественном отношении», в 1915 г. Докторскую диссертацию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точно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жицкое наречие». С 1916 г. профессор кафедры сравнительного языкознания Петроградского университета. С 1925 г. член – корреспондент Академии наук СССР. С 1943 г. Академик Академии наук ССС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ончался 26 декабря 1944 года в Москв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учные тру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. В. Щерба писал на общелингвистические темы, и о различных аспектах отдельных языков, и о звуковом строе языков, и о лексикографии, и о методике преподавания иностранных языков, и о графике, и орфограф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1924 года ученый работает над созданием русского нормативного словаря, а также занимается русско – французским переводным словарем. Итогом работы явилась статья – «Опыт общей теории лексикографии». Щерба занимался методикой преподавания языков. В 1926 г. Выходит статья об общеобразовательном значении иностранных языков, а в 1929 г. – брошюра « Как надо изучать иностранные языки». Лев Владимирович создал учение о частях речи и выделил новую часть речи – слова категории состояния ( работа о частях речи в русском языке,1929 г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рба – один из создателей теории фонемы как словоразличительной единицы ( работа – русские гласные в качественном и количественном отношени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343400" y="9144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1923 – 1928 г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четыре сборника «Русская реч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1924 – 1940 г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«Опыт общей теории лексикограф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1930 г. – стать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«О трояком аспекте языковых явлений и об эксперименте в языкозн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чебное пособи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«Фонетика французского язы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080c8523cdb9d287b2357fa336641db3"/>
          <p:cNvPicPr/>
          <p:nvPr/>
        </p:nvPicPr>
        <p:blipFill>
          <a:blip r:embed="rId1"/>
          <a:stretch/>
        </p:blipFill>
        <p:spPr>
          <a:xfrm>
            <a:off x="838080" y="838080"/>
            <a:ext cx="335304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926 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– доклад « Основные принципы орфографии и их социальное значени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928 г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«О частях речи в русском язык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931 г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«Очередные проблемы языкознани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940 г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работа «Общий опыт теории лексикограф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944 г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статья « Очередные проблемы языковедени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219320" y="99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066680" y="1752480"/>
            <a:ext cx="6934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сский нормативный академический словарь – драгоценное наследие Л. В. Щербы не только в русской, но и в мировой нау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images"/>
          <p:cNvPicPr/>
          <p:nvPr/>
        </p:nvPicPr>
        <p:blipFill>
          <a:blip r:embed="rId1"/>
          <a:stretch/>
        </p:blipFill>
        <p:spPr>
          <a:xfrm>
            <a:off x="6095880" y="4114800"/>
            <a:ext cx="236232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scherba"/>
          <p:cNvPicPr/>
          <p:nvPr/>
        </p:nvPicPr>
        <p:blipFill>
          <a:blip r:embed="rId1"/>
          <a:stretch/>
        </p:blipFill>
        <p:spPr>
          <a:xfrm>
            <a:off x="457200" y="1447920"/>
            <a:ext cx="3429000" cy="46479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3886200" y="1295280"/>
            <a:ext cx="4495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имаясь лексикологией и лексикографией, он четко сформулировал важность разграничения научного и "наивного" значения слова, предложил первую в отечественном языкознании научную типологию словарей и, как лексикограф-практик он (совместно с М.И.Матусевич) был автором большог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усско-французского слов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1760" y="762120"/>
            <a:ext cx="381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нига  « Теория русского правописания»  до сих пор является важнейшим настольным руководств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9" descr="080ca6b9b131f65e609103018429cef8"/>
          <p:cNvPicPr/>
          <p:nvPr/>
        </p:nvPicPr>
        <p:blipFill>
          <a:blip r:embed="rId1"/>
          <a:stretch/>
        </p:blipFill>
        <p:spPr>
          <a:xfrm>
            <a:off x="4724280" y="2438280"/>
            <a:ext cx="40388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NS</dc:creator>
  <dc:description/>
  <dc:language>en-US</dc:language>
  <cp:lastModifiedBy>user</cp:lastModifiedBy>
  <dcterms:modified xsi:type="dcterms:W3CDTF">2013-02-27T14:31:1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