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C26-EF4D-44FB-9B1F-64148A32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AF4-FECE-4818-9C8B-495FCF2D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CA3-F1C6-4568-B7CE-84D4CC8F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885-CA1A-4F02-9F1E-55EA6142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AB3-A77F-4F5F-813A-16AD90F6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078-0649-469F-A08B-0F7ACF74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7C3-FB21-41D3-9418-F054B68A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5DA-D27F-4947-B5DA-4E9EF7B1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9B6-ACF0-4E94-A461-B4FB65FC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851-6301-4723-867C-9A60AFA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BF7-64FC-4D52-907B-94037659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C14-21AE-4023-AB03-A853A05F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0538-9413-4687-B629-54BCDBBDB8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storydoc.edu.ru/catalog.asp?cat_ob_no=12755&amp;ob_no=14345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Учитель: Дмитрий Владимирович Сысоев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БОУ «Свияжская СОШ ЗМР РТ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к истории в 10 классе на тему: «Личность Петр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19360" y="380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етр допрашивает царевича Алексея Петровича в Петергофе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(Н. Н. Ге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7242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лексей – сын Петр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аревичу претили деспотические и жесткие формы правления своего отца. И он бежал на Запад, откуда он был вызволен и замучен до смерти под пытками в Петропавловской крепости с ведома и по распоряжению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Пет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1718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alex_petr[1]"/>
          <p:cNvPicPr/>
          <p:nvPr/>
        </p:nvPicPr>
        <p:blipFill>
          <a:blip r:embed="rId2"/>
          <a:stretch/>
        </p:blipFill>
        <p:spPr>
          <a:xfrm>
            <a:off x="228600" y="22860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n068_aleksej_peter_i_son-02[1]"/>
          <p:cNvPicPr/>
          <p:nvPr/>
        </p:nvPicPr>
        <p:blipFill>
          <a:blip r:embed="rId3"/>
          <a:stretch/>
        </p:blipFill>
        <p:spPr>
          <a:xfrm>
            <a:off x="4114800" y="182880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нени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Содержимое 6" descr="1318692779_12.png"/>
          <p:cNvPicPr/>
          <p:nvPr/>
        </p:nvPicPr>
        <p:blipFill>
          <a:blip r:embed="rId1"/>
          <a:stretch/>
        </p:blipFill>
        <p:spPr>
          <a:xfrm>
            <a:off x="1371600" y="1558800"/>
            <a:ext cx="1879560" cy="240372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7" descr="vg_sch01a.jpg"/>
          <p:cNvPicPr/>
          <p:nvPr/>
        </p:nvPicPr>
        <p:blipFill>
          <a:blip r:embed="rId2"/>
          <a:stretch/>
        </p:blipFill>
        <p:spPr>
          <a:xfrm>
            <a:off x="5784840" y="1600200"/>
            <a:ext cx="2104920" cy="236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«Петр – великий государственный деятель, создатель могущественной империи, человек, благодаря которому Россия пошла по пути мировой цивилизации»                                                                                                     В. Татищев. (историк, экономист, 1686 – 1750 гг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«Петр – разрушитель русских национальных устоев, а его реформы были «блестящей ошибкой»                                                                              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М. Щербатов.(историк, публицист, 1733 – 1790 гг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2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образования Петр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пособствовали преодолению отсталости России, превращению ее в великую европейскую и морскую держа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8" descr="image[1]"/>
          <p:cNvPicPr/>
          <p:nvPr/>
        </p:nvPicPr>
        <p:blipFill>
          <a:blip r:embed="rId1"/>
          <a:stretch/>
        </p:blipFill>
        <p:spPr>
          <a:xfrm>
            <a:off x="4495680" y="1219320"/>
            <a:ext cx="4267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50292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Марта Самуиловна Скавронская (Екатерина </a:t>
            </a:r>
            <a:r>
              <a:rPr b="1" i="1" lang="en-US" sz="2000" spc="-1" strike="noStrike">
                <a:solidFill>
                  <a:srgbClr val="e5ffff"/>
                </a:solidFill>
                <a:latin typeface="Tahoma"/>
              </a:rPr>
              <a:t>I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Рисунок 4" descr="marfa_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«Утро стрелецкой казни» </a:t>
            </a:r>
            <a:br>
              <a:rPr sz="3600"/>
            </a:b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(Василий Иванович Суриков в 1881 г. о бунте 1698 г.)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7" descr="surikov[1]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505320"/>
            <a:ext cx="32767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… 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По мнению Петра , европеизация страны должна была проявится и во внешнем виде русских людей. Предписывалось обязательное бритье бороды. Лица, носящие бороду (кроме духовенства), должны были платить пошлину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3" descr="pp_vv-00[1]"/>
          <p:cNvPicPr/>
          <p:nvPr/>
        </p:nvPicPr>
        <p:blipFill>
          <a:blip r:embed="rId1"/>
          <a:stretch/>
        </p:blipFill>
        <p:spPr>
          <a:xfrm>
            <a:off x="3808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46240795_P1010632[1]"/>
          <p:cNvPicPr/>
          <p:nvPr/>
        </p:nvPicPr>
        <p:blipFill>
          <a:blip r:embed="rId2"/>
          <a:stretch/>
        </p:blipFill>
        <p:spPr>
          <a:xfrm>
            <a:off x="3657600" y="19051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еверная война 1700-1721г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7fd03953e8417d475fc02883dfa49[1]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Содержимое 3" descr="0007-007-19-avgusta-1700-goda-Rossija-objavljaet-SHvetsii-vojnu.jpg"/>
          <p:cNvPicPr/>
          <p:nvPr/>
        </p:nvPicPr>
        <p:blipFill>
          <a:blip r:embed="rId1"/>
          <a:stretch/>
        </p:blipFill>
        <p:spPr>
          <a:xfrm>
            <a:off x="711360" y="399960"/>
            <a:ext cx="75945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766px-Петропавловка_с_другого_берега[1]"/>
          <p:cNvPicPr/>
          <p:nvPr/>
        </p:nvPicPr>
        <p:blipFill>
          <a:blip r:embed="rId1"/>
          <a:stretch/>
        </p:blipFill>
        <p:spPr>
          <a:xfrm>
            <a:off x="162000" y="457200"/>
            <a:ext cx="877716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695 и 1696 – Азовские пох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700 – 1721 Северная вой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700, 19 ноября – Поражение русских войск под На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703 - , 16 мая – Основание Петербур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709, 27 июня – Полтавская битва (Карл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II)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711 – Прутский пох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714, 27 июля – победа русского флота над шведским при Гангуте (Апракс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721 , 30 августа – Ништадский мир России со Швец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721, 22 октября – принятие императорскго титу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15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722 – 1723 Персидский поход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2:47:25Z</dcterms:created>
  <dc:creator>Admin</dc:creator>
  <dc:description/>
  <dc:language>en-US</dc:language>
  <cp:lastModifiedBy>User</cp:lastModifiedBy>
  <dcterms:modified xsi:type="dcterms:W3CDTF">2013-02-22T16:58:0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