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4.jpeg" ContentType="image/jpeg"/>
  <Override PartName="/ppt/media/image27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88D-74BB-4544-8109-4295D1B5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ECB-DF96-4913-BAD6-6EA43DF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02D-6A92-46EB-9CA0-B5E86558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70D-39BE-46B3-8192-7BEB6D24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20A6-2F4F-48A0-98E9-7EBE0ED4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C30-1E42-4CD4-99AF-133011D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A26-3A1C-4171-9AA3-08E9C8E5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AE1B-8A93-461F-B15A-4FE94DDF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7DF-3A4B-4E63-A977-CE6F1DB6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F2CD-9CCF-4E5A-A587-08CEF5D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9885-4537-4E36-AD84-4A3590B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83F-4F75-417B-9B97-DF4B2F38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A6DE-B68C-4A9C-BBCE-120D3DF8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9B20-6406-4CA4-B587-1BF80E0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769-DEE9-4C39-8D7D-CC4302A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0AC3-D556-43CB-B863-183CD78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CC56-FF25-48B3-941F-46B3070D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EDC-8F94-41B8-B4A5-D422F19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000-F086-4052-9291-75FBA88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3A2-91F7-44E2-9268-22536EE1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E14-E6C4-4ADB-90B0-0DC1DF40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F11-DA67-4E1E-9E4E-1BA7F3D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E49-4086-46A7-ADF3-A093066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1EA-C266-4B43-B9E9-E583A48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096-BD1D-4765-B040-AC65ABC66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2D2-AFD8-45B0-BAB7-5A5FAC7B2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4865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Arial Black"/>
              </a:rPr>
              <a:t>Литературная викторина по рассказам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Arial Black"/>
              </a:rPr>
              <a:t>Н. Носова</a:t>
            </a:r>
            <a:endParaRPr b="1" lang="en-US" sz="48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1849320" cy="2162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08720" y="1773360"/>
            <a:ext cx="1590840" cy="2120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60880" y="4076640"/>
            <a:ext cx="1892520" cy="2505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380360" y="4365720"/>
            <a:ext cx="1355760" cy="211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771640" y="3645000"/>
            <a:ext cx="19051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55640" y="3789360"/>
            <a:ext cx="15717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Пончик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9942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1652760"/>
            <a:ext cx="7201080" cy="4803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1200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17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583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547560"/>
            <a:ext cx="38102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0600" y="404640"/>
            <a:ext cx="4762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275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830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7208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580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55920" y="260280"/>
            <a:ext cx="45324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Незнай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75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49705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2592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1180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Николай Николаевич Носов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(1908—1976)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927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Пилюлькин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6720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Тюбик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6720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Винтик и Шпунтик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465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Торопыж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14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Сиропчик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2643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Небось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743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0:30:12Z</dcterms:created>
  <dc:creator>Львова</dc:creator>
  <dc:description/>
  <dc:language>en-US</dc:language>
  <cp:lastModifiedBy>Львова</cp:lastModifiedBy>
  <dcterms:modified xsi:type="dcterms:W3CDTF">2013-02-27T10:23:25Z</dcterms:modified>
  <cp:revision>10</cp:revision>
  <dc:subject/>
  <dc:title>Литературная викторина по рассказам  Н. Носова</dc:title>
</cp:coreProperties>
</file>