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gif" ContentType="image/gif"/>
  <Override PartName="/ppt/media/image6.png" ContentType="image/png"/>
  <Override PartName="/ppt/media/image4.png" ContentType="image/png"/>
  <Override PartName="/ppt/media/image1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30B-A3DB-41BB-8F5F-B0BB9DDF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560-24B0-4AB9-B6C7-14D13985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D1E-E13D-447A-BFB3-9E8E0B6B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50A-D181-4300-AE2F-2DC45E60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C900-4401-4469-AAA6-171473C2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9697-7C37-4F2C-8BA1-EAAF64B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582B-9082-4630-AFF0-A3AECEC1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160F-0434-40A2-8483-87151C4E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C733-BCB3-4A61-AA26-60424DB3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B229-096A-4F5F-835E-07C861E8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DA53-1F99-466E-85C1-A4D8E4B5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F39-0834-40AD-A7F4-B3E27609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12A8-807D-417F-B7D9-9F0066F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E0F0-2626-45C6-8FE5-045FA3B2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4F9F-E804-41E2-98D3-D19B97C1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3719-3772-49F1-BB9C-10B581B6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C0A1-261E-43F9-AF71-2C5A8EF6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B8B-40E2-43F4-A69F-06169262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216-8D2C-47D9-99F8-E9125AF9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85B-24DA-4AD8-B2B2-22A4DFE9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7B9-5B4F-41AC-8FA1-C522F72E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1AA-DD98-4CE1-85E5-B6742EBC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E57-BFC4-47EF-A2CF-5AD5E971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426-E718-44EC-A28A-8595277D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4372-4D65-4F00-B334-F20B8553F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80ED-67CC-496E-BF62-087303052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oikompas.ru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d4ea"/>
                </a:solidFill>
                <a:latin typeface="Vogue"/>
                <a:ea typeface="Times New Roman"/>
              </a:rPr>
              <a:t>Исследовательская работа</a:t>
            </a:r>
            <a:br>
              <a:rPr sz="4000"/>
            </a:br>
            <a:r>
              <a:rPr b="0" lang="en-US" sz="4000" spc="-1" strike="noStrike">
                <a:solidFill>
                  <a:srgbClr val="06d4ea"/>
                </a:solidFill>
                <a:latin typeface="Vogue"/>
                <a:ea typeface="Times New Roman"/>
              </a:rPr>
              <a:t> «Почему Луна не всегда круглая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3352680"/>
            <a:ext cx="6781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  <a:ea typeface="Times New Roman"/>
              </a:rPr>
              <a:t>Выполнил: ученик 2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Vogue"/>
                <a:ea typeface="Times New Roman"/>
              </a:rPr>
              <a:t>МБОУ Починков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  <a:ea typeface="Times New Roman"/>
              </a:rPr>
              <a:t>Команов Да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  <a:ea typeface="Times New Roman"/>
              </a:rPr>
              <a:t>Руководитель: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Vogue"/>
                <a:ea typeface="Times New Roman"/>
              </a:rPr>
              <a:t>МБОУ Починковской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  <a:ea typeface="Times New Roman"/>
              </a:rPr>
              <a:t>Балдова Лариса Евген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429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Если месяц буквой «С»,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Значит, старый месяц;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Если палочку вдовес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Ты к нему привесишь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И получишь букву «Р»,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Значит, он растущий,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Значит, скоро, верь-не верь,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Станет он толст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Украшение настенное 'Месяц' - Увеличить..."/>
          <p:cNvPicPr/>
          <p:nvPr/>
        </p:nvPicPr>
        <p:blipFill>
          <a:blip r:embed="rId1"/>
          <a:stretch/>
        </p:blipFill>
        <p:spPr>
          <a:xfrm rot="1287600">
            <a:off x="7068600" y="402120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6" name="Picture 6" descr="C:\Documents and Settings\User\Мои документы\Мои рисунки\362606.jpg"/>
          <p:cNvPicPr/>
          <p:nvPr/>
        </p:nvPicPr>
        <p:blipFill>
          <a:blip r:embed="rId2"/>
          <a:stretch/>
        </p:blipFill>
        <p:spPr>
          <a:xfrm>
            <a:off x="5257800" y="533520"/>
            <a:ext cx="22096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Documents and Settings\User\Мои документы\Мои рисунки\image_4e00d4ec50762.jpg"/>
          <p:cNvPicPr/>
          <p:nvPr/>
        </p:nvPicPr>
        <p:blipFill>
          <a:blip r:embed="rId3"/>
          <a:stretch/>
        </p:blipFill>
        <p:spPr>
          <a:xfrm>
            <a:off x="3809880" y="3886200"/>
            <a:ext cx="2133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114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Луна не светится сама-</a:t>
            </a:r>
            <a:br>
              <a:rPr sz="2400"/>
            </a:b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Солнце свет ей дар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Своими тёплыми луч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Оно Селену освещ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И хотя ярким серебристым пят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Луна ночную синь украш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Но только лишь семь проц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Солнечного света отражает!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C:\Documents and Settings\User\Мои документы\Мои рисунки\f9e495fb57bf21dc683075cdd4696e5e.jpg"/>
          <p:cNvPicPr/>
          <p:nvPr/>
        </p:nvPicPr>
        <p:blipFill>
          <a:blip r:embed="rId1"/>
          <a:stretch/>
        </p:blipFill>
        <p:spPr>
          <a:xfrm>
            <a:off x="4876920" y="1143000"/>
            <a:ext cx="3581280" cy="267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Украшение настенное 'Месяц' - Увеличить..."/>
          <p:cNvPicPr/>
          <p:nvPr/>
        </p:nvPicPr>
        <p:blipFill>
          <a:blip r:embed="rId2"/>
          <a:stretch/>
        </p:blipFill>
        <p:spPr>
          <a:xfrm rot="1287600">
            <a:off x="7221240" y="409716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Причину смены фаз на Луне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Объяснила учительница м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Луна, как и наша планета,</a:t>
            </a:r>
            <a:br>
              <a:rPr sz="2400"/>
            </a:b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Имеет форму ша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Вращаясь вокруг Зем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Не всегда всю поверх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Солнечным лучам подставля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Фотографии Луны и картинку э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Очень быстро я нашёл в ресурсах Интерн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Documents and Settings\User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4952880" y="1143000"/>
            <a:ext cx="3962520" cy="2941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Украшение настенное 'Месяц' - Увеличить..."/>
          <p:cNvPicPr/>
          <p:nvPr/>
        </p:nvPicPr>
        <p:blipFill>
          <a:blip r:embed="rId2"/>
          <a:stretch/>
        </p:blipFill>
        <p:spPr>
          <a:xfrm rot="1287600">
            <a:off x="7221240" y="409716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434600"/>
            <a:ext cx="4876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Понять, как это происхо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Мне поможет простой опы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Чтоб маме с папой не скуч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Надо их к себе позв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Представим, что апельсин – это Лу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Фонарик – это Солнца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А я на стуле – планета Земл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Вот и всё, что нуж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чтобы дать от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D:\ФОТО\Изображение 204.jpg"/>
          <p:cNvPicPr/>
          <p:nvPr/>
        </p:nvPicPr>
        <p:blipFill>
          <a:blip r:embed="rId1"/>
          <a:stretch/>
        </p:blipFill>
        <p:spPr>
          <a:xfrm>
            <a:off x="5105520" y="160020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Украшение настенное 'Месяц' - Увеличить..."/>
          <p:cNvPicPr/>
          <p:nvPr/>
        </p:nvPicPr>
        <p:blipFill>
          <a:blip r:embed="rId2"/>
          <a:stretch/>
        </p:blipFill>
        <p:spPr>
          <a:xfrm rot="1287600">
            <a:off x="7144920" y="424980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76720" y="2819160"/>
            <a:ext cx="21333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Вот результат </a:t>
            </a: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нашего опы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D:\ФОТО\Изображение 189.jpg"/>
          <p:cNvPicPr/>
          <p:nvPr/>
        </p:nvPicPr>
        <p:blipFill>
          <a:blip r:embed="rId1"/>
          <a:stretch/>
        </p:blipFill>
        <p:spPr>
          <a:xfrm>
            <a:off x="3276720" y="1522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D:\ФОТО\Изображение 182.jpg"/>
          <p:cNvPicPr/>
          <p:nvPr/>
        </p:nvPicPr>
        <p:blipFill>
          <a:blip r:embed="rId2"/>
          <a:stretch/>
        </p:blipFill>
        <p:spPr>
          <a:xfrm>
            <a:off x="685800" y="99072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D:\ФОТО\Изображение 179.jpg"/>
          <p:cNvPicPr/>
          <p:nvPr/>
        </p:nvPicPr>
        <p:blipFill>
          <a:blip r:embed="rId3"/>
          <a:stretch/>
        </p:blipFill>
        <p:spPr>
          <a:xfrm>
            <a:off x="6019920" y="99072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D:\ФОТО\Изображение 185.jpg"/>
          <p:cNvPicPr/>
          <p:nvPr/>
        </p:nvPicPr>
        <p:blipFill>
          <a:blip r:embed="rId4"/>
          <a:stretch/>
        </p:blipFill>
        <p:spPr>
          <a:xfrm>
            <a:off x="685800" y="3505320"/>
            <a:ext cx="2057400" cy="1839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:\ФОТО\Изображение 191.jpg"/>
          <p:cNvPicPr/>
          <p:nvPr/>
        </p:nvPicPr>
        <p:blipFill>
          <a:blip r:embed="rId5"/>
          <a:stretch/>
        </p:blipFill>
        <p:spPr>
          <a:xfrm>
            <a:off x="6095880" y="3505320"/>
            <a:ext cx="2133720" cy="1817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D:\ФОТО\Изображение 192.jpg"/>
          <p:cNvPicPr/>
          <p:nvPr/>
        </p:nvPicPr>
        <p:blipFill>
          <a:blip r:embed="rId6"/>
          <a:stretch/>
        </p:blipFill>
        <p:spPr>
          <a:xfrm>
            <a:off x="3352680" y="4572000"/>
            <a:ext cx="2210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Украшение настенное 'Месяц' - Увеличить..."/>
          <p:cNvPicPr/>
          <p:nvPr/>
        </p:nvPicPr>
        <p:blipFill>
          <a:blip r:embed="rId1"/>
          <a:stretch/>
        </p:blipFill>
        <p:spPr>
          <a:xfrm rot="1287600">
            <a:off x="7754400" y="402120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33530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Люди в древности не зн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Как же можно объясн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Что Луна свой вид меня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И решили сказку сочин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3429000" y="457200"/>
            <a:ext cx="541008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Vogue"/>
              </a:rPr>
              <a:t>Почему у месяца нет платья?</a:t>
            </a:r>
            <a:br>
              <a:rPr sz="1800"/>
            </a:br>
            <a:r>
              <a:rPr b="0" lang="en-US" sz="1800" spc="-1" strike="noStrike">
                <a:solidFill>
                  <a:srgbClr val="222268"/>
                </a:solidFill>
                <a:latin typeface="Vogue"/>
              </a:rPr>
              <a:t>Сербская 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Решил Месяц сшить себе плат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Снял с него портной мерку и сел за работу. В назначенный срок пришёл Месяц за платьем. А платье-то и узко, и корот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- Видно, я ошибся, - говорит портной. И снова сел з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В назначенный срок пришёл Месяц за платьем. Опять платье м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- Видно, и теперь я ошибся, - сказал портной. И снова стал кроить и ш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В третий  раз Месяц  пришёл к портному. Увид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портной: идёт по небу круглый Месяц, не Месяц, а ц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Луна, да вдвое шире,  чем  платье, которое он только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сшил.  Что  было  делать портному? Бросился он беж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Искал его Месяц, искал, да не нашё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Vogue"/>
              </a:rPr>
              <a:t>Так и остался Месяц без платья</a:t>
            </a:r>
            <a:r>
              <a:rPr b="0" lang="en-US" sz="2000" spc="-1" strike="noStrike">
                <a:solidFill>
                  <a:srgbClr val="7575d1"/>
                </a:solidFill>
                <a:latin typeface="Vogu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5562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Выво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Теперь с уверенностью смогу сказать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что с Земли мы видим только освещённую часть Лунного ш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Украшение настенное 'Месяц' - Увеличить..."/>
          <p:cNvPicPr/>
          <p:nvPr/>
        </p:nvPicPr>
        <p:blipFill>
          <a:blip r:embed="rId1"/>
          <a:stretch/>
        </p:blipFill>
        <p:spPr>
          <a:xfrm rot="1287600">
            <a:off x="7144920" y="409716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9" name="Picture 6" descr="C:\Documents and Settings\User\Мои документы\Мои рисунки\Ianadesign.com - Island 1.jpg"/>
          <p:cNvPicPr/>
          <p:nvPr/>
        </p:nvPicPr>
        <p:blipFill>
          <a:blip r:embed="rId2"/>
          <a:stretch/>
        </p:blipFill>
        <p:spPr>
          <a:xfrm>
            <a:off x="21337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5715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Источники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1. Левитан Е.П. Малышам о звёздах и плане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2. Энциклопедия «Хочу всё зн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3. </a:t>
            </a: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www.selena-lun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4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ogue"/>
                <a:hlinkClick r:id="rId1"/>
              </a:rPr>
              <a:t>www.moikompa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5.www.astrotim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6.www.krugosv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Vogue"/>
              </a:rPr>
              <a:t>7.</a:t>
            </a: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Украшение настенное 'Месяц' - Увеличить..."/>
          <p:cNvPicPr/>
          <p:nvPr/>
        </p:nvPicPr>
        <p:blipFill>
          <a:blip r:embed="rId2"/>
          <a:stretch/>
        </p:blipFill>
        <p:spPr>
          <a:xfrm rot="1287600">
            <a:off x="7068600" y="417348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1055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«Интересно жить на свете!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Это скажут вам все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ПОЧЕМУ? ЗАЧЕМ? И Г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Не дают скучать и м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Задал себе я как-т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Один простой вопро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Но чтобы ответ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Поразмышлять немало мне приш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:\ФОТО\Изображение 144.jpg"/>
          <p:cNvPicPr/>
          <p:nvPr/>
        </p:nvPicPr>
        <p:blipFill>
          <a:blip r:embed="rId1"/>
          <a:stretch/>
        </p:blipFill>
        <p:spPr>
          <a:xfrm>
            <a:off x="5181480" y="1219320"/>
            <a:ext cx="2716200" cy="388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Украшение настенное 'Месяц' - Увеличить..."/>
          <p:cNvPicPr/>
          <p:nvPr/>
        </p:nvPicPr>
        <p:blipFill>
          <a:blip r:embed="rId2"/>
          <a:stretch/>
        </p:blipFill>
        <p:spPr>
          <a:xfrm rot="1287600">
            <a:off x="7221240" y="409716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2" descr="Украшение настенное 'Месяц' - Увеличить..."/>
          <p:cNvPicPr/>
          <p:nvPr/>
        </p:nvPicPr>
        <p:blipFill>
          <a:blip r:embed="rId3"/>
          <a:stretch/>
        </p:blipFill>
        <p:spPr>
          <a:xfrm rot="1287600">
            <a:off x="7221240" y="409716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  </a:t>
            </a: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Вопрос такой задумал 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«Почему Луна не всегда кругла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Украшение настенное 'Месяц' - Увеличить..."/>
          <p:cNvPicPr/>
          <p:nvPr/>
        </p:nvPicPr>
        <p:blipFill>
          <a:blip r:embed="rId1"/>
          <a:stretch/>
        </p:blipFill>
        <p:spPr>
          <a:xfrm rot="1287600">
            <a:off x="7221240" y="409716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2" descr="Картинка 1562 из 459813"/>
          <p:cNvPicPr/>
          <p:nvPr/>
        </p:nvPicPr>
        <p:blipFill>
          <a:blip r:embed="rId2"/>
          <a:stretch/>
        </p:blipFill>
        <p:spPr>
          <a:xfrm>
            <a:off x="3048120" y="2514600"/>
            <a:ext cx="1981080" cy="175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5" name="Picture 4" descr="Картинка 19 из 1107337"/>
          <p:cNvPicPr/>
          <p:nvPr/>
        </p:nvPicPr>
        <p:blipFill>
          <a:blip r:embed="rId3"/>
          <a:stretch/>
        </p:blipFill>
        <p:spPr>
          <a:xfrm>
            <a:off x="6629400" y="1295280"/>
            <a:ext cx="1905120" cy="17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" name="Picture 6" descr="C:\Documents and Settings\User\Мои документы\Мои рисунки\815_th.jpg"/>
          <p:cNvPicPr/>
          <p:nvPr/>
        </p:nvPicPr>
        <p:blipFill>
          <a:blip r:embed="rId4"/>
          <a:stretch/>
        </p:blipFill>
        <p:spPr>
          <a:xfrm>
            <a:off x="457200" y="396252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Documents and Settings\User\Мои документы\Мои рисунки\20061014 last quarter Moon l.jpg"/>
          <p:cNvPicPr/>
          <p:nvPr/>
        </p:nvPicPr>
        <p:blipFill>
          <a:blip r:embed="rId5"/>
          <a:stretch/>
        </p:blipFill>
        <p:spPr>
          <a:xfrm>
            <a:off x="4876920" y="4648320"/>
            <a:ext cx="18288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35053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Может быть Луне на 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Скучно просто так ле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И она всерьёз реш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С нами в прятки поигр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User\Мои документы\Мои рисунки\illustration32.jpg"/>
          <p:cNvPicPr/>
          <p:nvPr/>
        </p:nvPicPr>
        <p:blipFill>
          <a:blip r:embed="rId1"/>
          <a:stretch/>
        </p:blipFill>
        <p:spPr>
          <a:xfrm>
            <a:off x="5105520" y="533520"/>
            <a:ext cx="2666880" cy="3504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Украшение настенное 'Месяц' - Увеличить..."/>
          <p:cNvPicPr/>
          <p:nvPr/>
        </p:nvPicPr>
        <p:blipFill>
          <a:blip r:embed="rId2"/>
          <a:stretch/>
        </p:blipFill>
        <p:spPr>
          <a:xfrm rot="1287600">
            <a:off x="7221240" y="409716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434960"/>
            <a:ext cx="45720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Хороший совет дала мама м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Найти в книгах информацию о Луне</a:t>
            </a:r>
            <a:r>
              <a:rPr b="0" lang="en-US" sz="2800" spc="-1" strike="noStrike">
                <a:solidFill>
                  <a:srgbClr val="262673"/>
                </a:solidFill>
                <a:latin typeface="Vogue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D:\ФОТО\Изображение 154.jpg"/>
          <p:cNvPicPr/>
          <p:nvPr/>
        </p:nvPicPr>
        <p:blipFill>
          <a:blip r:embed="rId1"/>
          <a:stretch/>
        </p:blipFill>
        <p:spPr>
          <a:xfrm>
            <a:off x="3809880" y="1219320"/>
            <a:ext cx="3930840" cy="289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Украшение настенное 'Месяц' - Увеличить..."/>
          <p:cNvPicPr/>
          <p:nvPr/>
        </p:nvPicPr>
        <p:blipFill>
          <a:blip r:embed="rId2"/>
          <a:stretch/>
        </p:blipFill>
        <p:spPr>
          <a:xfrm rot="1287600">
            <a:off x="7221240" y="409716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43434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Каждый вечер в Октяб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Прежде чем ложиться сп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Должен буду за Лу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В телескоп я наблюдать</a:t>
            </a:r>
            <a:r>
              <a:rPr b="0" lang="en-US" sz="2800" spc="-1" strike="noStrike">
                <a:solidFill>
                  <a:srgbClr val="262673"/>
                </a:solidFill>
                <a:latin typeface="Vog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D:\ФОТО\Изображение 150.jpg"/>
          <p:cNvPicPr/>
          <p:nvPr/>
        </p:nvPicPr>
        <p:blipFill>
          <a:blip r:embed="rId1"/>
          <a:stretch/>
        </p:blipFill>
        <p:spPr>
          <a:xfrm>
            <a:off x="4800600" y="609480"/>
            <a:ext cx="3886200" cy="2895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:\ФОТО\Изображение 151.jpg"/>
          <p:cNvPicPr/>
          <p:nvPr/>
        </p:nvPicPr>
        <p:blipFill>
          <a:blip r:embed="rId2"/>
          <a:stretch/>
        </p:blipFill>
        <p:spPr>
          <a:xfrm>
            <a:off x="762120" y="3581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Украшение настенное 'Месяц' - Увеличить..."/>
          <p:cNvPicPr/>
          <p:nvPr/>
        </p:nvPicPr>
        <p:blipFill>
          <a:blip r:embed="rId3"/>
          <a:stretch/>
        </p:blipFill>
        <p:spPr>
          <a:xfrm rot="1287600">
            <a:off x="7221240" y="409716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419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Было очень интерес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Наблюдать мне за Лу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То её не видно вовс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То лишь серпик золот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Затем серпик подраст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Был рогатым – круглым ст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Над Землёй уже па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Аппетитный  круглый  бли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А затем Луна о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Начинает убы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Этот круг, чудо – кру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Стал опять рогатым в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Содержимое 4" descr="http://www.newmonth.ru/moonfaza/moon6z.jpg"/>
          <p:cNvPicPr/>
          <p:nvPr/>
        </p:nvPicPr>
        <p:blipFill>
          <a:blip r:embed="rId1"/>
          <a:stretch/>
        </p:blipFill>
        <p:spPr>
          <a:xfrm>
            <a:off x="4800600" y="762120"/>
            <a:ext cx="685800" cy="5331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http://www.newmonth.ru/moonfaza/moon11z.jpg"/>
          <p:cNvPicPr/>
          <p:nvPr/>
        </p:nvPicPr>
        <p:blipFill>
          <a:blip r:embed="rId2"/>
          <a:stretch/>
        </p:blipFill>
        <p:spPr>
          <a:xfrm>
            <a:off x="5943600" y="91440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http://www.newmonth.ru/moonfaza/moon16z.jpg"/>
          <p:cNvPicPr/>
          <p:nvPr/>
        </p:nvPicPr>
        <p:blipFill>
          <a:blip r:embed="rId3"/>
          <a:stretch/>
        </p:blipFill>
        <p:spPr>
          <a:xfrm>
            <a:off x="7315200" y="24382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http://www.newmonth.ru/moonfaza/moon23z.jpg"/>
          <p:cNvPicPr/>
          <p:nvPr/>
        </p:nvPicPr>
        <p:blipFill>
          <a:blip r:embed="rId4"/>
          <a:stretch/>
        </p:blipFill>
        <p:spPr>
          <a:xfrm>
            <a:off x="5943600" y="403848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http://www.newmonth.ru/moonfaza/moon28z.jpg"/>
          <p:cNvPicPr/>
          <p:nvPr/>
        </p:nvPicPr>
        <p:blipFill>
          <a:blip r:embed="rId5"/>
          <a:stretch/>
        </p:blipFill>
        <p:spPr>
          <a:xfrm>
            <a:off x="4343400" y="5105520"/>
            <a:ext cx="1219320" cy="11570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http://www.newmonth.ru/moonfaza/moon5z.jpg"/>
          <p:cNvPicPr/>
          <p:nvPr/>
        </p:nvPicPr>
        <p:blipFill>
          <a:blip r:embed="rId6"/>
          <a:stretch/>
        </p:blipFill>
        <p:spPr>
          <a:xfrm>
            <a:off x="4191120" y="2286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Украшение настенное 'Месяц' - Увеличить..."/>
          <p:cNvPicPr/>
          <p:nvPr/>
        </p:nvPicPr>
        <p:blipFill>
          <a:blip r:embed="rId7"/>
          <a:stretch/>
        </p:blipFill>
        <p:spPr>
          <a:xfrm rot="1287600">
            <a:off x="7221240" y="409716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Vogue"/>
              </a:rPr>
              <a:t>       </a:t>
            </a:r>
            <a:br>
              <a:rPr sz="3200"/>
            </a:b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Чтобы проще было всё понять,</a:t>
            </a:r>
            <a:br>
              <a:rPr sz="2400"/>
            </a:b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Стал таблицу заполнять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                                           Октябрь 2011 года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Украшение настенное 'Месяц' - Увеличить..."/>
          <p:cNvPicPr/>
          <p:nvPr/>
        </p:nvPicPr>
        <p:blipFill>
          <a:blip r:embed="rId1"/>
          <a:stretch/>
        </p:blipFill>
        <p:spPr>
          <a:xfrm rot="1287600">
            <a:off x="7144920" y="417348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Picture 4" descr="C:\Documents and Settings\User\Рабочий стол\img030.jpg"/>
          <p:cNvPicPr/>
          <p:nvPr/>
        </p:nvPicPr>
        <p:blipFill>
          <a:blip r:embed="rId2"/>
          <a:stretch/>
        </p:blipFill>
        <p:spPr>
          <a:xfrm>
            <a:off x="1447920" y="1981080"/>
            <a:ext cx="6313320" cy="388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Украшение настенное 'Месяц' - Увеличить..."/>
          <p:cNvPicPr/>
          <p:nvPr/>
        </p:nvPicPr>
        <p:blipFill>
          <a:blip r:embed="rId3"/>
          <a:stretch/>
        </p:blipFill>
        <p:spPr>
          <a:xfrm rot="1287600">
            <a:off x="7144920" y="417348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Украшение настенное 'Месяц' - Увеличить..."/>
          <p:cNvPicPr/>
          <p:nvPr/>
        </p:nvPicPr>
        <p:blipFill>
          <a:blip r:embed="rId1"/>
          <a:stretch/>
        </p:blipFill>
        <p:spPr>
          <a:xfrm>
            <a:off x="5181480" y="2590920"/>
            <a:ext cx="1428840" cy="142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Книги также узнать помог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Что изменения формы Луны,</a:t>
            </a:r>
            <a:br>
              <a:rPr sz="2400"/>
            </a:b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Видимые с Земли,</a:t>
            </a:r>
            <a:br>
              <a:rPr sz="2400"/>
            </a:br>
            <a:r>
              <a:rPr b="0" lang="en-US" sz="2400" spc="-1" strike="noStrike">
                <a:solidFill>
                  <a:srgbClr val="262673"/>
                </a:solidFill>
                <a:latin typeface="Vogue"/>
              </a:rPr>
              <a:t>Называются фазами Лу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C:\Documents and Settings\User\Рабочий стол\img032.jpg"/>
          <p:cNvPicPr/>
          <p:nvPr/>
        </p:nvPicPr>
        <p:blipFill>
          <a:blip r:embed="rId2"/>
          <a:stretch/>
        </p:blipFill>
        <p:spPr>
          <a:xfrm>
            <a:off x="533520" y="2362320"/>
            <a:ext cx="5867280" cy="3760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Украшение настенное 'Месяц' - Увеличить..."/>
          <p:cNvPicPr/>
          <p:nvPr/>
        </p:nvPicPr>
        <p:blipFill>
          <a:blip r:embed="rId3"/>
          <a:stretch/>
        </p:blipFill>
        <p:spPr>
          <a:xfrm rot="1287600">
            <a:off x="7068600" y="4249800"/>
            <a:ext cx="14288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инна</cp:lastModifiedBy>
  <dcterms:modified xsi:type="dcterms:W3CDTF">2012-02-01T13:18:44Z</dcterms:modified>
  <cp:revision>68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