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5AA1-482A-422F-BEC0-9C590FAD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D52-3F24-4D91-99EA-EF5266A0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03B-7E9D-49F6-BA25-D77752B3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2C5D-B1C2-4518-A09C-9035D184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BDD4-6F24-4BCC-9AAD-D2D965C2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4618-F8FB-472F-AC80-921038F0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9343-036C-4A4C-93EE-7C60D954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A6A0-4249-4F3E-B5EC-674D441F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FB40-1D56-4D02-9EE8-A865A650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F419-E556-4DC4-9193-A31C9E49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DEA9-5AAC-4D50-A3E5-7C0315E8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25D-4CC1-4300-A076-DE069C93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9BB7-3EAA-4FB6-AD7D-81018635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06C6-96E1-429A-9E9D-E952372C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E7A5-DE4E-4AD9-B6EE-9EDA9684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3403-C18C-473B-AF48-661B66E2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95FF-4EBF-42BA-A861-A9D0F5EE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B771C-C5AA-43CF-812E-0886A6D9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DD89F-E937-4A14-8D17-46D341CA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8A459-D1FB-42F8-AA8D-BCD0109D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AF2D3-EF70-4E29-9C15-A372D66B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52A01-F691-4E0F-9729-542D22B4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AF9C-25BB-4ADE-B7B1-215B6BEA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0B02F-ABC6-4AC1-AC45-473B4120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42DC0-823F-4599-A314-5E800D51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A581A-7C64-487C-873A-30304867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9EC0E-7273-4067-A5EE-31186305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3A570-8064-4824-BF82-61EEDEE1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BB4DC-055A-4B3C-977E-24919B77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8AF0-44E2-4236-941A-38DEEC61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9B295-1F79-49A2-A920-A845E568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0D026-B182-41B5-9A26-5389BE6B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5E9B8-5F88-424B-AB16-1CEC577A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C4F-29F5-4331-9E06-948C07B7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7DE3A-21E8-46C8-990C-C703A615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A7009-3B11-4CF9-B5A4-CB74A5FF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9D5D1-6BB9-4804-B95F-3FCF196B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4E253-B593-4432-BFD0-FF18F89A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441AD-5517-4314-9ED8-0D96138F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BFA07-A277-406B-908E-37EE8EE2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D8C6A-84B3-4368-8CA9-B563E6EE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05423-2D90-43BE-8FC5-3DA5B46B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8A8B3-3F67-428D-8034-15567AAE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232FB-A74D-464A-AFD8-83BD3D2D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AB2-8297-48AF-AB55-53EDC87B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115E6-F1BD-4BD5-90FC-B8E36AE5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4DE76-D516-4D71-AA57-4F4FCD25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AEA0D-EC5D-4629-ADE8-916072C3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74C0C-F488-4F5D-80DE-693790E0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12787-18E8-454B-9152-9229F170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A83FC-9D58-4C24-963D-5376A37A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82107-DDB0-4800-9E52-DB15C8BA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673BA-CD28-44AF-B30A-49668A83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C2E08-F46C-44BC-A478-47A8B6EC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1600A-68F6-48E7-A2D2-E38EBC5D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A3E4-7F5C-46FA-A6FE-A5CDFECC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6C2A1-F145-49BF-B218-EBB40EC8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21C6-4017-44E2-BE6F-340D16E9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DC3-0908-4C40-B74C-DF5603D2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DBB-50C2-4DBA-968F-468D7611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616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6c6c6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6c6c6c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fff5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A85A-D2E8-49B4-A408-E624C673F4C9}" type="slidenum"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616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6c6c6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6c6c6c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fff5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2427-AF9E-4B7B-A1BA-EBC1E3C9BBD9}" type="slidenum"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616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6c6c6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6c6c6c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fff5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E71F-3D36-47FE-B119-9A62D91FE6B4}" type="slidenum"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616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6c6c6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6c6c6c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fff5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6E4C-2D58-4E41-9109-1E436D7FCE9C}" type="slidenum"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616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6c6c6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6c6c6c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fff5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7AC7-25C5-4A14-9FCE-90BB5722DC25}" type="slidenum"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Arial"/>
              </a:rPr>
              <a:t>Макеты</a:t>
            </a:r>
            <a:br>
              <a:rPr sz="4100"/>
            </a:br>
            <a:r>
              <a:rPr b="1" lang="ru-RU" sz="4100" spc="-1" strike="noStrike">
                <a:solidFill>
                  <a:srgbClr val="616161"/>
                </a:solidFill>
                <a:latin typeface="Arial"/>
              </a:rPr>
              <a:t>творческая работа по теме «Подобие»</a:t>
            </a:r>
            <a:endParaRPr b="1" lang="en-US" sz="41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866b"/>
                </a:solidFill>
                <a:latin typeface="Times New Roman"/>
              </a:rPr>
              <a:t>Платыгин Серг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866b"/>
                </a:solidFill>
                <a:latin typeface="Times New Roman"/>
              </a:rPr>
              <a:t>МБОУ СОШ№1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866b"/>
                </a:solidFill>
                <a:latin typeface="Times New Roman"/>
              </a:rPr>
              <a:t>Г.Снежинс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866b"/>
                </a:solidFill>
                <a:latin typeface="Times New Roman"/>
              </a:rPr>
              <a:t>Челябинская обла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22160" y="571680"/>
            <a:ext cx="7772400" cy="307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616161"/>
                </a:solidFill>
                <a:latin typeface="Times New Roman"/>
              </a:rPr>
              <a:t>Почему для иллюстрации  некоторых объектов или явлений люди делают макеты?</a:t>
            </a:r>
            <a:r>
              <a:rPr b="1" i="1" lang="ru-RU" sz="4500" spc="-1" strike="noStrike">
                <a:solidFill>
                  <a:srgbClr val="616161"/>
                </a:solidFill>
                <a:latin typeface="Arial"/>
              </a:rPr>
              <a:t> </a:t>
            </a:r>
            <a:endParaRPr b="1" lang="en-US" sz="4500" spc="-1" strike="noStrike">
              <a:solidFill>
                <a:srgbClr val="616161"/>
              </a:solidFill>
              <a:latin typeface="Arial"/>
            </a:endParaRPr>
          </a:p>
        </p:txBody>
      </p:sp>
      <p:pic>
        <p:nvPicPr>
          <p:cNvPr id="239" name="Picture 2" descr="http://www.bestmaket.ru/wp-content/gallery/miralinks/bm_miralinks_picture_17.jpg"/>
          <p:cNvPicPr/>
          <p:nvPr/>
        </p:nvPicPr>
        <p:blipFill>
          <a:blip r:embed="rId1"/>
          <a:stretch/>
        </p:blipFill>
        <p:spPr>
          <a:xfrm>
            <a:off x="2214720" y="3643200"/>
            <a:ext cx="46670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кеты зданий или целых архитектурных ансамблей всегда приковывают восхищенные взгляды. Людям нравится рассматривать детали домов и интерьеров, поражаясь их точности и чувствуя себя великанами. И как всегда бывает с чем-то поражающим воображение, возникает вопрос «А как это делают?» «Зачем?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2" descr="Минск в миниатюре, или Как делают архитектурные макеты"/>
          <p:cNvPicPr/>
          <p:nvPr/>
        </p:nvPicPr>
        <p:blipFill>
          <a:blip r:embed="rId1"/>
          <a:stretch/>
        </p:blipFill>
        <p:spPr>
          <a:xfrm>
            <a:off x="1214280" y="3643200"/>
            <a:ext cx="6762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503280" y="529920"/>
            <a:ext cx="8183520" cy="332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ля чего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первую очередь макетная студия изготавливает макеты для строительных компаний, чтобы наглядно демонстрировать свои проекты на всевозможных выставках и форумах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некоторых случаях они помогают архитекторам рассказывать о новых концептуальных идеях, становясь «гостями» научных конференци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2" descr="http://www.bestmaket.ru/wp-content/gallery/miralinks/bm_miralinks_picture_16.jpg"/>
          <p:cNvPicPr/>
          <p:nvPr/>
        </p:nvPicPr>
        <p:blipFill>
          <a:blip r:embed="rId1"/>
          <a:srcRect l="0" t="9946" r="0" b="10469"/>
          <a:stretch/>
        </p:blipFill>
        <p:spPr>
          <a:xfrm>
            <a:off x="2428920" y="3286080"/>
            <a:ext cx="50274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56760" y="1714320"/>
            <a:ext cx="4071960" cy="4616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нно наглядность — основное прикладное значение архитектурных макетов. Это как подняться над городом, микрорайоном на вертолете и посмотреть вниз с высоты. Макет несет в себе очень много информации, а ведь в отличие от миллионных вложений в постройку зданий стоит в разы меньше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2" descr="http://realt.onliner.by/wp-content/uploads/2011/10/IMG_9564.jpg"/>
          <p:cNvPicPr/>
          <p:nvPr/>
        </p:nvPicPr>
        <p:blipFill>
          <a:blip r:embed="rId1"/>
          <a:srcRect l="13734" t="9517" r="12325" b="0"/>
          <a:stretch/>
        </p:blipFill>
        <p:spPr>
          <a:xfrm>
            <a:off x="4214880" y="1928880"/>
            <a:ext cx="4475160" cy="36478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"/>
          <p:cNvSpPr/>
          <p:nvPr/>
        </p:nvSpPr>
        <p:spPr>
          <a:xfrm>
            <a:off x="642960" y="64296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 макета представить, как будет смотреться на местности тот или иной объект тяж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360"/>
            <a:ext cx="818352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ое правило — четкое выдерживание пропорций. Если масштаб выбран как 1:350, то и машины, и дороги, и люди, и деревья  должны быть «соразмерными». </a:t>
            </a:r>
            <a:endParaRPr b="1" lang="en-US" sz="2400" spc="-1" strike="noStrike">
              <a:solidFill>
                <a:srgbClr val="616161"/>
              </a:solidFill>
              <a:latin typeface="Arial"/>
            </a:endParaRPr>
          </a:p>
        </p:txBody>
      </p:sp>
      <p:pic>
        <p:nvPicPr>
          <p:cNvPr id="248" name="Picture 2" descr="http://www.santimir.net/model/type119/images/i119-06"/>
          <p:cNvPicPr/>
          <p:nvPr/>
        </p:nvPicPr>
        <p:blipFill>
          <a:blip r:embed="rId1"/>
          <a:stretch/>
        </p:blipFill>
        <p:spPr>
          <a:xfrm>
            <a:off x="1785960" y="500040"/>
            <a:ext cx="595296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http://www.rosmaket.ru/files/shop/b_1134.jpg"/>
          <p:cNvPicPr/>
          <p:nvPr/>
        </p:nvPicPr>
        <p:blipFill>
          <a:blip r:embed="rId1"/>
          <a:stretch/>
        </p:blipFill>
        <p:spPr>
          <a:xfrm>
            <a:off x="642960" y="571680"/>
            <a:ext cx="77151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http://arseniev.org/files/upimg/baikal_650_640.jpg"/>
          <p:cNvPicPr/>
          <p:nvPr/>
        </p:nvPicPr>
        <p:blipFill>
          <a:blip r:embed="rId1"/>
          <a:stretch/>
        </p:blipFill>
        <p:spPr>
          <a:xfrm>
            <a:off x="888840" y="571680"/>
            <a:ext cx="725508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http://www.modellmix.su/_images/photos/products/419/1.jpg"/>
          <p:cNvPicPr/>
          <p:nvPr/>
        </p:nvPicPr>
        <p:blipFill>
          <a:blip r:embed="rId1"/>
          <a:stretch/>
        </p:blipFill>
        <p:spPr>
          <a:xfrm>
            <a:off x="1214280" y="428760"/>
            <a:ext cx="657252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5:34:33Z</dcterms:created>
  <dc:creator>Администратор</dc:creator>
  <dc:description/>
  <dc:language>en-US</dc:language>
  <cp:lastModifiedBy>Администратор</cp:lastModifiedBy>
  <dcterms:modified xsi:type="dcterms:W3CDTF">2013-02-27T16:12:33Z</dcterms:modified>
  <cp:revision>6</cp:revision>
  <dc:subject/>
  <dc:title>Слайд 1</dc:title>
</cp:coreProperties>
</file>