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C23-C4EE-4A1C-84F0-D03BD284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F83-A2F5-41B3-B162-14D7137E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0E2-9AEB-4967-A789-332AAED0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1DD-0BD2-4AA3-AE2A-68BDFB34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6004-C5ED-4F03-B4BE-FD56A2EC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1640-921F-429A-A3B2-D2C68D9A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B783-6746-4832-8DFD-62A2EFC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72F-6CB8-45A5-B2F9-1ED8721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20F-5D0F-4734-BA2C-BF5FF96C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B9A5-282C-4FC3-9E0E-3716BEA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DB23-5023-46A7-B552-2EBAB46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93B-9EC8-43E3-83CF-04A80AE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1E8A-ACF0-4476-ABFA-3B465865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CCCF-3A1F-47FA-8354-7CA633DC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7913-C202-453A-83D0-85658BB0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1564-A0F5-4126-8EB0-E68B9BC5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3B3F-4200-41CC-B3D3-15381E06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8C0-E11D-40A7-A0A0-EF784B7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B55-8DCB-443B-A636-1943164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2A9-30E9-4D42-9730-14BC80BE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065-54A3-4582-97E9-47551BA6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6FF-6980-445B-9205-373797B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473-1DF6-4CFC-9EBB-251A625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136-EBA0-48C0-B0D1-C8F32D7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8E55-184D-497E-83F7-CE520D47B7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449-887F-416B-97F7-0E262BB4BE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Марийский край и губернские реформы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века. Гербы городов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к ИКН в 7 клас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Л.Ш.Санни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47600" y="235260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я́тская губе́рния — губерния в Российской империи, Российской республике и Советском Союзе с центром в городе Вятке (современном Кирове). Образована в 1796 году из Вятского наместничества Казанской губерн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ерб Вятской губер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иров (Вятка). Утвержден 28 мая 1781 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ние герба: "В золотом поле из облака выходящая рука, держащая натянутый лук со стрелою, а над ней в верхней части щита крест крас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Яранск (старый герб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вержден 28 мая 1781 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ние герб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"В верхней части щита герб Вят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ижней - в голубом поле две дикие утки, в знак того, что в окрестностях сего города сей птицею изобильна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Уржу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вержден 28 мая 1781 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ние герб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"В верхней части щита герб Вятск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ижней - в голубом поле дикий гусь, которых в окрестностях сего города весьма много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анчурск (Царевосанчурск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вержден 28 мая 1781 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исание герб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"В верхней части щита герб Вятск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ижней - в серебряном поле на лугу ходящая птица, называемая конюк, каковых в окрестностях оного города весьма много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жегородская Губерния — административно-территориальное формирование в составе Российской Империи с центром в Нижнем Новго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ерб Нижегородской губер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рб Нижегородской губернии утвержден 8 декабря 1856 г. Описание герба: "В серебряном поле червленый идущий олень; рога о шести отростках, копыта черные. Щит увенчан Императорскою короною и окружен золотыми дубовыми листьями, соединенными Андреевскою лентою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асильсурск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б Василя утвержден 16 августа 1781 года, когда он был уездным городом Нижегородского наместнич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ерхнем поле нижегородский герб; в нижнем "основание корабельной кормы в золотом поле в знак того, что в окрестностях сего города лучшие корабельные леса заготовляются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изменения произошли в административно-территориальном устройстве Марийского края в 18-м век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гда были учреждены гербы городов Марийского кра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рбы имели форму щита. Почему щит делился на две част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исовать гербы городов Марийского края(по желанию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авнить гербы городов Марийского края 18-го века с настоящими (сегодняшними) герб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губернской реформе Петра I была учреждена Казанская губерния в 1708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дминистративное дел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5148000" cy="4205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0" y="1484280"/>
            <a:ext cx="406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781 году Казанская губерния преобразована в наместничество (с 1796 года — вновь губерния), в которое в вошли 13 уездов. В том же году был утверждены гербы губернии и уездных город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це XVIII века в губернии насчитывалось 13 городов: Казань, Арск, Козьмодемьянск, Лаишево, Мамадыш, Свияжск, Спасск, Тетюши, Царевококшайск (Йошкар-Ола), Цивильск, Чебоксары, Чистополь, Ядрин, всего 7272 населенных пунк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губернской реформе  1708-1710 гг. территория Марийского края входила в соста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рех губер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 Казанск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озьмодемьянский, Кокшайский, Царевококшайский уезд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Вятск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арийские селения Уржумского, Царевосанчурского и Яранского уезд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Нижегородск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арийские селения Васильсурского у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рбы губернских и уездных городов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рий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рая в 18-м ве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916360" y="1517760"/>
            <a:ext cx="35128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рта – схем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Марийского края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II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0920" y="1479600"/>
            <a:ext cx="85690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Герб Казанской губерни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496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ён 8 декабря 1856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герба: «В серебряном щите черный коронованный дракон, крылья и хвост червленые, клюв и когти золотые; язык червленый. Щит увенчан Императорской короной и окружен золотыми дубовыми листьями, соединенными Андреевской лентой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ерб уездного города Козмодемьянс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3909960" cy="4178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44276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 в 1583 г. как крепост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б имеет форму щита, который делится на две части. В верхней части изображался герб губернского города. В нижней части помещался герб уездного города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расном поле золотой лук со скрещенными на нем того же металла тремя стрел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ерб уездного города Царевококшайс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4176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ан в 1584 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ерб имеет на голубом фоне серебренного лос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7:22:46Z</dcterms:created>
  <dc:creator>User</dc:creator>
  <dc:description/>
  <dc:language>en-US</dc:language>
  <cp:lastModifiedBy>User</cp:lastModifiedBy>
  <dcterms:modified xsi:type="dcterms:W3CDTF">2012-11-04T07:21:17Z</dcterms:modified>
  <cp:revision>5</cp:revision>
  <dc:subject/>
  <dc:title>Марийский край и губернские реформы XVIII века. Гербы городов </dc:title>
</cp:coreProperties>
</file>