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wmf" ContentType="image/x-wmf"/>
  <Override PartName="/ppt/media/image2.gif" ContentType="image/gi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8555-1A38-4C5F-A901-69B844DCE8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4B65-5661-4DA2-873C-F7B03B7B69E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770-4EB4-412F-A632-99368761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BAB-1A15-4D5E-8B47-021DF6F9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5E2-3E45-4F9A-9E06-F94FFD82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AA0-6EBF-4EC9-9AFC-1CDFAD9D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C43F-D89A-4ED6-9BBD-0CB492EC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1D77-17FD-4519-82E6-12BCC4D8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BE8C-2799-4FAE-9A13-35996890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99CF-A5F0-44FF-96B7-CC41F001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A64F-01EA-4A71-9C0A-117B8D47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3819-2760-4047-B346-4B17AC86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476D-072E-41FF-B805-F45FA88D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C17-6E32-4E73-8F69-AF4819FC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0B5E-42BF-4A15-A977-0ED49236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367B-C1A0-4EB0-BB72-A0D365A7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A41C-6C0E-413A-9CC1-E5409E20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BEAA-1B88-478B-8B44-AD392B8F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2A59-1A70-45BC-B693-219268DA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B9D-CCAE-4154-8B2A-338F6FFA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F2D-FDBD-4BF7-BEB0-2A6E35C5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700-F736-4DA1-8E0B-EFD3CEBD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2B1-BBCD-4AC1-8454-0DC5783D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418B-A3C4-47DB-9335-5DA8DCEC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0568-DFD0-4BF6-8E80-DEDFBA93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D71-7DB2-4C97-A7A1-BF032B2D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B5DD-16B0-48B6-A1F8-2BC1FA9292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0187-5147-4CFD-BECF-EA709F02BD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Белем бир</a:t>
            </a:r>
            <a:r>
              <a:rPr b="1" lang="tt-RU" sz="3400" spc="-1" strike="noStrike">
                <a:solidFill>
                  <a:srgbClr val="ffffff"/>
                </a:solidFill>
                <a:latin typeface="Times New Roman"/>
              </a:rPr>
              <a:t>ү процессын информатизацияләү: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Дәресләрдә комьютер технологияләре куллан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нформатика фәне дәресләрен  башка фәннәрдән белемнәрне ныгыту фәне буларак куллан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кучыларның белемнәрен тикшерү өчен компьютер тестлары куллан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кучыларны проект эшләренә тар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392240" y="58672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астер-клас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076400" y="1571760"/>
            <a:ext cx="6989760" cy="51814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611280" y="3362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ест төзү 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алгоритмы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714680" y="1847880"/>
            <a:ext cx="4997160" cy="40100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"/>
          <p:cNvSpPr/>
          <p:nvPr/>
        </p:nvSpPr>
        <p:spPr>
          <a:xfrm>
            <a:off x="611280" y="3362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ест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нәтиҗәсе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омпьютер тестлары төзү 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алгоритмы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04920" y="18288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ter test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программасын эшкә җибәрерг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6"/>
          <p:cNvGraphicFramePr/>
          <p:nvPr/>
        </p:nvGraphicFramePr>
        <p:xfrm>
          <a:off x="2209680" y="2590920"/>
          <a:ext cx="495324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90920"/>
                    <a:ext cx="495324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5"/>
          <p:cNvSpPr/>
          <p:nvPr/>
        </p:nvSpPr>
        <p:spPr>
          <a:xfrm>
            <a:off x="457200" y="19810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Тест – Создать тес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680000" cy="37450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611280" y="332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омпьютер тестлары төзү 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алгоритмы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"/>
          <p:cNvSpPr/>
          <p:nvPr/>
        </p:nvSpPr>
        <p:spPr>
          <a:xfrm>
            <a:off x="228600" y="16765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Кирәкле пунктларны тутырып Далее. кнопкасына басар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2700360" y="2924280"/>
            <a:ext cx="3816360" cy="3673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"/>
          <p:cNvSpPr/>
          <p:nvPr/>
        </p:nvSpPr>
        <p:spPr>
          <a:xfrm>
            <a:off x="611280" y="332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омпьютер тестлары төзү 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алгоритмы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6"/>
          <p:cNvSpPr/>
          <p:nvPr/>
        </p:nvSpPr>
        <p:spPr>
          <a:xfrm>
            <a:off x="380880" y="1828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228600" y="1828800"/>
            <a:ext cx="830592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Сорау текстлары һәм җавап вариантлары кертерг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өрес җвапн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илгеләп алыр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алее кнопкасы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сарг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611280" y="332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омпьютер тестлары төзү 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алгоритмы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9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508644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5"/>
          <p:cNvSpPr/>
          <p:nvPr/>
        </p:nvSpPr>
        <p:spPr>
          <a:xfrm>
            <a:off x="45720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1828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 Нәкъ шул тәртиптә сорауларны кертергә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2428920" y="2571840"/>
            <a:ext cx="5076720" cy="37796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611280" y="332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омпьютер тестлары төзү 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алгоритмы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228600" y="1600200"/>
            <a:ext cx="868680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. Төзелгән тестны әзер тестлар списогына керт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4140360" y="2349360"/>
            <a:ext cx="3990960" cy="35719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611280" y="332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омпьютер тестлары төзү 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алгоритмы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5"/>
          <p:cNvSpPr/>
          <p:nvPr/>
        </p:nvSpPr>
        <p:spPr>
          <a:xfrm>
            <a:off x="395280" y="177336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ст үтү өчен  Начать тестирование кнопкасына басар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7"/>
          <p:cNvSpPr/>
          <p:nvPr/>
        </p:nvSpPr>
        <p:spPr>
          <a:xfrm flipH="1">
            <a:off x="2590560" y="2438280"/>
            <a:ext cx="1600200" cy="76212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2411280" y="2924280"/>
            <a:ext cx="4048200" cy="3591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"/>
          <p:cNvSpPr/>
          <p:nvPr/>
        </p:nvSpPr>
        <p:spPr>
          <a:xfrm>
            <a:off x="611280" y="332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омпьютер тестлары төзү 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алгоритмы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«Мастер тест» программасы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1187280" y="1881360"/>
            <a:ext cx="596592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Белемнәрне тикшерүнең традицион формалары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Өй эшен тикшерү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елемнәрне телдән тикшерү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елемнәрне язмача тикшерү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7392240" y="594360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астер-клас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ест  редакторы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2109960" y="1843200"/>
            <a:ext cx="49240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ест нәтиҗәс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47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444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Традицион форманың кимчелекләре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емне бәяләү объектив түге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үп вакыт тәлап итә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р юлы барлык укучылардан да сорарга мөмкин түг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44880" y="58672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астер-клас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519480"/>
            <a:ext cx="8076960" cy="30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Белемнәрне тикшерүнең яңа формасы–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4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533520" y="3733920"/>
            <a:ext cx="2590560" cy="2181240"/>
          </a:xfrm>
          <a:prstGeom prst="rect">
            <a:avLst/>
          </a:prstGeom>
          <a:ln w="0">
            <a:noFill/>
          </a:ln>
        </p:spPr>
      </p:pic>
      <p:sp>
        <p:nvSpPr>
          <p:cNvPr id="159" name="WordArt 5"/>
          <p:cNvSpPr txBox="1"/>
          <p:nvPr/>
        </p:nvSpPr>
        <p:spPr>
          <a:xfrm>
            <a:off x="2438280" y="2438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омпьютер  тестлары.</a:t>
            </a:r>
            <a:endParaRPr b="1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7392240" y="58672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астер-клас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8077320" cy="42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c00"/>
                </a:solidFill>
                <a:latin typeface="Arial Black"/>
              </a:rPr>
              <a:t>К</a:t>
            </a:r>
            <a:r>
              <a:rPr b="0" lang="ru-RU" sz="6600" spc="-1" strike="noStrike">
                <a:solidFill>
                  <a:srgbClr val="ffcc00"/>
                </a:solidFill>
                <a:latin typeface="Arial Black"/>
              </a:rPr>
              <a:t>омпьютер ярдәмендә белемнәрне тикшерү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01956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стер-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24300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ест конструкторы программасы: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улланырга гади һәм уңай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орауларны текст һәм рәсемнәр белән бирергә мөмкин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ограмма тест үтүне вакытка куярга мөмкинлек бир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Җаваплар  автомат рәвештә  ку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орауларны тәрпип номеры буенча һәм  очраклы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куярга мөмк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әтиҗә ясый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357280" y="1785960"/>
            <a:ext cx="5669280" cy="49579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611280" y="3362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« М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y test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» программасы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106640" y="1857240"/>
            <a:ext cx="6180120" cy="48913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611280" y="3362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ест төзү 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алгоритмы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066680" y="1714680"/>
            <a:ext cx="5791320" cy="50781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611280" y="3362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ест төзү 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алгоритмы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06:42:33Z</dcterms:created>
  <dc:creator>0</dc:creator>
  <dc:description/>
  <dc:language>en-US</dc:language>
  <cp:lastModifiedBy>User</cp:lastModifiedBy>
  <dcterms:modified xsi:type="dcterms:W3CDTF">2009-02-19T16:35:00Z</dcterms:modified>
  <cp:revision>34</cp:revision>
  <dc:subject/>
  <dc:title>Тестирование  с помощью компьютера</dc:title>
</cp:coreProperties>
</file>