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BFFE-FABC-4049-B443-C8794948E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DE5-B55C-4B51-AC29-E4ADBF83B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4C57-2EE9-4999-944A-BF443BC4E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C7C-595C-4A2E-9B3E-52906631B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60C-53B6-459C-9D54-F018264EE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BC8-4CB6-420F-A321-2A0C60B7E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1F9D-2615-4B51-A940-F37AF111B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F13-8EC5-4C54-81EA-9C72E1EB2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939-EBF9-474B-A2AA-48172F3D5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49FC-E00C-40A5-9257-C8F4EEC84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E8D9-1028-45D0-89B0-3FC4073F0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8BD-B9F6-4223-BDD9-716BC8174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313-7979-4FFD-8B0D-43998AC9F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9645-878B-4348-86EF-68A833965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1987-0FE2-4540-B916-1C7A83E5A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BE18-C015-4295-92F8-B9C065B5A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789F-7CF7-48F1-AA07-C747CDC45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2C4-3DCE-4910-B3A8-0F2F2C3F9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404-5719-4AD4-93EB-9C7BB3732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E53-A5B8-47BE-85BF-E9DD66BE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4B7-1EFD-47EF-B727-D5EDC8F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75E-8F1D-4684-9215-F20F1EE8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550-13A8-4B21-9095-DB030B97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DE4A-2219-445D-98EB-F3D2526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EC5-8FF7-4AE2-9917-FE856D0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641B-9BA3-448A-ABE4-2B0251D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167-3439-45D0-BDDD-3556982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4DDE-D6DD-4F58-AC73-A76CF62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5CC-B780-49F9-9208-3BD16CA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549C-3D03-4FAB-BEEF-02D9E40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19D-C41C-4BC5-AB52-6C45C3E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579-1B37-4B5D-B778-6F5715B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699-DBEA-4750-B2AA-4853E46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E83D-E3D0-494C-B958-282427B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46C-B34D-456D-8E7E-BFF01869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3EBB-CF47-4303-874F-43D2F0B6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943-15F1-4058-80DD-752100F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5D0-E9A9-46DA-A6BC-B408375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B6B-50EB-4465-806F-0F7BE0D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14B-7233-4DE4-BF13-9DB8C2F2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213-8B19-41D3-982B-5EFCA00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5EF-3F56-4E7B-8964-084B9EB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2D0-28B2-49CD-8134-86570CA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A53-A5B8-4391-A9AC-D849F39B5B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18FA-C517-477D-90BA-2AE5A7A4DA4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07480" cy="25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ка. Л.Г.Петерсон . 4 класс</a:t>
            </a:r>
            <a:br>
              <a:rPr sz="28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 урок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i="1" lang="en-US" sz="4000" spc="-1" strike="noStrike">
                <a:solidFill>
                  <a:srgbClr val="0000ff"/>
                </a:solidFill>
                <a:latin typeface="Tahoma"/>
              </a:rPr>
              <a:t>Построение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Tahoma"/>
              </a:rPr>
              <a:t>диаграмм. Самостоятельная работа</a:t>
            </a: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»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Тип урока. Рефлекси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2700360" y="3357360"/>
            <a:ext cx="6262200" cy="2481840"/>
            <a:chOff x="2700360" y="3357360"/>
            <a:chExt cx="6262200" cy="2481840"/>
          </a:xfrm>
        </p:grpSpPr>
        <p:sp>
          <p:nvSpPr>
            <p:cNvPr id="109" name="Line 6"/>
            <p:cNvSpPr/>
            <p:nvPr/>
          </p:nvSpPr>
          <p:spPr>
            <a:xfrm flipV="1">
              <a:off x="3467880" y="3357360"/>
              <a:ext cx="0" cy="199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3467880" y="5352480"/>
              <a:ext cx="549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3594960" y="5440320"/>
              <a:ext cx="8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ан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Text Box 9"/>
            <p:cNvSpPr/>
            <p:nvPr/>
          </p:nvSpPr>
          <p:spPr>
            <a:xfrm>
              <a:off x="4617360" y="544032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аш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5702400" y="5440320"/>
              <a:ext cx="8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л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790320" y="5440320"/>
              <a:ext cx="12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гор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2893320" y="5310360"/>
              <a:ext cx="3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2828160" y="4962240"/>
              <a:ext cx="31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2765160" y="465804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2700360" y="4354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16"/>
            <p:cNvSpPr/>
            <p:nvPr/>
          </p:nvSpPr>
          <p:spPr>
            <a:xfrm>
              <a:off x="2765160" y="4051080"/>
              <a:ext cx="5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2765160" y="3747600"/>
              <a:ext cx="5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765160" y="3443760"/>
              <a:ext cx="5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>
              <a:off x="3339720" y="478836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>
              <a:off x="3339720" y="448524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21"/>
            <p:cNvSpPr/>
            <p:nvPr/>
          </p:nvSpPr>
          <p:spPr>
            <a:xfrm>
              <a:off x="3339720" y="418068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22"/>
            <p:cNvSpPr/>
            <p:nvPr/>
          </p:nvSpPr>
          <p:spPr>
            <a:xfrm>
              <a:off x="3339720" y="38779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3339720" y="35737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339720" y="509220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5"/>
            <p:cNvSpPr/>
            <p:nvPr/>
          </p:nvSpPr>
          <p:spPr>
            <a:xfrm>
              <a:off x="3659760" y="4788360"/>
              <a:ext cx="702720" cy="563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4617360" y="3877920"/>
              <a:ext cx="703080" cy="147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5640480" y="4442040"/>
              <a:ext cx="702720" cy="9104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28"/>
            <p:cNvSpPr/>
            <p:nvPr/>
          </p:nvSpPr>
          <p:spPr>
            <a:xfrm>
              <a:off x="6790320" y="3530520"/>
              <a:ext cx="703080" cy="1821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8068320" y="4442040"/>
              <a:ext cx="702720" cy="9104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3" name="pesnyagudvina_385727.mp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5"/>
          <p:cNvSpPr/>
          <p:nvPr/>
        </p:nvSpPr>
        <p:spPr>
          <a:xfrm>
            <a:off x="1116000" y="6237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nard MT Condensed"/>
              </a:rPr>
              <a:t>Учитель начальных классов МОУ  лицей № 4 г.Ейска МО Ейский район  Журавлева Н.П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34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Алгоритм построения линейных (столбчатых) диаграм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042920" y="2205000"/>
            <a:ext cx="741672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добрать цену деления, удобную для обозначения на не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чений данных велич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42920" y="3573360"/>
            <a:ext cx="74898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образить шкалу на вертикальном координатном луче, а н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оризонтальном луче отметить на равном расстоя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руг от друга точки по числу имеющихся велич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900000" y="5084640"/>
            <a:ext cx="7705800" cy="1081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т выбранных точек построить вертикальные отрезки (столбцы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сота которых равна значению соответствующей велич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572000" y="3068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4572000" y="44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Посещаемость детей библиоте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2781360"/>
          <a:ext cx="8497800" cy="2314440"/>
        </p:xfrm>
        <a:graphic>
          <a:graphicData uri="http://schemas.openxmlformats.org/drawingml/2006/table">
            <a:tbl>
              <a:tblPr/>
              <a:tblGrid>
                <a:gridCol w="1670040"/>
                <a:gridCol w="1238040"/>
                <a:gridCol w="1413000"/>
                <a:gridCol w="890640"/>
                <a:gridCol w="1195200"/>
                <a:gridCol w="970200"/>
                <a:gridCol w="112068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кн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Посещаемость детей  библиоте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1258920" y="595008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258920" y="162864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1128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1128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1128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1128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9528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95280" y="27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6836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1700280"/>
            <a:ext cx="72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104292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104292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104292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1042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111600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1116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3"/>
          <p:cNvSpPr/>
          <p:nvPr/>
        </p:nvSpPr>
        <p:spPr>
          <a:xfrm>
            <a:off x="111600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104292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1547640" y="609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н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556000" y="609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ев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3635280" y="609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4932360" y="6093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п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6156360" y="609300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7236000" y="6093000"/>
            <a:ext cx="107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ю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4"/>
          <p:cNvSpPr/>
          <p:nvPr/>
        </p:nvSpPr>
        <p:spPr>
          <a:xfrm flipV="1">
            <a:off x="1908000" y="5589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5"/>
          <p:cNvSpPr/>
          <p:nvPr/>
        </p:nvSpPr>
        <p:spPr>
          <a:xfrm flipV="1">
            <a:off x="2987640" y="450864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36"/>
          <p:cNvSpPr/>
          <p:nvPr/>
        </p:nvSpPr>
        <p:spPr>
          <a:xfrm flipV="1">
            <a:off x="4140360" y="3284640"/>
            <a:ext cx="0" cy="26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521964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38"/>
          <p:cNvSpPr/>
          <p:nvPr/>
        </p:nvSpPr>
        <p:spPr>
          <a:xfrm flipV="1">
            <a:off x="5292720" y="4220640"/>
            <a:ext cx="0" cy="17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39"/>
          <p:cNvSpPr/>
          <p:nvPr/>
        </p:nvSpPr>
        <p:spPr>
          <a:xfrm flipV="1">
            <a:off x="6443640" y="2565360"/>
            <a:ext cx="0" cy="338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0"/>
          <p:cNvSpPr/>
          <p:nvPr/>
        </p:nvSpPr>
        <p:spPr>
          <a:xfrm flipV="1">
            <a:off x="7812000" y="3068640"/>
            <a:ext cx="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1"/>
          <p:cNvSpPr/>
          <p:nvPr/>
        </p:nvSpPr>
        <p:spPr>
          <a:xfrm flipV="1">
            <a:off x="7812000" y="198864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42"/>
          <p:cNvSpPr/>
          <p:nvPr/>
        </p:nvSpPr>
        <p:spPr>
          <a:xfrm>
            <a:off x="7812000" y="2708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br>
              <a:rPr sz="48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Вариант 1                                     Вариант 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2" name="Picture 4" descr="5A3CBE4B"/>
          <p:cNvPicPr/>
          <p:nvPr/>
        </p:nvPicPr>
        <p:blipFill>
          <a:blip r:embed="rId2"/>
          <a:stretch/>
        </p:blipFill>
        <p:spPr>
          <a:xfrm>
            <a:off x="468360" y="1844640"/>
            <a:ext cx="3816360" cy="4510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3FDF991"/>
          <p:cNvPicPr/>
          <p:nvPr/>
        </p:nvPicPr>
        <p:blipFill>
          <a:blip r:embed="rId3"/>
          <a:stretch/>
        </p:blipFill>
        <p:spPr>
          <a:xfrm>
            <a:off x="4788000" y="1773360"/>
            <a:ext cx="3887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Алгоритм построения круговых диаграм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5"/>
              <p:cNvSpPr txBox="1"/>
              <p:nvPr/>
            </p:nvSpPr>
            <p:spPr>
              <a:xfrm>
                <a:off x="6973920" y="2816280"/>
                <a:ext cx="152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971640" y="1773360"/>
            <a:ext cx="734364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йти часть      целого, которая приход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каждую из велич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258920" y="3789360"/>
            <a:ext cx="684036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йти величины центральных углов, соответствующи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ждой части: 36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˚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 </a:t>
            </a:r>
            <a:r>
              <a:rPr b="0" i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٠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476360" y="5373720"/>
            <a:ext cx="626436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строить  в данной окружности центральные угл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ответствующие каждой ча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428472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21164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971640" y="1773360"/>
            <a:ext cx="734364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йти часть      целого, которая приход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каждую из велич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8"/>
              <p:cNvSpPr txBox="1"/>
              <p:nvPr/>
            </p:nvSpPr>
            <p:spPr>
              <a:xfrm>
                <a:off x="3564000" y="1773360"/>
                <a:ext cx="315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ahoma"/>
              </a:rPr>
              <a:t>Без труда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ahoma"/>
              </a:rPr>
              <a:t>не вытащишь рыбку из пруда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Эталон для самопровер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 а) 7 че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31 че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) на 5 человек мен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) на 5 человек бол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5 = 5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на  трамва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7 = 7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на метр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9 = 9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 на автобу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5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7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9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5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пешк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Эталон для самопровер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ариант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 а) 11 м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45 м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) на 3 мин мен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) на 5 мин бол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3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8 = 8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учебн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5 = 5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сказ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36 х 9 = 9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пов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6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8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 5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9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4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расск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Этап рефлекси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14280" y="1989000"/>
          <a:ext cx="8074080" cy="468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6360"/>
                <a:gridCol w="201924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 ошиб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уме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умею анализировать линейные, круговые диа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умею строить круговую диаграм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умею строить линейную (столбчатую) диаграм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умею составлять круговую, линейную диаграм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AutoShape 108">
            <a:hlinkClick r:id="" action="ppaction://hlinkshowjump?jump=firstslide"/>
          </p:cNvPr>
          <p:cNvSpPr/>
          <p:nvPr/>
        </p:nvSpPr>
        <p:spPr>
          <a:xfrm>
            <a:off x="8459640" y="6093000"/>
            <a:ext cx="540000" cy="620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20640"/>
              <a:gd name="textAreaBottom" fmla="*/ 585720 h 620640"/>
            </a:gdLst>
            <a:ahLst/>
            <a:rect l="textAreaLeft" t="textAreaTop" r="textAreaRight" b="textAreaBottom"/>
            <a:pathLst>
              <a:path w="21600" h="24823">
                <a:moveTo>
                  <a:pt x="0" y="0"/>
                </a:moveTo>
                <a:lnTo>
                  <a:pt x="21600" y="0"/>
                </a:lnTo>
                <a:lnTo>
                  <a:pt x="21600" y="24823"/>
                </a:lnTo>
                <a:lnTo>
                  <a:pt x="0" y="24823"/>
                </a:lnTo>
                <a:close/>
              </a:path>
              <a:path fill="lightenLess" w="21600" h="24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23">
                <a:moveTo>
                  <a:pt x="21600" y="0"/>
                </a:moveTo>
                <a:lnTo>
                  <a:pt x="21600" y="24823"/>
                </a:lnTo>
                <a:lnTo>
                  <a:pt x="20200" y="23423"/>
                </a:lnTo>
                <a:lnTo>
                  <a:pt x="20200" y="1400"/>
                </a:lnTo>
                <a:close/>
              </a:path>
              <a:path fill="darkenLess" w="21600" h="24823">
                <a:moveTo>
                  <a:pt x="21600" y="24823"/>
                </a:moveTo>
                <a:lnTo>
                  <a:pt x="0" y="24823"/>
                </a:lnTo>
                <a:lnTo>
                  <a:pt x="1400" y="23423"/>
                </a:lnTo>
                <a:lnTo>
                  <a:pt x="20200" y="23423"/>
                </a:lnTo>
                <a:close/>
              </a:path>
              <a:path fill="lighten" w="21600" h="24823">
                <a:moveTo>
                  <a:pt x="0" y="24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23"/>
                </a:lnTo>
                <a:close/>
              </a:path>
              <a:path fill="darken" w="21600" h="24823">
                <a:moveTo>
                  <a:pt x="10800" y="5449"/>
                </a:moveTo>
                <a:lnTo>
                  <a:pt x="13376" y="8060"/>
                </a:lnTo>
                <a:lnTo>
                  <a:pt x="13376" y="6319"/>
                </a:lnTo>
                <a:lnTo>
                  <a:pt x="15152" y="6319"/>
                </a:lnTo>
                <a:lnTo>
                  <a:pt x="15152" y="9835"/>
                </a:lnTo>
                <a:lnTo>
                  <a:pt x="17763" y="12412"/>
                </a:lnTo>
                <a:lnTo>
                  <a:pt x="16109" y="12412"/>
                </a:lnTo>
                <a:lnTo>
                  <a:pt x="16109" y="19601"/>
                </a:lnTo>
                <a:lnTo>
                  <a:pt x="5491" y="19601"/>
                </a:lnTo>
                <a:lnTo>
                  <a:pt x="5491" y="12412"/>
                </a:lnTo>
                <a:lnTo>
                  <a:pt x="3837" y="12412"/>
                </a:lnTo>
                <a:close/>
              </a:path>
              <a:path fill="darkenLess" w="21600" h="24823">
                <a:moveTo>
                  <a:pt x="13376" y="8060"/>
                </a:moveTo>
                <a:lnTo>
                  <a:pt x="13376" y="6319"/>
                </a:lnTo>
                <a:lnTo>
                  <a:pt x="15152" y="6319"/>
                </a:lnTo>
                <a:lnTo>
                  <a:pt x="15152" y="9835"/>
                </a:lnTo>
                <a:close/>
              </a:path>
              <a:path fill="darkenLess" w="21600" h="24823">
                <a:moveTo>
                  <a:pt x="9877" y="15911"/>
                </a:moveTo>
                <a:lnTo>
                  <a:pt x="11723" y="15911"/>
                </a:lnTo>
                <a:lnTo>
                  <a:pt x="11723" y="19601"/>
                </a:lnTo>
                <a:lnTo>
                  <a:pt x="16109" y="19601"/>
                </a:lnTo>
                <a:lnTo>
                  <a:pt x="16109" y="12412"/>
                </a:lnTo>
                <a:lnTo>
                  <a:pt x="5491" y="12412"/>
                </a:lnTo>
                <a:lnTo>
                  <a:pt x="5491" y="19601"/>
                </a:lnTo>
                <a:lnTo>
                  <a:pt x="9877" y="1960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226A583B"/>
          <p:cNvPicPr/>
          <p:nvPr/>
        </p:nvPicPr>
        <p:blipFill>
          <a:blip r:embed="rId2"/>
          <a:stretch/>
        </p:blipFill>
        <p:spPr>
          <a:xfrm>
            <a:off x="971640" y="1042920"/>
            <a:ext cx="78026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Математику нельзя изучать, глядя,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как это делает сосе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.Ниве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89EAD901"/>
          <p:cNvPicPr/>
          <p:nvPr/>
        </p:nvPicPr>
        <p:blipFill>
          <a:blip r:embed="rId2"/>
          <a:stretch/>
        </p:blipFill>
        <p:spPr>
          <a:xfrm>
            <a:off x="971640" y="692280"/>
            <a:ext cx="775152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15703B7"/>
          <p:cNvPicPr/>
          <p:nvPr/>
        </p:nvPicPr>
        <p:blipFill>
          <a:blip r:embed="rId2"/>
          <a:stretch/>
        </p:blipFill>
        <p:spPr>
          <a:xfrm>
            <a:off x="900000" y="977760"/>
            <a:ext cx="7124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12880" y="21420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5" descr="so02059_"/>
          <p:cNvPicPr/>
          <p:nvPr/>
        </p:nvPicPr>
        <p:blipFill>
          <a:blip r:embed="rId1"/>
          <a:stretch/>
        </p:blipFill>
        <p:spPr>
          <a:xfrm rot="10800000">
            <a:off x="7740720" y="5510160"/>
            <a:ext cx="1403280" cy="1347840"/>
          </a:xfrm>
          <a:prstGeom prst="rect">
            <a:avLst/>
          </a:prstGeom>
          <a:ln w="0">
            <a:noFill/>
          </a:ln>
        </p:spPr>
      </p:pic>
      <p:sp>
        <p:nvSpPr>
          <p:cNvPr id="238" name="Содержимое 2"/>
          <p:cNvSpPr/>
          <p:nvPr/>
        </p:nvSpPr>
        <p:spPr>
          <a:xfrm>
            <a:off x="357120" y="500040"/>
            <a:ext cx="84600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Презентацию подготовила 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МОУ лицей № 4 МО Ейский рай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Журавлева Надежда Пет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isk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icey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chsite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nsportal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ru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zhuravlev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estival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1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ptember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m-school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Блиц- турнир”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681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 Ворона Кагги-Карр пролетела за 4 часа 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км. Какое расстояние она пролетит за 7 часов, если будет лететь с той же скоростью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E9A39318"/>
          <p:cNvPicPr/>
          <p:nvPr/>
        </p:nvPicPr>
        <p:blipFill>
          <a:blip r:embed="rId2"/>
          <a:stretch/>
        </p:blipFill>
        <p:spPr>
          <a:xfrm rot="257400">
            <a:off x="5003640" y="2060280"/>
            <a:ext cx="39610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Блиц- турнир”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04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б) Элли прошла  по долине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км , а по горной дороге –лишь 24% этого пути. С какой скоростью шла Элли по горной дороге, если прошла её за 3 час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5B3220E6"/>
          <p:cNvPicPr/>
          <p:nvPr/>
        </p:nvPicPr>
        <p:blipFill>
          <a:blip r:embed="rId2"/>
          <a:stretch/>
        </p:blipFill>
        <p:spPr>
          <a:xfrm rot="385800">
            <a:off x="5076720" y="1989000"/>
            <a:ext cx="36720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Блиц- турнир”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96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2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армии Урфина Джюса было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капралов, что составило 15% числа солдат его армии. На сколько больше солдат, чем капралов было в армии Урфина Джюс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1453C5E4"/>
          <p:cNvPicPr/>
          <p:nvPr/>
        </p:nvPicPr>
        <p:blipFill>
          <a:blip r:embed="rId2"/>
          <a:stretch/>
        </p:blipFill>
        <p:spPr>
          <a:xfrm>
            <a:off x="5219640" y="1628640"/>
            <a:ext cx="37274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Блиц- турнир”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256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рфин Джюс решил сделать для своей армии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деревянных солдат. За день он делает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солдат. Сколько солдат останется сделать после 9 дней работы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4C64F992"/>
          <p:cNvPicPr/>
          <p:nvPr/>
        </p:nvPicPr>
        <p:blipFill>
          <a:blip r:embed="rId2"/>
          <a:stretch/>
        </p:blipFill>
        <p:spPr>
          <a:xfrm>
            <a:off x="5584680" y="1844640"/>
            <a:ext cx="32371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i="1" lang="en-US" sz="7200" spc="-1" strike="noStrike">
                <a:solidFill>
                  <a:srgbClr val="333399"/>
                </a:solidFill>
                <a:latin typeface="Tahoma"/>
              </a:rPr>
              <a:t>Блиц- турнир”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5319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) Моряку Чарл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5 лет назад исполнилось </a:t>
            </a: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лет. Сколько лет исполнится ему через 4 год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6E629F70"/>
          <p:cNvPicPr/>
          <p:nvPr/>
        </p:nvPicPr>
        <p:blipFill>
          <a:blip r:embed="rId2"/>
          <a:stretch/>
        </p:blipFill>
        <p:spPr>
          <a:xfrm>
            <a:off x="179280" y="2133720"/>
            <a:ext cx="3384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Tahoma"/>
              </a:rPr>
              <a:t>Логическая задач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рисуй схему Волшебной страны, если известно, что Голубая, Фиолетовая и Розовая страны имеют общую границу с остальными четырьмя частями. Жёлтая страна и Изумрудный город не имеют между собой общей границы, причем Жёлтая страна окружена со всех сторон Великой пустыней, отделяющей Волшебную страну от остального ми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4"/>
          <p:cNvGrpSpPr/>
          <p:nvPr/>
        </p:nvGrpSpPr>
        <p:grpSpPr>
          <a:xfrm>
            <a:off x="250920" y="692280"/>
            <a:ext cx="8569080" cy="5761080"/>
            <a:chOff x="250920" y="692280"/>
            <a:chExt cx="8569080" cy="5761080"/>
          </a:xfrm>
        </p:grpSpPr>
        <p:sp>
          <p:nvSpPr>
            <p:cNvPr id="155" name="Oval 6"/>
            <p:cNvSpPr/>
            <p:nvPr/>
          </p:nvSpPr>
          <p:spPr>
            <a:xfrm>
              <a:off x="250920" y="692280"/>
              <a:ext cx="8569080" cy="5761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2627280" y="1341360"/>
              <a:ext cx="5832360" cy="482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324000" y="27813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ahoma"/>
                </a:rPr>
                <a:t>Великая пустыня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2771640" y="3141720"/>
              <a:ext cx="93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Tahoma"/>
                </a:rPr>
                <a:t>Ж</a:t>
              </a:r>
              <a:endParaRPr b="0" lang="en-US" sz="5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3995640" y="1989000"/>
              <a:ext cx="4032360" cy="36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5435640" y="3213000"/>
              <a:ext cx="1295280" cy="1079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5724360" y="3213000"/>
              <a:ext cx="64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Tahoma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4643280" y="2492280"/>
              <a:ext cx="100836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6732720" y="3716280"/>
              <a:ext cx="1295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4932360" y="4221000"/>
              <a:ext cx="792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4211640" y="3213000"/>
              <a:ext cx="792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33ff"/>
                  </a:solidFill>
                  <a:latin typeface="Tahoma"/>
                </a:rPr>
                <a:t>Ф</a:t>
              </a:r>
              <a:endParaRPr b="0" lang="en-US" sz="6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21"/>
            <p:cNvSpPr/>
            <p:nvPr/>
          </p:nvSpPr>
          <p:spPr>
            <a:xfrm>
              <a:off x="6156360" y="2133720"/>
              <a:ext cx="115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ffff"/>
                  </a:solidFill>
                  <a:latin typeface="Tahoma"/>
                </a:rPr>
                <a:t>Г</a:t>
              </a:r>
              <a:endParaRPr b="0" lang="en-US" sz="6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22"/>
            <p:cNvSpPr/>
            <p:nvPr/>
          </p:nvSpPr>
          <p:spPr>
            <a:xfrm>
              <a:off x="6516720" y="4221000"/>
              <a:ext cx="865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99cc"/>
                  </a:solidFill>
                  <a:latin typeface="Tahoma"/>
                </a:rPr>
                <a:t>Р</a:t>
              </a:r>
              <a:endParaRPr b="0" lang="en-US" sz="6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8" name="095 В город изумрудный.mp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517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5:51:07Z</dcterms:created>
  <dc:creator>*</dc:creator>
  <dc:description/>
  <dc:language>en-US</dc:language>
  <cp:lastModifiedBy>Админ</cp:lastModifiedBy>
  <dcterms:modified xsi:type="dcterms:W3CDTF">2013-02-27T18:16:27Z</dcterms:modified>
  <cp:revision>57</cp:revision>
  <dc:subject/>
  <dc:title>Тема урока: «Создание базы данных, состоящей из трёх таблиц». </dc:title>
</cp:coreProperties>
</file>