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734-C6E2-4377-A46A-9CD15A7F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256-1846-4F14-824C-D9A230C2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74D-6B67-40B4-B683-E4FF728A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341-A29E-4401-8F1A-344DE3F8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490-D5C8-4639-8342-9C3DD987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EE5-0D5B-473C-9BCB-B69079BE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DE1-BA15-43BF-92F6-72DFCB6C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D71-9857-4862-8C67-3704CF93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DAE-55F7-4836-BEBD-64E716E6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F50-AD0D-4252-89F6-BC227B1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9A3-007B-4480-8381-EB224CFC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6BD-8546-4853-B45B-09201607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3AE4-73C7-4313-956A-E0D562DD30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ика решения заданий ГИА с использованием синоптической карты и климатогра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br>
              <a:rPr sz="4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ля выбора ответа нажмите на кнопку под ни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695600" y="1811160"/>
            <a:ext cx="5752800" cy="4105440"/>
          </a:xfrm>
          <a:prstGeom prst="rect">
            <a:avLst/>
          </a:prstGeom>
          <a:ln w="0">
            <a:noFill/>
          </a:ln>
        </p:spPr>
      </p:pic>
      <p:sp>
        <p:nvSpPr>
          <p:cNvPr id="85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2124000" y="5921280"/>
            <a:ext cx="1008000" cy="871560"/>
          </a:xfrm>
          <a:custGeom>
            <a:avLst/>
            <a:gdLst>
              <a:gd name="textAreaLeft" fmla="*/ 56160 w 1008000"/>
              <a:gd name="textAreaRight" fmla="*/ 951840 w 1008000"/>
              <a:gd name="textAreaTop" fmla="*/ 56160 h 871560"/>
              <a:gd name="textAreaBottom" fmla="*/ 815400 h 871560"/>
            </a:gdLst>
            <a:ahLst/>
            <a:rect l="textAreaLeft" t="textAreaTop" r="textAreaRight" b="textAreaBottom"/>
            <a:pathLst>
              <a:path w="24980" h="21600">
                <a:moveTo>
                  <a:pt x="0" y="0"/>
                </a:moveTo>
                <a:lnTo>
                  <a:pt x="24980" y="0"/>
                </a:lnTo>
                <a:lnTo>
                  <a:pt x="24980" y="21600"/>
                </a:lnTo>
                <a:lnTo>
                  <a:pt x="0" y="21600"/>
                </a:lnTo>
                <a:close/>
              </a:path>
              <a:path fill="lightenLess" w="24980" h="21600">
                <a:moveTo>
                  <a:pt x="0" y="0"/>
                </a:moveTo>
                <a:lnTo>
                  <a:pt x="24980" y="0"/>
                </a:lnTo>
                <a:lnTo>
                  <a:pt x="23580" y="1400"/>
                </a:lnTo>
                <a:lnTo>
                  <a:pt x="1400" y="1400"/>
                </a:lnTo>
                <a:close/>
              </a:path>
              <a:path fill="darken" w="24980" h="21600">
                <a:moveTo>
                  <a:pt x="24980" y="0"/>
                </a:moveTo>
                <a:lnTo>
                  <a:pt x="24980" y="21600"/>
                </a:lnTo>
                <a:lnTo>
                  <a:pt x="23580" y="20200"/>
                </a:lnTo>
                <a:lnTo>
                  <a:pt x="23580" y="1400"/>
                </a:lnTo>
                <a:close/>
              </a:path>
              <a:path fill="darkenLess" w="24980" h="21600">
                <a:moveTo>
                  <a:pt x="24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0" y="20200"/>
                </a:lnTo>
                <a:close/>
              </a:path>
              <a:path fill="lighten" w="24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Управляющая кнопка: настраиваемая 5">
            <a:hlinkClick r:id="rId3" action="ppaction://hlinksldjump"/>
          </p:cNvPr>
          <p:cNvSpPr/>
          <p:nvPr/>
        </p:nvSpPr>
        <p:spPr>
          <a:xfrm>
            <a:off x="3348000" y="5921280"/>
            <a:ext cx="1008000" cy="871560"/>
          </a:xfrm>
          <a:custGeom>
            <a:avLst/>
            <a:gdLst>
              <a:gd name="textAreaLeft" fmla="*/ 56160 w 1008000"/>
              <a:gd name="textAreaRight" fmla="*/ 951840 w 1008000"/>
              <a:gd name="textAreaTop" fmla="*/ 56160 h 871560"/>
              <a:gd name="textAreaBottom" fmla="*/ 815400 h 871560"/>
            </a:gdLst>
            <a:ahLst/>
            <a:rect l="textAreaLeft" t="textAreaTop" r="textAreaRight" b="textAreaBottom"/>
            <a:pathLst>
              <a:path w="24980" h="21600">
                <a:moveTo>
                  <a:pt x="0" y="0"/>
                </a:moveTo>
                <a:lnTo>
                  <a:pt x="24980" y="0"/>
                </a:lnTo>
                <a:lnTo>
                  <a:pt x="24980" y="21600"/>
                </a:lnTo>
                <a:lnTo>
                  <a:pt x="0" y="21600"/>
                </a:lnTo>
                <a:close/>
              </a:path>
              <a:path fill="lightenLess" w="24980" h="21600">
                <a:moveTo>
                  <a:pt x="0" y="0"/>
                </a:moveTo>
                <a:lnTo>
                  <a:pt x="24980" y="0"/>
                </a:lnTo>
                <a:lnTo>
                  <a:pt x="23580" y="1400"/>
                </a:lnTo>
                <a:lnTo>
                  <a:pt x="1400" y="1400"/>
                </a:lnTo>
                <a:close/>
              </a:path>
              <a:path fill="darken" w="24980" h="21600">
                <a:moveTo>
                  <a:pt x="24980" y="0"/>
                </a:moveTo>
                <a:lnTo>
                  <a:pt x="24980" y="21600"/>
                </a:lnTo>
                <a:lnTo>
                  <a:pt x="23580" y="20200"/>
                </a:lnTo>
                <a:lnTo>
                  <a:pt x="23580" y="1400"/>
                </a:lnTo>
                <a:close/>
              </a:path>
              <a:path fill="darkenLess" w="24980" h="21600">
                <a:moveTo>
                  <a:pt x="24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0" y="20200"/>
                </a:lnTo>
                <a:close/>
              </a:path>
              <a:path fill="lighten" w="24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Управляющая кнопка: настраиваемая 6">
            <a:hlinkClick r:id="rId4" action="ppaction://hlinksldjump"/>
          </p:cNvPr>
          <p:cNvSpPr/>
          <p:nvPr/>
        </p:nvSpPr>
        <p:spPr>
          <a:xfrm>
            <a:off x="4643280" y="5921280"/>
            <a:ext cx="865440" cy="936720"/>
          </a:xfrm>
          <a:custGeom>
            <a:avLst/>
            <a:gdLst>
              <a:gd name="textAreaLeft" fmla="*/ 55800 w 865440"/>
              <a:gd name="textAreaRight" fmla="*/ 809640 w 865440"/>
              <a:gd name="textAreaTop" fmla="*/ 55800 h 936720"/>
              <a:gd name="textAreaBottom" fmla="*/ 880920 h 936720"/>
            </a:gdLst>
            <a:ahLst/>
            <a:rect l="textAreaLeft" t="textAreaTop" r="textAreaRight" b="textAreaBottom"/>
            <a:pathLst>
              <a:path w="21600" h="23378">
                <a:moveTo>
                  <a:pt x="0" y="0"/>
                </a:moveTo>
                <a:lnTo>
                  <a:pt x="21600" y="0"/>
                </a:lnTo>
                <a:lnTo>
                  <a:pt x="21600" y="23378"/>
                </a:lnTo>
                <a:lnTo>
                  <a:pt x="0" y="23378"/>
                </a:lnTo>
                <a:close/>
              </a:path>
              <a:path fill="lightenLess" w="21600" h="233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8">
                <a:moveTo>
                  <a:pt x="21600" y="0"/>
                </a:moveTo>
                <a:lnTo>
                  <a:pt x="21600" y="23378"/>
                </a:lnTo>
                <a:lnTo>
                  <a:pt x="20200" y="21978"/>
                </a:lnTo>
                <a:lnTo>
                  <a:pt x="20200" y="1400"/>
                </a:lnTo>
                <a:close/>
              </a:path>
              <a:path fill="darkenLess" w="21600" h="23378">
                <a:moveTo>
                  <a:pt x="21600" y="23378"/>
                </a:moveTo>
                <a:lnTo>
                  <a:pt x="0" y="23378"/>
                </a:lnTo>
                <a:lnTo>
                  <a:pt x="1400" y="21978"/>
                </a:lnTo>
                <a:lnTo>
                  <a:pt x="20200" y="21978"/>
                </a:lnTo>
                <a:close/>
              </a:path>
              <a:path fill="lighten" w="21600" h="23378">
                <a:moveTo>
                  <a:pt x="0" y="233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правляющая кнопка: настраиваемая 7">
            <a:hlinkClick r:id="rId5" action="ppaction://hlinksldjump"/>
          </p:cNvPr>
          <p:cNvSpPr/>
          <p:nvPr/>
        </p:nvSpPr>
        <p:spPr>
          <a:xfrm>
            <a:off x="5940360" y="5921280"/>
            <a:ext cx="1008000" cy="871560"/>
          </a:xfrm>
          <a:custGeom>
            <a:avLst/>
            <a:gdLst>
              <a:gd name="textAreaLeft" fmla="*/ 56160 w 1008000"/>
              <a:gd name="textAreaRight" fmla="*/ 951840 w 1008000"/>
              <a:gd name="textAreaTop" fmla="*/ 56160 h 871560"/>
              <a:gd name="textAreaBottom" fmla="*/ 815400 h 871560"/>
            </a:gdLst>
            <a:ahLst/>
            <a:rect l="textAreaLeft" t="textAreaTop" r="textAreaRight" b="textAreaBottom"/>
            <a:pathLst>
              <a:path w="24980" h="21600">
                <a:moveTo>
                  <a:pt x="0" y="0"/>
                </a:moveTo>
                <a:lnTo>
                  <a:pt x="24980" y="0"/>
                </a:lnTo>
                <a:lnTo>
                  <a:pt x="24980" y="21600"/>
                </a:lnTo>
                <a:lnTo>
                  <a:pt x="0" y="21600"/>
                </a:lnTo>
                <a:close/>
              </a:path>
              <a:path fill="lightenLess" w="24980" h="21600">
                <a:moveTo>
                  <a:pt x="0" y="0"/>
                </a:moveTo>
                <a:lnTo>
                  <a:pt x="24980" y="0"/>
                </a:lnTo>
                <a:lnTo>
                  <a:pt x="23580" y="1400"/>
                </a:lnTo>
                <a:lnTo>
                  <a:pt x="1400" y="1400"/>
                </a:lnTo>
                <a:close/>
              </a:path>
              <a:path fill="darken" w="24980" h="21600">
                <a:moveTo>
                  <a:pt x="24980" y="0"/>
                </a:moveTo>
                <a:lnTo>
                  <a:pt x="24980" y="21600"/>
                </a:lnTo>
                <a:lnTo>
                  <a:pt x="23580" y="20200"/>
                </a:lnTo>
                <a:lnTo>
                  <a:pt x="23580" y="1400"/>
                </a:lnTo>
                <a:close/>
              </a:path>
              <a:path fill="darkenLess" w="24980" h="21600">
                <a:moveTo>
                  <a:pt x="24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0" y="20200"/>
                </a:lnTo>
                <a:close/>
              </a:path>
              <a:path fill="lighten" w="24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8360" y="371628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жалуйста, нажмите кнопку «Ещё раз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2828880" y="2004840"/>
            <a:ext cx="3584520" cy="1152720"/>
          </a:xfrm>
          <a:prstGeom prst="rect">
            <a:avLst/>
          </a:prstGeom>
          <a:ln w="0">
            <a:noFill/>
          </a:ln>
        </p:spPr>
      </p:pic>
      <p:sp>
        <p:nvSpPr>
          <p:cNvPr id="91" name="Управляющая кнопка: настраиваемая 4">
            <a:hlinkClick r:id="rId2" action="ppaction://hlinksldjump"/>
          </p:cNvPr>
          <p:cNvSpPr/>
          <p:nvPr/>
        </p:nvSpPr>
        <p:spPr>
          <a:xfrm>
            <a:off x="3492360" y="4724280"/>
            <a:ext cx="2232000" cy="720720"/>
          </a:xfrm>
          <a:custGeom>
            <a:avLst/>
            <a:gdLst>
              <a:gd name="textAreaLeft" fmla="*/ 46440 w 2232000"/>
              <a:gd name="textAreaRight" fmla="*/ 2185560 w 223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6870" h="21600">
                <a:moveTo>
                  <a:pt x="0" y="0"/>
                </a:moveTo>
                <a:lnTo>
                  <a:pt x="66870" y="0"/>
                </a:lnTo>
                <a:lnTo>
                  <a:pt x="66870" y="21600"/>
                </a:lnTo>
                <a:lnTo>
                  <a:pt x="0" y="21600"/>
                </a:lnTo>
                <a:close/>
              </a:path>
              <a:path fill="lightenLess" w="66870" h="21600">
                <a:moveTo>
                  <a:pt x="0" y="0"/>
                </a:moveTo>
                <a:lnTo>
                  <a:pt x="66870" y="0"/>
                </a:lnTo>
                <a:lnTo>
                  <a:pt x="65471" y="1400"/>
                </a:lnTo>
                <a:lnTo>
                  <a:pt x="1400" y="1400"/>
                </a:lnTo>
                <a:close/>
              </a:path>
              <a:path fill="darken" w="66870" h="21600">
                <a:moveTo>
                  <a:pt x="66870" y="0"/>
                </a:moveTo>
                <a:lnTo>
                  <a:pt x="66870" y="21600"/>
                </a:lnTo>
                <a:lnTo>
                  <a:pt x="65471" y="20200"/>
                </a:lnTo>
                <a:lnTo>
                  <a:pt x="65471" y="1400"/>
                </a:lnTo>
                <a:close/>
              </a:path>
              <a:path fill="darkenLess" w="66870" h="21600">
                <a:moveTo>
                  <a:pt x="66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71" y="20200"/>
                </a:lnTo>
                <a:close/>
              </a:path>
              <a:path fill="lighten" w="66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щё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жалуйста, нажмите кнопку «Дале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2457360" y="2457360"/>
            <a:ext cx="4248360" cy="1133640"/>
          </a:xfrm>
          <a:prstGeom prst="rect">
            <a:avLst/>
          </a:prstGeom>
          <a:ln w="0">
            <a:noFill/>
          </a:ln>
        </p:spPr>
      </p:pic>
      <p:sp>
        <p:nvSpPr>
          <p:cNvPr id="94" name="Управляющая кнопка: настраиваемая 4">
            <a:hlinkClick r:id="" action="ppaction://hlinkshowjump?jump=nextslide"/>
          </p:cNvPr>
          <p:cNvSpPr/>
          <p:nvPr/>
        </p:nvSpPr>
        <p:spPr>
          <a:xfrm>
            <a:off x="6875640" y="5950080"/>
            <a:ext cx="1873080" cy="547560"/>
          </a:xfrm>
          <a:custGeom>
            <a:avLst/>
            <a:gdLst>
              <a:gd name="textAreaLeft" fmla="*/ 35280 w 1873080"/>
              <a:gd name="textAreaRight" fmla="*/ 1837800 w 1873080"/>
              <a:gd name="textAreaTop" fmla="*/ 35280 h 547560"/>
              <a:gd name="textAreaBottom" fmla="*/ 512280 h 547560"/>
            </a:gdLst>
            <a:ahLst/>
            <a:rect l="textAreaLeft" t="textAreaTop" r="textAreaRight" b="textAreaBottom"/>
            <a:pathLst>
              <a:path w="73854" h="21600">
                <a:moveTo>
                  <a:pt x="0" y="0"/>
                </a:moveTo>
                <a:lnTo>
                  <a:pt x="73854" y="0"/>
                </a:lnTo>
                <a:lnTo>
                  <a:pt x="73854" y="21600"/>
                </a:lnTo>
                <a:lnTo>
                  <a:pt x="0" y="21600"/>
                </a:lnTo>
                <a:close/>
              </a:path>
              <a:path fill="lightenLess" w="73854" h="21600">
                <a:moveTo>
                  <a:pt x="0" y="0"/>
                </a:moveTo>
                <a:lnTo>
                  <a:pt x="73854" y="0"/>
                </a:lnTo>
                <a:lnTo>
                  <a:pt x="72454" y="1400"/>
                </a:lnTo>
                <a:lnTo>
                  <a:pt x="1400" y="1400"/>
                </a:lnTo>
                <a:close/>
              </a:path>
              <a:path fill="darken" w="73854" h="21600">
                <a:moveTo>
                  <a:pt x="73854" y="0"/>
                </a:moveTo>
                <a:lnTo>
                  <a:pt x="73854" y="21600"/>
                </a:lnTo>
                <a:lnTo>
                  <a:pt x="72454" y="20200"/>
                </a:lnTo>
                <a:lnTo>
                  <a:pt x="72454" y="1400"/>
                </a:lnTo>
                <a:close/>
              </a:path>
              <a:path fill="darkenLess" w="73854" h="21600">
                <a:moveTo>
                  <a:pt x="73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54" y="20200"/>
                </a:lnTo>
                <a:close/>
              </a:path>
              <a:path fill="lighten" w="73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br>
              <a:rPr sz="44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для выбора ответа нажмите на кнопку под ним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15200" cy="4578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539640" y="4797360"/>
            <a:ext cx="7616880" cy="1008000"/>
          </a:xfrm>
          <a:prstGeom prst="rect">
            <a:avLst/>
          </a:prstGeom>
          <a:ln w="0">
            <a:noFill/>
          </a:ln>
        </p:spPr>
      </p:pic>
      <p:sp>
        <p:nvSpPr>
          <p:cNvPr id="98" name="Управляющая кнопка: настраиваемая 6"/>
          <p:cNvSpPr/>
          <p:nvPr/>
        </p:nvSpPr>
        <p:spPr>
          <a:xfrm>
            <a:off x="3132000" y="6021360"/>
            <a:ext cx="1152720" cy="57636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Управляющая кнопка: настраиваемая 7"/>
          <p:cNvSpPr/>
          <p:nvPr/>
        </p:nvSpPr>
        <p:spPr>
          <a:xfrm>
            <a:off x="4859280" y="6021360"/>
            <a:ext cx="1152720" cy="57636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Управляющая кнопка: настраиваемая 8"/>
          <p:cNvSpPr/>
          <p:nvPr/>
        </p:nvSpPr>
        <p:spPr>
          <a:xfrm>
            <a:off x="6588000" y="602136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50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50" y="20200"/>
                </a:lnTo>
                <a:lnTo>
                  <a:pt x="39050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50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Управляющая кнопка: настраиваемая 9"/>
          <p:cNvSpPr/>
          <p:nvPr/>
        </p:nvSpPr>
        <p:spPr>
          <a:xfrm>
            <a:off x="1258920" y="6021360"/>
            <a:ext cx="1081080" cy="576360"/>
          </a:xfrm>
          <a:custGeom>
            <a:avLst/>
            <a:gdLst>
              <a:gd name="textAreaLeft" fmla="*/ 37080 w 1081080"/>
              <a:gd name="textAreaRight" fmla="*/ 1044000 w 1081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503" h="21600">
                <a:moveTo>
                  <a:pt x="0" y="0"/>
                </a:moveTo>
                <a:lnTo>
                  <a:pt x="40503" y="0"/>
                </a:lnTo>
                <a:lnTo>
                  <a:pt x="40503" y="21600"/>
                </a:lnTo>
                <a:lnTo>
                  <a:pt x="0" y="21600"/>
                </a:lnTo>
                <a:close/>
              </a:path>
              <a:path fill="lightenLess" w="40503" h="21600">
                <a:moveTo>
                  <a:pt x="0" y="0"/>
                </a:moveTo>
                <a:lnTo>
                  <a:pt x="40503" y="0"/>
                </a:lnTo>
                <a:lnTo>
                  <a:pt x="39103" y="1400"/>
                </a:lnTo>
                <a:lnTo>
                  <a:pt x="1400" y="1400"/>
                </a:lnTo>
                <a:close/>
              </a:path>
              <a:path fill="darken" w="40503" h="21600">
                <a:moveTo>
                  <a:pt x="40503" y="0"/>
                </a:moveTo>
                <a:lnTo>
                  <a:pt x="40503" y="21600"/>
                </a:lnTo>
                <a:lnTo>
                  <a:pt x="39103" y="20200"/>
                </a:lnTo>
                <a:lnTo>
                  <a:pt x="39103" y="1400"/>
                </a:lnTo>
                <a:close/>
              </a:path>
              <a:path fill="darkenLess" w="40503" h="21600">
                <a:moveTo>
                  <a:pt x="40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03" y="20200"/>
                </a:lnTo>
                <a:close/>
              </a:path>
              <a:path fill="lighten" w="40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8360" y="371628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жалуйста, нажмите кнопку «Ещё раз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Прямоугольник 3" descr=""/>
          <p:cNvPicPr/>
          <p:nvPr/>
        </p:nvPicPr>
        <p:blipFill>
          <a:blip r:embed="rId1"/>
          <a:stretch/>
        </p:blipFill>
        <p:spPr>
          <a:xfrm>
            <a:off x="2828880" y="2004840"/>
            <a:ext cx="3584520" cy="1152720"/>
          </a:xfrm>
          <a:prstGeom prst="rect">
            <a:avLst/>
          </a:prstGeom>
          <a:ln w="0">
            <a:noFill/>
          </a:ln>
        </p:spPr>
      </p:pic>
      <p:sp>
        <p:nvSpPr>
          <p:cNvPr id="104" name="Управляющая кнопка: настраиваемая 4"/>
          <p:cNvSpPr/>
          <p:nvPr/>
        </p:nvSpPr>
        <p:spPr>
          <a:xfrm>
            <a:off x="3492360" y="4724280"/>
            <a:ext cx="2232000" cy="720720"/>
          </a:xfrm>
          <a:custGeom>
            <a:avLst/>
            <a:gdLst>
              <a:gd name="textAreaLeft" fmla="*/ 46440 w 2232000"/>
              <a:gd name="textAreaRight" fmla="*/ 2185560 w 223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6870" h="21600">
                <a:moveTo>
                  <a:pt x="0" y="0"/>
                </a:moveTo>
                <a:lnTo>
                  <a:pt x="66870" y="0"/>
                </a:lnTo>
                <a:lnTo>
                  <a:pt x="66870" y="21600"/>
                </a:lnTo>
                <a:lnTo>
                  <a:pt x="0" y="21600"/>
                </a:lnTo>
                <a:close/>
              </a:path>
              <a:path fill="lightenLess" w="66870" h="21600">
                <a:moveTo>
                  <a:pt x="0" y="0"/>
                </a:moveTo>
                <a:lnTo>
                  <a:pt x="66870" y="0"/>
                </a:lnTo>
                <a:lnTo>
                  <a:pt x="65471" y="1400"/>
                </a:lnTo>
                <a:lnTo>
                  <a:pt x="1400" y="1400"/>
                </a:lnTo>
                <a:close/>
              </a:path>
              <a:path fill="darken" w="66870" h="21600">
                <a:moveTo>
                  <a:pt x="66870" y="0"/>
                </a:moveTo>
                <a:lnTo>
                  <a:pt x="66870" y="21600"/>
                </a:lnTo>
                <a:lnTo>
                  <a:pt x="65471" y="20200"/>
                </a:lnTo>
                <a:lnTo>
                  <a:pt x="65471" y="1400"/>
                </a:lnTo>
                <a:close/>
              </a:path>
              <a:path fill="darkenLess" w="66870" h="21600">
                <a:moveTo>
                  <a:pt x="66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71" y="20200"/>
                </a:lnTo>
                <a:close/>
              </a:path>
              <a:path fill="lighten" w="66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щё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жалуйста, нажмите кнопку «Дале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Прямоугольник 3" descr=""/>
          <p:cNvPicPr/>
          <p:nvPr/>
        </p:nvPicPr>
        <p:blipFill>
          <a:blip r:embed="rId1"/>
          <a:stretch/>
        </p:blipFill>
        <p:spPr>
          <a:xfrm>
            <a:off x="2457360" y="2457360"/>
            <a:ext cx="4248360" cy="1133640"/>
          </a:xfrm>
          <a:prstGeom prst="rect">
            <a:avLst/>
          </a:prstGeom>
          <a:ln w="0">
            <a:noFill/>
          </a:ln>
        </p:spPr>
      </p:pic>
      <p:sp>
        <p:nvSpPr>
          <p:cNvPr id="107" name="Управляющая кнопка: настраиваемая 4">
            <a:hlinkClick r:id="" action="ppaction://hlinkshowjump?jump=nextslide"/>
          </p:cNvPr>
          <p:cNvSpPr/>
          <p:nvPr/>
        </p:nvSpPr>
        <p:spPr>
          <a:xfrm>
            <a:off x="6875640" y="5950080"/>
            <a:ext cx="1873080" cy="547560"/>
          </a:xfrm>
          <a:custGeom>
            <a:avLst/>
            <a:gdLst>
              <a:gd name="textAreaLeft" fmla="*/ 35280 w 1873080"/>
              <a:gd name="textAreaRight" fmla="*/ 1837800 w 1873080"/>
              <a:gd name="textAreaTop" fmla="*/ 35280 h 547560"/>
              <a:gd name="textAreaBottom" fmla="*/ 512280 h 547560"/>
            </a:gdLst>
            <a:ahLst/>
            <a:rect l="textAreaLeft" t="textAreaTop" r="textAreaRight" b="textAreaBottom"/>
            <a:pathLst>
              <a:path w="73854" h="21600">
                <a:moveTo>
                  <a:pt x="0" y="0"/>
                </a:moveTo>
                <a:lnTo>
                  <a:pt x="73854" y="0"/>
                </a:lnTo>
                <a:lnTo>
                  <a:pt x="73854" y="21600"/>
                </a:lnTo>
                <a:lnTo>
                  <a:pt x="0" y="21600"/>
                </a:lnTo>
                <a:close/>
              </a:path>
              <a:path fill="lightenLess" w="73854" h="21600">
                <a:moveTo>
                  <a:pt x="0" y="0"/>
                </a:moveTo>
                <a:lnTo>
                  <a:pt x="73854" y="0"/>
                </a:lnTo>
                <a:lnTo>
                  <a:pt x="72454" y="1400"/>
                </a:lnTo>
                <a:lnTo>
                  <a:pt x="1400" y="1400"/>
                </a:lnTo>
                <a:close/>
              </a:path>
              <a:path fill="darken" w="73854" h="21600">
                <a:moveTo>
                  <a:pt x="73854" y="0"/>
                </a:moveTo>
                <a:lnTo>
                  <a:pt x="73854" y="21600"/>
                </a:lnTo>
                <a:lnTo>
                  <a:pt x="72454" y="20200"/>
                </a:lnTo>
                <a:lnTo>
                  <a:pt x="72454" y="1400"/>
                </a:lnTo>
                <a:close/>
              </a:path>
              <a:path fill="darkenLess" w="73854" h="21600">
                <a:moveTo>
                  <a:pt x="73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54" y="20200"/>
                </a:lnTo>
                <a:close/>
              </a:path>
              <a:path fill="lighten" w="73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заданий с использованием климатогра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матограмма – графическое изображение годового хода двух элементов климата (обычно осадков и температу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5" descr="20-1.jpg"/>
          <p:cNvPicPr/>
          <p:nvPr/>
        </p:nvPicPr>
        <p:blipFill>
          <a:blip r:embed="rId1"/>
          <a:stretch/>
        </p:blipFill>
        <p:spPr>
          <a:xfrm>
            <a:off x="5477040" y="2548080"/>
            <a:ext cx="2381040" cy="262872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9"/>
          <p:cNvCxnSpPr/>
          <p:nvPr/>
        </p:nvCxnSpPr>
        <p:spPr>
          <a:xfrm flipV="1">
            <a:off x="3634920" y="4076640"/>
            <a:ext cx="180108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Прямая со стрелкой 11"/>
          <p:cNvCxnSpPr/>
          <p:nvPr/>
        </p:nvCxnSpPr>
        <p:spPr>
          <a:xfrm flipH="1" flipV="1">
            <a:off x="6732360" y="4365360"/>
            <a:ext cx="1008720" cy="151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Прямая со стрелкой 13"/>
          <p:cNvCxnSpPr/>
          <p:nvPr/>
        </p:nvCxnSpPr>
        <p:spPr>
          <a:xfrm flipH="1" flipV="1">
            <a:off x="6803280" y="4149000"/>
            <a:ext cx="1585080" cy="21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Прямая со стрелкой 17"/>
          <p:cNvCxnSpPr/>
          <p:nvPr/>
        </p:nvCxnSpPr>
        <p:spPr>
          <a:xfrm flipH="1">
            <a:off x="6803640" y="1844640"/>
            <a:ext cx="93744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Прямая со стрелкой 19"/>
          <p:cNvCxnSpPr/>
          <p:nvPr/>
        </p:nvCxnSpPr>
        <p:spPr>
          <a:xfrm flipV="1">
            <a:off x="4643280" y="3715920"/>
            <a:ext cx="2882160" cy="25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Прямая со стрелкой 21"/>
          <p:cNvCxnSpPr/>
          <p:nvPr/>
        </p:nvCxnSpPr>
        <p:spPr>
          <a:xfrm flipH="1" flipV="1">
            <a:off x="6443280" y="4580640"/>
            <a:ext cx="289440" cy="151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7" name="TextBox 23"/>
          <p:cNvSpPr/>
          <p:nvPr/>
        </p:nvSpPr>
        <p:spPr>
          <a:xfrm>
            <a:off x="2490480" y="5445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ала температу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4"/>
          <p:cNvSpPr/>
          <p:nvPr/>
        </p:nvSpPr>
        <p:spPr>
          <a:xfrm>
            <a:off x="3208320" y="61657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ала осад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5"/>
          <p:cNvSpPr/>
          <p:nvPr/>
        </p:nvSpPr>
        <p:spPr>
          <a:xfrm>
            <a:off x="5230440" y="602136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е бу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вания месяц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6659640" y="126828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годового 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перату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7023600" y="573264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-во осад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9"/>
          <p:cNvSpPr/>
          <p:nvPr/>
        </p:nvSpPr>
        <p:spPr>
          <a:xfrm>
            <a:off x="7140240" y="621180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рное кол-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ад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443320" y="1830240"/>
            <a:ext cx="4257360" cy="4067280"/>
          </a:xfrm>
          <a:prstGeom prst="rect">
            <a:avLst/>
          </a:prstGeom>
          <a:ln w="0">
            <a:noFill/>
          </a:ln>
        </p:spPr>
      </p:pic>
      <p:cxnSp>
        <p:nvCxnSpPr>
          <p:cNvPr id="125" name="Прямая со стрелкой 8"/>
          <p:cNvCxnSpPr/>
          <p:nvPr/>
        </p:nvCxnSpPr>
        <p:spPr>
          <a:xfrm flipH="1">
            <a:off x="5219280" y="2276280"/>
            <a:ext cx="2232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6" name="Прямая со стрелкой 10"/>
          <p:cNvCxnSpPr/>
          <p:nvPr/>
        </p:nvCxnSpPr>
        <p:spPr>
          <a:xfrm flipH="1">
            <a:off x="5940000" y="3141720"/>
            <a:ext cx="1945440" cy="244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7" name="Прямая со стрелкой 12"/>
          <p:cNvCxnSpPr/>
          <p:nvPr/>
        </p:nvCxnSpPr>
        <p:spPr>
          <a:xfrm flipH="1">
            <a:off x="5363280" y="2637000"/>
            <a:ext cx="208836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8" name="TextBox 13"/>
          <p:cNvSpPr/>
          <p:nvPr/>
        </p:nvSpPr>
        <p:spPr>
          <a:xfrm>
            <a:off x="7391520" y="206064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иматограм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7384680" y="249228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7818480" y="285264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пом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мплитуда температур – разница между максимальным и минимальным показателем за определенный период времени (например сутки, месяц, год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инентальность климата  - совокупность свойств климата (главным образом количества осадков и температуры), определяемых влиянием больших площадей суши на атмосферу и климатообразующие процессы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горитм решения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учить климатограмму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какое время года (зима/лето) приходятся максимальные темпера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распределяются осадки (равномерно в течение года, в конкретное время год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ова амплитуда температур (разница между максимальным и минимальным значением за год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ово суммарное количество осад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учить карту с расположением точек, к которым может относиться климатограмм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каком полушарии (северном или южном) находятся точ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леко ли от моря (океана) находятся точ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границах какого климатического пояса (можно воспользоваться атласом 7го класс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обходимые ум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читать ка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понимать кар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понимать климатограм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максимальны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температуры наблюдаются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летом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май-сентябрь), то точка расположена в </a:t>
            </a:r>
            <a:r>
              <a:rPr b="0" lang="ru-RU" sz="2700" spc="-1" strike="noStrike">
                <a:solidFill>
                  <a:srgbClr val="4f81bd"/>
                </a:solidFill>
                <a:latin typeface="Calibri"/>
              </a:rPr>
              <a:t>северном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лушар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максимальные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мпературы наблюдаются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зимо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ноябрь-февраль), то точка расположена в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южном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лушар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ем дальше от моря, тем выше континентальность климата и тем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еньш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осадков и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еньш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амплитуда температу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ем ближе к морю, тем больше осадков и тем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равномерне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они выпадают (весь год, а не в какое то время год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832720" cy="5572080"/>
          </a:xfrm>
          <a:prstGeom prst="rect">
            <a:avLst/>
          </a:prstGeom>
          <a:ln w="0">
            <a:noFill/>
          </a:ln>
        </p:spPr>
      </p:pic>
      <p:cxnSp>
        <p:nvCxnSpPr>
          <p:cNvPr id="139" name="Прямая со стрелкой 5"/>
          <p:cNvCxnSpPr/>
          <p:nvPr/>
        </p:nvCxnSpPr>
        <p:spPr>
          <a:xfrm flipH="1">
            <a:off x="5076360" y="2276640"/>
            <a:ext cx="1944000" cy="7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0" name="TextBox 6"/>
          <p:cNvSpPr/>
          <p:nvPr/>
        </p:nvSpPr>
        <p:spPr>
          <a:xfrm>
            <a:off x="7098840" y="206064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ализиру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иматограм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Группа 14"/>
          <p:cNvGrpSpPr/>
          <p:nvPr/>
        </p:nvGrpSpPr>
        <p:grpSpPr>
          <a:xfrm>
            <a:off x="2556000" y="2133000"/>
            <a:ext cx="2303640" cy="1296000"/>
            <a:chOff x="2556000" y="2133000"/>
            <a:chExt cx="2303640" cy="1296000"/>
          </a:xfrm>
        </p:grpSpPr>
        <p:cxnSp>
          <p:nvCxnSpPr>
            <p:cNvPr id="142" name="Прямая со стрелкой 8"/>
            <p:cNvCxnSpPr/>
            <p:nvPr/>
          </p:nvCxnSpPr>
          <p:spPr>
            <a:xfrm flipV="1">
              <a:off x="2556000" y="2133000"/>
              <a:ext cx="2255040" cy="12243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43" name="Прямая со стрелкой 10"/>
            <p:cNvCxnSpPr/>
            <p:nvPr/>
          </p:nvCxnSpPr>
          <p:spPr>
            <a:xfrm>
              <a:off x="2604960" y="3285000"/>
              <a:ext cx="2255040" cy="1443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144" name="TextBox 15"/>
          <p:cNvSpPr/>
          <p:nvPr/>
        </p:nvSpPr>
        <p:spPr>
          <a:xfrm flipH="1">
            <a:off x="394560" y="2060640"/>
            <a:ext cx="25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симум температуры в июле (буква) и, то есть летом – значит точка в северном полуша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олилиния 16"/>
          <p:cNvSpPr/>
          <p:nvPr/>
        </p:nvSpPr>
        <p:spPr>
          <a:xfrm>
            <a:off x="2473200" y="3444840"/>
            <a:ext cx="4902480" cy="1500120"/>
          </a:xfrm>
          <a:custGeom>
            <a:avLst/>
            <a:gdLst/>
            <a:ahLst/>
            <a:rect l="l" t="t" r="r" b="b"/>
            <a:pathLst>
              <a:path w="4903075" h="1500351">
                <a:moveTo>
                  <a:pt x="444062" y="1316420"/>
                </a:moveTo>
                <a:cubicBezTo>
                  <a:pt x="2140168" y="1408385"/>
                  <a:pt x="3836275" y="1500351"/>
                  <a:pt x="4369675" y="1316420"/>
                </a:cubicBezTo>
                <a:cubicBezTo>
                  <a:pt x="4903075" y="1132489"/>
                  <a:pt x="4204138" y="402020"/>
                  <a:pt x="3644462" y="212834"/>
                </a:cubicBezTo>
                <a:cubicBezTo>
                  <a:pt x="3084786" y="23648"/>
                  <a:pt x="1605454" y="0"/>
                  <a:pt x="1011620" y="181303"/>
                </a:cubicBezTo>
                <a:cubicBezTo>
                  <a:pt x="417786" y="362606"/>
                  <a:pt x="162910" y="1108841"/>
                  <a:pt x="81455" y="1300655"/>
                </a:cubicBezTo>
                <a:cubicBezTo>
                  <a:pt x="0" y="1492469"/>
                  <a:pt x="261444" y="1412327"/>
                  <a:pt x="522889" y="1332186"/>
                </a:cubicBezTo>
              </a:path>
            </a:pathLst>
          </a:custGeom>
          <a:noFill/>
          <a:ln w="9360">
            <a:solidFill>
              <a:srgbClr val="be4b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7"/>
          <p:cNvSpPr/>
          <p:nvPr/>
        </p:nvSpPr>
        <p:spPr>
          <a:xfrm>
            <a:off x="179280" y="407664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точки расположены в северном полушарии, значит смотрим по количеству осадков. 250 мм в год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Прямая со стрелкой 19"/>
          <p:cNvCxnSpPr/>
          <p:nvPr/>
        </p:nvCxnSpPr>
        <p:spPr>
          <a:xfrm flipV="1">
            <a:off x="1979640" y="3284280"/>
            <a:ext cx="2737080" cy="22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8" name="TextBox 20"/>
          <p:cNvSpPr/>
          <p:nvPr/>
        </p:nvSpPr>
        <p:spPr>
          <a:xfrm>
            <a:off x="7056360" y="2852640"/>
            <a:ext cx="20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е всего подходит удаленная от океанов точка С, расположенная в умеренном поясе в области континентального климата (смотрим атлас 7го класса и вспоминаем характеристики климат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9" name="Прямая со стрелкой 22"/>
          <p:cNvCxnSpPr/>
          <p:nvPr/>
        </p:nvCxnSpPr>
        <p:spPr>
          <a:xfrm flipH="1">
            <a:off x="5363280" y="3789360"/>
            <a:ext cx="172980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br>
              <a:rPr sz="44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для выбора ответа нажмите на него мышкой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05440" cy="460548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настраиваемая 4"/>
          <p:cNvSpPr/>
          <p:nvPr/>
        </p:nvSpPr>
        <p:spPr>
          <a:xfrm>
            <a:off x="1908000" y="6066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Управляющая кнопка: настраиваемая 5"/>
          <p:cNvSpPr/>
          <p:nvPr/>
        </p:nvSpPr>
        <p:spPr>
          <a:xfrm>
            <a:off x="4572000" y="613728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Управляющая кнопка: настраиваемая 6"/>
          <p:cNvSpPr/>
          <p:nvPr/>
        </p:nvSpPr>
        <p:spPr>
          <a:xfrm>
            <a:off x="6012000" y="6066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Управляющая кнопка: настраиваемая 7"/>
          <p:cNvSpPr/>
          <p:nvPr/>
        </p:nvSpPr>
        <p:spPr>
          <a:xfrm>
            <a:off x="3132000" y="6137280"/>
            <a:ext cx="1008360" cy="720720"/>
          </a:xfrm>
          <a:custGeom>
            <a:avLst/>
            <a:gdLst>
              <a:gd name="textAreaLeft" fmla="*/ 46440 w 1008360"/>
              <a:gd name="textAreaRight" fmla="*/ 961920 w 1008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16" h="21600">
                <a:moveTo>
                  <a:pt x="0" y="0"/>
                </a:moveTo>
                <a:lnTo>
                  <a:pt x="30216" y="0"/>
                </a:lnTo>
                <a:lnTo>
                  <a:pt x="30216" y="21600"/>
                </a:lnTo>
                <a:lnTo>
                  <a:pt x="0" y="21600"/>
                </a:lnTo>
                <a:close/>
              </a:path>
              <a:path fill="lightenLess" w="30216" h="21600">
                <a:moveTo>
                  <a:pt x="0" y="0"/>
                </a:moveTo>
                <a:lnTo>
                  <a:pt x="30216" y="0"/>
                </a:lnTo>
                <a:lnTo>
                  <a:pt x="28816" y="1400"/>
                </a:lnTo>
                <a:lnTo>
                  <a:pt x="1400" y="1400"/>
                </a:lnTo>
                <a:close/>
              </a:path>
              <a:path fill="darken" w="30216" h="21600">
                <a:moveTo>
                  <a:pt x="30216" y="0"/>
                </a:moveTo>
                <a:lnTo>
                  <a:pt x="30216" y="21600"/>
                </a:lnTo>
                <a:lnTo>
                  <a:pt x="28816" y="20200"/>
                </a:lnTo>
                <a:lnTo>
                  <a:pt x="28816" y="1400"/>
                </a:lnTo>
                <a:close/>
              </a:path>
              <a:path fill="darkenLess" w="30216" h="21600">
                <a:moveTo>
                  <a:pt x="30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16" y="20200"/>
                </a:lnTo>
                <a:close/>
              </a:path>
              <a:path fill="lighten" w="30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8360" y="371628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жалуйста, нажмите кнопку «Ещё раз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Прямоугольник 3" descr=""/>
          <p:cNvPicPr/>
          <p:nvPr/>
        </p:nvPicPr>
        <p:blipFill>
          <a:blip r:embed="rId1"/>
          <a:stretch/>
        </p:blipFill>
        <p:spPr>
          <a:xfrm>
            <a:off x="2828880" y="2004840"/>
            <a:ext cx="3584520" cy="1152720"/>
          </a:xfrm>
          <a:prstGeom prst="rect">
            <a:avLst/>
          </a:prstGeom>
          <a:ln w="0">
            <a:noFill/>
          </a:ln>
        </p:spPr>
      </p:pic>
      <p:sp>
        <p:nvSpPr>
          <p:cNvPr id="158" name="Управляющая кнопка: настраиваемая 4"/>
          <p:cNvSpPr/>
          <p:nvPr/>
        </p:nvSpPr>
        <p:spPr>
          <a:xfrm>
            <a:off x="3492360" y="4724280"/>
            <a:ext cx="2232000" cy="720720"/>
          </a:xfrm>
          <a:custGeom>
            <a:avLst/>
            <a:gdLst>
              <a:gd name="textAreaLeft" fmla="*/ 46440 w 2232000"/>
              <a:gd name="textAreaRight" fmla="*/ 2185560 w 223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6870" h="21600">
                <a:moveTo>
                  <a:pt x="0" y="0"/>
                </a:moveTo>
                <a:lnTo>
                  <a:pt x="66870" y="0"/>
                </a:lnTo>
                <a:lnTo>
                  <a:pt x="66870" y="21600"/>
                </a:lnTo>
                <a:lnTo>
                  <a:pt x="0" y="21600"/>
                </a:lnTo>
                <a:close/>
              </a:path>
              <a:path fill="lightenLess" w="66870" h="21600">
                <a:moveTo>
                  <a:pt x="0" y="0"/>
                </a:moveTo>
                <a:lnTo>
                  <a:pt x="66870" y="0"/>
                </a:lnTo>
                <a:lnTo>
                  <a:pt x="65471" y="1400"/>
                </a:lnTo>
                <a:lnTo>
                  <a:pt x="1400" y="1400"/>
                </a:lnTo>
                <a:close/>
              </a:path>
              <a:path fill="darken" w="66870" h="21600">
                <a:moveTo>
                  <a:pt x="66870" y="0"/>
                </a:moveTo>
                <a:lnTo>
                  <a:pt x="66870" y="21600"/>
                </a:lnTo>
                <a:lnTo>
                  <a:pt x="65471" y="20200"/>
                </a:lnTo>
                <a:lnTo>
                  <a:pt x="65471" y="1400"/>
                </a:lnTo>
                <a:close/>
              </a:path>
              <a:path fill="darkenLess" w="66870" h="21600">
                <a:moveTo>
                  <a:pt x="66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71" y="20200"/>
                </a:lnTo>
                <a:close/>
              </a:path>
              <a:path fill="lighten" w="66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щё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жалуйста, нажмите кнопку «Дале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Прямоугольник 3" descr=""/>
          <p:cNvPicPr/>
          <p:nvPr/>
        </p:nvPicPr>
        <p:blipFill>
          <a:blip r:embed="rId1"/>
          <a:stretch/>
        </p:blipFill>
        <p:spPr>
          <a:xfrm>
            <a:off x="2457360" y="2457360"/>
            <a:ext cx="4248360" cy="1133640"/>
          </a:xfrm>
          <a:prstGeom prst="rect">
            <a:avLst/>
          </a:prstGeom>
          <a:ln w="0">
            <a:noFill/>
          </a:ln>
        </p:spPr>
      </p:pic>
      <p:sp>
        <p:nvSpPr>
          <p:cNvPr id="161" name="Управляющая кнопка: настраиваемая 4">
            <a:hlinkClick r:id="" action="ppaction://hlinkshowjump?jump=nextslide"/>
          </p:cNvPr>
          <p:cNvSpPr/>
          <p:nvPr/>
        </p:nvSpPr>
        <p:spPr>
          <a:xfrm>
            <a:off x="6875640" y="5950080"/>
            <a:ext cx="1873080" cy="547560"/>
          </a:xfrm>
          <a:custGeom>
            <a:avLst/>
            <a:gdLst>
              <a:gd name="textAreaLeft" fmla="*/ 35280 w 1873080"/>
              <a:gd name="textAreaRight" fmla="*/ 1837800 w 1873080"/>
              <a:gd name="textAreaTop" fmla="*/ 35280 h 547560"/>
              <a:gd name="textAreaBottom" fmla="*/ 512280 h 547560"/>
            </a:gdLst>
            <a:ahLst/>
            <a:rect l="textAreaLeft" t="textAreaTop" r="textAreaRight" b="textAreaBottom"/>
            <a:pathLst>
              <a:path w="73854" h="21600">
                <a:moveTo>
                  <a:pt x="0" y="0"/>
                </a:moveTo>
                <a:lnTo>
                  <a:pt x="73854" y="0"/>
                </a:lnTo>
                <a:lnTo>
                  <a:pt x="73854" y="21600"/>
                </a:lnTo>
                <a:lnTo>
                  <a:pt x="0" y="21600"/>
                </a:lnTo>
                <a:close/>
              </a:path>
              <a:path fill="lightenLess" w="73854" h="21600">
                <a:moveTo>
                  <a:pt x="0" y="0"/>
                </a:moveTo>
                <a:lnTo>
                  <a:pt x="73854" y="0"/>
                </a:lnTo>
                <a:lnTo>
                  <a:pt x="72454" y="1400"/>
                </a:lnTo>
                <a:lnTo>
                  <a:pt x="1400" y="1400"/>
                </a:lnTo>
                <a:close/>
              </a:path>
              <a:path fill="darken" w="73854" h="21600">
                <a:moveTo>
                  <a:pt x="73854" y="0"/>
                </a:moveTo>
                <a:lnTo>
                  <a:pt x="73854" y="21600"/>
                </a:lnTo>
                <a:lnTo>
                  <a:pt x="72454" y="20200"/>
                </a:lnTo>
                <a:lnTo>
                  <a:pt x="72454" y="1400"/>
                </a:lnTo>
                <a:close/>
              </a:path>
              <a:path fill="darkenLess" w="73854" h="21600">
                <a:moveTo>
                  <a:pt x="73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54" y="20200"/>
                </a:lnTo>
                <a:close/>
              </a:path>
              <a:path fill="lighten" w="73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 Успехов в подготовке к экзам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обходимые зн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поня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икл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тицикл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тмосферный фро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тинентальность клим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плитуда темпера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вайте вспомни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клон – атмосферный вихрь с пониженным давлением в цент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циклон – атмосферный вихрь с повышенным давлением в цент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мосферный фронт  - граница столкновения воздушных масс с разными физическими (плотность, температура) свойствами. Выделяют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холод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ёпл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тмосферные фрон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694560" cy="468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116000" y="5805360"/>
            <a:ext cx="67546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горитм действий (задание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нимательно прочитать задание (номер 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зучить условные обозначения, указанные справа от карт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спомнить, какое давление в указанном в задании атмосферном вихр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спрашивается про антициклон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имательно найдите област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ысокого давления и выберите в ответе город, находящийся в зоне действия антицикло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спрашивается про циклон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жно найти област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зкого давления и выбрать в ответе город, находящийся в зоне действия цикло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Управляющая кнопка: настраиваемая 5">
            <a:hlinkClick r:id="" action="ppaction://hlinkshowjump?jump=nextslide"/>
          </p:cNvPr>
          <p:cNvSpPr/>
          <p:nvPr/>
        </p:nvSpPr>
        <p:spPr>
          <a:xfrm>
            <a:off x="7020000" y="6093000"/>
            <a:ext cx="1800000" cy="431640"/>
          </a:xfrm>
          <a:custGeom>
            <a:avLst/>
            <a:gdLst>
              <a:gd name="textAreaLeft" fmla="*/ 27720 w 1800000"/>
              <a:gd name="textAreaRight" fmla="*/ 1772280 w 18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18" h="21600">
                <a:moveTo>
                  <a:pt x="0" y="0"/>
                </a:moveTo>
                <a:lnTo>
                  <a:pt x="90018" y="0"/>
                </a:lnTo>
                <a:lnTo>
                  <a:pt x="90018" y="21600"/>
                </a:lnTo>
                <a:lnTo>
                  <a:pt x="0" y="21600"/>
                </a:lnTo>
                <a:close/>
              </a:path>
              <a:path fill="lightenLess" w="90018" h="21600">
                <a:moveTo>
                  <a:pt x="0" y="0"/>
                </a:moveTo>
                <a:lnTo>
                  <a:pt x="90018" y="0"/>
                </a:lnTo>
                <a:lnTo>
                  <a:pt x="88618" y="1400"/>
                </a:lnTo>
                <a:lnTo>
                  <a:pt x="1400" y="1400"/>
                </a:lnTo>
                <a:close/>
              </a:path>
              <a:path fill="darken" w="90018" h="21600">
                <a:moveTo>
                  <a:pt x="90018" y="0"/>
                </a:moveTo>
                <a:lnTo>
                  <a:pt x="90018" y="21600"/>
                </a:lnTo>
                <a:lnTo>
                  <a:pt x="88618" y="20200"/>
                </a:lnTo>
                <a:lnTo>
                  <a:pt x="88618" y="1400"/>
                </a:lnTo>
                <a:close/>
              </a:path>
              <a:path fill="darkenLess" w="90018" h="21600">
                <a:moveTo>
                  <a:pt x="90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18" y="20200"/>
                </a:lnTo>
                <a:close/>
              </a:path>
              <a:path fill="lighten" w="90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38440" y="1881360"/>
            <a:ext cx="5667120" cy="3962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3635280" y="602136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с просят найти антициклон, в котором высокое давление в цент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Соединительная линия уступом 9"/>
          <p:cNvCxnSpPr/>
          <p:nvPr/>
        </p:nvCxnSpPr>
        <p:spPr>
          <a:xfrm flipV="1" rot="16200000">
            <a:off x="5651640" y="4508640"/>
            <a:ext cx="3385440" cy="793080"/>
          </a:xfrm>
          <a:prstGeom prst="bentConnector3">
            <a:avLst>
              <a:gd name="adj1" fmla="val 100404"/>
            </a:avLst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57" name="TextBox 14"/>
          <p:cNvSpPr/>
          <p:nvPr/>
        </p:nvSpPr>
        <p:spPr>
          <a:xfrm>
            <a:off x="6956640" y="2349360"/>
            <a:ext cx="22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сть его влия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зана лин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Прямая со стрелкой 16"/>
          <p:cNvCxnSpPr/>
          <p:nvPr/>
        </p:nvCxnSpPr>
        <p:spPr>
          <a:xfrm flipH="1">
            <a:off x="5363280" y="2637000"/>
            <a:ext cx="1512360" cy="576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59" name="Прямая со стрелкой 21"/>
          <p:cNvCxnSpPr/>
          <p:nvPr/>
        </p:nvCxnSpPr>
        <p:spPr>
          <a:xfrm>
            <a:off x="5076720" y="3573000"/>
            <a:ext cx="1224720" cy="2017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60" name="TextBox 22"/>
          <p:cNvSpPr/>
          <p:nvPr/>
        </p:nvSpPr>
        <p:spPr>
          <a:xfrm>
            <a:off x="255600" y="2852640"/>
            <a:ext cx="174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всех гор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Якутс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падает п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ия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цикл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24"/>
          <p:cNvCxnSpPr/>
          <p:nvPr/>
        </p:nvCxnSpPr>
        <p:spPr>
          <a:xfrm>
            <a:off x="2340000" y="4005000"/>
            <a:ext cx="21672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2" name="Прямая со стрелкой 26"/>
          <p:cNvCxnSpPr/>
          <p:nvPr/>
        </p:nvCxnSpPr>
        <p:spPr>
          <a:xfrm>
            <a:off x="2916360" y="4221000"/>
            <a:ext cx="1080000" cy="136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3" name="Прямая со стрелкой 28"/>
          <p:cNvCxnSpPr/>
          <p:nvPr/>
        </p:nvCxnSpPr>
        <p:spPr>
          <a:xfrm>
            <a:off x="2916360" y="3284280"/>
            <a:ext cx="2232720" cy="23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4" name="TextBox 29"/>
          <p:cNvSpPr/>
          <p:nvPr/>
        </p:nvSpPr>
        <p:spPr>
          <a:xfrm>
            <a:off x="2771640" y="62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Решаем и запомина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Группа 33"/>
          <p:cNvGrpSpPr/>
          <p:nvPr/>
        </p:nvGrpSpPr>
        <p:grpSpPr>
          <a:xfrm>
            <a:off x="2700360" y="5516280"/>
            <a:ext cx="1511280" cy="576720"/>
            <a:chOff x="2700360" y="5516280"/>
            <a:chExt cx="1511280" cy="576720"/>
          </a:xfrm>
        </p:grpSpPr>
        <p:cxnSp>
          <p:nvCxnSpPr>
            <p:cNvPr id="66" name="Прямая со стрелкой 5"/>
            <p:cNvCxnSpPr/>
            <p:nvPr/>
          </p:nvCxnSpPr>
          <p:spPr>
            <a:xfrm>
              <a:off x="3131640" y="5516280"/>
              <a:ext cx="1080360" cy="5770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triangle" w="med"/>
            </a:ln>
          </p:spPr>
        </p:cxnSp>
        <p:sp>
          <p:nvSpPr>
            <p:cNvPr id="67" name="Прямая соединительная линия 31"/>
            <p:cNvSpPr/>
            <p:nvPr/>
          </p:nvSpPr>
          <p:spPr>
            <a:xfrm>
              <a:off x="2700360" y="5516640"/>
              <a:ext cx="1007640" cy="0"/>
            </a:xfrm>
            <a:prstGeom prst="line">
              <a:avLst/>
            </a:prstGeom>
            <a:ln w="936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горитм действий (задание 1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имательно прочитать задание (номер 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условные обозначения, указанные справа от кар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мнить: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плу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году приносит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ёпл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фронт, а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холодну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холод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мосферный фронт движется в ту сторону, в которую направлены штрихи, обозначающие его на кар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настраиваемая 5">
            <a:hlinkClick r:id="" action="ppaction://hlinkshowjump?jump=nextslide"/>
          </p:cNvPr>
          <p:cNvSpPr/>
          <p:nvPr/>
        </p:nvSpPr>
        <p:spPr>
          <a:xfrm>
            <a:off x="7020000" y="6093000"/>
            <a:ext cx="1800000" cy="431640"/>
          </a:xfrm>
          <a:custGeom>
            <a:avLst/>
            <a:gdLst>
              <a:gd name="textAreaLeft" fmla="*/ 27720 w 1800000"/>
              <a:gd name="textAreaRight" fmla="*/ 1772280 w 18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18" h="21600">
                <a:moveTo>
                  <a:pt x="0" y="0"/>
                </a:moveTo>
                <a:lnTo>
                  <a:pt x="90018" y="0"/>
                </a:lnTo>
                <a:lnTo>
                  <a:pt x="90018" y="21600"/>
                </a:lnTo>
                <a:lnTo>
                  <a:pt x="0" y="21600"/>
                </a:lnTo>
                <a:close/>
              </a:path>
              <a:path fill="lightenLess" w="90018" h="21600">
                <a:moveTo>
                  <a:pt x="0" y="0"/>
                </a:moveTo>
                <a:lnTo>
                  <a:pt x="90018" y="0"/>
                </a:lnTo>
                <a:lnTo>
                  <a:pt x="88618" y="1400"/>
                </a:lnTo>
                <a:lnTo>
                  <a:pt x="1400" y="1400"/>
                </a:lnTo>
                <a:close/>
              </a:path>
              <a:path fill="darken" w="90018" h="21600">
                <a:moveTo>
                  <a:pt x="90018" y="0"/>
                </a:moveTo>
                <a:lnTo>
                  <a:pt x="90018" y="21600"/>
                </a:lnTo>
                <a:lnTo>
                  <a:pt x="88618" y="20200"/>
                </a:lnTo>
                <a:lnTo>
                  <a:pt x="88618" y="1400"/>
                </a:lnTo>
                <a:close/>
              </a:path>
              <a:path fill="darkenLess" w="90018" h="21600">
                <a:moveTo>
                  <a:pt x="90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18" y="20200"/>
                </a:lnTo>
                <a:close/>
              </a:path>
              <a:path fill="lighten" w="90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аем задание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738440" y="1881360"/>
            <a:ext cx="5667120" cy="3962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187280" y="5013360"/>
            <a:ext cx="6755040" cy="105264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4731120" y="6381720"/>
            <a:ext cx="38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 нужно найти холодный фро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Группа 11"/>
          <p:cNvGrpSpPr/>
          <p:nvPr/>
        </p:nvGrpSpPr>
        <p:grpSpPr>
          <a:xfrm>
            <a:off x="1692360" y="5732640"/>
            <a:ext cx="2951280" cy="576000"/>
            <a:chOff x="1692360" y="5732640"/>
            <a:chExt cx="2951280" cy="576000"/>
          </a:xfrm>
        </p:grpSpPr>
        <p:cxnSp>
          <p:nvCxnSpPr>
            <p:cNvPr id="76" name="Прямая со стрелкой 6"/>
            <p:cNvCxnSpPr/>
            <p:nvPr/>
          </p:nvCxnSpPr>
          <p:spPr>
            <a:xfrm>
              <a:off x="2556000" y="5732640"/>
              <a:ext cx="2088000" cy="5763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77" name="Прямая соединительная линия 9"/>
            <p:cNvSpPr/>
            <p:nvPr/>
          </p:nvSpPr>
          <p:spPr>
            <a:xfrm>
              <a:off x="1692360" y="5732640"/>
              <a:ext cx="10076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8" name="Соединительная линия уступом 13"/>
          <p:cNvCxnSpPr/>
          <p:nvPr/>
        </p:nvCxnSpPr>
        <p:spPr>
          <a:xfrm flipV="1" rot="16200000">
            <a:off x="5902560" y="3895920"/>
            <a:ext cx="3529800" cy="1584720"/>
          </a:xfrm>
          <a:prstGeom prst="bentConnector3">
            <a:avLst>
              <a:gd name="adj1" fmla="val 101489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Прямая со стрелкой 16"/>
          <p:cNvCxnSpPr/>
          <p:nvPr/>
        </p:nvCxnSpPr>
        <p:spPr>
          <a:xfrm flipH="1">
            <a:off x="2483640" y="2924280"/>
            <a:ext cx="309636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TextBox 17"/>
          <p:cNvSpPr/>
          <p:nvPr/>
        </p:nvSpPr>
        <p:spPr>
          <a:xfrm>
            <a:off x="11520" y="1773360"/>
            <a:ext cx="220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ронт движется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 сторону, ку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авлены штрих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холод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жидается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рг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Прямая со стрелкой 19"/>
          <p:cNvCxnSpPr/>
          <p:nvPr/>
        </p:nvCxnSpPr>
        <p:spPr>
          <a:xfrm>
            <a:off x="1186920" y="3429000"/>
            <a:ext cx="108180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2" name="Прямая со стрелкой 21"/>
          <p:cNvCxnSpPr/>
          <p:nvPr/>
        </p:nvCxnSpPr>
        <p:spPr>
          <a:xfrm>
            <a:off x="2410920" y="3933360"/>
            <a:ext cx="1513800" cy="179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8:16:49Z</dcterms:created>
  <dc:creator>Петров Антон</dc:creator>
  <dc:description/>
  <dc:language>en-US</dc:language>
  <cp:lastModifiedBy>Антон</cp:lastModifiedBy>
  <dcterms:modified xsi:type="dcterms:W3CDTF">2013-02-27T14:33:53Z</dcterms:modified>
  <cp:revision>24</cp:revision>
  <dc:subject/>
  <dc:title>Методика решения заданий ГИА с использованием синоптической карты и климатограмм</dc:title>
</cp:coreProperties>
</file>