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068-20A0-4D40-8A09-03D4F383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B35-E5D9-45AB-A271-CE659040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4E1-4CDC-4C41-95ED-B0B1EEFB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649-D79C-44B0-970B-B20D1BE3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145-0BE3-4313-99DF-6C9CB9E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4D5-228D-4131-8824-C5E9B74F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5A8-79D0-43D3-97D1-E2906FC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575-3E7B-41B2-9C03-806E666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CB3-8728-4129-B397-0263AFAD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074-88C5-40A5-B9FA-8B9D2B8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4DC-C915-49C8-94C2-A5406DB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ED8-E005-422B-A05D-AD87AF30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30A6-709E-41EF-948C-22987E2DE01B}" type="slidenum"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6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0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3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4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4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4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20.xml"/><Relationship Id="rId8" Type="http://schemas.openxmlformats.org/officeDocument/2006/relationships/slide" Target="slide16.xml"/><Relationship Id="rId9" Type="http://schemas.openxmlformats.org/officeDocument/2006/relationships/slide" Target="slide24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Arial Unicode MS"/>
              </a:rPr>
              <a:t>МНОГООБРАЗИЕ</a:t>
            </a:r>
            <a:br>
              <a:rPr sz="6000"/>
            </a:br>
            <a:br>
              <a:rPr sz="4000"/>
            </a:br>
            <a:r>
              <a:rPr b="0" lang="ru-RU" sz="6000" spc="-1" strike="noStrike">
                <a:solidFill>
                  <a:srgbClr val="006600"/>
                </a:solidFill>
                <a:latin typeface="Arial Unicode MS"/>
              </a:rPr>
              <a:t>КУЛЬТУРНЫХ  РАСТЕНИЙ</a:t>
            </a: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риродоведение   5   класс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Unicode MS"/>
              </a:rPr>
              <a:t>Зерновые   культуры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86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Важнейшая группа культурных растений , возделываемых в основном для получения зерна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       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56000" y="3357720"/>
            <a:ext cx="287964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Пшеница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2" action="ppaction://hlinksldjump"/>
              </a:rPr>
              <a:t>Рис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3" action="ppaction://hlinksldjump"/>
              </a:rPr>
              <a:t>Овес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4" action="ppaction://hlinksldjump"/>
              </a:rPr>
              <a:t>Гречиха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5" action="ppaction://hlinksldjump"/>
              </a:rPr>
              <a:t>Просо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AutoShape 9">
            <a:hlinkClick r:id="rId6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Unicode MS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095640" cy="4608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95640" y="1628640"/>
            <a:ext cx="47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ПШЕНИЦА, род одно- и многолетних трав семейства злаков, ведущая зерновая культура во многих странах. Ок. 30 видов, в Евразии, Африке, Америке, Австралии. Возделывают в основном пшеницу мягкую и пшеницу твердую (озимые и яровые формы). В культуре с 7 — 6-го тыс. до н. э. (Передняя Азия, Туркмения, Юж. Европа).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AutoShape 10">
            <a:hlinkClick r:id="rId3" action="ppaction://hlinksldjump"/>
          </p:cNvPr>
          <p:cNvSpPr/>
          <p:nvPr/>
        </p:nvSpPr>
        <p:spPr>
          <a:xfrm>
            <a:off x="468360" y="623736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Unicode MS"/>
              </a:rPr>
              <a:t>Рис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097440" cy="4319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851280" y="1197000"/>
            <a:ext cx="4751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Unicode MS"/>
              </a:rPr>
              <a:t>РИС, род однолетних и многолетних трав семейства злаков, зерновая культура. Ок. 20 видов, в тропиках Азии, Африки, Америки. Выращивают (чаще при орошении) в основном рис посевной — одно из древнейших продовольственных растений Земли. Родина — Индия (предположительно), где рис возделывают уже несколько тысячелетий, в Европе — с 8 в. н. э., в Америке — с 15-16 вв., в Ср. Азии и Закавказье — с 3-2 вв. до н. э. </a:t>
            </a:r>
            <a:endParaRPr b="1" i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AutoShape 9">
            <a:hlinkClick r:id="rId3" action="ppaction://hlinksldjump"/>
          </p:cNvPr>
          <p:cNvSpPr/>
          <p:nvPr/>
        </p:nvSpPr>
        <p:spPr>
          <a:xfrm>
            <a:off x="468360" y="623736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Unicode MS"/>
              </a:rPr>
              <a:t>Гречих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356000" y="1628640"/>
            <a:ext cx="439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ГРЕЧИХА, род одно- и многолетних трав семейства гречишных, крупяная культура 4-5 видов, в Северном полушарии. Возделывают практически один вид — гречиху посевную. Крупяная и медоносная культура. Листья — источник витамина Р.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AutoShape 7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AutoShape 8">
            <a:hlinkClick r:id="rId2" action="ppaction://hlinksldjump"/>
          </p:cNvPr>
          <p:cNvSpPr/>
          <p:nvPr/>
        </p:nvSpPr>
        <p:spPr>
          <a:xfrm>
            <a:off x="468360" y="623736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9" name="Picture 11" descr="g_323i"/>
          <p:cNvPicPr/>
          <p:nvPr/>
        </p:nvPicPr>
        <p:blipFill>
          <a:blip r:embed="rId3"/>
          <a:stretch/>
        </p:blipFill>
        <p:spPr>
          <a:xfrm>
            <a:off x="293760" y="1844640"/>
            <a:ext cx="36306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Unicode MS"/>
              </a:rPr>
              <a:t>Просо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45080" cy="388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356000" y="1557360"/>
            <a:ext cx="431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ПРОСО, род однолетних трав семейства злаков. Ок. 500 видов, в Азии, Америке и Африке. Кормовые травы, сорняки; возделывают просо обыкновенное, просо мелкое (крупа — пшено, мука, зерновые корма). Наибольшие площади посева в странах Азии и Африки; в Российской Федерации — в Поволжье, Центральночерноземном районе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468360" y="623736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Unicode MS"/>
              </a:rPr>
              <a:t>Овес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38440" cy="4525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284720" y="1628640"/>
            <a:ext cx="42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ОВЕС, род одно- и многолетних трав семейства злаков. Ок. 25 видов, в Евразии, Африке, Америке, Австралии. Кормовые травы, сорняки (овсюг), зерновые культуры — овес посевной, овес византийский и др. (кормовое и продовольственное зерно).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AutoShape 6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AutoShape 7">
            <a:hlinkClick r:id="rId3" action="ppaction://hlinksldjump"/>
          </p:cNvPr>
          <p:cNvSpPr/>
          <p:nvPr/>
        </p:nvSpPr>
        <p:spPr>
          <a:xfrm>
            <a:off x="468360" y="623736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 Unicode MS"/>
              </a:rPr>
              <a:t>Плодовые культуры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Группа культурных растений,возделываемых в основном для получения фруктов, ягод , орехов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Вишня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2" action="ppaction://hlinksldjump"/>
              </a:rPr>
              <a:t>Груш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3" action="ppaction://hlinksldjump"/>
              </a:rPr>
              <a:t>Земляник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AutoShape 4">
            <a:hlinkClick r:id="rId4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 Unicode MS"/>
              </a:rPr>
              <a:t>Вишня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598920" cy="4535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500720" y="1413000"/>
            <a:ext cx="3887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Unicode MS"/>
              </a:rPr>
              <a:t>ВИШНЯ, род деревьев и кустарников семейства розовых, плодовая культура. Ок. 150 видов, в Европе, Центр. Азии, США; в Российской Федерации, на Украине, в Молдавии и др. ок. 25 видов, в т. ч. черешня. Выращивают вишню обыкновенную, песчаную, степную и др. Группы сортов — аморели и гриоты. В плодах сахара, органические кислоты, дубильные вещества, витамины. Древесину используют на мелкие поделки</a:t>
            </a:r>
            <a:r>
              <a:rPr b="0" i="1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AutoShape 9">
            <a:hlinkClick r:id="rId3" action="ppaction://hlinksldjump"/>
          </p:cNvPr>
          <p:cNvSpPr/>
          <p:nvPr/>
        </p:nvSpPr>
        <p:spPr>
          <a:xfrm>
            <a:off x="39528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 Unicode MS"/>
              </a:rPr>
              <a:t>Груш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70440" cy="4525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4932360" y="162864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859280" y="1484280"/>
            <a:ext cx="374508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Unicode MS"/>
              </a:rPr>
              <a:t>ГРУША, род деревьев семейства розоцветных, плодовая культура. Ок. 60 видов. Выращивают грушу лесную, грушу снежную, грушу Буасье и др. Основные площади в странах с умеренным и субтропическим климатом. В съедобных плодах сахароза, органические кислоты, дубильные вещества, витамины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AutoShape 8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AutoShape 9">
            <a:hlinkClick r:id="rId3" action="ppaction://hlinksldjump"/>
          </p:cNvPr>
          <p:cNvSpPr/>
          <p:nvPr/>
        </p:nvSpPr>
        <p:spPr>
          <a:xfrm>
            <a:off x="39528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 Unicode MS"/>
              </a:rPr>
              <a:t>Земляник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356000" y="1484280"/>
            <a:ext cx="43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ЗЕМЛЯНИКА, род многолетних травянистых растений семейства розоцветных. Ок. 50 видов. Выращивают в основном землянику садовую, редко клубнику. Ягоды съедобны, содержат сахара, органические кислоты, витамин С.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AutoShape 7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AutoShape 8">
            <a:hlinkClick r:id="rId2" action="ppaction://hlinksldjump"/>
          </p:cNvPr>
          <p:cNvSpPr/>
          <p:nvPr/>
        </p:nvSpPr>
        <p:spPr>
          <a:xfrm>
            <a:off x="39528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1" name="Picture 9" descr="z01039i"/>
          <p:cNvPicPr/>
          <p:nvPr/>
        </p:nvPicPr>
        <p:blipFill>
          <a:blip r:embed="rId3"/>
          <a:stretch/>
        </p:blipFill>
        <p:spPr>
          <a:xfrm>
            <a:off x="285840" y="1628640"/>
            <a:ext cx="378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 Unicode MS"/>
              </a:rPr>
              <a:t>Культурные растения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0000" y="549360"/>
            <a:ext cx="5472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 Unicode MS"/>
              </a:rPr>
              <a:t>Дикорастущие  растения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5" name="Group 54"/>
          <p:cNvGrpSpPr/>
          <p:nvPr/>
        </p:nvGrpSpPr>
        <p:grpSpPr>
          <a:xfrm>
            <a:off x="3132000" y="2060640"/>
            <a:ext cx="5184720" cy="2897280"/>
            <a:chOff x="3132000" y="2060640"/>
            <a:chExt cx="5184720" cy="2897280"/>
          </a:xfrm>
        </p:grpSpPr>
        <p:sp>
          <p:nvSpPr>
            <p:cNvPr id="46" name="Rectangle 31"/>
            <p:cNvSpPr/>
            <p:nvPr/>
          </p:nvSpPr>
          <p:spPr>
            <a:xfrm>
              <a:off x="3421080" y="2419200"/>
              <a:ext cx="71280" cy="72072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47" name="Group 51"/>
            <p:cNvGrpSpPr/>
            <p:nvPr/>
          </p:nvGrpSpPr>
          <p:grpSpPr>
            <a:xfrm>
              <a:off x="3132000" y="2060640"/>
              <a:ext cx="5184720" cy="2897280"/>
              <a:chOff x="3132000" y="2060640"/>
              <a:chExt cx="5184720" cy="2897280"/>
            </a:xfrm>
          </p:grpSpPr>
          <p:sp>
            <p:nvSpPr>
              <p:cNvPr id="48" name="Rectangle 32"/>
              <p:cNvSpPr/>
              <p:nvPr/>
            </p:nvSpPr>
            <p:spPr>
              <a:xfrm>
                <a:off x="3132000" y="2708280"/>
                <a:ext cx="647640" cy="71280"/>
              </a:xfrm>
              <a:prstGeom prst="rect">
                <a:avLst/>
              </a:prstGeom>
              <a:solidFill>
                <a:srgbClr val="bbe0e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9" name="Text Box 34"/>
              <p:cNvSpPr/>
              <p:nvPr/>
            </p:nvSpPr>
            <p:spPr>
              <a:xfrm>
                <a:off x="4500360" y="2060640"/>
                <a:ext cx="3816360" cy="28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ff0000"/>
                    </a:solidFill>
                    <a:latin typeface="Arial Unicode MS"/>
                  </a:rPr>
                  <a:t>СЕЛЕКЦИЯ</a:t>
                </a:r>
                <a:r>
                  <a:rPr b="1" lang="ru-RU" sz="1800" spc="-1" strike="noStrike">
                    <a:solidFill>
                      <a:srgbClr val="ff6600"/>
                    </a:solidFill>
                    <a:latin typeface="Arial Unicode MS"/>
                  </a:rPr>
                  <a:t> – </a:t>
                </a:r>
                <a:r>
                  <a:rPr b="1" lang="ru-RU" sz="2800" spc="-1" strike="noStrike">
                    <a:solidFill>
                      <a:srgbClr val="ff6600"/>
                    </a:solidFill>
                    <a:latin typeface="Arial Unicode MS"/>
                  </a:rPr>
                  <a:t>наука занимающаяся выведением новых сортов растений</a:t>
                </a:r>
                <a:endParaRPr b="1" i="1" lang="en-US" sz="2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grpSp>
        <p:nvGrpSpPr>
          <p:cNvPr id="50" name="Group 55"/>
          <p:cNvGrpSpPr/>
          <p:nvPr/>
        </p:nvGrpSpPr>
        <p:grpSpPr>
          <a:xfrm>
            <a:off x="900000" y="1700280"/>
            <a:ext cx="1584360" cy="3284640"/>
            <a:chOff x="900000" y="1700280"/>
            <a:chExt cx="1584360" cy="3284640"/>
          </a:xfrm>
        </p:grpSpPr>
        <p:grpSp>
          <p:nvGrpSpPr>
            <p:cNvPr id="51" name="Group 30"/>
            <p:cNvGrpSpPr/>
            <p:nvPr/>
          </p:nvGrpSpPr>
          <p:grpSpPr>
            <a:xfrm>
              <a:off x="1116000" y="1700280"/>
              <a:ext cx="1224000" cy="3284640"/>
              <a:chOff x="1116000" y="1700280"/>
              <a:chExt cx="1224000" cy="3284640"/>
            </a:xfrm>
          </p:grpSpPr>
          <p:sp>
            <p:nvSpPr>
              <p:cNvPr id="52" name="Line 25"/>
              <p:cNvSpPr/>
              <p:nvPr/>
            </p:nvSpPr>
            <p:spPr>
              <a:xfrm>
                <a:off x="1619280" y="3861000"/>
                <a:ext cx="720720" cy="1123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grpSp>
            <p:nvGrpSpPr>
              <p:cNvPr id="53" name="Group 29"/>
              <p:cNvGrpSpPr/>
              <p:nvPr/>
            </p:nvGrpSpPr>
            <p:grpSpPr>
              <a:xfrm>
                <a:off x="1116000" y="1700280"/>
                <a:ext cx="1079640" cy="3284640"/>
                <a:chOff x="1116000" y="1700280"/>
                <a:chExt cx="1079640" cy="3284640"/>
              </a:xfrm>
            </p:grpSpPr>
            <p:sp>
              <p:nvSpPr>
                <p:cNvPr id="54" name="AutoShape 9"/>
                <p:cNvSpPr/>
                <p:nvPr/>
              </p:nvSpPr>
              <p:spPr>
                <a:xfrm>
                  <a:off x="1187640" y="1700280"/>
                  <a:ext cx="914400" cy="91440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bbe0e3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1619280" y="2708280"/>
                  <a:ext cx="0" cy="1295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1619280" y="2995920"/>
                  <a:ext cx="57636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 flipH="1">
                  <a:off x="1116000" y="2995920"/>
                  <a:ext cx="503280" cy="431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" name="Line 24"/>
                <p:cNvSpPr/>
                <p:nvPr/>
              </p:nvSpPr>
              <p:spPr>
                <a:xfrm flipH="1">
                  <a:off x="1187280" y="3932280"/>
                  <a:ext cx="431640" cy="1052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9" name="Line 26"/>
                <p:cNvSpPr/>
                <p:nvPr/>
              </p:nvSpPr>
              <p:spPr>
                <a:xfrm>
                  <a:off x="1619280" y="213228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60" name="Line 46"/>
            <p:cNvSpPr/>
            <p:nvPr/>
          </p:nvSpPr>
          <p:spPr>
            <a:xfrm flipV="1">
              <a:off x="2195640" y="3141360"/>
              <a:ext cx="288720" cy="142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Line 48"/>
            <p:cNvSpPr/>
            <p:nvPr/>
          </p:nvSpPr>
          <p:spPr>
            <a:xfrm flipH="1" flipV="1">
              <a:off x="900000" y="3213000"/>
              <a:ext cx="21600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 Unicode MS"/>
              </a:rPr>
              <a:t>Технические культуры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Дают сырье для различных отраслей промышленности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692360" y="3213000"/>
            <a:ext cx="457200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2" action="ppaction://hlinksldjump"/>
              </a:rPr>
              <a:t>Хлопчатник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3" action="ppaction://hlinksldjump"/>
              </a:rPr>
              <a:t>Подсолнечник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Картофель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4" action="ppaction://hlinksldjump"/>
              </a:rPr>
              <a:t>Лен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5" action="ppaction://hlinksldjump"/>
              </a:rPr>
              <a:t>Свекла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 Unicode MS"/>
              </a:rPr>
              <a:t>Хлопчатник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2280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3995640" y="1557360"/>
            <a:ext cx="489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ХЛОПЧАТНИК, род многолетних трав и кустарников семейства мальвовых. 35 видов, в Америке, Азии, Африке, Австралии. Одна из основных технических культур. Для получения волокна (длина до 43 мм), покрывающего семена, выращивают в однолетней культуре хлопчатник мексиканский (св. 70% мировой продукции хлопка-волокна), хлопчатник индокитайский, хлопчатник перуанский и др.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 Unicode MS"/>
              </a:rPr>
              <a:t>Подсолнечник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427640" y="1341360"/>
            <a:ext cx="446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ПОДСОЛНЕЧНИК, род одно- и многолетних трав и полукустарников семейства сложноцветных. Ок. 50 видов. Родина — Сев. Америка. Введен в культуру в России в 1829. Выращивают подсолнечник масличный (в семенах до 57% подсолнечного масла), земляную грушу, некоторые декоративные виды. Медонос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AutoShape 6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AutoShape 7">
            <a:hlinkClick r:id="rId2" action="ppaction://hlinksldjump"/>
          </p:cNvPr>
          <p:cNvSpPr/>
          <p:nvPr/>
        </p:nvSpPr>
        <p:spPr>
          <a:xfrm>
            <a:off x="468360" y="616572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Picture 9" descr="p00039i"/>
          <p:cNvPicPr/>
          <p:nvPr/>
        </p:nvPicPr>
        <p:blipFill>
          <a:blip r:embed="rId3"/>
          <a:stretch/>
        </p:blipFill>
        <p:spPr>
          <a:xfrm>
            <a:off x="179280" y="1989000"/>
            <a:ext cx="36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 Unicode MS"/>
              </a:rPr>
              <a:t>Лен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3203640" y="1197000"/>
            <a:ext cx="54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ЛЕН (Linum), род одно- и многолетних трав и кустарников семейства льновых, прядильная и масличная культура. Св. 200 видов. Возделывают в основном лен-долгунец — в стеблях 20-28% волокна, и лен масличный, или лен-кудряш, — в семенах 35-52% льняного масла. Некоторые виды декоративны. Наибольшие посевные площади льна-долгунца — в европейских странах, а также в Египте, Турции и др., льна масличного — в Индии, Аргентине, США.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AutoShape 10">
            <a:hlinkClick r:id="rId4" action="ppaction://hlinksldjump"/>
          </p:cNvPr>
          <p:cNvSpPr/>
          <p:nvPr/>
        </p:nvSpPr>
        <p:spPr>
          <a:xfrm>
            <a:off x="468360" y="616572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Unicode MS"/>
              </a:rPr>
              <a:t>Бобовые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стения образующие плод – боб. Используются как кормовые, технические          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AutoShape 4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348000" y="3213000"/>
            <a:ext cx="457200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2" action="ppaction://hlinksldjump"/>
              </a:rPr>
              <a:t>Горох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3" action="ppaction://hlinksldjump"/>
              </a:rPr>
              <a:t>Фасоль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4" action="ppaction://hlinksldjump"/>
              </a:rPr>
              <a:t>Соя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5" action="ppaction://hlinksldjump"/>
              </a:rPr>
              <a:t>Бобы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БОБЫ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43520" cy="4525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4716360" y="1484280"/>
            <a:ext cx="41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БОБЫ (конские бобы), однолетнее травянистое растение семейства бобовых. Кормовая, зерновая и овощная культура (в зеленой массе, зерне, недозрелых плодах — белки, сахара, витамины В, РР, С, каротин). В Евразии, Сев. Африке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AutoShape 6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AutoShape 7">
            <a:hlinkClick r:id="rId3" action="ppaction://hlinksldjump"/>
          </p:cNvPr>
          <p:cNvSpPr/>
          <p:nvPr/>
        </p:nvSpPr>
        <p:spPr>
          <a:xfrm>
            <a:off x="39528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ГОРОХ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356000" y="1341360"/>
            <a:ext cx="431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ГОРОХ, род одно- и многолетних трав семейства бобовых. 6-7 видов, в Евразии и Африке. Возделывают преимущественно горох посевной — продовольственное (крупа, мука, зеленые горошек и лопатки) и кормовое (зеленая масса, сено, зерно, солома) растение, а также горох абиссинский и горох полевой (пелюшку).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AutoShape 7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AutoShape 8">
            <a:hlinkClick r:id="rId2" action="ppaction://hlinksldjump"/>
          </p:cNvPr>
          <p:cNvSpPr/>
          <p:nvPr/>
        </p:nvSpPr>
        <p:spPr>
          <a:xfrm>
            <a:off x="39528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8" name="Picture 9" descr="g01244i"/>
          <p:cNvPicPr/>
          <p:nvPr/>
        </p:nvPicPr>
        <p:blipFill>
          <a:blip r:embed="rId3"/>
          <a:stretch/>
        </p:blipFill>
        <p:spPr>
          <a:xfrm>
            <a:off x="368280" y="1557360"/>
            <a:ext cx="3843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ФАСОЛЬ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716360" y="141300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Unicode MS"/>
              </a:rPr>
              <a:t>ФАСОЛЬ, (Phaseolus), род одно- и многолетних растений семейства бобовых. Свыше 200 видов, в тропиках и субтропиках Америки, Азии и Африки. Как зерновые бобовые культуры возделывают более 20 видов, которые по происхождению и ботаническим признакам разделяют на 2 географические группы — крупносемянные американские виды и мелкосемянные азиатские виды.</a:t>
            </a:r>
            <a:endParaRPr b="1" i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AutoShape 6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AutoShape 7">
            <a:hlinkClick r:id="rId2" action="ppaction://hlinksldjump"/>
          </p:cNvPr>
          <p:cNvSpPr/>
          <p:nvPr/>
        </p:nvSpPr>
        <p:spPr>
          <a:xfrm>
            <a:off x="39528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4" name="Picture 9" descr="z01039i"/>
          <p:cNvPicPr/>
          <p:nvPr/>
        </p:nvPicPr>
        <p:blipFill>
          <a:blip r:embed="rId3"/>
          <a:stretch/>
        </p:blipFill>
        <p:spPr>
          <a:xfrm>
            <a:off x="558720" y="1844640"/>
            <a:ext cx="4013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СОЯ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788000" y="1413000"/>
            <a:ext cx="4032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Unicode MS"/>
              </a:rPr>
              <a:t>СОЯ, род однолетних трав семейства бобовых. 10 видов, во влажных тропиках и субтропиках Азии и Африки. Возделывают сою обыкновенную (культурную) — зерновая, масличная (до 37% масла), кормовая и сидеральная культура. Основные плантации в Китае и США. Зерно сои (до 45% белка) используют для получения синтетических и искусственных пищевых продуктов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AutoShape 6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AutoShape 7">
            <a:hlinkClick r:id="rId2" action="ppaction://hlinksldjump"/>
          </p:cNvPr>
          <p:cNvSpPr/>
          <p:nvPr/>
        </p:nvSpPr>
        <p:spPr>
          <a:xfrm>
            <a:off x="39528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9" name="Picture 10" descr="S3250i"/>
          <p:cNvPicPr/>
          <p:nvPr/>
        </p:nvPicPr>
        <p:blipFill>
          <a:blip r:embed="rId3"/>
          <a:stretch/>
        </p:blipFill>
        <p:spPr>
          <a:xfrm>
            <a:off x="395280" y="1700280"/>
            <a:ext cx="3917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Unicode MS"/>
              </a:rPr>
              <a:t>ЛЕКАРСТВЕННЫЕ КУЛЬТУРЫ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стения используемые в качестве лекарственных средств. 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AutoShape 4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771640" y="2708280"/>
            <a:ext cx="457200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2" action="ppaction://hlinksldjump"/>
              </a:rPr>
              <a:t>Календула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3" action="ppaction://hlinksldjump"/>
              </a:rPr>
              <a:t>Ромашка аптечная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Малина садовая 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Смородина  черная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Класс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культурных растений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3" name="Diagram 82"/>
          <p:cNvGrpSpPr/>
          <p:nvPr/>
        </p:nvGrpSpPr>
        <p:grpSpPr>
          <a:xfrm>
            <a:off x="458280" y="1538280"/>
            <a:ext cx="8371800" cy="5006880"/>
            <a:chOff x="458280" y="1538280"/>
            <a:chExt cx="8371800" cy="5006880"/>
          </a:xfrm>
        </p:grpSpPr>
        <p:sp>
          <p:nvSpPr>
            <p:cNvPr id="64" name="_s1028"/>
            <p:cNvSpPr/>
            <p:nvPr/>
          </p:nvSpPr>
          <p:spPr>
            <a:xfrm flipH="1" flipV="1">
              <a:off x="3162600" y="3155400"/>
              <a:ext cx="7430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" name="_s1029"/>
            <p:cNvSpPr/>
            <p:nvPr/>
          </p:nvSpPr>
          <p:spPr>
            <a:xfrm>
              <a:off x="1377360" y="208764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1" action="ppaction://hlinksldjump"/>
                </a:rPr>
                <a:t>Овощн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6" name="_s1030"/>
            <p:cNvSpPr/>
            <p:nvPr/>
          </p:nvSpPr>
          <p:spPr>
            <a:xfrm flipH="1">
              <a:off x="2548800" y="4041000"/>
              <a:ext cx="105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7" name="_s1031"/>
            <p:cNvSpPr/>
            <p:nvPr/>
          </p:nvSpPr>
          <p:spPr>
            <a:xfrm>
              <a:off x="458280" y="341568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2" action="ppaction://hlinksldjump"/>
                </a:rPr>
                <a:t>Лекарствен-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3" action="ppaction://hlinksldjump"/>
                </a:rPr>
                <a:t>н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8" name="_s1032"/>
            <p:cNvSpPr/>
            <p:nvPr/>
          </p:nvSpPr>
          <p:spPr>
            <a:xfrm flipH="1">
              <a:off x="3162600" y="4481640"/>
              <a:ext cx="743040" cy="44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377360" y="474336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4" action="ppaction://hlinksldjump"/>
                </a:rPr>
                <a:t>Декоратив</a:t>
              </a:r>
              <a:r>
                <a:rPr b="1" lang="ru-RU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5" action="ppaction://hlinksldjump"/>
                </a:rPr>
                <a:t>-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6" action="ppaction://hlinksldjump"/>
                </a:rPr>
                <a:t>н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0" name="_s1034"/>
            <p:cNvSpPr/>
            <p:nvPr/>
          </p:nvSpPr>
          <p:spPr>
            <a:xfrm>
              <a:off x="4642920" y="4664160"/>
              <a:ext cx="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3597480" y="529308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7" action="ppaction://hlinksldjump"/>
                </a:rPr>
                <a:t>Технически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5379840" y="4481640"/>
              <a:ext cx="743040" cy="44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3" name="_s1037"/>
            <p:cNvSpPr/>
            <p:nvPr/>
          </p:nvSpPr>
          <p:spPr>
            <a:xfrm>
              <a:off x="5817600" y="474336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8" action="ppaction://hlinksldjump"/>
                </a:rPr>
                <a:t>Плодов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4" name="_s1038"/>
            <p:cNvSpPr/>
            <p:nvPr/>
          </p:nvSpPr>
          <p:spPr>
            <a:xfrm>
              <a:off x="5684760" y="4041000"/>
              <a:ext cx="105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5" name="_s1039"/>
            <p:cNvSpPr/>
            <p:nvPr/>
          </p:nvSpPr>
          <p:spPr>
            <a:xfrm>
              <a:off x="6736680" y="341568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Кормов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6" name="_s1040"/>
            <p:cNvSpPr/>
            <p:nvPr/>
          </p:nvSpPr>
          <p:spPr>
            <a:xfrm flipV="1">
              <a:off x="5379840" y="3155400"/>
              <a:ext cx="7430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7" name="_s1041"/>
            <p:cNvSpPr/>
            <p:nvPr/>
          </p:nvSpPr>
          <p:spPr>
            <a:xfrm>
              <a:off x="5817600" y="208764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9" action="ppaction://hlinksldjump"/>
                </a:rPr>
                <a:t>Бобов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8" name="_s1042"/>
            <p:cNvSpPr/>
            <p:nvPr/>
          </p:nvSpPr>
          <p:spPr>
            <a:xfrm flipV="1">
              <a:off x="4642920" y="2787840"/>
              <a:ext cx="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9" name="_s1043"/>
            <p:cNvSpPr/>
            <p:nvPr/>
          </p:nvSpPr>
          <p:spPr>
            <a:xfrm>
              <a:off x="3597480" y="153828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  <a:hlinkClick r:id="rId10" action="ppaction://hlinksldjump"/>
                </a:rPr>
                <a:t>Зернов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3597480" y="3417480"/>
              <a:ext cx="2093400" cy="1252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Культурные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растения</a:t>
              </a:r>
              <a:endParaRPr b="1" i="1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Unicode MS"/>
              </a:rPr>
              <a:t>КАЛЕНДУЛ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38440" cy="4525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211640" y="1413000"/>
            <a:ext cx="460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КАЛЕНДУЛА, род трав и полукустарников семейства сложноцветных. Св. 20 видов, главным образом в Средиземноморье; растет на морских побережьях, в зарослях кустарников, на скалах. Возделывают календулу лекарственную (ноготки), используемую как дезинфицирующее и успокаивающее средство, а также как пищевой краситель и декоративное растение.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Unicode MS"/>
              </a:rPr>
              <a:t>РОМАШКА АПТЕЧНАЯ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754440" cy="452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4643280" y="1413000"/>
            <a:ext cx="41054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</a:rPr>
              <a:t>РОМАШКА (настоящая ромашка), род однолетних трав семейства сложноцветных. Ок. 50 видов, в Евразии и Африке. Ромашка аптечная — лекарственное растение (потогонное, антисептическое и вяжущее средство). Ромашкой называют также виды пиретрума, пупавки, нивяника и другие растения, внешне сходные с ромашкой</a:t>
            </a:r>
            <a:r>
              <a:rPr b="1" i="1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68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Unicode MS"/>
              </a:rPr>
              <a:t>ДЕКОРАТИВНЫЕ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 Unicode MS"/>
              </a:rPr>
              <a:t>КУЛЬТУРЫ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Комнатные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Садовы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1771560" cy="197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1771920" cy="197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4"/>
          <a:stretch/>
        </p:blipFill>
        <p:spPr>
          <a:xfrm>
            <a:off x="179280" y="4886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5"/>
          <a:stretch/>
        </p:blipFill>
        <p:spPr>
          <a:xfrm>
            <a:off x="2124000" y="2637000"/>
            <a:ext cx="1542960" cy="2066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6"/>
          <a:stretch/>
        </p:blipFill>
        <p:spPr>
          <a:xfrm>
            <a:off x="2124000" y="5084640"/>
            <a:ext cx="2067120" cy="1543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"/>
          <p:cNvPicPr/>
          <p:nvPr/>
        </p:nvPicPr>
        <p:blipFill>
          <a:blip r:embed="rId7"/>
          <a:stretch/>
        </p:blipFill>
        <p:spPr>
          <a:xfrm>
            <a:off x="7164360" y="2637000"/>
            <a:ext cx="1771560" cy="1971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"/>
          <p:cNvPicPr/>
          <p:nvPr/>
        </p:nvPicPr>
        <p:blipFill>
          <a:blip r:embed="rId8"/>
          <a:stretch/>
        </p:blipFill>
        <p:spPr>
          <a:xfrm>
            <a:off x="7164360" y="4724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3"/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Unicode MS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омат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Огурец -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Горох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Морковь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50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овощн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овощн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Unicode MS"/>
              </a:rPr>
              <a:t>бобов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овощн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Груша -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лива –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Вишня –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Береза –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24360" y="765000"/>
            <a:ext cx="483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Unicode MS"/>
              </a:rPr>
              <a:t>дикорастуще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Шиповник 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Астра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Георгин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оза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7280" y="765000"/>
            <a:ext cx="4897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Unicode MS"/>
              </a:rPr>
              <a:t>дикорастуще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одсолнечник –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Огурец –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Хлопчатник –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Лен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11280" y="836280"/>
            <a:ext cx="447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ехническ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Unicode MS"/>
              </a:rPr>
              <a:t>овощн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ехническ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ехническ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ис –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куруза –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шеница –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артофель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зернов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зернов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зернов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Unicode MS"/>
              </a:rPr>
              <a:t>овощная культур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42447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Малина –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Черная смородина –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Брусника –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рыжовник -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356000" y="692280"/>
            <a:ext cx="4788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 Unicode MS"/>
              </a:rPr>
              <a:t>дикорастуще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ультурное раст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Unicode MS"/>
              </a:rPr>
              <a:t>Овощные  культуры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317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Однолетние и многолетние травянистые растения, сочные мясистые части, которых употребляют в пищу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916360" y="3429000"/>
            <a:ext cx="3166920" cy="30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Огурец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2" action="ppaction://hlinksldjump"/>
              </a:rPr>
              <a:t>Томат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3" action="ppaction://hlinksldjump"/>
              </a:rPr>
              <a:t>Картофель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 Unicode MS"/>
                <a:hlinkClick r:id="rId4" action="ppaction://hlinksldjump"/>
              </a:rPr>
              <a:t>Морковь</a:t>
            </a: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AutoShape 6">
            <a:hlinkClick r:id="rId5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AutoShape 7">
            <a:hlinkClick r:id="rId6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Огурец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3844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643280" y="1238400"/>
            <a:ext cx="432144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ОГУРЕЦ (Cucumis), род однолетних или многолетних растений семейства тыквенных. Около 30 видов, в основном в Африке, а также в Восточной Азии. Огурец посевной (C. sativus), неизвестный в диком виде, однолетняя овощная культура. Выращивают на всех континентах, наиболее широко — в Китае, России, Японии, США, Турции, странах Центральной Европы. В культуре свыше 5000 лет. </a:t>
            </a:r>
            <a:endParaRPr b="1" i="1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AutoShape 14">
            <a:hlinkClick r:id="rId3" action="ppaction://hlinksldjump"/>
          </p:cNvPr>
          <p:cNvSpPr/>
          <p:nvPr/>
        </p:nvSpPr>
        <p:spPr>
          <a:xfrm>
            <a:off x="3952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076720" y="1628640"/>
            <a:ext cx="37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ТОМАТ (помидор) (Lycopersicon), род однолетних или многолетних травянистых растений семейства пасленовых. 3 вида, в Южной Америке. Томат обыкновенный (L. esculentum) — однолетняя овощная культура.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AutoShape 7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AutoShape 8">
            <a:hlinkClick r:id="rId2" action="ppaction://hlinksldjump"/>
          </p:cNvPr>
          <p:cNvSpPr/>
          <p:nvPr/>
        </p:nvSpPr>
        <p:spPr>
          <a:xfrm>
            <a:off x="3952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5" name="Picture 9" descr="t_025i"/>
          <p:cNvPicPr/>
          <p:nvPr/>
        </p:nvPicPr>
        <p:blipFill>
          <a:blip r:embed="rId3"/>
          <a:stretch/>
        </p:blipFill>
        <p:spPr>
          <a:xfrm>
            <a:off x="684360" y="1773360"/>
            <a:ext cx="37335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ru-RU" sz="4400" spc="-1" strike="noStrike">
                <a:solidFill>
                  <a:srgbClr val="006600"/>
                </a:solidFill>
                <a:latin typeface="Arial Unicode MS"/>
              </a:rPr>
              <a:t>Свекл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716360" y="184464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Unicode MS"/>
              </a:rPr>
              <a:t>СВЕКЛА, (Beta), род одно-, дву- и многолетних растений семейства маревых. 6 видов, преимущественно в Средиземноморье, Передней Азии, Закавказье. Как двулетнюю овощную культуру выращивают свеклу листовую, или мангольд, и свеклу обыкновенную (B. vulgaris), к которой относятся столовая, кормовая и сахарная свекла </a:t>
            </a:r>
            <a:endParaRPr b="1" i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AutoShape 6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AutoShape 7">
            <a:hlinkClick r:id="rId2" action="ppaction://hlinksldjump"/>
          </p:cNvPr>
          <p:cNvSpPr/>
          <p:nvPr/>
        </p:nvSpPr>
        <p:spPr>
          <a:xfrm>
            <a:off x="3952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0" name="Picture 9" descr="s_022i"/>
          <p:cNvPicPr/>
          <p:nvPr/>
        </p:nvPicPr>
        <p:blipFill>
          <a:blip r:embed="rId3"/>
          <a:stretch/>
        </p:blipFill>
        <p:spPr>
          <a:xfrm>
            <a:off x="539640" y="1557360"/>
            <a:ext cx="37116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Морковь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26579" t="12802" r="54982" b="56731"/>
          <a:stretch/>
        </p:blipFill>
        <p:spPr>
          <a:xfrm>
            <a:off x="755640" y="1268280"/>
            <a:ext cx="1798560" cy="222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564000" y="1700280"/>
            <a:ext cx="53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МОРКОВЬ, род дву-, редко одно- и многолетних трав семейства зонтичных, овощная культура. Ок. 60 видов, на юге Европы, в Зап. и Ср. Азии, в Африке, Австралии, Америке. Выращивают морковь посевную (в корнеплодах сахара, витамины В, РР, каротин) на всех континентах </a:t>
            </a:r>
            <a:endParaRPr b="1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AutoShape 8">
            <a:hlinkClick r:id="rId4" action="ppaction://hlinksldjump"/>
          </p:cNvPr>
          <p:cNvSpPr/>
          <p:nvPr/>
        </p:nvSpPr>
        <p:spPr>
          <a:xfrm>
            <a:off x="3952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AutoShape 10">
            <a:hlinkClick r:id="rId5" action="ppaction://hlinksldjump"/>
          </p:cNvPr>
          <p:cNvSpPr/>
          <p:nvPr/>
        </p:nvSpPr>
        <p:spPr>
          <a:xfrm>
            <a:off x="3952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Unicode MS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93760" y="1557360"/>
            <a:ext cx="355752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284720" y="141300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24360" y="1413000"/>
            <a:ext cx="50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</a:rPr>
              <a:t>КАРТОФЕЛЬ, многолетние клубненосные виды (около 150) травянистых растений рода паслен семейства пасленовых. Для пищевых, кормовых и технических целей в Южной Америке выращивают картофель андийский (S. andigenum) и картофель европейский, или чилийский </a:t>
            </a: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AutoShape 12">
            <a:hlinkClick r:id="rId2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AutoShape 14">
            <a:hlinkClick r:id="rId3" action="ppaction://hlinksldjump"/>
          </p:cNvPr>
          <p:cNvSpPr/>
          <p:nvPr/>
        </p:nvSpPr>
        <p:spPr>
          <a:xfrm>
            <a:off x="3952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AutoShape 16">
            <a:hlinkClick r:id="rId5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7:26:17Z</dcterms:created>
  <dc:creator>Seminar</dc:creator>
  <dc:description/>
  <dc:language>en-US</dc:language>
  <cp:lastModifiedBy>Пользователь</cp:lastModifiedBy>
  <dcterms:modified xsi:type="dcterms:W3CDTF">2013-02-26T18:52:45Z</dcterms:modified>
  <cp:revision>47</cp:revision>
  <dc:subject/>
  <dc:title>МНОГООБРАЗИЕ  КУЛЬТУРНЫХ  РАСТЕНИЙ</dc:title>
</cp:coreProperties>
</file>