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9D9-AABD-4CEC-B996-FD7C40B9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1AA-5F7B-4BFD-BFFC-3FC496C5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521-3588-4535-AA8A-F6D50E17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CE3-0CAB-484D-A9A0-5F516BDD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88B-2FEC-4556-B5C2-5F319734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2DA-1C60-4972-B22A-6D4D2900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192-7B7D-4066-A247-DE6BA8C2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4A6-BE18-462F-A0B4-651F2598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643-D8A6-414B-9637-349A3EFA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BE7-0BE1-43A6-8981-652356A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6B2-084C-497B-BE6B-DBE684A2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5DD-743C-423D-BD86-F85DB77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5ADB-B677-4CC3-A4AF-6326F06D79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231840" y="554040"/>
            <a:ext cx="9350280" cy="3828960"/>
          </a:xfrm>
          <a:prstGeom prst="rect">
            <a:avLst/>
          </a:prstGeom>
          <a:ln w="0">
            <a:noFill/>
          </a:ln>
        </p:spPr>
      </p:pic>
      <p:grpSp>
        <p:nvGrpSpPr>
          <p:cNvPr id="42" name="Подзаголовок 2"/>
          <p:cNvGrpSpPr/>
          <p:nvPr/>
        </p:nvGrpSpPr>
        <p:grpSpPr>
          <a:xfrm>
            <a:off x="2712960" y="5005440"/>
            <a:ext cx="6424560" cy="1644480"/>
            <a:chOff x="2712960" y="5005440"/>
            <a:chExt cx="6424560" cy="1644480"/>
          </a:xfrm>
        </p:grpSpPr>
        <p:pic>
          <p:nvPicPr>
            <p:cNvPr id="43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2712960" y="5005440"/>
              <a:ext cx="642456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786040" y="5214960"/>
              <a:ext cx="600084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мирновой О.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чителя истории и обществозна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БОУ «СОШ №23» г.Энгельса Саратовской об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Прямоугольник 3"/>
          <p:cNvSpPr/>
          <p:nvPr/>
        </p:nvSpPr>
        <p:spPr>
          <a:xfrm>
            <a:off x="407196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№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20840" y="2352600"/>
            <a:ext cx="8242200" cy="107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349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учащихся представление о культурных достижениях народов древнего мира и их роли в развитии циви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ь критически относиться к своей рабо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928800" y="21420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вайте вспомним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уда мы знаем, как жили наши предк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зарождалось первобытное искусство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культур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10747440" cy="63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39484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347760" y="-36360"/>
            <a:ext cx="8624880" cy="3754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428760" y="3565440"/>
            <a:ext cx="82864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2 группа «Вавилоняне и ассирийцы».</a:t>
            </a:r>
            <a:br>
              <a:rPr sz="28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аспределить кто чем будет заниматься в групп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айти информацию по тем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одготовить презентацию «Достижения культуры народов Передней Азии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390600" y="-171360"/>
            <a:ext cx="8624880" cy="39621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571680" y="3786120"/>
            <a:ext cx="814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4 группа «Греки и римляне»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аспределить обязанности и задания в  групп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бор материалов к презента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одготовка презентации «Достижения культуры Греции и Рим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943632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8:17:34Z</dcterms:created>
  <dc:creator>Алексей</dc:creator>
  <dc:description/>
  <dc:language>en-US</dc:language>
  <cp:lastModifiedBy>Админ</cp:lastModifiedBy>
  <dcterms:modified xsi:type="dcterms:W3CDTF">2013-02-27T18:17:34Z</dcterms:modified>
  <cp:revision>26</cp:revision>
  <dc:subject/>
  <dc:title>Вклад народов древнего мира в мировую культуру .   Презентация</dc:title>
</cp:coreProperties>
</file>