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50DA-CABF-4490-9BFA-7D27943A6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38B0-631A-4F99-9451-82215773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9167-E26B-4637-8A8A-D743A557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781F-68F8-4D23-AB50-7F406CE28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3182-67FA-4995-A53B-333427DFD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EC73-C62B-429A-A158-6FEFA401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0C03-C3CB-4E9C-8EBF-D62AA241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0FE0-2242-458A-BDB0-8F1D09C2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DB43-7BCE-473E-A97E-1079CB85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E9C7-15A8-4368-81D3-1F78438C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2431-1FFE-483E-A027-DEE07029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D7B4-8BF2-4F72-8C1C-33746788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EE39-38F1-43DF-8894-F085B1EC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C847-B4A0-448B-83AB-ACA7B1D2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FAAE-7C55-4E7B-AEA0-452870A2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79DD-0B60-4631-9504-891637380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B71D-BD9F-49AC-B587-26475253E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7AED8-9706-4FFA-93C1-8A4DA561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938CC-F666-41A8-AEA6-1785F62B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20F82-7B8A-405F-8292-1EAD99D5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9258F-450B-401B-A3FD-329CF11D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ACAD1-8EB0-4D50-A981-12E84FC7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5B88-4469-4E79-8587-B3575065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BA65A-A233-41F0-980C-311037C2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25097-D74E-49C5-9BC9-617D3F7A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AF0D3-9C71-49C8-90F0-A9AA1AF6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11F67-0954-41D8-BD76-534EEDCE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6D8DA-62E6-48AB-9B83-17FF8DCC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42E64-CECF-4ACE-AE27-EBDED9E4C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A736E-360C-4933-80F0-463AF851D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5B333-14AE-4B28-ADB1-C02293076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56BD8-46E6-4BBC-8E6E-D9C77E0D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E76C6-6E36-4291-A938-60D9DB1E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E1B6-D1D7-4E0F-8DD3-1F148C1D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6AAB6-789B-4D0E-9A29-F92B8828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5EEC2-8C54-45AA-9CA9-A8C40B1D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D64DA-1BB8-4983-B168-D84FD61D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E25B8-2CC7-4210-922E-664CFD1A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7B658-15F9-415E-9346-7D5CC764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54F7F-ED31-4A07-89CA-E06BEE80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4937F-7A68-4051-B54B-4B5BE305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ABD52-E24F-4049-9101-FFA1E1FAE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F4021-FA5F-4243-BF91-B284684D8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F14AF-8746-4A48-B377-CD9760998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79E9-61A5-4D9E-B44F-F6EE7181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6CAF4-4C4A-4C27-B9D6-D91D30C3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B7558-340D-4062-BC18-6F195972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52A18-73EC-4209-8724-91A96BD3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76CFD-58BD-4B86-8C89-4EEF340B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87D50-1BDB-4BCE-9B7E-D1A58DC8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1339C-9BF8-47EF-9294-E7F78CF7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6070E-4740-4C73-AB26-73F71781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3E983-50C9-4062-8CF0-AD14AA40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AC02B-756B-4AF5-A90C-60A6117D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E98BA-03E3-453F-A328-B8ED389E2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09E4-B1F8-4ACF-AD62-A5A81E1A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835EE-F726-4880-A2B7-6A50A84C3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2A17E-08C6-432B-B34B-EB8F0F481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C77CE-9B53-47A4-BD3F-F1F6842F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728B5-D5C4-468B-AA2D-84C7B502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434BE-8489-4CD4-9E09-EC02312D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7440D-BFE1-4BF6-B06B-BFF53319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BB27D-CB5B-4650-AF9B-8B3636DB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D6A70-2529-4A42-BC42-4FD55C72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E8FA1-6CCC-448F-82CE-E11468F1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73C70-0BF3-48E7-94EE-4323FF4C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FA6B-B7E7-480D-8F03-6EEB9DA2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7007A-979F-4E0D-8DE7-EF4245B9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21900-72AC-4B51-B3E1-D4ADD3C42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4A83B-CBC5-4FB6-A2C9-06AC16FFC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48472-4C7F-4BEE-80C9-E08B14CE2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EB1B8-4EEB-4E01-9C7E-4A610C29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C7954-3106-49B3-A7A2-5533B9B3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2303A-9256-4024-8EAF-4E0D68DC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6BDCD-5654-462D-A0B9-5877C0E7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AEDCA-0FEF-49A9-B6DC-79A70D2D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0BFAA-AC55-4F54-9628-52D362B7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8E23-C3C5-4868-AD4E-4FA9E95C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A6856-2B04-4F03-9949-945B8AE6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7A675-4F57-4D16-AFE5-C749E75F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6C4A4-6D25-4301-9579-C5760FBD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E7EE7-7078-458E-9F78-CF1170EE0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B7B28-028A-43F5-BC3D-297141D6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AC34-692A-4B22-9F8F-D6C5920F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362F-9A4D-4C63-B8D8-B0236844E4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845F-DAF3-4967-9349-B088416BF1E7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1A63-6FEE-4848-B12E-C0F633B916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3B9D-2313-470B-8556-3ADD0938901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84CF-F563-4858-BD90-7D71A4D689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2309-DD9E-4E6F-9794-AC4D608EB188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82CA-CEDA-4EAE-9EC9-AFE4022B0D1D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Подзаголовок 2" descr=""/>
          <p:cNvPicPr/>
          <p:nvPr/>
        </p:nvPicPr>
        <p:blipFill>
          <a:blip r:embed="rId1"/>
          <a:stretch/>
        </p:blipFill>
        <p:spPr>
          <a:xfrm>
            <a:off x="212760" y="2286000"/>
            <a:ext cx="8712000" cy="2273400"/>
          </a:xfrm>
          <a:prstGeom prst="rect">
            <a:avLst/>
          </a:prstGeom>
          <a:ln w="0">
            <a:noFill/>
          </a:ln>
        </p:spPr>
      </p:pic>
      <p:sp>
        <p:nvSpPr>
          <p:cNvPr id="302" name="Прямоугольник 3"/>
          <p:cNvSpPr/>
          <p:nvPr/>
        </p:nvSpPr>
        <p:spPr>
          <a:xfrm>
            <a:off x="4142880" y="614376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10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4572000" y="333360"/>
            <a:ext cx="424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талья Николаевна Гусев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арший воспитатель МДОУ детский с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мбинированного вида № 133 г. Кир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468360" y="549360"/>
            <a:ext cx="8229600" cy="60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Тема: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ыбор оптимальных  форм и методов работы как средство развития профессиональной деятельности молодых воспитателей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Задача: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казание помощи, молодым воспитателям адаптироваться  в новом коллективе, сделать так , чтобы они не разочаровывались в выбранном пут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4209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28760" y="207180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«Старший воспитатель - молодой специалист» - обеспечение молодых педагогов необходимыми знаниями, умениями, навыками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«Молодой специалист- воспитанник и его родитель» - формирование авторитета педагога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«Молодой специалист – педагог в коллективе» - оказание поддержки со стороны старших коллег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Заголовок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7557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28760" y="157176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Решение педагогических ситуаций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Метод имитации рабочего дня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Составление и решение педагогических кроссвордов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Экспресс-опрос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) Изготовление игр, пособий воспитателями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57200" y="357120"/>
            <a:ext cx="8229600" cy="60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14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КОЛА МОЛОДЫХ СПЕЦИАЛИСТОВ»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седания проходят 1 раз в месяц по плану. В рамках школы рассматриваются теоретические и практические вопросы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0" name="Содержимое 3" descr="perv shagi3.JPG"/>
          <p:cNvPicPr/>
          <p:nvPr/>
        </p:nvPicPr>
        <p:blipFill>
          <a:blip r:embed="rId1"/>
          <a:stretch/>
        </p:blipFill>
        <p:spPr>
          <a:xfrm>
            <a:off x="3139920" y="2316240"/>
            <a:ext cx="5748480" cy="431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285840" y="428760"/>
            <a:ext cx="8229600" cy="59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1444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ы работы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Анкетирование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кета молодого специалист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очему Вы выбрали профессию воспитателя? Чем она для Вас привлекательна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Как Вы оцениваете различные  стороны своей профессиональной подготовки 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С какими трудностями Вы столкнулись в работе? В какой помощи Вы больше  всего нуждаетесь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Как Вы оцениваете свои взаимоотношения с педагогическим коллективом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Какие задачи Вы ставите перед собой в ближайшее время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Каковы Ваши профессиональные планы на будущее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Если бы вам представилась возможность вновь выбрать профессию, стали бы Вы воспитателем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Что Вам хотелось бы изменить в своей работе 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428760" y="285840"/>
            <a:ext cx="822960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едсовет в форме деловой   игры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икторины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Консультации-ситуаци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амообразование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Открытые просмотры, взаимопросмотры занятий, мероприятий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469800" y="0"/>
            <a:ext cx="8240760" cy="14079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571680" y="1500120"/>
            <a:ext cx="822960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Молодые педагоги имеют (2009 - 2010 г.) рост профессионального мастерств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отзывы коллег, родителей, результаты анкетирования и др.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По итогам анкетирования молодые специалисты удовлетворены созданными условиями для развития своих профессиональных  качеств (87%) 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285840" y="164304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8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8:01:12Z</dcterms:created>
  <dc:creator>User</dc:creator>
  <dc:description/>
  <dc:language>en-US</dc:language>
  <cp:lastModifiedBy>User</cp:lastModifiedBy>
  <dcterms:modified xsi:type="dcterms:W3CDTF">2010-11-20T18:42:06Z</dcterms:modified>
  <cp:revision>20</cp:revision>
  <dc:subject/>
  <dc:title>Гусева Наталья Николаевна                                                                                                          Муниципальное дошкольное   образовательное учреждение  детский сад комбинированного  вида № 133 г.Кирова  Старший воспитатель   </dc:title>
</cp:coreProperties>
</file>