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6879-DBBD-4B66-B10C-B23E260F1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08B1-6631-445E-841E-AEEC83367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248C-FC6F-45B4-BBF7-E80F526EB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1864-F72E-4E89-A6D4-26B0E057D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4847-A5EE-453D-8A47-F169F92E4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C700-CB73-4B4F-9DA6-65182539A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AE90-E78B-46AE-9BEF-0B5562171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A152-C1CF-46B5-A1AA-C04D487D4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9DE7-2E69-455F-A442-9F6D47992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1E35-8DF2-4391-9F01-3301712E3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3BAE-7DF9-49B3-9BE5-9FD6DFA72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0DF4-D100-4AAA-99FF-1C5AB3205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687B4-E79A-4B5A-BAFA-5C5C5E788A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ru/imgres?imgurl=http://ecovoice.ru/uploads/images/8/b/e/1/239/6066436855.jpg&amp;imgrefurl=http://ecovoice.ru/blog/health-beauty/650.html&amp;h=319&amp;w=450&amp;sz=22&amp;tbnid=2NGUkYDtTdGAfM:&amp;tbnh=90&amp;tbnw=127&amp;prev=/images%3Fq%3D%25D1%2584%25D0%25BE%25D1%2582%25D0%25BE%2B%25D0%25B7%25D1%2583%25D0%25B1%25D0%25BE%25D0%25B2&amp;zoom=1&amp;q=&#1092;&#1086;&#1090;&#1086;+&#1079;&#1091;&#1073;&#1086;&#1074;&amp;hl=ru&amp;usg=__p4cgcqrA_2LD6j6teFZTw3UtlaE=&amp;sa=X&amp;ei=bVM-TbiwIcaVOvTiycQM&amp;ved=0CBAQ9QEwAQ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oogle.ru/imgres?imgurl=http://www.tiensmed.ru/illness/images/stomach-health.jpg&amp;imgrefurl=http://www.tiensmed.ru/illness/iazva2.html&amp;usg=__ItfsvVGTeg0w3bQjIJrhPlaWdGo=&amp;h=274&amp;w=220&amp;sz=17&amp;hl=ru&amp;start=5&amp;zoom=1&amp;tbnid=7T1vvleoFqXCjM:&amp;tbnh=113&amp;tbnw=91&amp;ei=c1Q-TaCjIImWOu61lfcK&amp;prev=/images%3Fq%3D%25D0%25B6%25D0%25B5%25D0%25BB%25D1%2583%25D0%25B4%25D0%25BE%25D0%25BA%26hl%3Dru%26lr%3D%26newwindow%3D1%26sa%3DX%26tbs%3Disch:1%26prmd%3Divns&amp;itbs=1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google.ru/imgres?imgurl=http://microbewiki.kenyon.edu/images/c/c3/Small_intestine.jpg&amp;imgrefurl=http://microbewiki.kenyon.edu/index.php/Small_Intestine&amp;usg=__f86sHlUOFZBx3b9vbs3k5aFagIc=&amp;h=320&amp;w=400&amp;sz=27&amp;hl=ru&amp;start=13&amp;zoom=1&amp;tbnid=dJQtlMbjTz3R3M:&amp;tbnh=99&amp;tbnw=124&amp;ei=wlQ-TZuGII-SOu3g5O4K&amp;prev=/images%3Fq%3D%25D0%25BA%25D0%25B8%25D1%2588%25D0%25B5%25D1%2587%25D0%25BD%25D0%25B8%25D0%25BA%26hl%3Dru%26lr%3D%26newwindow%3D1%26sa%3DX%26tbs%3Disch:1%26prmd%3Divns&amp;itbs=1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google.ru/imgres?imgurl=http://www.altmedic.ru/modules/clear/pechen.jpg&amp;imgrefurl=http://www.altmedic.ru/modules/clear/index.php%3Fnvar%3D37025&amp;usg=__0idPPsHiwK0yVVuhEFW9qC8fG2g=&amp;h=433&amp;w=566&amp;sz=40&amp;hl=ru&amp;start=3&amp;zoom=1&amp;tbnid=3VRB94w8QhxTgM:&amp;tbnh=103&amp;tbnw=134&amp;ei=klQ-TZG_PMygOrnP9PsK&amp;prev=/images%3Fq%3D%25D0%25BF%25D0%25B5%25D1%2587%25D0%25B5%25D0%25BD%25D1%258C%26hl%3Dru%26lr%3D%26newwindow%3D1%26sa%3DX%26tbs%3Disch:1%26prmd%3Divns&amp;itbs=1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google.ru/imgres?imgurl=http://bodymindspiritintegration.com/wp-content/uploads/2010/01/pancreas.jpg&amp;imgrefurl=http://bodymindspiritintegration.com/2010/01/what-is-pancreas-and-what-are-the-functions/&amp;usg=__wKPNuDFXoWvNXUkD-vkixKkJbqw=&amp;h=363&amp;w=434&amp;sz=35&amp;hl=ru&amp;start=13&amp;zoom=1&amp;tbnid=uWVIILoXVawf_M:&amp;tbnh=105&amp;tbnw=126&amp;ei=_1Q-Te_KJoTsOeimkfIK&amp;prev=/images%3Fq%3D%25D0%25BF%25D0%25BE%25D0%25B4%25D0%25B6%25D0%25B5%25D0%25BB%25D1%2583%25D0%25B4%25D0%25BE%25D1%2587%25D0%25BD%25D0%25B0%25D1%258F%2B%25D0%25B6%25D0%25B5%25D0%25BB%25D0%25B5%25D0%25B7%25D0%25B0%26hl%3Dru%26lr%3D%26newwindow%3D1%26sa%3DX%26tbs%3Disch:1%26prmd%3Divns&amp;itbs=1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ru/imgres?imgurl=http://articles.kompass.ua/_pu/10/48262526.jpg&amp;imgrefurl=http://articles.kompass.ua/publ/30&amp;h=640&amp;w=470&amp;sz=56&amp;tbnid=7fRmyf42hWzxZM:&amp;tbnh=137&amp;tbnw=101&amp;prev=/images%3Fq%3D%25D1%2584%25D0%25BE%25D1%2582%25D0%25BE%2B%25D0%25B3%25D1%2583%25D0%25B1&amp;zoom=1&amp;q=&#1092;&#1086;&#1090;&#1086;+&#1075;&#1091;&#1073;&amp;hl=ru&amp;usg=__LYlngxwZf-5vt2PVaydCaZICt4w=&amp;sa=X&amp;ei=plM-TfP0BofrOdzx9e0K&amp;ved=0CBYQ9QEwBA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ru/imgres?imgurl=http://www.true-medicine.ru/wp-content/uploads/gastrit.jpg&amp;imgrefurl=http://www.true-medicine.ru/ostryiy-gastrit-tabletki.html&amp;usg=__gWyaqT6YAoGEwl9lHpa8CGr5Dhg=&amp;h=400&amp;w=400&amp;sz=42&amp;hl=ru&amp;start=7&amp;zoom=1&amp;tbnid=UgAGBQbSRK4XeM:&amp;tbnh=124&amp;tbnw=124&amp;ei=xFM-Tb2VNMGbOrvIwPwK&amp;prev=/images%3Fq%3D%25D0%25B6%25D0%25B5%25D0%25BB%25D1%2583%25D0%25B4%25D0%25BE%25D0%25BA%26hl%3Dru%26lr%3D%26newwindow%3D1%26sa%3DX%26tbs%3Disch:1%26prmd%3Divns&amp;itbs=1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ogle.ru/imgres?imgurl=http://wpcontent.answcdn.com/wikipedia/commons/thumb/a/a6/Tongue.agr.jpg/250px-Tongue.agr.jpg&amp;imgrefurl=http://www.answers.com/topic/tongue&amp;usg=__5Ih2W7-Er-cXC8ghOuL6xs0-ZHg=&amp;h=286&amp;w=250&amp;sz=22&amp;hl=ru&amp;start=13&amp;zoom=1&amp;tbnid=_SxOUH5qppRqgM:&amp;tbnh=115&amp;tbnw=101&amp;ei=51M-TeGTDs7qOZ7stfsK&amp;prev=/images%3Fq%3D%25D1%258F%25D0%25B7%25D1%258B%25D0%25BA%26hl%3Dru%26lr%3D%26newwindow%3D1%26sa%3DX%26tbs%3Disch:1%26prmd%3Divns&amp;itbs=1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google.ru/imgres?imgurl=http://www.lifewomans.net/wp-content/uploads/2010/11/&#1047;&#1085;&#1072;&#1095;&#1077;&#1085;&#1080;&#1077;-&#1093;&#1083;&#1077;&#1073;&#1072;-&#1074;-&#1078;&#1080;&#1079;&#1085;&#1080;-&#1095;&#1077;&#1083;&#1086;&#1074;&#1077;&#1082;&#1072;.jpg&amp;imgrefurl=http://www.lifewomans.net/category/zdorovie/pravilnoe_pitanie/page/3/&amp;h=300&amp;w=400&amp;sz=44&amp;tbnid=pGY6p3116AQKsM:&amp;tbnh=93&amp;tbnw=124&amp;prev=/images%3Fq%3D%25D1%2584%25D0%25BE%25D1%2582%25D0%25BE%2B%25D1%2585%25D0%25BB%25D0%25B5%25D0%25B1%25D0%25B0&amp;zoom=1&amp;q=&#1092;&#1086;&#1090;&#1086;+&#1093;&#1083;&#1077;&#1073;&#1072;&amp;hl=ru&amp;usg=__7lVOfoo70AR8VlV_hY2p0fPbxXg=&amp;sa=X&amp;ei=u78_TbTLOM7rOZ69sKYI&amp;ved=0CA0Q9QEwAA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google.ru/imgres?imgurl=http://www.livejournal.ru/static/files/themes/12287_03.jpg&amp;imgrefurl=http://www.livejournal.ru/themes/id/12287&amp;h=320&amp;w=485&amp;sz=44&amp;tbnid=tdcSSr-pqYqwvM:&amp;tbnh=85&amp;tbnw=129&amp;prev=/images%3Fq%3D%25D1%2584%25D0%25BE%25D1%2582%25D0%25BE%2B%25D0%25BA%25D0%25BE%25D0%25BB%25D0%25B1%25D0%25B0%25D1%2581%25D0%25B0,&amp;zoom=1&amp;q=&#1092;&#1086;&#1090;&#1086;+&#1082;&#1086;&#1083;&#1073;&#1072;&#1089;&#1072;,&amp;hl=ru&amp;usg=__etRdUB1Ls9buGOe9wbmPu9GZTjY=&amp;sa=X&amp;ei=4r8_TcHTBYzsOd2HmaQI&amp;ved=0CBMQ9QEwAw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www.google.ru/imgres?imgurl=http://www.znaikak.ru/design/pic/visred/moloko.jpg&amp;imgrefurl=http://www.znaikak.ru/howpravilnochoosemilk.html&amp;h=234&amp;w=234&amp;sz=13&amp;tbnid=eMik5kDeXXfAhM:&amp;tbnh=109&amp;tbnw=109&amp;prev=/images%3Fq%3D%25D1%2584%25D0%25BE%25D1%2582%25D0%25BE%2B%25D0%25BC%25D0%25BE%25D0%25BB%25D0%25BE%25D0%25BA%25D0%25BE&amp;zoom=1&amp;q=&#1092;&#1086;&#1090;&#1086;+&#1084;&#1086;&#1083;&#1086;&#1082;&#1086;&amp;hl=ru&amp;usg=__CpT9BZD7DXz39UbfKBS1hS5cheA=&amp;sa=X&amp;ei=9r8_TY-AI5CSOsyf5cQI&amp;ved=0CBUQ9QEwBA" TargetMode="External"/><Relationship Id="rId6" Type="http://schemas.openxmlformats.org/officeDocument/2006/relationships/image" Target="../media/image7.jpeg"/><Relationship Id="rId7" Type="http://schemas.openxmlformats.org/officeDocument/2006/relationships/hyperlink" Target="http://www.google.ru/imgres?imgurl=http://img1.liveinternet.ru/images/attach/c/2//66/459/66459738_1270442919_31853040_1.jpg&amp;imgrefurl=http://www.liveinternet.ru/users/2933020/blog&amp;h=273&amp;w=300&amp;sz=9&amp;tbnid=4AraACcOw9Df1M:&amp;tbnh=106&amp;tbnw=116&amp;prev=/images%3Fq%3D%25D1%2584%25D0%25BE%25D1%2582%25D0%25BE%2B%25D1%2581%25D0%25B0%25D1%2585%25D0%25B0%25D1%2580%25D0%25B0&amp;zoom=1&amp;q=&#1092;&#1086;&#1090;&#1086;+&#1089;&#1072;&#1093;&#1072;&#1088;&#1072;&amp;hl=ru&amp;usg=___xfdOkyr6W0h9i9-8c2zk6vGutI=&amp;sa=X&amp;ei=BsA_TamoNo-gOtuypIwI&amp;ved=0CA8Q9QEwAQ" TargetMode="External"/><Relationship Id="rId8" Type="http://schemas.openxmlformats.org/officeDocument/2006/relationships/image" Target="../media/image8.jpeg"/><Relationship Id="rId9" Type="http://schemas.openxmlformats.org/officeDocument/2006/relationships/hyperlink" Target="http://www.google.ru/imgres?imgurl=http://www.vkyysno.ru/uploads/posts/2010-12/1293127840_food_128.jpg&amp;imgrefurl=http://www.vkyysno.ru/polesnie_coveti/page/4/&amp;h=768&amp;w=1024&amp;sz=95&amp;tbnid=LsP8U4iWo1_4WM:&amp;tbnh=113&amp;tbnw=150&amp;prev=/images%3Fq%3D%25D1%2584%25D0%25BE%25D1%2582%25D0%25BE%2B%25D1%258F%25D0%25B9%25D1%2586%25D0%25BE,&amp;zoom=1&amp;q=&#1092;&#1086;&#1090;&#1086;+&#1103;&#1081;&#1094;&#1086;,&amp;hl=ru&amp;usg=__hsTrOmz2VKMUpcEMxGPJOMwaWhg=&amp;sa=X&amp;ei=G8A_TeTxHcGUOsCggfIH&amp;ved=0CBMQ9QEwAw" TargetMode="External"/><Relationship Id="rId10" Type="http://schemas.openxmlformats.org/officeDocument/2006/relationships/image" Target="../media/image9.jpeg"/><Relationship Id="rId11" Type="http://schemas.openxmlformats.org/officeDocument/2006/relationships/hyperlink" Target="http://www.google.ru/imgres?imgurl=http://img1.liveinternet.ru/images/attach/c/1//50/506/50506018_0.jpg&amp;imgrefurl=http://www.liveinternet.ru/users/galina15/rubric/1171943/page4.html&amp;h=342&amp;w=450&amp;sz=23&amp;tbnid=NkLxJGJSY5rHrM:&amp;tbnh=97&amp;tbnw=127&amp;prev=/images%3Fq%3D%25D1%2584%25D0%25BE%25D1%2582%25D0%25BE%2B%25D0%25BB%25D1%2583%25D0%25BA%25D0%25B0&amp;zoom=1&amp;q=&#1092;&#1086;&#1090;&#1086;+&#1083;&#1091;&#1082;&#1072;&amp;hl=ru&amp;usg=__qrH5ltK89advpdU1ADbBl94Y9kM=&amp;sa=X&amp;ei=KcA_TezOM8uhOsed5KEI&amp;ved=0CBMQ9QEwAw" TargetMode="External"/><Relationship Id="rId12" Type="http://schemas.openxmlformats.org/officeDocument/2006/relationships/image" Target="../media/image10.jpeg"/><Relationship Id="rId13" Type="http://schemas.openxmlformats.org/officeDocument/2006/relationships/hyperlink" Target="http://www.google.ru/imgres?imgurl=http://landdes.ru/wp-content/uploads/plum4.jpg&amp;imgrefurl=http://landdes.ru/slivy/sorta-slivy.htm&amp;h=360&amp;w=492&amp;sz=209&amp;tbnid=ZuZHC1iAL45X4M:&amp;tbnh=95&amp;tbnw=130&amp;prev=/images%3Fq%3D%25D1%2584%25D0%25BE%25D1%2582%25D0%25BE%2B%25D1%2581%25D0%25BB%25D0%25B8%25D0%25B2%25D0%25B0&amp;zoom=1&amp;q=&#1092;&#1086;&#1090;&#1086;+&#1089;&#1083;&#1080;&#1074;&#1072;&amp;hl=ru&amp;usg=__IB7rc-9SLBSxvX4tHkHLidn4-tw=&amp;sa=X&amp;ei=QsA_TZlwzJY6zrOwpgg&amp;ved=0CBEQ9QEwAg" TargetMode="External"/><Relationship Id="rId14" Type="http://schemas.openxmlformats.org/officeDocument/2006/relationships/image" Target="../media/image11.jpeg"/><Relationship Id="rId15" Type="http://schemas.openxmlformats.org/officeDocument/2006/relationships/hyperlink" Target="http://www.google.ru/imgres?imgurl=http://www.foodclub.ru/upload/blog/c84/meat.jpg&amp;imgrefurl=http://www.foodclub.ru/blogs/group/53/blog/index.php%3Fcategory%3D130&amp;h=314&amp;w=500&amp;sz=42&amp;tbnid=cXJeeEK4iG_k3M:&amp;tbnh=82&amp;tbnw=130&amp;prev=/images%3Fq%3D%25D1%2584%25D0%25BE%25D1%2582%25D0%25BE%2B%25D0%25B3%25D0%25BE%25D0%25B2%25D1%258F%25D0%25B4%25D0%25B8%25D0%25BD%25D0%25B0&amp;zoom=1&amp;q=&#1092;&#1086;&#1090;&#1086;+&#1075;&#1086;&#1074;&#1103;&#1076;&#1080;&#1085;&#1072;&amp;hl=ru&amp;usg=__27E3H3V_vpeCFddKoux5Q2a5bW4=&amp;sa=X&amp;ei=WMA_Tc_GDY6SOtavuZII&amp;ved=0CA0Q9QEwAA" TargetMode="External"/><Relationship Id="rId16" Type="http://schemas.openxmlformats.org/officeDocument/2006/relationships/image" Target="../media/image12.jpeg"/><Relationship Id="rId17" Type="http://schemas.openxmlformats.org/officeDocument/2006/relationships/hyperlink" Target="http://www.google.ru/imgres?imgurl=http://www.proza.ru/pics/2010/03/19/78.jpg&amp;imgrefurl=http://www.proza.ru/2010/03/19/78&amp;h=300&amp;w=300&amp;sz=22&amp;tbnid=BPzLxmtN1XRwAM:&amp;tbnh=116&amp;tbnw=116&amp;prev=/images%3Fq%3D%25D1%2584%25D0%25BE%25D1%2582%25D0%25BE%2B%25D1%2581%25D0%25BE%25D0%25BB%25D1%258C&amp;zoom=1&amp;q=&#1092;&#1086;&#1090;&#1086;+&#1089;&#1086;&#1083;&#1100;&amp;hl=ru&amp;usg=__pmgGh_X2B1Um3w8BFgaKVMoqWgU=&amp;sa=X&amp;ei=Z8A_TfuHFIPoOdeZmY0I&amp;ved=0CBEQ9QEwAg" TargetMode="External"/><Relationship Id="rId18" Type="http://schemas.openxmlformats.org/officeDocument/2006/relationships/image" Target="../media/image13.jpeg"/><Relationship Id="rId1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71640" y="1628640"/>
            <a:ext cx="3961080" cy="28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. 25-26 читае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ие питательные вещества человек получает с пищ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547640" y="333360"/>
            <a:ext cx="6000840" cy="55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84360" y="1341360"/>
            <a:ext cx="347832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47640" y="333360"/>
            <a:ext cx="6000840" cy="55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8000" y="1413000"/>
            <a:ext cx="4416480" cy="35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8000" y="1413000"/>
            <a:ext cx="441648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8000" y="1197000"/>
            <a:ext cx="4824720" cy="40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411280" y="620640"/>
            <a:ext cx="370548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03640" y="1484280"/>
            <a:ext cx="257004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00360" y="1628640"/>
            <a:ext cx="355284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43280" y="1700280"/>
            <a:ext cx="32875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ем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рганы пищеварения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ое значение в жизни человека имеет питан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лго человек и другие организмы могут обходиться без пита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дукты питания и витам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Животного                и        раститель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исхож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340000" y="1197000"/>
            <a:ext cx="1727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00720" y="1197000"/>
            <a:ext cx="21589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520" y="46080"/>
            <a:ext cx="2184480" cy="1647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07280" y="0"/>
            <a:ext cx="2736720" cy="1809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270920" y="4149720"/>
            <a:ext cx="1873080" cy="1873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580000" y="2060640"/>
            <a:ext cx="1871640" cy="17082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780000" y="4724280"/>
            <a:ext cx="2089080" cy="15717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492360" y="3068640"/>
            <a:ext cx="1871640" cy="14302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324000" y="4437000"/>
            <a:ext cx="2232000" cy="16398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395280" y="1989000"/>
            <a:ext cx="2521080" cy="15908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4211640" y="0"/>
            <a:ext cx="18003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04:37:30Z</dcterms:created>
  <dc:creator>User</dc:creator>
  <dc:description/>
  <dc:language>en-US</dc:language>
  <cp:lastModifiedBy>User</cp:lastModifiedBy>
  <dcterms:modified xsi:type="dcterms:W3CDTF">2011-01-26T07:33:39Z</dcterms:modified>
  <cp:revision>3</cp:revision>
  <dc:subject/>
  <dc:title>Слайд 1</dc:title>
</cp:coreProperties>
</file>