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797-1C5D-412C-84C5-598A7B5E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9B8-458F-4150-B595-3421D951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BD6-728A-4DCB-B309-81C46613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953-5C6A-4FDE-9D13-76E6CC69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E9CB-6D17-45F3-8B01-AEE19EA8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8CF6-87C0-4511-BC5B-2FA088CA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9334-84A9-488A-8C46-13AD42D1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45F7-72D4-496B-A40C-B0C25F2A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EB46-7F04-4488-A519-E8FDF65D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5695-3465-445E-91B7-884B6CAC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AB6C-9E03-4580-89A3-0BDE0EEC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EE7-86E1-4911-B90C-C3FD8025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B9B0-8F3F-4318-A991-4124BD73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6AAC-A559-4E48-8F2F-BFC13594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E3CB-16AA-40D5-951D-A3CCA4FD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368D-D517-4DE8-9153-D88F9E5B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BD1E-81F4-4A56-A2B2-C9847978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DA40-BF8C-41C0-862A-F110D495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1132-80CB-4874-B6E4-13B2C26E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DE5E-41DB-471E-9DB7-AFC2E2A3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F065-39E9-41A9-8658-C5A33EF7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F2D3-667D-4AA9-B376-A97BD658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CE0-1BE1-4273-A3F3-CC17EF04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2E11-EB3D-4F70-A478-FAD9F6E0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D494-30D5-4975-85F1-6DBD9DD3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42E6-74DA-40CC-A969-C7CA9756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499F-9023-458E-85E8-5415F9F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5837-C4A1-44B1-B0F9-7FADDBC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A327-E859-4E3F-8674-E6AAC710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01B9-ACEB-4C56-A5D7-40CC6EC3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33E1D-FEF6-481B-986C-88FB5E69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9FFB3-79E3-4C33-AB6C-6A28A53D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C7E8-79D6-42C5-B027-C16263E0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A6C-FD37-4CCE-ADF4-35EB164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EDCF0-A093-4000-8444-BABB7683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13DD8-21F8-4847-9B31-2DEF27BA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B0A7-31E8-4542-8065-1E7C188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CF74E-3BED-43F0-B0AA-616C4E3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FBFB-3462-4948-88AB-A4F2434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562B7-4AFC-4279-B6C1-57BA182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7D0B1-0D4D-45B9-AF04-1B8C6006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5D37-8D27-473F-B449-8128E15E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B7F0-F3BC-4761-97C1-0CCF4516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09CEA-9ABD-4BBC-B7CF-42B5E234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087-8F1B-4BBB-A369-6C61CED4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E4B52-D57F-444E-B2C2-29E5766D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1589-F3AA-445B-9709-3B419E24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9B5E9-0A18-4FA8-ACEB-AFA4EAA9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D0B8F-E209-4BF7-846A-C1FB11F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04C8-0C48-4E53-B24F-73321FED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98FB-9DD1-4D4E-AED1-685EFC9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ADF8B-ED61-4908-802E-91CBA865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A95D-0B43-42AF-BFFF-C148EBCB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3686-A513-4B6F-B4BC-FAE46C3D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32E38-41C0-4128-BE6C-F173F158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A6C-563A-4468-98B1-11C3DB2E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33D0E-D7C2-4D85-8714-EBD86F8B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8B959-D9FB-42BA-91EC-18AA5442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EF96-0557-41AF-A1D1-F8946E4D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332A-CD23-418B-A455-FF5DD483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42D14-96D7-4483-928B-FC205D58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2D9E6-CD6B-41E9-9C0E-883C2A16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8416C-5833-43E6-BC7C-81EB4FDB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7548-979D-405A-BA4D-40D60934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782A5-AB3B-4116-9A9C-D1E34338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A9052-C1FA-4768-B44B-C7EE618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796-2026-495E-949D-0729FADE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618EC-1A70-48C2-8B7F-07E36A91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9EC29-04B9-428C-857A-80DCA913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68BD9-BC50-4FDE-A465-90CC8807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8EFC7-7AA4-42F9-8BEC-28FEA966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C2BD-4B60-42AD-A436-7D67CD32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BF4AA-FD6A-4BF6-BBD8-C9C0891F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705A1-BACB-49AB-8754-9A224657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16F76-EC9C-4908-A7C9-09142DC8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C0725-FDBD-43FD-B858-EFA98C70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BC54A-6612-4439-AC0B-25EDA78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865-4934-4F49-AF66-6E33606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DAED3-556B-424C-BD56-763D230B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6C90-C9D8-4E8D-808A-EF829F9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D3395-9C15-4F43-A321-D6B858C8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CD93D-69D3-4B33-80B0-E28B111E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E458-F971-4A2B-AF5B-54DA583E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B58-17C0-4DF1-BE41-263D1F6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AF77-7890-4A8F-8D7B-4D454C91D13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C5E0-13EE-4519-9B60-C1D30662225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6395-B1AD-4A69-A92B-1E45F0F0EE3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6C91-74DC-4903-94DE-F2D048CE71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7FBE-E06A-4168-B3E3-8A30E01E202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93C2-583F-4441-AE2A-B056FCE70DB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2FF0-AADB-4D55-8C80-D178081C0FD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лощадка вычислительна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1038240" y="2060640"/>
            <a:ext cx="5577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а) | -6| - |-4,2| : |0,7|=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б) | -1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|* |-0,1| + |-0,125|=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) |-3| : |-7|* |-3,5| - |-0,6=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г) |- |* |-9| - 0,25*|0|=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900000" y="256536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| x | = 3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- | y | = -5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| z | = 12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4| x | =  20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| y | - 2 = 15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| z | = - 2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лощадка вычислительна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- 17 &gt; - 3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- 15 &gt; 0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0 &gt; - 5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- 16 &lt; - 10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- 8,2 &gt; 6; -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- 76,9 &gt; - 45,2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лощадка логическа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найди ошибку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Объект 2"/>
          <p:cNvSpPr/>
          <p:nvPr/>
        </p:nvSpPr>
        <p:spPr>
          <a:xfrm>
            <a:off x="4859280" y="1484280"/>
            <a:ext cx="4403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-2/3= -(+2,3)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-(-35)=+35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-23=(-23)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-(+12)=12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- 49= -(- 49)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-(-8)=8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865080" y="2603520"/>
            <a:ext cx="7419960" cy="37418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абота с учебником №395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20:41:23Z</dcterms:created>
  <dc:creator>Марат</dc:creator>
  <dc:description/>
  <dc:language>en-US</dc:language>
  <cp:lastModifiedBy>Марат</cp:lastModifiedBy>
  <dcterms:modified xsi:type="dcterms:W3CDTF">2012-11-18T21:10:52Z</dcterms:modified>
  <cp:revision>3</cp:revision>
  <dc:subject/>
  <dc:title>Площадка вычислительная</dc:title>
</cp:coreProperties>
</file>