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39C-C9F6-4367-BE64-9365B6C9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DA3-C4E9-4680-8D95-6395BF67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C71-8A25-4BD5-B2D3-EB5A929E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558-E903-4827-B942-02529957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C1C4-A2E1-4326-83C9-D33EE591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146C-C19D-4E76-9173-F8263414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CF7B-3568-44EA-B49F-DDC9AF0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4D53-854D-4B47-BC7D-E6E5511E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67CD-85D0-488D-AAE3-F9C0ED01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B17E-E6BF-431E-84AC-BD9E3B1B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BA04-F746-4A4D-A5C8-4125234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C04-EAF1-46F2-BADB-3FE257EB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3546-D3E1-450D-8DA6-077FF106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1ED8-BADF-4F8D-8C94-E99299A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CA9E-77D3-49EC-8E2D-06DDBE9A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B4DE-5E15-4E28-98E3-E1F778B2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53F1-8A8B-49ED-8149-E36B17FA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A1F-FF14-4D70-B598-4F0EE4BB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08F-4123-45D3-A13D-44AB1787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A0F-7E15-4924-8949-B42800F7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2A2-6B6F-4AB1-853E-D1FC053D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B5A-0DB5-4529-911B-4FD2262F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C84-3AD8-4109-B36C-59F0C084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9EC-0FA3-427D-B25D-FFCACAAE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F3AA-CED1-4D38-B941-939277A57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5273-3264-43F0-9A20-7720FBEFC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По страницам детских журналов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26d18"/>
                </a:solidFill>
                <a:latin typeface="Times New Roman"/>
              </a:rPr>
              <a:t>Мурзилка</a:t>
            </a:r>
            <a:endParaRPr b="1" lang="en-US" sz="7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308400" cy="424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10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Весёлые картинки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2971800" cy="401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7275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Смешарики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162240" cy="4286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1449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Ледниковый период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143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Ёж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Юный натуралист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2857680" cy="4000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362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EO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лён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1:26:47Z</dcterms:created>
  <dc:creator>Львова</dc:creator>
  <dc:description/>
  <dc:language>en-US</dc:language>
  <cp:lastModifiedBy>Львова</cp:lastModifiedBy>
  <dcterms:modified xsi:type="dcterms:W3CDTF">2013-02-27T12:55:06Z</dcterms:modified>
  <cp:revision>3</cp:revision>
  <dc:subject/>
  <dc:title>По страницам детских журналов</dc:title>
</cp:coreProperties>
</file>