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17099-9325-478E-BE94-A90D54159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0253-A91F-4714-9422-58FE4277E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325F-1610-466E-A2C1-F0FFAE111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9F2F9-7DD3-4342-AC47-6F88B63119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2BA0E-60B3-4322-A6DD-339AD1A653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A5D0-7CA3-4DE2-84BA-F40711D5B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3C72-34CA-4DC5-B865-20F225DF5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E5268-795C-402A-99E9-6D97DAD48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F6608-5530-4BDF-8AD7-4452E7D8E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DD913-BA67-49F6-8168-41E198436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869C1-EE96-4C56-8163-F40080831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928B-0D51-49DB-ADE3-CECF5876D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9f9"/>
            </a:gs>
            <a:gs pos="100000">
              <a:srgbClr val="f3f19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45F59-D256-490C-BBEA-91283EF7856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9f9"/>
            </a:gs>
            <a:gs pos="100000">
              <a:srgbClr val="f3f19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10240" y="3795840"/>
            <a:ext cx="990360" cy="760320"/>
          </a:xfrm>
          <a:prstGeom prst="pie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79440" y="1982880"/>
            <a:ext cx="2268720" cy="2286000"/>
          </a:xfrm>
          <a:prstGeom prst="pie">
            <a:avLst/>
          </a:prstGeom>
          <a:solidFill>
            <a:srgbClr val="99cc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79440" y="2754360"/>
            <a:ext cx="1724040" cy="150012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81240" y="1968480"/>
            <a:ext cx="2298600" cy="804960"/>
          </a:xfrm>
          <a:prstGeom prst="parallelogram">
            <a:avLst>
              <a:gd name="adj" fmla="val 71389"/>
            </a:avLst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008160" y="3401640"/>
            <a:ext cx="574920" cy="847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352520" y="3408120"/>
            <a:ext cx="574560" cy="819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74880" y="1973160"/>
            <a:ext cx="54000" cy="1463760"/>
          </a:xfrm>
          <a:prstGeom prst="pi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custDash>
              <a:ds d="8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4520" y="1968480"/>
            <a:ext cx="1800" cy="14400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839960" y="3716280"/>
            <a:ext cx="1528560" cy="55728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368520" y="2970000"/>
            <a:ext cx="216000" cy="7333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1880" y="3409920"/>
            <a:ext cx="2786040" cy="20520"/>
          </a:xfrm>
          <a:prstGeom prst="pi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1851120" y="1961640"/>
            <a:ext cx="2603520" cy="159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274760" y="1968480"/>
            <a:ext cx="574560" cy="17208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81240" y="3703680"/>
            <a:ext cx="568080" cy="5634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851120" y="3213000"/>
            <a:ext cx="2886120" cy="1060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9209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700520" y="3076560"/>
            <a:ext cx="1270080" cy="2031480"/>
            <a:chOff x="4700520" y="3076560"/>
            <a:chExt cx="1270080" cy="2031480"/>
          </a:xfrm>
        </p:grpSpPr>
        <p:sp>
          <p:nvSpPr>
            <p:cNvPr id="58" name=""/>
            <p:cNvSpPr/>
            <p:nvPr/>
          </p:nvSpPr>
          <p:spPr>
            <a:xfrm>
              <a:off x="4700520" y="4345200"/>
              <a:ext cx="1270080" cy="0"/>
            </a:xfrm>
            <a:prstGeom prst="line">
              <a:avLst/>
            </a:prstGeom>
            <a:ln cap="sq" w="9360">
              <a:solidFill>
                <a:srgbClr val="000000"/>
              </a:solidFill>
              <a:custDash>
                <a:ds d="8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81560" y="3080880"/>
              <a:ext cx="0" cy="1712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710240" y="3076560"/>
              <a:ext cx="565200" cy="12686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81560" y="3080880"/>
              <a:ext cx="689040" cy="12560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281560" y="4336920"/>
              <a:ext cx="689040" cy="4633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43400" y="4867200"/>
              <a:ext cx="13680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10240" y="4345200"/>
              <a:ext cx="565200" cy="4489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33240" y="23353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3240" y="23353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3240" y="23353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3240" y="23353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23493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767280" y="2376360"/>
            <a:ext cx="2442600" cy="2154240"/>
            <a:chOff x="6767280" y="2376360"/>
            <a:chExt cx="2442600" cy="2154240"/>
          </a:xfrm>
        </p:grpSpPr>
        <p:sp>
          <p:nvSpPr>
            <p:cNvPr id="71" name=""/>
            <p:cNvSpPr/>
            <p:nvPr/>
          </p:nvSpPr>
          <p:spPr>
            <a:xfrm>
              <a:off x="6986520" y="2592000"/>
              <a:ext cx="1843200" cy="17053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47600" y="2376360"/>
              <a:ext cx="1852920" cy="713880"/>
            </a:xfrm>
            <a:prstGeom prst="pentagon">
              <a:avLst/>
            </a:prstGeom>
            <a:noFill/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125840" y="3094920"/>
              <a:ext cx="578160" cy="1427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125840" y="3094920"/>
              <a:ext cx="578160" cy="142740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8274960" y="3094920"/>
              <a:ext cx="576720" cy="142740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8632800" y="2665080"/>
              <a:ext cx="577080" cy="142740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702920" y="2376360"/>
              <a:ext cx="576720" cy="1427400"/>
            </a:xfrm>
            <a:prstGeom prst="line">
              <a:avLst/>
            </a:prstGeom>
            <a:ln cap="sq" w="19080">
              <a:solidFill>
                <a:srgbClr val="000000"/>
              </a:solidFill>
              <a:custDash>
                <a:ds d="8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767280" y="2665080"/>
              <a:ext cx="578520" cy="142740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33760" y="4530600"/>
              <a:ext cx="11394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73760" y="4098960"/>
              <a:ext cx="351720" cy="4251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8279640" y="4092480"/>
              <a:ext cx="353160" cy="43740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6773760" y="3803400"/>
              <a:ext cx="924120" cy="294840"/>
            </a:xfrm>
            <a:prstGeom prst="line">
              <a:avLst/>
            </a:prstGeom>
            <a:ln cap="sq" w="19080">
              <a:solidFill>
                <a:srgbClr val="000000"/>
              </a:solidFill>
              <a:custDash>
                <a:ds d="8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06160" y="3811680"/>
              <a:ext cx="924120" cy="282240"/>
            </a:xfrm>
            <a:prstGeom prst="line">
              <a:avLst/>
            </a:prstGeom>
            <a:ln cap="sq" w="19080">
              <a:solidFill>
                <a:srgbClr val="000000"/>
              </a:solidFill>
              <a:custDash>
                <a:ds d="8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6982920" y="3264480"/>
              <a:ext cx="123480" cy="10432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6991200" y="4236480"/>
              <a:ext cx="1499400" cy="77400"/>
            </a:xfrm>
            <a:prstGeom prst="line">
              <a:avLst/>
            </a:prstGeom>
            <a:ln cap="sq" w="9360">
              <a:solidFill>
                <a:srgbClr val="000000"/>
              </a:solidFill>
              <a:custDash>
                <a:ds d="8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495280" y="3521160"/>
              <a:ext cx="353160" cy="7218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7116120" y="2582640"/>
              <a:ext cx="1066680" cy="653040"/>
            </a:xfrm>
            <a:prstGeom prst="line">
              <a:avLst/>
            </a:prstGeom>
            <a:ln cap="sq" w="9360">
              <a:solidFill>
                <a:srgbClr val="000000"/>
              </a:solidFill>
              <a:custDash>
                <a:ds d="8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89640" y="2601720"/>
              <a:ext cx="636840" cy="935280"/>
            </a:xfrm>
            <a:prstGeom prst="line">
              <a:avLst/>
            </a:prstGeom>
            <a:ln cap="sq" w="9360">
              <a:solidFill>
                <a:srgbClr val="000000"/>
              </a:solidFill>
              <a:custDash>
                <a:ds d="8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357720" y="5072040"/>
            <a:ext cx="5429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троение сеч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30480" y="1374840"/>
            <a:ext cx="3527280" cy="26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алы к у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1200" y="5184720"/>
            <a:ext cx="8542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Учитель математики АОУ гимназии №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Фитисова Ирина Влади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9f9"/>
            </a:gs>
            <a:gs pos="100000">
              <a:srgbClr val="f3f19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833640" y="1596960"/>
            <a:ext cx="1724040" cy="150012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40120" y="792000"/>
            <a:ext cx="2298600" cy="804960"/>
          </a:xfrm>
          <a:prstGeom prst="parallelogram">
            <a:avLst>
              <a:gd name="adj" fmla="val 69604"/>
            </a:avLst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562720" y="2244240"/>
            <a:ext cx="574560" cy="847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906720" y="2249280"/>
            <a:ext cx="574920" cy="819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429080" y="816120"/>
            <a:ext cx="54000" cy="1463400"/>
          </a:xfrm>
          <a:prstGeom prst="pi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custDash>
              <a:ds d="8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38720" y="809640"/>
            <a:ext cx="1800" cy="14400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86320" y="2265480"/>
            <a:ext cx="2786040" cy="20520"/>
          </a:xfrm>
          <a:prstGeom prst="pie">
            <a:avLst/>
          </a:prstGeom>
          <a:solidFill>
            <a:srgbClr val="33cc66"/>
          </a:solidFill>
          <a:ln cap="sq" w="9360">
            <a:solidFill>
              <a:srgbClr val="000000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4424400" y="811080"/>
            <a:ext cx="1138320" cy="790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486320" y="2254320"/>
            <a:ext cx="1076400" cy="84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29080" y="824040"/>
            <a:ext cx="1128600" cy="2271600"/>
          </a:xfrm>
          <a:custGeom>
            <a:avLst/>
            <a:gdLst/>
            <a:ahLst/>
            <a:rect l="l" t="t" r="r" b="b"/>
            <a:pathLst>
              <a:path w="3136" h="6311">
                <a:moveTo>
                  <a:pt x="0" y="0"/>
                </a:moveTo>
                <a:lnTo>
                  <a:pt x="3135" y="2170"/>
                </a:lnTo>
                <a:lnTo>
                  <a:pt x="3135" y="6310"/>
                </a:lnTo>
                <a:lnTo>
                  <a:pt x="159" y="4084"/>
                </a:lnTo>
                <a:lnTo>
                  <a:pt x="145" y="3998"/>
                </a:lnTo>
                <a:lnTo>
                  <a:pt x="0" y="0"/>
                </a:lnTo>
              </a:path>
            </a:pathLst>
          </a:custGeom>
          <a:solidFill>
            <a:srgbClr val="33cc6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80920" y="3867120"/>
            <a:ext cx="2268720" cy="2286000"/>
          </a:xfrm>
          <a:prstGeom prst="pie">
            <a:avLst/>
          </a:prstGeom>
          <a:solidFill>
            <a:srgbClr val="99cc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80920" y="4638600"/>
            <a:ext cx="1724040" cy="150012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82720" y="3852720"/>
            <a:ext cx="2298600" cy="804960"/>
          </a:xfrm>
          <a:prstGeom prst="parallelogram">
            <a:avLst>
              <a:gd name="adj" fmla="val 71389"/>
            </a:avLst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2610000" y="5285880"/>
            <a:ext cx="574560" cy="847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954000" y="5292360"/>
            <a:ext cx="574920" cy="819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76360" y="3857760"/>
            <a:ext cx="54000" cy="1463400"/>
          </a:xfrm>
          <a:prstGeom prst="pi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custDash>
              <a:ds d="8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86000" y="3852720"/>
            <a:ext cx="1800" cy="14400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441440" y="5600520"/>
            <a:ext cx="1528920" cy="55692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970360" y="4854240"/>
            <a:ext cx="215640" cy="7333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503360" y="5294160"/>
            <a:ext cx="2786040" cy="20880"/>
          </a:xfrm>
          <a:prstGeom prst="pi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1452600" y="3846600"/>
            <a:ext cx="2603520" cy="1596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876240" y="3852720"/>
            <a:ext cx="574560" cy="17211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82720" y="5587920"/>
            <a:ext cx="568080" cy="563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452600" y="5097240"/>
            <a:ext cx="2886120" cy="1060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751280" y="3527280"/>
            <a:ext cx="2735280" cy="3095640"/>
          </a:xfrm>
          <a:prstGeom prst="can">
            <a:avLst>
              <a:gd name="adj" fmla="val 27023"/>
            </a:avLst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751280" y="3959280"/>
            <a:ext cx="2735280" cy="2303280"/>
          </a:xfrm>
          <a:prstGeom prst="roundRect">
            <a:avLst>
              <a:gd name="adj" fmla="val 65"/>
            </a:avLst>
          </a:prstGeom>
          <a:solidFill>
            <a:srgbClr val="33cc66">
              <a:alpha val="25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3520" y="496800"/>
            <a:ext cx="34797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ы сечений многогранников и тел вра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dur="indefinite" fill="hold">
                      <p:stCondLst>
                        <p:cond delay="indefinite"/>
                      </p:stCondLst>
                      <p:childTnLst>
                        <p:par>
                          <p:cTn id="1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dur="indefinite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dur="indefinite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dur="indefinite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dur="indefinite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8" dur="indefinite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dur="indefinite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dur="indefinite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dur="indefinite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dur="indefinite" fill="hold">
                      <p:stCondLst>
                        <p:cond delay="indefinite"/>
                      </p:stCondLst>
                      <p:childTnLst>
                        <p:par>
                          <p:cTn id="14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5" dur="500" fill="hold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dur="indefinite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2" dur="500" fill="hold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4" dur="indefinite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9" dur="500" fill="hold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6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dur="indefinite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3" dur="500" fill="hold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dur="indefinite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0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7" dur="500" fill="hold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dur="indefinite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4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dur="indefinite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1" dur="500" fill="hold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8" dur="500" fill="hold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dur="indefinite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5" dur="500" fill="hold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dur="indefinite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2" dur="500" fill="hold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dur="indefinite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9" dur="500" fill="hold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dur="indefinite" fill="hold">
                      <p:stCondLst>
                        <p:cond delay="indefinite"/>
                      </p:stCondLst>
                      <p:childTnLst>
                        <p:par>
                          <p:cTn id="15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4" dur="1000" fill="hold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9f9"/>
            </a:gs>
            <a:gs pos="100000">
              <a:srgbClr val="f3f19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936720" y="1728720"/>
            <a:ext cx="7559640" cy="41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8ff"/>
                </a:solidFill>
                <a:latin typeface="Times New Roman"/>
              </a:rPr>
              <a:t>Спасибо за внимание!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b8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9f9"/>
            </a:gs>
            <a:gs pos="100000">
              <a:srgbClr val="f3f19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09720" y="3863880"/>
            <a:ext cx="2292120" cy="2247840"/>
          </a:xfrm>
          <a:prstGeom prst="pie">
            <a:avLst/>
          </a:prstGeom>
          <a:solidFill>
            <a:srgbClr val="33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07040" y="4076640"/>
            <a:ext cx="992160" cy="803160"/>
          </a:xfrm>
          <a:prstGeom prst="pie">
            <a:avLst/>
          </a:prstGeom>
          <a:solidFill>
            <a:srgbClr val="33cc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46720" y="4076640"/>
            <a:ext cx="1862280" cy="1717560"/>
          </a:xfrm>
          <a:prstGeom prst="pie">
            <a:avLst/>
          </a:prstGeom>
          <a:solidFill>
            <a:srgbClr val="33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74680"/>
            <a:ext cx="8229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 с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4653000"/>
            <a:ext cx="1724040" cy="1493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3860640"/>
            <a:ext cx="2298960" cy="804960"/>
          </a:xfrm>
          <a:prstGeom prst="parallelogram">
            <a:avLst>
              <a:gd name="adj" fmla="val 71400"/>
            </a:avLst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614680" y="5314680"/>
            <a:ext cx="617400" cy="8492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971640" y="5367240"/>
            <a:ext cx="504720" cy="7430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69880" y="3860640"/>
            <a:ext cx="6480" cy="151308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3860640"/>
            <a:ext cx="1440" cy="1495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403280" y="5654520"/>
            <a:ext cx="1542960" cy="4701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940120" y="4797360"/>
            <a:ext cx="257040" cy="8604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332000" y="5305320"/>
            <a:ext cx="2975040" cy="7488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1461960" y="3852360"/>
            <a:ext cx="2873520" cy="1584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93880" y="3860640"/>
            <a:ext cx="574560" cy="171468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5564160"/>
            <a:ext cx="506520" cy="579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430280" y="5233680"/>
            <a:ext cx="2952720" cy="89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284720" y="3429000"/>
            <a:ext cx="1270080" cy="2031480"/>
            <a:chOff x="4284720" y="3429000"/>
            <a:chExt cx="1270080" cy="2031480"/>
          </a:xfrm>
        </p:grpSpPr>
        <p:sp>
          <p:nvSpPr>
            <p:cNvPr id="111" name=""/>
            <p:cNvSpPr/>
            <p:nvPr/>
          </p:nvSpPr>
          <p:spPr>
            <a:xfrm>
              <a:off x="4284720" y="4696200"/>
              <a:ext cx="1270080" cy="0"/>
            </a:xfrm>
            <a:prstGeom prst="line">
              <a:avLst/>
            </a:prstGeom>
            <a:ln cap="sq" w="19080">
              <a:solidFill>
                <a:srgbClr val="000000"/>
              </a:solidFill>
              <a:custDash>
                <a:ds d="8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65760" y="3434760"/>
              <a:ext cx="0" cy="17114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294080" y="3429000"/>
              <a:ext cx="565200" cy="126720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65760" y="3434760"/>
              <a:ext cx="689040" cy="125460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865760" y="4689360"/>
              <a:ext cx="689040" cy="4633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27600" y="5219640"/>
              <a:ext cx="13644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94080" y="4696200"/>
              <a:ext cx="565200" cy="4503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356000" y="4724280"/>
            <a:ext cx="936720" cy="144720"/>
          </a:xfrm>
          <a:prstGeom prst="pi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custDash>
              <a:ds d="8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95880" y="4067280"/>
            <a:ext cx="925560" cy="630000"/>
          </a:xfrm>
          <a:prstGeom prst="pi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custDash>
              <a:ds d="8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4076640"/>
            <a:ext cx="73080" cy="792360"/>
          </a:xfrm>
          <a:prstGeom prst="pi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3860640"/>
            <a:ext cx="1871640" cy="720720"/>
          </a:xfrm>
          <a:prstGeom prst="pentagon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365880" y="4581360"/>
            <a:ext cx="588960" cy="1440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365880" y="4581360"/>
            <a:ext cx="588960" cy="14400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518240" y="4581360"/>
            <a:ext cx="588960" cy="14400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78600" y="4149720"/>
            <a:ext cx="588960" cy="14400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942240" y="3860640"/>
            <a:ext cx="588960" cy="1440000"/>
          </a:xfrm>
          <a:prstGeom prst="line">
            <a:avLst/>
          </a:prstGeom>
          <a:ln cap="sq" w="1908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005520" y="4149720"/>
            <a:ext cx="588960" cy="14400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6021360"/>
            <a:ext cx="115236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5589720"/>
            <a:ext cx="360360" cy="4316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524720" y="5582880"/>
            <a:ext cx="360360" cy="444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2000" y="5294160"/>
            <a:ext cx="936360" cy="301680"/>
          </a:xfrm>
          <a:prstGeom prst="line">
            <a:avLst/>
          </a:prstGeom>
          <a:ln cap="sq" w="1908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48360" y="5300640"/>
            <a:ext cx="936720" cy="289080"/>
          </a:xfrm>
          <a:prstGeom prst="line">
            <a:avLst/>
          </a:prstGeom>
          <a:ln cap="sq" w="1908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221520" y="4653000"/>
            <a:ext cx="156960" cy="11523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227640" y="5727600"/>
            <a:ext cx="1513080" cy="842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740720" y="5006880"/>
            <a:ext cx="360360" cy="733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386400" y="4070520"/>
            <a:ext cx="1065240" cy="5918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51640" y="4076640"/>
            <a:ext cx="649440" cy="93672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197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800000"/>
                </a:solidFill>
                <a:uFillTx/>
                <a:latin typeface="Arial"/>
              </a:rPr>
              <a:t>Секущей плоскость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многогранни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азовем любую плоскость, по обе стороны от которой имеются точки данного многогран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227664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800000"/>
                </a:solidFill>
                <a:uFillTx/>
                <a:latin typeface="Arial"/>
              </a:rPr>
              <a:t>Секущая плоск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есекает грани многогранника по отрезкам. Многоугольник, сторонами которого являются эти отрезки, называетс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800000"/>
                </a:solidFill>
                <a:uFillTx/>
                <a:latin typeface="Arial"/>
              </a:rPr>
              <a:t>сечением многогранни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77800" y="3870360"/>
            <a:ext cx="1737000" cy="9572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0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9f9"/>
            </a:gs>
            <a:gs pos="100000">
              <a:srgbClr val="f3f19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867040" y="2011320"/>
            <a:ext cx="5413320" cy="1994040"/>
          </a:xfrm>
          <a:prstGeom prst="pie">
            <a:avLst/>
          </a:prstGeom>
          <a:solidFill>
            <a:srgbClr val="6666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75000" y="2401920"/>
            <a:ext cx="1871640" cy="1135080"/>
          </a:xfrm>
          <a:prstGeom prst="pie">
            <a:avLst/>
          </a:prstGeom>
          <a:solidFill>
            <a:srgbClr val="33cc66"/>
          </a:solidFill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131640" y="1111320"/>
            <a:ext cx="4098600" cy="5178240"/>
            <a:chOff x="3131640" y="1111320"/>
            <a:chExt cx="4098600" cy="5178240"/>
          </a:xfrm>
        </p:grpSpPr>
        <p:sp>
          <p:nvSpPr>
            <p:cNvPr id="144" name=""/>
            <p:cNvSpPr/>
            <p:nvPr/>
          </p:nvSpPr>
          <p:spPr>
            <a:xfrm flipH="1">
              <a:off x="3131640" y="1111320"/>
              <a:ext cx="2160360" cy="3882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140080" y="1111320"/>
              <a:ext cx="150480" cy="5178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38120" y="5000760"/>
              <a:ext cx="2003040" cy="1288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141160" y="3919680"/>
              <a:ext cx="2089080" cy="2369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138120" y="3912840"/>
              <a:ext cx="4086000" cy="1087560"/>
            </a:xfrm>
            <a:prstGeom prst="line">
              <a:avLst/>
            </a:prstGeom>
            <a:ln cap="sq" w="28440">
              <a:solidFill>
                <a:srgbClr val="000000"/>
              </a:solidFill>
              <a:custDash>
                <a:ds d="8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92360" y="1111320"/>
              <a:ext cx="1931760" cy="2801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H="1">
            <a:off x="3808080" y="2924280"/>
            <a:ext cx="492120" cy="860400"/>
          </a:xfrm>
          <a:prstGeom prst="line">
            <a:avLst/>
          </a:prstGeom>
          <a:ln cap="sq" w="57240">
            <a:solidFill>
              <a:srgbClr val="6666ff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208480" y="3486240"/>
            <a:ext cx="30240" cy="336600"/>
          </a:xfrm>
          <a:prstGeom prst="line">
            <a:avLst/>
          </a:prstGeom>
          <a:ln cap="sq" w="57240">
            <a:solidFill>
              <a:srgbClr val="6666ff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48360" y="3429000"/>
            <a:ext cx="144360" cy="14436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94520" y="2405160"/>
            <a:ext cx="787320" cy="1150920"/>
          </a:xfrm>
          <a:prstGeom prst="line">
            <a:avLst/>
          </a:prstGeom>
          <a:ln cap="sq" w="57240">
            <a:solidFill>
              <a:srgbClr val="6666ff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253040" y="2384280"/>
            <a:ext cx="1927080" cy="519120"/>
          </a:xfrm>
          <a:prstGeom prst="line">
            <a:avLst/>
          </a:prstGeom>
          <a:ln cap="sq" w="38160">
            <a:solidFill>
              <a:srgbClr val="6666ff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2852640"/>
            <a:ext cx="144360" cy="14472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84720" y="2349360"/>
            <a:ext cx="144720" cy="14472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81840" y="792000"/>
            <a:ext cx="3427560" cy="1146240"/>
          </a:xfrm>
          <a:prstGeom prst="wedgeRoundRectCallout">
            <a:avLst>
              <a:gd name="adj1" fmla="val -34856"/>
              <a:gd name="adj2" fmla="val 135314"/>
              <a:gd name="adj3" fmla="val 16667"/>
            </a:avLst>
          </a:prstGeom>
          <a:solidFill>
            <a:srgbClr val="23ff2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кущ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73600" y="627120"/>
            <a:ext cx="2908440" cy="1201680"/>
          </a:xfrm>
          <a:prstGeom prst="wedgeEllipseCallout">
            <a:avLst>
              <a:gd name="adj1" fmla="val -52185"/>
              <a:gd name="adj2" fmla="val 125296"/>
            </a:avLst>
          </a:prstGeom>
          <a:solidFill>
            <a:srgbClr val="23ff2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64560" y="617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9600" y="4782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05160" y="6276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84680" y="379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6400" y="2562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81280" y="215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560" y="3273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08280" y="337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47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0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9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2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5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8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1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4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9f9"/>
            </a:gs>
            <a:gs pos="100000">
              <a:srgbClr val="f3f19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219640" y="2492280"/>
            <a:ext cx="936720" cy="857520"/>
          </a:xfrm>
          <a:prstGeom prst="pie">
            <a:avLst/>
          </a:prstGeom>
          <a:solidFill>
            <a:srgbClr val="33cc66">
              <a:alpha val="55000"/>
            </a:srgbClr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2205000"/>
            <a:ext cx="1081080" cy="647640"/>
          </a:xfrm>
          <a:prstGeom prst="pie">
            <a:avLst/>
          </a:prstGeom>
          <a:solidFill>
            <a:srgbClr val="33cc66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3213000"/>
            <a:ext cx="5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435640" y="3062160"/>
            <a:ext cx="720720" cy="301680"/>
          </a:xfrm>
          <a:prstGeom prst="line">
            <a:avLst/>
          </a:prstGeom>
          <a:ln cap="sq" w="25560">
            <a:solidFill>
              <a:srgbClr val="ff33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2421000"/>
            <a:ext cx="216000" cy="1008000"/>
          </a:xfrm>
          <a:prstGeom prst="line">
            <a:avLst/>
          </a:prstGeom>
          <a:ln cap="sq"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342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396800" y="2421000"/>
            <a:ext cx="733320" cy="431640"/>
          </a:xfrm>
          <a:prstGeom prst="line">
            <a:avLst/>
          </a:prstGeom>
          <a:ln cap="sq"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2205000"/>
            <a:ext cx="1008000" cy="216000"/>
          </a:xfrm>
          <a:prstGeom prst="line">
            <a:avLst/>
          </a:prstGeom>
          <a:ln cap="sq" w="25560">
            <a:solidFill>
              <a:srgbClr val="ff33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9640" y="1483920"/>
            <a:ext cx="2009880" cy="2514600"/>
            <a:chOff x="539640" y="1483920"/>
            <a:chExt cx="2009880" cy="2514600"/>
          </a:xfrm>
        </p:grpSpPr>
        <p:sp>
          <p:nvSpPr>
            <p:cNvPr id="177" name=""/>
            <p:cNvSpPr/>
            <p:nvPr/>
          </p:nvSpPr>
          <p:spPr>
            <a:xfrm>
              <a:off x="539640" y="3051360"/>
              <a:ext cx="2009880" cy="0"/>
            </a:xfrm>
            <a:prstGeom prst="line">
              <a:avLst/>
            </a:prstGeom>
            <a:ln cap="sq" w="9360">
              <a:solidFill>
                <a:srgbClr val="000000"/>
              </a:solidFill>
              <a:custDash>
                <a:ds d="8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57280" y="1490040"/>
              <a:ext cx="0" cy="21196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54040" y="1483920"/>
              <a:ext cx="896760" cy="15670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57280" y="1490040"/>
              <a:ext cx="1092240" cy="15548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457280" y="3045240"/>
              <a:ext cx="1092240" cy="5709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97160" y="3699000"/>
              <a:ext cx="21888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4040" y="3051360"/>
              <a:ext cx="896760" cy="5587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строить сечение тетраэдра плоскостью, заданной тремя точками: M, N и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43040" indent="-279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08360" y="4011480"/>
            <a:ext cx="353556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0720">
              <a:spcBef>
                <a:spcPts val="45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строени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0720">
              <a:spcBef>
                <a:spcPts val="45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0720">
              <a:spcBef>
                <a:spcPts val="45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42920" y="2133720"/>
            <a:ext cx="88920" cy="7596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50920" y="2349360"/>
            <a:ext cx="88920" cy="7632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2781360"/>
            <a:ext cx="88920" cy="7632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285264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12720" y="3448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5600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76360" y="112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71640" y="2708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5640" y="18446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0920" y="2060640"/>
            <a:ext cx="5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42920" y="2133720"/>
            <a:ext cx="1800" cy="71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2205000"/>
            <a:ext cx="287280" cy="647640"/>
          </a:xfrm>
          <a:prstGeom prst="line">
            <a:avLst/>
          </a:prstGeom>
          <a:ln cap="sq"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788000" y="1557000"/>
            <a:ext cx="1936800" cy="2004480"/>
            <a:chOff x="4788000" y="1557000"/>
            <a:chExt cx="1936800" cy="2004480"/>
          </a:xfrm>
        </p:grpSpPr>
        <p:sp>
          <p:nvSpPr>
            <p:cNvPr id="200" name=""/>
            <p:cNvSpPr/>
            <p:nvPr/>
          </p:nvSpPr>
          <p:spPr>
            <a:xfrm>
              <a:off x="4788000" y="3033000"/>
              <a:ext cx="1936800" cy="0"/>
            </a:xfrm>
            <a:prstGeom prst="line">
              <a:avLst/>
            </a:prstGeom>
            <a:ln cap="sq" w="9360">
              <a:solidFill>
                <a:srgbClr val="000000"/>
              </a:solidFill>
              <a:custDash>
                <a:ds d="8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72160" y="1564920"/>
              <a:ext cx="0" cy="19922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802040" y="1557000"/>
              <a:ext cx="863640" cy="147420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72160" y="1564920"/>
              <a:ext cx="1052640" cy="14630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672160" y="3026160"/>
              <a:ext cx="1052640" cy="5353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02040" y="3033000"/>
              <a:ext cx="863640" cy="5223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20600" y="5040360"/>
            <a:ext cx="41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Отрезок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PN (т N и т P находятся в одной плоск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96000" y="3213000"/>
            <a:ext cx="88920" cy="7632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64000" y="3357720"/>
            <a:ext cx="88920" cy="7596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48360" y="2421000"/>
            <a:ext cx="88920" cy="7596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2997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43640" y="3567240"/>
            <a:ext cx="15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3272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08720" y="126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88000" y="22050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2492280"/>
            <a:ext cx="936720" cy="576360"/>
          </a:xfrm>
          <a:prstGeom prst="line">
            <a:avLst/>
          </a:prstGeom>
          <a:ln cap="sq" w="25560">
            <a:solidFill>
              <a:srgbClr val="ff33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2000" y="278136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287280" y="4397400"/>
            <a:ext cx="44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. Отрезо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MP (т М и т P находятся в одной плоскости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0640" y="4068720"/>
            <a:ext cx="41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  <a:ea typeface="Microsoft YaHei"/>
              </a:rPr>
              <a:t>Постро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2240" y="5543640"/>
            <a:ext cx="41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Отрезо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MN (т М и т N находятся в одной плоск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0360" y="61912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Microsoft YaHei"/>
              </a:rPr>
              <a:t>MPN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  <a:ea typeface="Microsoft YaHei"/>
              </a:rPr>
              <a:t>– искомое с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64000" y="4437000"/>
            <a:ext cx="4038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0720">
              <a:spcBef>
                <a:spcPts val="45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Отрезо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N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т М и т N находятся в одной плоск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0720">
              <a:spcBef>
                <a:spcPts val="45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0720">
              <a:spcBef>
                <a:spcPts val="45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51280" y="5111640"/>
            <a:ext cx="4038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0720">
              <a:spcBef>
                <a:spcPts val="45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  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екает АС в точ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0720">
              <a:spcBef>
                <a:spcPts val="45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 rot="10800000">
            <a:off x="4578120" y="5663160"/>
            <a:ext cx="4182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0720">
              <a:spcBef>
                <a:spcPts val="45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0720">
              <a:spcBef>
                <a:spcPts val="45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0720">
              <a:spcBef>
                <a:spcPts val="45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0000" y="5662440"/>
            <a:ext cx="4038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0720">
              <a:spcBef>
                <a:spcPts val="45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резо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L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т М и т L находятся в одной плоскост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0720">
              <a:spcBef>
                <a:spcPts val="45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0720">
              <a:spcBef>
                <a:spcPts val="45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0000" y="6335640"/>
            <a:ext cx="4038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0720">
              <a:spcBef>
                <a:spcPts val="45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NL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–искомое се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0720">
              <a:spcBef>
                <a:spcPts val="45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0720">
              <a:spcBef>
                <a:spcPts val="45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03800" y="2457360"/>
            <a:ext cx="15840" cy="79560"/>
          </a:xfrm>
          <a:prstGeom prst="pi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0" y="328932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dur="indefinite" fill="hold">
                      <p:stCondLst>
                        <p:cond delay="indefinite"/>
                      </p:stCondLst>
                      <p:childTnLst>
                        <p:par>
                          <p:cTn id="2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 fill="hold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30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 fill="hold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 fill="hold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31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 fill="hold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31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 fill="hold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dur="indefinite" fill="hold">
                            <p:stCondLst>
                              <p:cond delay="8500"/>
                            </p:stCondLst>
                            <p:childTnLst>
                              <p:par>
                                <p:cTn id="3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dur="indefinite" fill="hold">
                      <p:stCondLst>
                        <p:cond delay="indefinite"/>
                      </p:stCondLst>
                      <p:childTnLst>
                        <p:par>
                          <p:cTn id="3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dur="indefinite" fill="hold">
                      <p:stCondLst>
                        <p:cond delay="indefinite"/>
                      </p:stCondLst>
                      <p:childTnLst>
                        <p:par>
                          <p:cTn id="3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dur="indefinite" fill="hold">
                      <p:stCondLst>
                        <p:cond delay="indefinite"/>
                      </p:stCondLst>
                      <p:childTnLst>
                        <p:par>
                          <p:cTn id="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 fill="hold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3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38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3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 fill="hold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 fill="hold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4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40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dur="indefinite" fill="hold">
                      <p:stCondLst>
                        <p:cond delay="indefinite"/>
                      </p:stCondLst>
                      <p:childTnLst>
                        <p:par>
                          <p:cTn id="4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dur="indefinite" fill="hold">
                      <p:stCondLst>
                        <p:cond delay="indefinite"/>
                      </p:stCondLst>
                      <p:childTnLst>
                        <p:par>
                          <p:cTn id="4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dur="indefinite" fill="hold">
                      <p:stCondLst>
                        <p:cond delay="indefinite"/>
                      </p:stCondLst>
                      <p:childTnLst>
                        <p:par>
                          <p:cTn id="4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dur="indefinite" fill="hold">
                      <p:stCondLst>
                        <p:cond delay="indefinite"/>
                      </p:stCondLst>
                      <p:childTnLst>
                        <p:par>
                          <p:cTn id="4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1000" fill="hold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1000" fill="hold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1000" fill="hold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9f9"/>
            </a:gs>
            <a:gs pos="100000">
              <a:srgbClr val="f3f19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336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строить сечение тетраэдра плоскостью, заданной тремя точками P, N и 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360" y="1411200"/>
            <a:ext cx="3811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43040" indent="-279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  <a:ea typeface="Microsoft YaHei"/>
              </a:rPr>
              <a:t>Постро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79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1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Отрезок 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Q (т N и т Q находятся в одной плоск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резок 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т P и т N находятся в одной плоск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 P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 P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екает АС в точке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Прям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E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прям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E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екает ВС в точке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PRQ-искомое с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08360" y="2708280"/>
            <a:ext cx="36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59480" y="2457360"/>
            <a:ext cx="2466720" cy="3051360"/>
          </a:xfrm>
          <a:prstGeom prst="pie">
            <a:avLst/>
          </a:prstGeom>
          <a:solidFill>
            <a:srgbClr val="33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140360" y="1268280"/>
            <a:ext cx="4098240" cy="5178600"/>
            <a:chOff x="4140360" y="1268280"/>
            <a:chExt cx="4098240" cy="5178600"/>
          </a:xfrm>
        </p:grpSpPr>
        <p:sp>
          <p:nvSpPr>
            <p:cNvPr id="233" name=""/>
            <p:cNvSpPr/>
            <p:nvPr/>
          </p:nvSpPr>
          <p:spPr>
            <a:xfrm flipH="1">
              <a:off x="4140360" y="1268280"/>
              <a:ext cx="2160000" cy="3883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149880" y="1268280"/>
              <a:ext cx="150480" cy="5178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46480" y="5157720"/>
              <a:ext cx="2003040" cy="1289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6149880" y="4076640"/>
              <a:ext cx="2088720" cy="2370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146480" y="4070520"/>
              <a:ext cx="4085640" cy="1087200"/>
            </a:xfrm>
            <a:prstGeom prst="line">
              <a:avLst/>
            </a:prstGeom>
            <a:ln cap="sq" w="28440">
              <a:solidFill>
                <a:srgbClr val="000000"/>
              </a:solidFill>
              <a:custDash>
                <a:ds d="8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00360" y="1268280"/>
              <a:ext cx="1931760" cy="2802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3841920" y="485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03760" y="4192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64440" y="6318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41840" y="1074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47720" y="3675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11880" y="204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46440" y="5802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781160" y="2492280"/>
            <a:ext cx="2314440" cy="1621080"/>
          </a:xfrm>
          <a:prstGeom prst="line">
            <a:avLst/>
          </a:prstGeom>
          <a:ln cap="sq" w="28440">
            <a:solidFill>
              <a:srgbClr val="d228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654440" y="4087800"/>
            <a:ext cx="122400" cy="1496880"/>
          </a:xfrm>
          <a:prstGeom prst="line">
            <a:avLst/>
          </a:prstGeom>
          <a:ln cap="sq" w="28440">
            <a:solidFill>
              <a:srgbClr val="d2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315880" y="4054320"/>
            <a:ext cx="2516040" cy="17622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809640" y="5168880"/>
            <a:ext cx="3338640" cy="8794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884240" y="5501880"/>
            <a:ext cx="6697800" cy="34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27280" y="5445000"/>
            <a:ext cx="144360" cy="14472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643280" y="5510160"/>
            <a:ext cx="2357640" cy="23760"/>
          </a:xfrm>
          <a:prstGeom prst="line">
            <a:avLst/>
          </a:prstGeom>
          <a:ln cap="sq" w="28440">
            <a:solidFill>
              <a:srgbClr val="d228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0920" y="2489040"/>
            <a:ext cx="100080" cy="3041640"/>
          </a:xfrm>
          <a:prstGeom prst="line">
            <a:avLst/>
          </a:prstGeom>
          <a:ln cap="sq" w="28440">
            <a:solidFill>
              <a:srgbClr val="d2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05200" y="4011480"/>
            <a:ext cx="144720" cy="144720"/>
          </a:xfrm>
          <a:prstGeom prst="ellipse">
            <a:avLst/>
          </a:prstGeom>
          <a:solidFill>
            <a:srgbClr val="dd232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20000" y="2405160"/>
            <a:ext cx="144360" cy="144360"/>
          </a:xfrm>
          <a:prstGeom prst="ellipse">
            <a:avLst/>
          </a:prstGeom>
          <a:solidFill>
            <a:srgbClr val="dd232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95760" y="5479920"/>
            <a:ext cx="144360" cy="144720"/>
          </a:xfrm>
          <a:prstGeom prst="ellipse">
            <a:avLst/>
          </a:prstGeom>
          <a:solidFill>
            <a:srgbClr val="dd232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942240" y="5445000"/>
            <a:ext cx="144360" cy="14472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35480" y="566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4360" y="5084640"/>
            <a:ext cx="216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64000" y="5688000"/>
            <a:ext cx="36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dur="indefinite" fill="hold">
                      <p:stCondLst>
                        <p:cond delay="0"/>
                      </p:stCondLst>
                      <p:childTnLst>
                        <p:par>
                          <p:cTn id="5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dur="indefinite" fill="hold">
                      <p:stCondLst>
                        <p:cond delay="indefinite"/>
                      </p:stCondLst>
                      <p:childTnLst>
                        <p:par>
                          <p:cTn id="5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54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54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55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 fill="hold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5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 fill="hold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56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56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 fill="hold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56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 fill="hold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57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 fill="hold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57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 fill="hold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58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dur="indefinite" fill="hold">
                      <p:stCondLst>
                        <p:cond delay="indefinite"/>
                      </p:stCondLst>
                      <p:childTnLst>
                        <p:par>
                          <p:cTn id="5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dur="indefinite" fill="hold">
                      <p:stCondLst>
                        <p:cond delay="indefinite"/>
                      </p:stCondLst>
                      <p:childTnLst>
                        <p:par>
                          <p:cTn id="5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dur="indefinite" fill="hold">
                      <p:stCondLst>
                        <p:cond delay="indefinite"/>
                      </p:stCondLst>
                      <p:childTnLst>
                        <p:par>
                          <p:cTn id="5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 fill="hold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60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dur="indefinite" fill="hold">
                      <p:stCondLst>
                        <p:cond delay="indefinite"/>
                      </p:stCondLst>
                      <p:childTnLst>
                        <p:par>
                          <p:cTn id="6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dur="indefinite" fill="hold">
                      <p:stCondLst>
                        <p:cond delay="indefinite"/>
                      </p:stCondLst>
                      <p:childTnLst>
                        <p:par>
                          <p:cTn id="6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62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dur="indefinite" fill="hold">
                            <p:stCondLst>
                              <p:cond delay="501"/>
                            </p:stCondLst>
                            <p:childTnLst>
                              <p:par>
                                <p:cTn id="62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 fill="hold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dur="indefinite" fill="hold">
                      <p:stCondLst>
                        <p:cond delay="indefinite"/>
                      </p:stCondLst>
                      <p:childTnLst>
                        <p:par>
                          <p:cTn id="6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dur="indefinite" fill="hold">
                      <p:stCondLst>
                        <p:cond delay="indefinite"/>
                      </p:stCondLst>
                      <p:childTnLst>
                        <p:par>
                          <p:cTn id="6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dur="indefinite" fill="hold">
                      <p:stCondLst>
                        <p:cond delay="indefinite"/>
                      </p:stCondLst>
                      <p:childTnLst>
                        <p:par>
                          <p:cTn id="6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1000" fill="hold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4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0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1000" fill="hold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1000" fill="hold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8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9f9"/>
            </a:gs>
            <a:gs pos="100000">
              <a:srgbClr val="f3f19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627280" y="3716280"/>
            <a:ext cx="1944720" cy="1441440"/>
          </a:xfrm>
          <a:prstGeom prst="pie">
            <a:avLst/>
          </a:prstGeom>
          <a:solidFill>
            <a:srgbClr val="33cc66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4421160" y="4646160"/>
            <a:ext cx="588960" cy="1884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3789360"/>
            <a:ext cx="1008000" cy="1079640"/>
          </a:xfrm>
          <a:prstGeom prst="line">
            <a:avLst/>
          </a:prstGeom>
          <a:ln cap="sq"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27640" y="4653000"/>
            <a:ext cx="144360" cy="504720"/>
          </a:xfrm>
          <a:prstGeom prst="line">
            <a:avLst/>
          </a:prstGeom>
          <a:ln cap="sq" w="25560">
            <a:solidFill>
              <a:srgbClr val="ff33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0920" y="2060280"/>
            <a:ext cx="3667320" cy="4170240"/>
            <a:chOff x="2050920" y="2060280"/>
            <a:chExt cx="3667320" cy="4170240"/>
          </a:xfrm>
        </p:grpSpPr>
        <p:sp>
          <p:nvSpPr>
            <p:cNvPr id="266" name=""/>
            <p:cNvSpPr/>
            <p:nvPr/>
          </p:nvSpPr>
          <p:spPr>
            <a:xfrm>
              <a:off x="2050920" y="4656600"/>
              <a:ext cx="3667320" cy="0"/>
            </a:xfrm>
            <a:prstGeom prst="line">
              <a:avLst/>
            </a:prstGeom>
            <a:ln cap="sq" w="9360">
              <a:solidFill>
                <a:srgbClr val="000000"/>
              </a:solidFill>
              <a:custDash>
                <a:ds d="8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22760" y="2066760"/>
              <a:ext cx="0" cy="35193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2076480" y="2060280"/>
              <a:ext cx="1638360" cy="25959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22760" y="2066760"/>
              <a:ext cx="1995480" cy="258300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722760" y="4648320"/>
              <a:ext cx="1995480" cy="9421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13320" y="5729400"/>
              <a:ext cx="4046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76480" y="4656600"/>
              <a:ext cx="1638360" cy="9248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2627280" y="3716280"/>
            <a:ext cx="88920" cy="7632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9280" y="4221000"/>
            <a:ext cx="88560" cy="7632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27640" y="4869000"/>
            <a:ext cx="88920" cy="7596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08360" y="4869000"/>
            <a:ext cx="122400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64000" y="5516640"/>
            <a:ext cx="1871640" cy="936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59280" y="6165720"/>
            <a:ext cx="289080" cy="287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00360" y="3716280"/>
            <a:ext cx="1727280" cy="936720"/>
          </a:xfrm>
          <a:prstGeom prst="line">
            <a:avLst/>
          </a:prstGeom>
          <a:ln cap="sq" w="25560">
            <a:solidFill>
              <a:srgbClr val="ff33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осстановите построение сечения тетраэдра плоскостью, заданной тремя точками M, N и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49880" y="1844640"/>
            <a:ext cx="263376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строе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19280" y="45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19640" y="566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24360" y="45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64000" y="162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411280" y="342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d228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808360" y="42246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d228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43280" y="47242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d228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59280" y="5950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d228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19640" y="47973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d228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4365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d228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43280" y="50846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d228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00720" y="5157720"/>
            <a:ext cx="88920" cy="7632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56000" y="4653000"/>
            <a:ext cx="76320" cy="6984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4869000"/>
            <a:ext cx="88920" cy="7596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4941720"/>
            <a:ext cx="720720" cy="216000"/>
          </a:xfrm>
          <a:prstGeom prst="line">
            <a:avLst/>
          </a:prstGeom>
          <a:ln cap="sq"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59280" y="6165720"/>
            <a:ext cx="88920" cy="7632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00840" y="4172040"/>
            <a:ext cx="37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SLK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–искомое с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dur="indefinite" fill="hold">
                      <p:stCondLst>
                        <p:cond delay="indefinite"/>
                      </p:stCondLst>
                      <p:childTnLst>
                        <p:par>
                          <p:cTn id="7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dur="indefinite" fill="hold">
                      <p:stCondLst>
                        <p:cond delay="indefinite"/>
                      </p:stCondLst>
                      <p:childTnLst>
                        <p:par>
                          <p:cTn id="7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 fill="hold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72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 fill="hold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72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 fill="hold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dur="indefinite" fill="hold">
                      <p:stCondLst>
                        <p:cond delay="indefinite"/>
                      </p:stCondLst>
                      <p:childTnLst>
                        <p:par>
                          <p:cTn id="7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 fill="hold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dur="indefinite" fill="hold">
                      <p:stCondLst>
                        <p:cond delay="indefinite"/>
                      </p:stCondLst>
                      <p:childTnLst>
                        <p:par>
                          <p:cTn id="7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 fill="hold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 fill="hold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 fill="hold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 fill="hold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 fill="hold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7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 fill="hold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7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dur="indefinite" fill="hold">
                      <p:stCondLst>
                        <p:cond delay="indefinite"/>
                      </p:stCondLst>
                      <p:childTnLst>
                        <p:par>
                          <p:cTn id="7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00" fill="hold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00" fill="hold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dur="indefinite" fill="hold">
                      <p:stCondLst>
                        <p:cond delay="indefinite"/>
                      </p:stCondLst>
                      <p:childTnLst>
                        <p:par>
                          <p:cTn id="7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7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79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00" fill="hold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79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00" fill="hold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dur="indefinite" fill="hold">
                      <p:stCondLst>
                        <p:cond delay="indefinite"/>
                      </p:stCondLst>
                      <p:childTnLst>
                        <p:par>
                          <p:cTn id="8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 fill="hold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81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 fill="hold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81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 fill="hold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82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00" fill="hold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dur="indefinite" fill="hold">
                      <p:stCondLst>
                        <p:cond delay="indefinite"/>
                      </p:stCondLst>
                      <p:childTnLst>
                        <p:par>
                          <p:cTn id="8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dur="indefinite" fill="hold">
                      <p:stCondLst>
                        <p:cond delay="indefinite"/>
                      </p:stCondLst>
                      <p:childTnLst>
                        <p:par>
                          <p:cTn id="8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dur="indefinite" fill="hold">
                      <p:stCondLst>
                        <p:cond delay="indefinite"/>
                      </p:stCondLst>
                      <p:childTnLst>
                        <p:par>
                          <p:cTn id="8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dur="indefinite" fill="hold">
                      <p:stCondLst>
                        <p:cond delay="indefinite"/>
                      </p:stCondLst>
                      <p:childTnLst>
                        <p:par>
                          <p:cTn id="8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1000" fill="hold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dur="indefinite" fill="hold">
                      <p:stCondLst>
                        <p:cond delay="indefinite"/>
                      </p:stCondLst>
                      <p:childTnLst>
                        <p:par>
                          <p:cTn id="8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1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7" dur="1000" fill="hold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3" dur="1000" fill="hold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9" dur="1000" fill="hold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1000" fill="hold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1000" fill="hold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1000" fill="hold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1000" fill="hold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5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1" dur="1000" fill="hold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1000" fill="hold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3" dur="1000" fill="hold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9f9"/>
            </a:gs>
            <a:gs pos="100000">
              <a:srgbClr val="f3f19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68360" y="549360"/>
            <a:ext cx="82296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Аксиоматический  метод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63640" y="173520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уть метода заключается в построении вспомогательной прямой, являющейся изображением линии пересечения секущей плоскости с плоскостью какой-либо грани фигуры . Удобнее всего строить изображение линии пересечения секущей плоскости с плоскостью нижнего основания. Эту линию называют следом секущей плоскости. Используя след, легко построить изображения точек секущей плоскости, находящихся на боковых ребр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и гранях фигуры . 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dur="indefinite" fill="hold">
                      <p:stCondLst>
                        <p:cond delay="0"/>
                      </p:stCondLst>
                      <p:childTnLst>
                        <p:par>
                          <p:cTn id="9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9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9f9"/>
            </a:gs>
            <a:gs pos="100000">
              <a:srgbClr val="f3f19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56000" y="2997360"/>
            <a:ext cx="2376360" cy="1223640"/>
          </a:xfrm>
          <a:prstGeom prst="pie">
            <a:avLst/>
          </a:prstGeom>
          <a:solidFill>
            <a:srgbClr val="33cc66"/>
          </a:solidFill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629160" y="3213000"/>
            <a:ext cx="1309680" cy="2592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076640"/>
            <a:ext cx="1584360" cy="144360"/>
          </a:xfrm>
          <a:prstGeom prst="line">
            <a:avLst/>
          </a:prstGeom>
          <a:ln cap="sq"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56000" y="2997360"/>
            <a:ext cx="287280" cy="1079280"/>
          </a:xfrm>
          <a:prstGeom prst="line">
            <a:avLst/>
          </a:prstGeom>
          <a:ln cap="sq"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56000" y="2997360"/>
            <a:ext cx="2447640" cy="144360"/>
          </a:xfrm>
          <a:prstGeom prst="line">
            <a:avLst/>
          </a:prstGeom>
          <a:ln cap="sq" w="25560">
            <a:solidFill>
              <a:srgbClr val="ff33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стройте сечение пирамиды плоскостью,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ходящей через три точки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M,N,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21160" y="4967280"/>
            <a:ext cx="35337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Y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 секущей плоск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лоскости 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117880" y="1557360"/>
            <a:ext cx="1380960" cy="201600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693880" y="1557360"/>
            <a:ext cx="804960" cy="316692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92360" y="1557360"/>
            <a:ext cx="1008360" cy="287964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92360" y="1557360"/>
            <a:ext cx="1727280" cy="187164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573360"/>
            <a:ext cx="576360" cy="115092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493880" y="3429000"/>
            <a:ext cx="731880" cy="100800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124000" y="3422160"/>
            <a:ext cx="3095640" cy="157320"/>
          </a:xfrm>
          <a:prstGeom prst="line">
            <a:avLst/>
          </a:prstGeom>
          <a:ln cap="sq" w="255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2924280"/>
            <a:ext cx="88920" cy="7596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771640" y="4076640"/>
            <a:ext cx="88920" cy="7308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932360" y="3141720"/>
            <a:ext cx="88920" cy="7632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700360" y="4653000"/>
            <a:ext cx="576360" cy="10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03640" y="3141720"/>
            <a:ext cx="338472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148360" y="3351240"/>
            <a:ext cx="3527280" cy="84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771640" y="3134880"/>
            <a:ext cx="5472360" cy="2676600"/>
          </a:xfrm>
          <a:prstGeom prst="line">
            <a:avLst/>
          </a:prstGeom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43280" y="4149720"/>
            <a:ext cx="433440" cy="1800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701880" y="4149720"/>
            <a:ext cx="1020960" cy="1366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700360" y="4430520"/>
            <a:ext cx="1800360" cy="29988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56000" y="4149720"/>
            <a:ext cx="88920" cy="7632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740720" y="3357720"/>
            <a:ext cx="88920" cy="7596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51280" y="5229360"/>
            <a:ext cx="88920" cy="7596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2000" y="5516640"/>
            <a:ext cx="88920" cy="7596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4421160" y="3213000"/>
            <a:ext cx="517680" cy="936720"/>
          </a:xfrm>
          <a:prstGeom prst="line">
            <a:avLst/>
          </a:prstGeom>
          <a:ln cap="sq"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4836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42764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40000" y="465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6364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80000" y="5300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66764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16360" y="566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95640" y="27082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84360" y="37893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32360" y="28526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38560" y="42292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419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91040" y="4133880"/>
            <a:ext cx="5079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73760" y="1800360"/>
            <a:ext cx="28386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ьные этапы построения выполнить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dur="indefinite" fill="hold">
                      <p:stCondLst>
                        <p:cond delay="indefinite"/>
                      </p:stCondLst>
                      <p:childTnLst>
                        <p:par>
                          <p:cTn id="9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 fill="hold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9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 fill="hold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9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 fill="hold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9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9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 fill="hold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9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 fill="hold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9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 fill="hold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9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99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99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99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 fill="hold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00" fill="hold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dur="indefinite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0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2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dur="indefinite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500" fill="hold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00" fill="hold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dur="indefinite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2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 fill="hold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500" fill="hold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dur="indefinite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500" fill="hold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3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dur="indefinite" fill="hold">
                      <p:stCondLst>
                        <p:cond delay="indefinite"/>
                      </p:stCondLst>
                      <p:childTnLst>
                        <p:par>
                          <p:cTn id="10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dur="indefinite" fill="hold">
                      <p:stCondLst>
                        <p:cond delay="indefinite"/>
                      </p:stCondLst>
                      <p:childTnLst>
                        <p:par>
                          <p:cTn id="10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dur="indefinite" fill="hold">
                      <p:stCondLst>
                        <p:cond delay="indefinite"/>
                      </p:stCondLst>
                      <p:childTnLst>
                        <p:par>
                          <p:cTn id="10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1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9" dur="500" fill="hold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3" dur="500" fill="hold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dur="indefinite" fill="hold">
                      <p:stCondLst>
                        <p:cond delay="indefinite"/>
                      </p:stCondLst>
                      <p:childTnLst>
                        <p:par>
                          <p:cTn id="10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1" dur="500" fill="hold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dur="indefinite" fill="hold">
                      <p:stCondLst>
                        <p:cond delay="indefinite"/>
                      </p:stCondLst>
                      <p:childTnLst>
                        <p:par>
                          <p:cTn id="10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dur="indefinite" fill="hold">
                      <p:stCondLst>
                        <p:cond delay="indefinite"/>
                      </p:stCondLst>
                      <p:childTnLst>
                        <p:par>
                          <p:cTn id="10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9" dur="500" fill="hold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 fill="hold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dur="indefinite" fill="hold">
                      <p:stCondLst>
                        <p:cond delay="indefinite"/>
                      </p:stCondLst>
                      <p:childTnLst>
                        <p:par>
                          <p:cTn id="1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dur="indefinite" fill="hold">
                            <p:stCondLst>
                              <p:cond delay="2001"/>
                            </p:stCondLst>
                            <p:childTnLst>
                              <p:par>
                                <p:cTn id="111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 fill="hold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dur="indefinite" fill="hold">
                            <p:stCondLst>
                              <p:cond delay="2501"/>
                            </p:stCondLst>
                            <p:childTnLst>
                              <p:par>
                                <p:cTn id="11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9" dur="500" fill="hold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dur="indefinite" fill="hold">
                      <p:stCondLst>
                        <p:cond delay="indefinite"/>
                      </p:stCondLst>
                      <p:childTnLst>
                        <p:par>
                          <p:cTn id="1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dur="indefinite" fill="hold">
                      <p:stCondLst>
                        <p:cond delay="indefinite"/>
                      </p:stCondLst>
                      <p:childTnLst>
                        <p:par>
                          <p:cTn id="1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9f9"/>
            </a:gs>
            <a:gs pos="100000">
              <a:srgbClr val="f3f19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2556000" y="2492280"/>
            <a:ext cx="1342800" cy="1800360"/>
          </a:xfrm>
          <a:prstGeom prst="pie">
            <a:avLst/>
          </a:prstGeom>
          <a:solidFill>
            <a:srgbClr val="33cc66"/>
          </a:solidFill>
          <a:ln cap="rnd" w="3240">
            <a:solidFill>
              <a:srgbClr val="ff33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19640" y="2492280"/>
            <a:ext cx="2592360" cy="4176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1036440" y="4265640"/>
            <a:ext cx="1670040" cy="1179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627280" y="2485800"/>
            <a:ext cx="792360" cy="228600"/>
          </a:xfrm>
          <a:prstGeom prst="line">
            <a:avLst/>
          </a:prstGeom>
          <a:ln cap="sq" w="25560">
            <a:solidFill>
              <a:srgbClr val="ff33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249880" y="4246560"/>
            <a:ext cx="38941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сказ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Y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 секущей плоск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лоскости 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1685520" y="1700280"/>
            <a:ext cx="1523880" cy="237636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49520" y="1700280"/>
            <a:ext cx="660240" cy="352908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03640" y="1700280"/>
            <a:ext cx="1584360" cy="345744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03640" y="1700280"/>
            <a:ext cx="647640" cy="2305080"/>
          </a:xfrm>
          <a:prstGeom prst="line">
            <a:avLst/>
          </a:prstGeom>
          <a:ln cap="sq" w="255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92360" y="4076640"/>
            <a:ext cx="863640" cy="115272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51280" y="4005360"/>
            <a:ext cx="936720" cy="1152360"/>
          </a:xfrm>
          <a:prstGeom prst="line">
            <a:avLst/>
          </a:prstGeom>
          <a:ln cap="sq" w="255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763640" y="3998880"/>
            <a:ext cx="2087640" cy="85680"/>
          </a:xfrm>
          <a:prstGeom prst="line">
            <a:avLst/>
          </a:prstGeom>
          <a:ln cap="sq" w="255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56000" y="2637000"/>
            <a:ext cx="88920" cy="7596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700360" y="4221000"/>
            <a:ext cx="88920" cy="7308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360" y="3284640"/>
            <a:ext cx="88920" cy="7596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56000" y="5229360"/>
            <a:ext cx="720720" cy="1079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716360" y="5084640"/>
            <a:ext cx="1368360" cy="1586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0920" y="5013360"/>
            <a:ext cx="6192720" cy="1582560"/>
          </a:xfrm>
          <a:prstGeom prst="line">
            <a:avLst/>
          </a:prstGeom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00360" y="4292640"/>
            <a:ext cx="216000" cy="223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893880" y="5229360"/>
            <a:ext cx="1668240" cy="71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556000" y="5151240"/>
            <a:ext cx="2232000" cy="8388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48000" y="2421000"/>
            <a:ext cx="88920" cy="7596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96000" y="6381720"/>
            <a:ext cx="88920" cy="7632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58920" y="5229360"/>
            <a:ext cx="88920" cy="7596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71640" y="5661000"/>
            <a:ext cx="88920" cy="76320"/>
          </a:xfrm>
          <a:prstGeom prst="ellipse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19640" y="2492280"/>
            <a:ext cx="504720" cy="865440"/>
          </a:xfrm>
          <a:prstGeom prst="line">
            <a:avLst/>
          </a:prstGeom>
          <a:ln cap="sq" w="25560">
            <a:solidFill>
              <a:srgbClr val="ff33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78000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0072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40000" y="51577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508720" y="63817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8728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11280" y="566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68360" y="242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d228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771640" y="4149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d228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995640" y="3141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d228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59280" y="2205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d228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4040" y="2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стройте сечение пирамиды плоскостью, </a:t>
            </a:r>
            <a:br>
              <a:rPr sz="1800"/>
            </a:b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оходящей через три точки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M,N,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56000" y="2708280"/>
            <a:ext cx="144360" cy="1512720"/>
          </a:xfrm>
          <a:prstGeom prst="line">
            <a:avLst/>
          </a:prstGeom>
          <a:ln cap="sq"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332000" y="38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03640" y="134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771640" y="3351240"/>
            <a:ext cx="1152720" cy="876240"/>
          </a:xfrm>
          <a:prstGeom prst="line">
            <a:avLst/>
          </a:prstGeom>
          <a:ln cap="sq"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56360" y="1944720"/>
            <a:ext cx="338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ьные этапы построения выполнить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dur="indefinite" fill="hold">
                      <p:stCondLst>
                        <p:cond delay="indefinite"/>
                      </p:stCondLst>
                      <p:childTnLst>
                        <p:par>
                          <p:cTn id="1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500" fill="hold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8" dur="500" fill="hold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500" fill="hold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 fill="hold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 fill="hold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 fill="hold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500" fill="hold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2" dur="500" fill="hold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00" fill="hold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00" fill="hold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118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8" dur="500" fill="hold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2" dur="500" fill="hold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dur="indefinite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dur="indefinite" fill="hold">
                            <p:stCondLst>
                              <p:cond delay="8501"/>
                            </p:stCondLst>
                            <p:childTnLst>
                              <p:par>
                                <p:cTn id="119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dur="indefinite" fill="hold">
                            <p:stCondLst>
                              <p:cond delay="9001"/>
                            </p:stCondLst>
                            <p:childTnLst>
                              <p:par>
                                <p:cTn id="120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500" fill="hold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dur="indefinite" fill="hold">
                            <p:stCondLst>
                              <p:cond delay="9501"/>
                            </p:stCondLst>
                            <p:childTnLst>
                              <p:par>
                                <p:cTn id="120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500" fill="hold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dur="indefinite" fill="hold">
                            <p:stCondLst>
                              <p:cond delay="10001"/>
                            </p:stCondLst>
                            <p:childTnLst>
                              <p:par>
                                <p:cTn id="120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500" fill="hold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dur="indefinite" fill="hold">
                            <p:stCondLst>
                              <p:cond delay="10501"/>
                            </p:stCondLst>
                            <p:childTnLst>
                              <p:par>
                                <p:cTn id="121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 fill="hold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dur="indefinite" fill="hold">
                            <p:stCondLst>
                              <p:cond delay="11001"/>
                            </p:stCondLst>
                            <p:childTnLst>
                              <p:par>
                                <p:cTn id="12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00" fill="hold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dur="indefinite" fill="hold">
                      <p:stCondLst>
                        <p:cond delay="indefinite"/>
                      </p:stCondLst>
                      <p:childTnLst>
                        <p:par>
                          <p:cTn id="1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dur="indefinite" fill="hold">
                      <p:stCondLst>
                        <p:cond delay="indefinite"/>
                      </p:stCondLst>
                      <p:childTnLst>
                        <p:par>
                          <p:cTn id="1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9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dur="indefinite" fill="hold">
                      <p:stCondLst>
                        <p:cond delay="indefinite"/>
                      </p:stCondLst>
                      <p:childTnLst>
                        <p:par>
                          <p:cTn id="1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4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 fill="hold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6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dur="indefinite" fill="hold">
                      <p:stCondLst>
                        <p:cond delay="indefinite"/>
                      </p:stCondLst>
                      <p:childTnLst>
                        <p:par>
                          <p:cTn id="1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dur="indefinite" fill="hold">
                      <p:stCondLst>
                        <p:cond delay="indefinite"/>
                      </p:stCondLst>
                      <p:childTnLst>
                        <p:par>
                          <p:cTn id="1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6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0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4" dur="500" fill="hold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dur="indefinite" fill="hold">
                      <p:stCondLst>
                        <p:cond delay="indefinite"/>
                      </p:stCondLst>
                      <p:childTnLst>
                        <p:par>
                          <p:cTn id="1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dur="indefinite" fill="hold">
                      <p:stCondLst>
                        <p:cond delay="indefinite"/>
                      </p:stCondLst>
                      <p:childTnLst>
                        <p:par>
                          <p:cTn id="1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2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6" dur="500" fill="hold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dur="indefinite" fill="hold">
                      <p:stCondLst>
                        <p:cond delay="indefinite"/>
                      </p:stCondLst>
                      <p:childTnLst>
                        <p:par>
                          <p:cTn id="1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00" fill="hold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9" dur="500" fill="hold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dur="indefinite" fill="hold">
                      <p:stCondLst>
                        <p:cond delay="indefinite"/>
                      </p:stCondLst>
                      <p:childTnLst>
                        <p:par>
                          <p:cTn id="1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dur="indefinite" fill="hold">
                      <p:stCondLst>
                        <p:cond delay="indefinite"/>
                      </p:stCondLst>
                      <p:childTnLst>
                        <p:par>
                          <p:cTn id="1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9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8:10:59Z</dcterms:created>
  <dc:creator>Михаил</dc:creator>
  <dc:description/>
  <dc:language>en-US</dc:language>
  <cp:lastModifiedBy>Иван</cp:lastModifiedBy>
  <dcterms:modified xsi:type="dcterms:W3CDTF">2010-04-14T17:41:28Z</dcterms:modified>
  <cp:revision>71</cp:revision>
  <dc:subject/>
  <dc:title>Слайд 1</dc:title>
</cp:coreProperties>
</file>