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13"/>
          </p:nvPr>
        </p:nvSpPr>
        <p:spPr>
          <a:xfrm>
            <a:off x="3897360" y="-360"/>
            <a:ext cx="298296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body"/>
          </p:nvPr>
        </p:nvSpPr>
        <p:spPr>
          <a:xfrm>
            <a:off x="689040" y="4613040"/>
            <a:ext cx="5503680" cy="4368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ftr" idx="14"/>
          </p:nvPr>
        </p:nvSpPr>
        <p:spPr>
          <a:xfrm>
            <a:off x="0" y="9224640"/>
            <a:ext cx="298296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 type="sldNum" idx="15"/>
          </p:nvPr>
        </p:nvSpPr>
        <p:spPr>
          <a:xfrm>
            <a:off x="3897360" y="9224640"/>
            <a:ext cx="298296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C6DB-F545-4631-8D19-5E58FE4B8B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9040" y="4613040"/>
            <a:ext cx="55036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Номер слайда 3"/>
          <p:cNvSpPr/>
          <p:nvPr/>
        </p:nvSpPr>
        <p:spPr>
          <a:xfrm>
            <a:off x="3897360" y="9225000"/>
            <a:ext cx="29829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974A-64BA-4F5F-B137-BB3493BCF1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0E2F4-3A0A-4B8A-9565-DE608815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7D4A5-2BCB-4C0E-89BE-ABD85846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C7AA2-C960-4707-90FA-9E525C0C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1BEDE-7449-4B64-92AB-4F02FAAF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CB4A-FAA0-482B-B2FD-C0A2F756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826A-C3CE-4A20-A312-A408B70F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CEE8-C3D7-4EB1-86D1-C22F7301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29B1-1237-4A44-8673-06B33339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A362-E630-4317-AB94-16077FD2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9A33-A963-497A-8B50-01784EEC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190D-3BEF-435C-83F9-12BA66F3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8AAED-65A2-421A-8F1F-B532B730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479E-99DD-4CBC-86AF-E6AC4E57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1528-F1EB-437F-9EAF-C0A09FE2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946B-00E9-4762-A214-BAA72FD2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6704-FBED-4A7B-BE26-16F62C71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92E4-5E5B-4863-A09F-B858C5F4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05390-3710-4085-879F-550BD00B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CED44-02DC-4D21-AE3D-5F62DEBF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D9B96-8C2A-43AA-9818-7184D9DD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BCE5C-7854-42B3-8C16-D955DAD3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8804D-F453-4108-A9B8-94D8C3E0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90EE6-C199-4FE1-8843-3D12B548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7A79D-25B6-4345-A0C9-6D35DEB4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5E9B9-2BA7-47CE-BEB8-5A37BE1B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5425C-6264-409D-8EB7-7E7A9D93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49190-A15F-4924-91C3-8C1DF35C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877DA-CB81-4A7E-8B0E-990CED7F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07B6B-B87A-4692-B1FE-E1F80220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39A00-E075-43AB-9C3B-7D98D948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7AD80-5B77-4853-BE6D-96887619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D5818-2BBF-46A7-AB11-19A165C8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CC22D-3404-4323-A4B0-2844D694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18F7A-4D9B-430B-8D2B-6148EC91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78784-2F61-496E-8A67-76E83707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ABDA5-9B14-43A8-8872-F661E444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11619-E4A5-4312-886B-EDABF3F0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8A07A-1870-410E-9BA8-36663747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873C9-42EA-40A1-B7E6-3803ECD0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1A6BD-A66F-40BF-B09D-49954834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FE5D2-3EF3-4005-9EDF-D781B590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1C37B-839F-4B34-AFD0-3EFD2C01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29F63-2BF0-49C1-9467-15FED4FA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4DAB9-E74F-4EAA-95ED-6B0A9DC3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85E0-9704-4FD7-A811-4B1B9A27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EAFC1-C76B-40BD-B13A-C815C317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E36C7-CCAC-4D11-A5D4-17213E56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2BE83-74EB-46AB-AABA-A063E1E5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D423-E1B4-4603-A45A-4EEB83BC186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6273360" y="-21600"/>
            <a:ext cx="2870280" cy="3275640"/>
            <a:chOff x="6273360" y="-21600"/>
            <a:chExt cx="2870280" cy="3275640"/>
          </a:xfrm>
        </p:grpSpPr>
        <p:grpSp>
          <p:nvGrpSpPr>
            <p:cNvPr id="64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65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68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1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12"/>
            <p:cNvGrpSpPr/>
            <p:nvPr/>
          </p:nvGrpSpPr>
          <p:grpSpPr>
            <a:xfrm>
              <a:off x="6273360" y="-21600"/>
              <a:ext cx="2870280" cy="2269080"/>
              <a:chOff x="6273360" y="-21600"/>
              <a:chExt cx="2870280" cy="2269080"/>
            </a:xfrm>
          </p:grpSpPr>
          <p:grpSp>
            <p:nvGrpSpPr>
              <p:cNvPr id="74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5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16"/>
              <p:cNvGrpSpPr/>
              <p:nvPr/>
            </p:nvGrpSpPr>
            <p:grpSpPr>
              <a:xfrm>
                <a:off x="6273360" y="-21600"/>
                <a:ext cx="2867400" cy="2269080"/>
                <a:chOff x="6273360" y="-21600"/>
                <a:chExt cx="2867400" cy="2269080"/>
              </a:xfrm>
            </p:grpSpPr>
            <p:grpSp>
              <p:nvGrpSpPr>
                <p:cNvPr id="78" name="Group 17"/>
                <p:cNvGrpSpPr/>
                <p:nvPr/>
              </p:nvGrpSpPr>
              <p:grpSpPr>
                <a:xfrm>
                  <a:off x="7834320" y="842760"/>
                  <a:ext cx="1063800" cy="1141200"/>
                  <a:chOff x="7834320" y="842760"/>
                  <a:chExt cx="1063800" cy="1141200"/>
                </a:xfrm>
              </p:grpSpPr>
              <p:sp>
                <p:nvSpPr>
                  <p:cNvPr id="79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Freeform 19"/>
                  <p:cNvSpPr/>
                  <p:nvPr/>
                </p:nvSpPr>
                <p:spPr>
                  <a:xfrm rot="2711400">
                    <a:off x="8405640" y="1602720"/>
                    <a:ext cx="473760" cy="249840"/>
                  </a:xfrm>
                  <a:custGeom>
                    <a:avLst/>
                    <a:gdLst>
                      <a:gd name="textAreaLeft" fmla="*/ 0 w 473760"/>
                      <a:gd name="textAreaRight" fmla="*/ 474120 w 47376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82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85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88" name="Freeform 27"/>
                  <p:cNvSpPr/>
                  <p:nvPr/>
                </p:nvSpPr>
                <p:spPr>
                  <a:xfrm rot="1080000">
                    <a:off x="7842960" y="824400"/>
                    <a:ext cx="860040" cy="1731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28"/>
                  <p:cNvSpPr/>
                  <p:nvPr/>
                </p:nvSpPr>
                <p:spPr>
                  <a:xfrm rot="1080000">
                    <a:off x="8650440" y="1032480"/>
                    <a:ext cx="460080" cy="268200"/>
                  </a:xfrm>
                  <a:custGeom>
                    <a:avLst/>
                    <a:gdLst>
                      <a:gd name="textAreaLeft" fmla="*/ 0 w 460080"/>
                      <a:gd name="textAreaRight" fmla="*/ 460440 w 460080"/>
                      <a:gd name="textAreaTop" fmla="*/ 0 h 268200"/>
                      <a:gd name="textAreaBottom" fmla="*/ 268560 h 268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91" name="Freeform 30"/>
                  <p:cNvSpPr/>
                  <p:nvPr/>
                </p:nvSpPr>
                <p:spPr>
                  <a:xfrm rot="463200">
                    <a:off x="7859520" y="709920"/>
                    <a:ext cx="792000" cy="16344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3440"/>
                      <a:gd name="textAreaBottom" fmla="*/ 163800 h 163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Freeform 31"/>
                  <p:cNvSpPr/>
                  <p:nvPr/>
                </p:nvSpPr>
                <p:spPr>
                  <a:xfrm rot="463200">
                    <a:off x="8635680" y="797040"/>
                    <a:ext cx="425160" cy="25092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94" name="Freeform 33"/>
                  <p:cNvSpPr/>
                  <p:nvPr/>
                </p:nvSpPr>
                <p:spPr>
                  <a:xfrm rot="21515400">
                    <a:off x="7873200" y="651240"/>
                    <a:ext cx="720360" cy="1087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97" name="Freeform 36"/>
                  <p:cNvSpPr/>
                  <p:nvPr/>
                </p:nvSpPr>
                <p:spPr>
                  <a:xfrm rot="20797200">
                    <a:off x="7849080" y="566280"/>
                    <a:ext cx="634680" cy="107640"/>
                  </a:xfrm>
                  <a:custGeom>
                    <a:avLst/>
                    <a:gdLst>
                      <a:gd name="textAreaLeft" fmla="*/ 0 w 634680"/>
                      <a:gd name="textAreaRight" fmla="*/ 635040 w 63468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Freeform 37"/>
                  <p:cNvSpPr/>
                  <p:nvPr/>
                </p:nvSpPr>
                <p:spPr>
                  <a:xfrm rot="20797200">
                    <a:off x="8472600" y="456120"/>
                    <a:ext cx="34092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" name="Group 38"/>
                <p:cNvGrpSpPr/>
                <p:nvPr/>
              </p:nvGrpSpPr>
              <p:grpSpPr>
                <a:xfrm>
                  <a:off x="6538680" y="905400"/>
                  <a:ext cx="1062360" cy="1141920"/>
                  <a:chOff x="6538680" y="905400"/>
                  <a:chExt cx="1062360" cy="1141920"/>
                </a:xfrm>
              </p:grpSpPr>
              <p:sp>
                <p:nvSpPr>
                  <p:cNvPr id="100" name="Freeform 39"/>
                  <p:cNvSpPr/>
                  <p:nvPr/>
                </p:nvSpPr>
                <p:spPr>
                  <a:xfrm flipH="1" rot="18888600">
                    <a:off x="6793560" y="1193760"/>
                    <a:ext cx="880560" cy="160200"/>
                  </a:xfrm>
                  <a:custGeom>
                    <a:avLst/>
                    <a:gdLst>
                      <a:gd name="textAreaLeft" fmla="*/ 360 w 880560"/>
                      <a:gd name="textAreaRight" fmla="*/ 881280 w 88056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40"/>
                  <p:cNvSpPr/>
                  <p:nvPr/>
                </p:nvSpPr>
                <p:spPr>
                  <a:xfrm flipH="1" rot="18888600">
                    <a:off x="6557760" y="1665360"/>
                    <a:ext cx="472680" cy="250920"/>
                  </a:xfrm>
                  <a:custGeom>
                    <a:avLst/>
                    <a:gdLst>
                      <a:gd name="textAreaLeft" fmla="*/ -360 w 472680"/>
                      <a:gd name="textAreaRight" fmla="*/ 472680 w 4726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" name="Group 41"/>
                <p:cNvGrpSpPr/>
                <p:nvPr/>
              </p:nvGrpSpPr>
              <p:grpSpPr>
                <a:xfrm>
                  <a:off x="6303960" y="861840"/>
                  <a:ext cx="1265400" cy="1051920"/>
                  <a:chOff x="6303960" y="861840"/>
                  <a:chExt cx="1265400" cy="1051920"/>
                </a:xfrm>
              </p:grpSpPr>
              <p:sp>
                <p:nvSpPr>
                  <p:cNvPr id="103" name="Freeform 42"/>
                  <p:cNvSpPr/>
                  <p:nvPr/>
                </p:nvSpPr>
                <p:spPr>
                  <a:xfrm flipH="1" rot="19496400">
                    <a:off x="6672960" y="1112400"/>
                    <a:ext cx="929160" cy="177840"/>
                  </a:xfrm>
                  <a:custGeom>
                    <a:avLst/>
                    <a:gdLst>
                      <a:gd name="textAreaLeft" fmla="*/ -360 w 929160"/>
                      <a:gd name="textAreaRight" fmla="*/ 929160 w 9291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Freeform 43"/>
                  <p:cNvSpPr/>
                  <p:nvPr/>
                </p:nvSpPr>
                <p:spPr>
                  <a:xfrm flipH="1" rot="19496400">
                    <a:off x="6338880" y="1515960"/>
                    <a:ext cx="498600" cy="279720"/>
                  </a:xfrm>
                  <a:custGeom>
                    <a:avLst/>
                    <a:gdLst>
                      <a:gd name="textAreaLeft" fmla="*/ -360 w 498600"/>
                      <a:gd name="textAreaRight" fmla="*/ 498600 w 4986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" name="Group 44"/>
                <p:cNvGrpSpPr/>
                <p:nvPr/>
              </p:nvGrpSpPr>
              <p:grpSpPr>
                <a:xfrm>
                  <a:off x="6286320" y="827280"/>
                  <a:ext cx="1288080" cy="828360"/>
                  <a:chOff x="6286320" y="827280"/>
                  <a:chExt cx="1288080" cy="828360"/>
                </a:xfrm>
              </p:grpSpPr>
              <p:sp>
                <p:nvSpPr>
                  <p:cNvPr id="106" name="Freeform 45"/>
                  <p:cNvSpPr/>
                  <p:nvPr/>
                </p:nvSpPr>
                <p:spPr>
                  <a:xfrm flipH="1" rot="20017200">
                    <a:off x="6695280" y="1016640"/>
                    <a:ext cx="890280" cy="15660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600"/>
                      <a:gd name="textAreaBottom" fmla="*/ 156960 h 156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46"/>
                  <p:cNvSpPr/>
                  <p:nvPr/>
                </p:nvSpPr>
                <p:spPr>
                  <a:xfrm flipH="1" rot="20017200">
                    <a:off x="6314400" y="1321200"/>
                    <a:ext cx="477360" cy="24084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Group 47"/>
                <p:cNvGrpSpPr/>
                <p:nvPr/>
              </p:nvGrpSpPr>
              <p:grpSpPr>
                <a:xfrm>
                  <a:off x="6273360" y="787320"/>
                  <a:ext cx="1303560" cy="668880"/>
                  <a:chOff x="6273360" y="787320"/>
                  <a:chExt cx="1303560" cy="668880"/>
                </a:xfrm>
              </p:grpSpPr>
              <p:sp>
                <p:nvSpPr>
                  <p:cNvPr id="109" name="Freeform 48"/>
                  <p:cNvSpPr/>
                  <p:nvPr/>
                </p:nvSpPr>
                <p:spPr>
                  <a:xfrm flipH="1" rot="20520000">
                    <a:off x="6711480" y="916200"/>
                    <a:ext cx="860400" cy="16848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8480"/>
                      <a:gd name="textAreaBottom" fmla="*/ 168840 h 168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49"/>
                  <p:cNvSpPr/>
                  <p:nvPr/>
                </p:nvSpPr>
                <p:spPr>
                  <a:xfrm flipH="1" rot="20520000">
                    <a:off x="6302880" y="1123200"/>
                    <a:ext cx="461520" cy="2678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7840"/>
                      <a:gd name="textAreaBottom" fmla="*/ 268200 h 267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12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768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7680"/>
                      <a:gd name="textAreaBottom" fmla="*/ 158040 h 1576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52"/>
                  <p:cNvSpPr/>
                  <p:nvPr/>
                </p:nvSpPr>
                <p:spPr>
                  <a:xfrm flipH="1" rot="21136800">
                    <a:off x="6353280" y="891360"/>
                    <a:ext cx="425160" cy="2466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6600"/>
                      <a:gd name="textAreaBottom" fmla="*/ 246960 h 246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15" name="Freeform 54"/>
                  <p:cNvSpPr/>
                  <p:nvPr/>
                </p:nvSpPr>
                <p:spPr>
                  <a:xfrm flipH="1" rot="84600">
                    <a:off x="6821280" y="741240"/>
                    <a:ext cx="720360" cy="1090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18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21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24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>
                      <a:gd name="textAreaLeft" fmla="*/ -360 w 634680"/>
                      <a:gd name="textAreaRight" fmla="*/ 634680 w 6346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69560"/>
                      <a:gd name="textAreaBottom" fmla="*/ 169560 h 169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27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30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71"/>
                <p:cNvGrpSpPr/>
                <p:nvPr/>
              </p:nvGrpSpPr>
              <p:grpSpPr>
                <a:xfrm>
                  <a:off x="7287480" y="-21600"/>
                  <a:ext cx="465840" cy="809640"/>
                  <a:chOff x="7287480" y="-21600"/>
                  <a:chExt cx="465840" cy="809640"/>
                </a:xfrm>
              </p:grpSpPr>
              <p:sp>
                <p:nvSpPr>
                  <p:cNvPr id="133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>
                      <a:gd name="textAreaLeft" fmla="*/ 360 w 542160"/>
                      <a:gd name="textAreaRight" fmla="*/ 542880 w 542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73"/>
                  <p:cNvSpPr/>
                  <p:nvPr/>
                </p:nvSpPr>
                <p:spPr>
                  <a:xfrm flipH="1" rot="4126800">
                    <a:off x="7274160" y="60480"/>
                    <a:ext cx="294480" cy="173160"/>
                  </a:xfrm>
                  <a:custGeom>
                    <a:avLst/>
                    <a:gdLst>
                      <a:gd name="textAreaLeft" fmla="*/ 360 w 294480"/>
                      <a:gd name="textAreaRight" fmla="*/ 295200 w 294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74"/>
                <p:cNvGrpSpPr/>
                <p:nvPr/>
              </p:nvGrpSpPr>
              <p:grpSpPr>
                <a:xfrm>
                  <a:off x="7792920" y="273240"/>
                  <a:ext cx="964440" cy="461520"/>
                  <a:chOff x="7792920" y="273240"/>
                  <a:chExt cx="964440" cy="461520"/>
                </a:xfrm>
              </p:grpSpPr>
              <p:sp>
                <p:nvSpPr>
                  <p:cNvPr id="136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76"/>
                  <p:cNvSpPr/>
                  <p:nvPr/>
                </p:nvSpPr>
                <p:spPr>
                  <a:xfrm rot="20274000">
                    <a:off x="8402040" y="329760"/>
                    <a:ext cx="334800" cy="173160"/>
                  </a:xfrm>
                  <a:custGeom>
                    <a:avLst/>
                    <a:gdLst>
                      <a:gd name="textAreaLeft" fmla="*/ 0 w 334800"/>
                      <a:gd name="textAreaRight" fmla="*/ 334800 w 3348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77"/>
                <p:cNvGrpSpPr/>
                <p:nvPr/>
              </p:nvGrpSpPr>
              <p:grpSpPr>
                <a:xfrm>
                  <a:off x="7737480" y="136800"/>
                  <a:ext cx="916200" cy="604440"/>
                  <a:chOff x="7737480" y="136800"/>
                  <a:chExt cx="916200" cy="604440"/>
                </a:xfrm>
              </p:grpSpPr>
              <p:sp>
                <p:nvSpPr>
                  <p:cNvPr id="139" name="Freeform 78"/>
                  <p:cNvSpPr/>
                  <p:nvPr/>
                </p:nvSpPr>
                <p:spPr>
                  <a:xfrm rot="19678800">
                    <a:off x="7718400" y="470520"/>
                    <a:ext cx="633960" cy="110880"/>
                  </a:xfrm>
                  <a:custGeom>
                    <a:avLst/>
                    <a:gdLst>
                      <a:gd name="textAreaLeft" fmla="*/ 0 w 633960"/>
                      <a:gd name="textAreaRight" fmla="*/ 634320 w 6339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79"/>
                  <p:cNvSpPr/>
                  <p:nvPr/>
                </p:nvSpPr>
                <p:spPr>
                  <a:xfrm rot="19678800">
                    <a:off x="8296200" y="212760"/>
                    <a:ext cx="336600" cy="173880"/>
                  </a:xfrm>
                  <a:custGeom>
                    <a:avLst/>
                    <a:gdLst>
                      <a:gd name="textAreaLeft" fmla="*/ 0 w 336600"/>
                      <a:gd name="textAreaRight" fmla="*/ 336960 w 33660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82"/>
                <p:cNvGrpSpPr/>
                <p:nvPr/>
              </p:nvGrpSpPr>
              <p:grpSpPr>
                <a:xfrm>
                  <a:off x="7665840" y="-11160"/>
                  <a:ext cx="497160" cy="791280"/>
                  <a:chOff x="7665840" y="-11160"/>
                  <a:chExt cx="497160" cy="791280"/>
                </a:xfrm>
              </p:grpSpPr>
              <p:sp>
                <p:nvSpPr>
                  <p:cNvPr id="144" name="Freeform 83"/>
                  <p:cNvSpPr/>
                  <p:nvPr/>
                </p:nvSpPr>
                <p:spPr>
                  <a:xfrm rot="17742000">
                    <a:off x="7554600" y="466560"/>
                    <a:ext cx="543600" cy="95400"/>
                  </a:xfrm>
                  <a:custGeom>
                    <a:avLst/>
                    <a:gdLst>
                      <a:gd name="textAreaLeft" fmla="*/ 0 w 543600"/>
                      <a:gd name="textAreaRight" fmla="*/ 543960 w 54360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84"/>
                  <p:cNvSpPr/>
                  <p:nvPr/>
                </p:nvSpPr>
                <p:spPr>
                  <a:xfrm rot="17742000">
                    <a:off x="7886520" y="78840"/>
                    <a:ext cx="292320" cy="14760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47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50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Group 91"/>
                <p:cNvGrpSpPr/>
                <p:nvPr/>
              </p:nvGrpSpPr>
              <p:grpSpPr>
                <a:xfrm>
                  <a:off x="6710400" y="930240"/>
                  <a:ext cx="914760" cy="1248480"/>
                  <a:chOff x="6710400" y="930240"/>
                  <a:chExt cx="914760" cy="1248480"/>
                </a:xfrm>
              </p:grpSpPr>
              <p:sp>
                <p:nvSpPr>
                  <p:cNvPr id="153" name="Freeform 92"/>
                  <p:cNvSpPr/>
                  <p:nvPr/>
                </p:nvSpPr>
                <p:spPr>
                  <a:xfrm flipH="1" rot="18336000">
                    <a:off x="6856560" y="1257840"/>
                    <a:ext cx="888480" cy="160560"/>
                  </a:xfrm>
                  <a:custGeom>
                    <a:avLst/>
                    <a:gdLst>
                      <a:gd name="textAreaLeft" fmla="*/ 360 w 888480"/>
                      <a:gd name="textAreaRight" fmla="*/ 889200 w 8884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93"/>
                  <p:cNvSpPr/>
                  <p:nvPr/>
                </p:nvSpPr>
                <p:spPr>
                  <a:xfrm flipH="1" rot="18336000">
                    <a:off x="6712200" y="1786680"/>
                    <a:ext cx="477000" cy="250560"/>
                  </a:xfrm>
                  <a:custGeom>
                    <a:avLst/>
                    <a:gdLst>
                      <a:gd name="textAreaLeft" fmla="*/ -360 w 477000"/>
                      <a:gd name="textAreaRight" fmla="*/ 477000 w 4770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94"/>
                <p:cNvGrpSpPr/>
                <p:nvPr/>
              </p:nvGrpSpPr>
              <p:grpSpPr>
                <a:xfrm>
                  <a:off x="7014960" y="979200"/>
                  <a:ext cx="617040" cy="1248480"/>
                  <a:chOff x="7014960" y="979200"/>
                  <a:chExt cx="617040" cy="1248480"/>
                </a:xfrm>
              </p:grpSpPr>
              <p:sp>
                <p:nvSpPr>
                  <p:cNvPr id="156" name="Freeform 95"/>
                  <p:cNvSpPr/>
                  <p:nvPr/>
                </p:nvSpPr>
                <p:spPr>
                  <a:xfrm flipH="1" rot="17543400">
                    <a:off x="6989760" y="1309320"/>
                    <a:ext cx="822240" cy="160560"/>
                  </a:xfrm>
                  <a:custGeom>
                    <a:avLst/>
                    <a:gdLst>
                      <a:gd name="textAreaLeft" fmla="*/ 360 w 822240"/>
                      <a:gd name="textAreaRight" fmla="*/ 822960 w 82224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96"/>
                  <p:cNvSpPr/>
                  <p:nvPr/>
                </p:nvSpPr>
                <p:spPr>
                  <a:xfrm flipH="1" rot="17543400">
                    <a:off x="6995520" y="1852920"/>
                    <a:ext cx="435960" cy="250560"/>
                  </a:xfrm>
                  <a:custGeom>
                    <a:avLst/>
                    <a:gdLst>
                      <a:gd name="textAreaLeft" fmla="*/ -360 w 435960"/>
                      <a:gd name="textAreaRight" fmla="*/ 435960 w 4359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59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62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65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>
                      <a:gd name="textAreaLeft" fmla="*/ 0 w 454320"/>
                      <a:gd name="textAreaRight" fmla="*/ 454680 w 45432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68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>
                      <a:gd name="textAreaLeft" fmla="*/ 0 w 820800"/>
                      <a:gd name="textAreaRight" fmla="*/ 821160 w 82080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>
                      <a:gd name="textAreaLeft" fmla="*/ 0 w 439560"/>
                      <a:gd name="textAreaRight" fmla="*/ 439920 w 43956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71" name="Freeform 110"/>
                  <p:cNvSpPr/>
                  <p:nvPr/>
                </p:nvSpPr>
                <p:spPr>
                  <a:xfrm rot="4898400">
                    <a:off x="7473960" y="1377000"/>
                    <a:ext cx="753120" cy="126360"/>
                  </a:xfrm>
                  <a:custGeom>
                    <a:avLst/>
                    <a:gdLst>
                      <a:gd name="textAreaLeft" fmla="*/ 0 w 753120"/>
                      <a:gd name="textAreaRight" fmla="*/ 753480 w 75312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111"/>
                  <p:cNvSpPr/>
                  <p:nvPr/>
                </p:nvSpPr>
                <p:spPr>
                  <a:xfrm rot="4898400">
                    <a:off x="7692840" y="1900080"/>
                    <a:ext cx="406800" cy="197640"/>
                  </a:xfrm>
                  <a:custGeom>
                    <a:avLst/>
                    <a:gdLst>
                      <a:gd name="textAreaLeft" fmla="*/ 0 w 406800"/>
                      <a:gd name="textAreaRight" fmla="*/ 407160 w 4068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74" name="Freeform 113"/>
                  <p:cNvSpPr/>
                  <p:nvPr/>
                </p:nvSpPr>
                <p:spPr>
                  <a:xfrm rot="5755200">
                    <a:off x="7321680" y="1402200"/>
                    <a:ext cx="739080" cy="95760"/>
                  </a:xfrm>
                  <a:custGeom>
                    <a:avLst/>
                    <a:gdLst>
                      <a:gd name="textAreaLeft" fmla="*/ 0 w 739080"/>
                      <a:gd name="textAreaRight" fmla="*/ 739440 w 73908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114"/>
                  <p:cNvSpPr/>
                  <p:nvPr/>
                </p:nvSpPr>
                <p:spPr>
                  <a:xfrm rot="5755200">
                    <a:off x="7398000" y="1928520"/>
                    <a:ext cx="396000" cy="151560"/>
                  </a:xfrm>
                  <a:custGeom>
                    <a:avLst/>
                    <a:gdLst>
                      <a:gd name="textAreaLeft" fmla="*/ 0 w 396000"/>
                      <a:gd name="textAreaRight" fmla="*/ 396360 w 39600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6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4640"/>
                  <a:gd name="textAreaBottom" fmla="*/ 1215000 h 121464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Arc 127"/>
              <p:cNvSpPr/>
              <p:nvPr/>
            </p:nvSpPr>
            <p:spPr>
              <a:xfrm flipH="1">
                <a:off x="6710400" y="159480"/>
                <a:ext cx="947160" cy="117792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90E7-EB94-42F3-B0A7-5028DA537E35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4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02F4-2C11-4228-9005-A1E1349E562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303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304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307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308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309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Oval 10"/>
                  <p:cNvSpPr/>
                  <p:nvPr/>
                </p:nvSpPr>
                <p:spPr>
                  <a:xfrm>
                    <a:off x="5109480" y="2234160"/>
                    <a:ext cx="712440" cy="501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312" name="Group 12"/>
                  <p:cNvGrpSpPr/>
                  <p:nvPr/>
                </p:nvGrpSpPr>
                <p:grpSpPr>
                  <a:xfrm>
                    <a:off x="5760000" y="2322720"/>
                    <a:ext cx="2560680" cy="2740680"/>
                    <a:chOff x="5760000" y="2322720"/>
                    <a:chExt cx="2560680" cy="2740680"/>
                  </a:xfrm>
                </p:grpSpPr>
                <p:sp>
                  <p:nvSpPr>
                    <p:cNvPr id="313" name="Freeform 13"/>
                    <p:cNvSpPr/>
                    <p:nvPr/>
                  </p:nvSpPr>
                  <p:spPr>
                    <a:xfrm rot="2711400">
                      <a:off x="5582520" y="3020760"/>
                      <a:ext cx="2129040" cy="385560"/>
                    </a:xfrm>
                    <a:custGeom>
                      <a:avLst/>
                      <a:gdLst>
                        <a:gd name="textAreaLeft" fmla="*/ 0 w 2129040"/>
                        <a:gd name="textAreaRight" fmla="*/ 2129400 w 212904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Freeform 14"/>
                    <p:cNvSpPr/>
                    <p:nvPr/>
                  </p:nvSpPr>
                  <p:spPr>
                    <a:xfrm rot="2711400">
                      <a:off x="7134120" y="414396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Group 15"/>
                  <p:cNvGrpSpPr/>
                  <p:nvPr/>
                </p:nvGrpSpPr>
                <p:grpSpPr>
                  <a:xfrm>
                    <a:off x="5787720" y="2148840"/>
                    <a:ext cx="3039480" cy="2528640"/>
                    <a:chOff x="5787720" y="2148840"/>
                    <a:chExt cx="3039480" cy="2528640"/>
                  </a:xfrm>
                </p:grpSpPr>
                <p:sp>
                  <p:nvSpPr>
                    <p:cNvPr id="316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588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5880"/>
                        <a:gd name="textAreaBottom" fmla="*/ 426240 h 4258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Freeform 17"/>
                    <p:cNvSpPr/>
                    <p:nvPr/>
                  </p:nvSpPr>
                  <p:spPr>
                    <a:xfrm rot="2103600">
                      <a:off x="7542000" y="3722400"/>
                      <a:ext cx="1200960" cy="67104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1040"/>
                        <a:gd name="textAreaBottom" fmla="*/ 671400 h 671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Group 18"/>
                  <p:cNvGrpSpPr/>
                  <p:nvPr/>
                </p:nvGrpSpPr>
                <p:grpSpPr>
                  <a:xfrm>
                    <a:off x="5774760" y="2064240"/>
                    <a:ext cx="3097440" cy="1992960"/>
                    <a:chOff x="5774760" y="2064240"/>
                    <a:chExt cx="3097440" cy="1992960"/>
                  </a:xfrm>
                </p:grpSpPr>
                <p:sp>
                  <p:nvSpPr>
                    <p:cNvPr id="319" name="Freeform 19"/>
                    <p:cNvSpPr/>
                    <p:nvPr/>
                  </p:nvSpPr>
                  <p:spPr>
                    <a:xfrm rot="1582800">
                      <a:off x="5746320" y="2520000"/>
                      <a:ext cx="2140560" cy="37512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Freeform 20"/>
                    <p:cNvSpPr/>
                    <p:nvPr/>
                  </p:nvSpPr>
                  <p:spPr>
                    <a:xfrm rot="1582800">
                      <a:off x="7652520" y="3246480"/>
                      <a:ext cx="1149120" cy="58572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5720"/>
                        <a:gd name="textAreaBottom" fmla="*/ 585720 h 585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322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325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328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1440"/>
                        <a:gd name="textAreaBottom" fmla="*/ 271800 h 271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1920"/>
                        <a:gd name="textAreaBottom" fmla="*/ 422280 h 42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Group 30"/>
                  <p:cNvGrpSpPr/>
                  <p:nvPr/>
                </p:nvGrpSpPr>
                <p:grpSpPr>
                  <a:xfrm>
                    <a:off x="5788440" y="1304640"/>
                    <a:ext cx="2364120" cy="785880"/>
                    <a:chOff x="5788440" y="1304640"/>
                    <a:chExt cx="2364120" cy="785880"/>
                  </a:xfrm>
                </p:grpSpPr>
                <p:sp>
                  <p:nvSpPr>
                    <p:cNvPr id="331" name="Freeform 31"/>
                    <p:cNvSpPr/>
                    <p:nvPr/>
                  </p:nvSpPr>
                  <p:spPr>
                    <a:xfrm rot="20797200">
                      <a:off x="5798520" y="1652040"/>
                      <a:ext cx="1520280" cy="26604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Freeform 32"/>
                    <p:cNvSpPr/>
                    <p:nvPr/>
                  </p:nvSpPr>
                  <p:spPr>
                    <a:xfrm rot="20797200">
                      <a:off x="7299000" y="139320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334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>
                        <a:gd name="textAreaLeft" fmla="*/ 360 w 2126160"/>
                        <a:gd name="textAreaRight" fmla="*/ 2126880 w 21261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337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8760"/>
                        <a:gd name="textAreaBottom" fmla="*/ 429120 h 428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340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Group 42"/>
                  <p:cNvGrpSpPr/>
                  <p:nvPr/>
                </p:nvGrpSpPr>
                <p:grpSpPr>
                  <a:xfrm>
                    <a:off x="2010960" y="2188800"/>
                    <a:ext cx="3133800" cy="1608480"/>
                    <a:chOff x="2010960" y="2188800"/>
                    <a:chExt cx="3133800" cy="1608480"/>
                  </a:xfrm>
                </p:grpSpPr>
                <p:sp>
                  <p:nvSpPr>
                    <p:cNvPr id="343" name="Freeform 43"/>
                    <p:cNvSpPr/>
                    <p:nvPr/>
                  </p:nvSpPr>
                  <p:spPr>
                    <a:xfrm flipH="1" rot="20520000">
                      <a:off x="3063240" y="2498040"/>
                      <a:ext cx="2067840" cy="41220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200"/>
                        <a:gd name="textAreaBottom" fmla="*/ 412560 h 412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Freeform 44"/>
                    <p:cNvSpPr/>
                    <p:nvPr/>
                  </p:nvSpPr>
                  <p:spPr>
                    <a:xfrm flipH="1" rot="20520000">
                      <a:off x="2083680" y="299304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346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349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4080"/>
                        <a:gd name="textAreaBottom" fmla="*/ 424440 h 42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352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Group 54"/>
                  <p:cNvGrpSpPr/>
                  <p:nvPr/>
                </p:nvGrpSpPr>
                <p:grpSpPr>
                  <a:xfrm>
                    <a:off x="2887920" y="1236960"/>
                    <a:ext cx="2323440" cy="1082520"/>
                    <a:chOff x="2887920" y="1236960"/>
                    <a:chExt cx="2323440" cy="1082520"/>
                  </a:xfrm>
                </p:grpSpPr>
                <p:sp>
                  <p:nvSpPr>
                    <p:cNvPr id="355" name="Freeform 55"/>
                    <p:cNvSpPr/>
                    <p:nvPr/>
                  </p:nvSpPr>
                  <p:spPr>
                    <a:xfrm flipH="1" rot="1278000">
                      <a:off x="3693960" y="1785960"/>
                      <a:ext cx="1520280" cy="26604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Freeform 56"/>
                    <p:cNvSpPr/>
                    <p:nvPr/>
                  </p:nvSpPr>
                  <p:spPr>
                    <a:xfrm flipH="1" rot="1278000">
                      <a:off x="2935080" y="1370880"/>
                      <a:ext cx="816120" cy="4143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57"/>
                  <p:cNvGrpSpPr/>
                  <p:nvPr/>
                </p:nvGrpSpPr>
                <p:grpSpPr>
                  <a:xfrm>
                    <a:off x="3161520" y="831600"/>
                    <a:ext cx="2169360" cy="1506960"/>
                    <a:chOff x="3161520" y="831600"/>
                    <a:chExt cx="2169360" cy="1506960"/>
                  </a:xfrm>
                </p:grpSpPr>
                <p:sp>
                  <p:nvSpPr>
                    <p:cNvPr id="358" name="Freeform 58"/>
                    <p:cNvSpPr/>
                    <p:nvPr/>
                  </p:nvSpPr>
                  <p:spPr>
                    <a:xfrm flipH="1" rot="2028600">
                      <a:off x="3865320" y="1673640"/>
                      <a:ext cx="1520280" cy="26424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240"/>
                        <a:gd name="textAreaBottom" fmla="*/ 264600 h 2642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Freeform 59"/>
                    <p:cNvSpPr/>
                    <p:nvPr/>
                  </p:nvSpPr>
                  <p:spPr>
                    <a:xfrm flipH="1" rot="2028600">
                      <a:off x="3207600" y="1023480"/>
                      <a:ext cx="816120" cy="4140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4000"/>
                        <a:gd name="textAreaBottom" fmla="*/ 414360 h 414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361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364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>
                        <a:gd name="textAreaLeft" fmla="*/ -360 w 1357560"/>
                        <a:gd name="textAreaRight" fmla="*/ 1357560 w 13575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66"/>
                  <p:cNvGrpSpPr/>
                  <p:nvPr/>
                </p:nvGrpSpPr>
                <p:grpSpPr>
                  <a:xfrm>
                    <a:off x="4448160" y="245520"/>
                    <a:ext cx="1123920" cy="1946520"/>
                    <a:chOff x="4448160" y="245520"/>
                    <a:chExt cx="1123920" cy="1946520"/>
                  </a:xfrm>
                </p:grpSpPr>
                <p:sp>
                  <p:nvSpPr>
                    <p:cNvPr id="367" name="Freeform 67"/>
                    <p:cNvSpPr/>
                    <p:nvPr/>
                  </p:nvSpPr>
                  <p:spPr>
                    <a:xfrm flipH="1" rot="4126800">
                      <a:off x="4555800" y="1400760"/>
                      <a:ext cx="1309680" cy="265680"/>
                    </a:xfrm>
                    <a:custGeom>
                      <a:avLst/>
                      <a:gdLst>
                        <a:gd name="textAreaLeft" fmla="*/ 360 w 1309680"/>
                        <a:gd name="textAreaRight" fmla="*/ 1310400 w 130968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16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Group 69"/>
                  <p:cNvGrpSpPr/>
                  <p:nvPr/>
                </p:nvGrpSpPr>
                <p:grpSpPr>
                  <a:xfrm>
                    <a:off x="5661720" y="951840"/>
                    <a:ext cx="2318760" cy="1112400"/>
                    <a:chOff x="5661720" y="951840"/>
                    <a:chExt cx="2318760" cy="1112400"/>
                  </a:xfrm>
                </p:grpSpPr>
                <p:sp>
                  <p:nvSpPr>
                    <p:cNvPr id="370" name="Freeform 70"/>
                    <p:cNvSpPr/>
                    <p:nvPr/>
                  </p:nvSpPr>
                  <p:spPr>
                    <a:xfrm rot="20274000">
                      <a:off x="5655240" y="1523520"/>
                      <a:ext cx="1519920" cy="26424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240"/>
                        <a:gd name="textAreaBottom" fmla="*/ 264600 h 2642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04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9040"/>
                        <a:gd name="textAreaBottom" fmla="*/ 419400 h 419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373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5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>
                      <a:gd name="textAreaLeft" fmla="*/ -360 w 1265400"/>
                      <a:gd name="textAreaRight" fmla="*/ 1265400 w 126540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7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378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>
                        <a:gd name="textAreaLeft" fmla="*/ 0 w 702720"/>
                        <a:gd name="textAreaRight" fmla="*/ 703080 w 70272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Group 80"/>
                  <p:cNvGrpSpPr/>
                  <p:nvPr/>
                </p:nvGrpSpPr>
                <p:grpSpPr>
                  <a:xfrm>
                    <a:off x="5350320" y="387720"/>
                    <a:ext cx="1889280" cy="1794600"/>
                    <a:chOff x="5350320" y="387720"/>
                    <a:chExt cx="1889280" cy="1794600"/>
                  </a:xfrm>
                </p:grpSpPr>
                <p:sp>
                  <p:nvSpPr>
                    <p:cNvPr id="381" name="Freeform 81"/>
                    <p:cNvSpPr/>
                    <p:nvPr/>
                  </p:nvSpPr>
                  <p:spPr>
                    <a:xfrm rot="18822600">
                      <a:off x="5250600" y="1386720"/>
                      <a:ext cx="1423440" cy="332640"/>
                    </a:xfrm>
                    <a:custGeom>
                      <a:avLst/>
                      <a:gdLst>
                        <a:gd name="textAreaLeft" fmla="*/ 0 w 1423440"/>
                        <a:gd name="textAreaRight" fmla="*/ 1423800 w 142344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Freeform 82"/>
                    <p:cNvSpPr/>
                    <p:nvPr/>
                  </p:nvSpPr>
                  <p:spPr>
                    <a:xfrm rot="18822600">
                      <a:off x="6403320" y="584280"/>
                      <a:ext cx="766800" cy="520200"/>
                    </a:xfrm>
                    <a:custGeom>
                      <a:avLst/>
                      <a:gdLst>
                        <a:gd name="textAreaLeft" fmla="*/ 0 w 766800"/>
                        <a:gd name="textAreaRight" fmla="*/ 767160 w 76680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384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>
                        <a:gd name="textAreaLeft" fmla="*/ 0 w 1176120"/>
                        <a:gd name="textAreaRight" fmla="*/ 1176480 w 117612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>
                        <a:gd name="textAreaLeft" fmla="*/ 0 w 631440"/>
                        <a:gd name="textAreaRight" fmla="*/ 631800 w 63144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387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>
                        <a:gd name="textAreaLeft" fmla="*/ -360 w 2127240"/>
                        <a:gd name="textAreaRight" fmla="*/ 2127240 w 212724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Group 89"/>
                  <p:cNvGrpSpPr/>
                  <p:nvPr/>
                </p:nvGrpSpPr>
                <p:grpSpPr>
                  <a:xfrm>
                    <a:off x="3791520" y="2650320"/>
                    <a:ext cx="1482120" cy="2998440"/>
                    <a:chOff x="3791520" y="2650320"/>
                    <a:chExt cx="1482120" cy="2998440"/>
                  </a:xfrm>
                </p:grpSpPr>
                <p:sp>
                  <p:nvSpPr>
                    <p:cNvPr id="390" name="Freeform 90"/>
                    <p:cNvSpPr/>
                    <p:nvPr/>
                  </p:nvSpPr>
                  <p:spPr>
                    <a:xfrm flipH="1" rot="17543400">
                      <a:off x="3738960" y="3440520"/>
                      <a:ext cx="1965960" cy="382680"/>
                    </a:xfrm>
                    <a:custGeom>
                      <a:avLst/>
                      <a:gdLst>
                        <a:gd name="textAreaLeft" fmla="*/ -360 w 1965960"/>
                        <a:gd name="textAreaRight" fmla="*/ 1965960 w 1965960"/>
                        <a:gd name="textAreaTop" fmla="*/ 0 h 382680"/>
                        <a:gd name="textAreaBottom" fmla="*/ 383040 h 382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Freeform 91"/>
                    <p:cNvSpPr/>
                    <p:nvPr/>
                  </p:nvSpPr>
                  <p:spPr>
                    <a:xfrm flipH="1" rot="17543400">
                      <a:off x="3743640" y="4743000"/>
                      <a:ext cx="1055160" cy="60480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4800"/>
                        <a:gd name="textAreaBottom" fmla="*/ 605160 h 604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Group 92"/>
                  <p:cNvGrpSpPr/>
                  <p:nvPr/>
                </p:nvGrpSpPr>
                <p:grpSpPr>
                  <a:xfrm>
                    <a:off x="4507920" y="2700000"/>
                    <a:ext cx="876240" cy="2927520"/>
                    <a:chOff x="4507920" y="2700000"/>
                    <a:chExt cx="876240" cy="2927520"/>
                  </a:xfrm>
                </p:grpSpPr>
                <p:sp>
                  <p:nvSpPr>
                    <p:cNvPr id="393" name="Freeform 93"/>
                    <p:cNvSpPr/>
                    <p:nvPr/>
                  </p:nvSpPr>
                  <p:spPr>
                    <a:xfrm flipH="1" rot="16870800">
                      <a:off x="4086720" y="3486240"/>
                      <a:ext cx="1888200" cy="346680"/>
                    </a:xfrm>
                    <a:custGeom>
                      <a:avLst/>
                      <a:gdLst>
                        <a:gd name="textAreaLeft" fmla="*/ -360 w 1888200"/>
                        <a:gd name="textAreaRight" fmla="*/ 1888200 w 1888200"/>
                        <a:gd name="textAreaTop" fmla="*/ 0 h 346680"/>
                        <a:gd name="textAreaBottom" fmla="*/ 347040 h 346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396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>
                        <a:gd name="textAreaLeft" fmla="*/ 0 w 2126160"/>
                        <a:gd name="textAreaRight" fmla="*/ 2126520 w 212616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Group 98"/>
                  <p:cNvGrpSpPr/>
                  <p:nvPr/>
                </p:nvGrpSpPr>
                <p:grpSpPr>
                  <a:xfrm>
                    <a:off x="5649120" y="2593440"/>
                    <a:ext cx="1753920" cy="3030480"/>
                    <a:chOff x="5649120" y="2593440"/>
                    <a:chExt cx="1753920" cy="3030480"/>
                  </a:xfrm>
                </p:grpSpPr>
                <p:sp>
                  <p:nvSpPr>
                    <p:cNvPr id="399" name="Freeform 99"/>
                    <p:cNvSpPr/>
                    <p:nvPr/>
                  </p:nvSpPr>
                  <p:spPr>
                    <a:xfrm rot="3745200">
                      <a:off x="5266800" y="3394800"/>
                      <a:ext cx="2032560" cy="369360"/>
                    </a:xfrm>
                    <a:custGeom>
                      <a:avLst/>
                      <a:gdLst>
                        <a:gd name="textAreaLeft" fmla="*/ 0 w 2032560"/>
                        <a:gd name="textAreaRight" fmla="*/ 2032920 w 2032560"/>
                        <a:gd name="textAreaTop" fmla="*/ 0 h 369360"/>
                        <a:gd name="textAreaBottom" fmla="*/ 369720 h 369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Freeform 100"/>
                    <p:cNvSpPr/>
                    <p:nvPr/>
                  </p:nvSpPr>
                  <p:spPr>
                    <a:xfrm rot="3745200">
                      <a:off x="6351840" y="4720680"/>
                      <a:ext cx="1088640" cy="574920"/>
                    </a:xfrm>
                    <a:custGeom>
                      <a:avLst/>
                      <a:gdLst>
                        <a:gd name="textAreaLeft" fmla="*/ 0 w 1088640"/>
                        <a:gd name="textAreaRight" fmla="*/ 1089000 w 1088640"/>
                        <a:gd name="textAreaTop" fmla="*/ 0 h 574920"/>
                        <a:gd name="textAreaBottom" fmla="*/ 575280 h 574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Group 101"/>
                  <p:cNvGrpSpPr/>
                  <p:nvPr/>
                </p:nvGrpSpPr>
                <p:grpSpPr>
                  <a:xfrm>
                    <a:off x="5576400" y="2711160"/>
                    <a:ext cx="1226880" cy="2985480"/>
                    <a:chOff x="5576400" y="2711160"/>
                    <a:chExt cx="1226880" cy="2985480"/>
                  </a:xfrm>
                </p:grpSpPr>
                <p:sp>
                  <p:nvSpPr>
                    <p:cNvPr id="402" name="Freeform 102"/>
                    <p:cNvSpPr/>
                    <p:nvPr/>
                  </p:nvSpPr>
                  <p:spPr>
                    <a:xfrm rot="4286400">
                      <a:off x="5047200" y="3542760"/>
                      <a:ext cx="1971720" cy="302040"/>
                    </a:xfrm>
                    <a:custGeom>
                      <a:avLst/>
                      <a:gdLst>
                        <a:gd name="textAreaLeft" fmla="*/ 0 w 1971720"/>
                        <a:gd name="textAreaRight" fmla="*/ 1972080 w 1971720"/>
                        <a:gd name="textAreaTop" fmla="*/ 0 h 302040"/>
                        <a:gd name="textAreaBottom" fmla="*/ 302400 h 302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Freeform 103"/>
                    <p:cNvSpPr/>
                    <p:nvPr/>
                  </p:nvSpPr>
                  <p:spPr>
                    <a:xfrm rot="4286400">
                      <a:off x="5880240" y="4881960"/>
                      <a:ext cx="1059120" cy="4741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4120"/>
                        <a:gd name="textAreaBottom" fmla="*/ 474480 h 474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405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>
                        <a:gd name="textAreaLeft" fmla="*/ 0 w 1812600"/>
                        <a:gd name="textAreaRight" fmla="*/ 1812960 w 181260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4480"/>
                        <a:gd name="textAreaBottom" fmla="*/ 474840 h 47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107"/>
                  <p:cNvGrpSpPr/>
                  <p:nvPr/>
                </p:nvGrpSpPr>
                <p:grpSpPr>
                  <a:xfrm>
                    <a:off x="4961160" y="2886840"/>
                    <a:ext cx="666000" cy="2717640"/>
                    <a:chOff x="4961160" y="2886840"/>
                    <a:chExt cx="666000" cy="2717640"/>
                  </a:xfrm>
                </p:grpSpPr>
                <p:sp>
                  <p:nvSpPr>
                    <p:cNvPr id="408" name="Freeform 108"/>
                    <p:cNvSpPr/>
                    <p:nvPr/>
                  </p:nvSpPr>
                  <p:spPr>
                    <a:xfrm rot="5755200">
                      <a:off x="4534560" y="3665880"/>
                      <a:ext cx="1773720" cy="229680"/>
                    </a:xfrm>
                    <a:custGeom>
                      <a:avLst/>
                      <a:gdLst>
                        <a:gd name="textAreaLeft" fmla="*/ 0 w 1773720"/>
                        <a:gd name="textAreaRight" fmla="*/ 1774080 w 1773720"/>
                        <a:gd name="textAreaTop" fmla="*/ 0 h 229680"/>
                        <a:gd name="textAreaBottom" fmla="*/ 230040 h 229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Freeform 109"/>
                    <p:cNvSpPr/>
                    <p:nvPr/>
                  </p:nvSpPr>
                  <p:spPr>
                    <a:xfrm rot="5755200">
                      <a:off x="4714200" y="4931640"/>
                      <a:ext cx="951480" cy="361800"/>
                    </a:xfrm>
                    <a:custGeom>
                      <a:avLst/>
                      <a:gdLst>
                        <a:gd name="textAreaLeft" fmla="*/ 0 w 951480"/>
                        <a:gd name="textAreaRight" fmla="*/ 951840 w 951480"/>
                        <a:gd name="textAreaTop" fmla="*/ 0 h 361800"/>
                        <a:gd name="textAreaBottom" fmla="*/ 362160 h 361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0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411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412" name="Arc 112"/>
                  <p:cNvSpPr/>
                  <p:nvPr/>
                </p:nvSpPr>
                <p:spPr>
                  <a:xfrm flipV="1">
                    <a:off x="5740560" y="854280"/>
                    <a:ext cx="3166560" cy="252540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-360 h 2525400"/>
                      <a:gd name="textAreaBottom" fmla="*/ 2525400 h 252540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3640"/>
                      <a:gd name="textAreaBottom" fmla="*/ 2934000 h 293364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5080"/>
                      <a:gd name="textAreaBottom" fmla="*/ 2935440 h 29350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34720"/>
                      <a:gd name="textAreaBottom" fmla="*/ 2935080 h 293472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Arc 116"/>
                  <p:cNvSpPr/>
                  <p:nvPr/>
                </p:nvSpPr>
                <p:spPr>
                  <a:xfrm flipH="1">
                    <a:off x="3056400" y="681480"/>
                    <a:ext cx="2282760" cy="284364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3640"/>
                      <a:gd name="textAreaBottom" fmla="*/ 2844000 h 284364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Arc 117"/>
                  <p:cNvSpPr/>
                  <p:nvPr/>
                </p:nvSpPr>
                <p:spPr>
                  <a:xfrm>
                    <a:off x="5491440" y="1875240"/>
                    <a:ext cx="940680" cy="284364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3640"/>
                      <a:gd name="textAreaBottom" fmla="*/ 2844000 h 284364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118"/>
                  <p:cNvSpPr/>
                  <p:nvPr/>
                </p:nvSpPr>
                <p:spPr>
                  <a:xfrm flipH="1">
                    <a:off x="4302000" y="83304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2120"/>
                    <a:gd name="textAreaBottom" fmla="*/ 1032480 h 103212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0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421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840"/>
                  <a:gd name="textAreaBottom" fmla="*/ 2842200 h 284184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3520"/>
                  <a:gd name="textAreaBottom" fmla="*/ 1973880 h 1973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480"/>
                  <a:gd name="textAreaBottom" fmla="*/ 1032840 h 1032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3327-C4BF-4791-88E0-D9F0C08D9AD6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5148360" y="4581000"/>
            <a:ext cx="3703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дготовил  ученик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 класса «А»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ублев Иль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WordArt 4"/>
          <p:cNvSpPr txBox="1"/>
          <p:nvPr/>
        </p:nvSpPr>
        <p:spPr>
          <a:xfrm>
            <a:off x="1763640" y="189000"/>
            <a:ext cx="581040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ект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тему 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 Мой прадедушка участник 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ликой Отечественной войны"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539640" y="2708280"/>
            <a:ext cx="8229600" cy="37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едаль «За отвагу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едаль « За боевые заслуг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едаль « За взятие Вен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едаль «За победу над Германие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WordArt 4"/>
          <p:cNvSpPr txBox="1"/>
          <p:nvPr/>
        </p:nvSpPr>
        <p:spPr>
          <a:xfrm>
            <a:off x="214200" y="357120"/>
            <a:ext cx="4000680" cy="23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 а г р а д ы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 р а д е д у ш к 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7" name="Рисунок 5" descr="IMG_5698.JPG"/>
          <p:cNvPicPr/>
          <p:nvPr/>
        </p:nvPicPr>
        <p:blipFill>
          <a:blip r:embed="rId1"/>
          <a:stretch/>
        </p:blipFill>
        <p:spPr>
          <a:xfrm>
            <a:off x="5000760" y="35712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ffff59"/>
                </a:solidFill>
                <a:latin typeface="Tahoma"/>
              </a:rPr>
              <a:t>Награжден юбилейными медалями</a:t>
            </a:r>
            <a:r>
              <a:rPr b="0" lang="ru-RU" sz="2800" spc="-1" strike="noStrike">
                <a:solidFill>
                  <a:srgbClr val="ffff5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За доблестный труд в ознаменование 100-летия со дня рождения Владимира Ильича Ленина» (1970 г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Тридцать  лет победы в Великой Отечественной войне 1941-1945гг.» (1976 г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орок  лет победы в Великой Отечественной войне1941-1945гг.»(1986 г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60 лет Вооруженных сил СССР»(1978г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ден «Отечественной войн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епени» (1985 г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70 лет Вооруженных сил СССР»(1988г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Рисунок 3" descr="IMG_5691.JPG"/>
          <p:cNvPicPr/>
          <p:nvPr/>
        </p:nvPicPr>
        <p:blipFill>
          <a:blip r:embed="rId1"/>
          <a:stretch/>
        </p:blipFill>
        <p:spPr>
          <a:xfrm>
            <a:off x="214200" y="571680"/>
            <a:ext cx="3749760" cy="500040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3"/>
          <p:cNvSpPr/>
          <p:nvPr/>
        </p:nvSpPr>
        <p:spPr>
          <a:xfrm>
            <a:off x="4143240" y="620640"/>
            <a:ext cx="4481640" cy="55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дедушка уме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8 июля 1994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Я его никогда не видел, но по рассказам папы, бабушки и прабабушки (ей сейчас  88 лет) я понял , что это был удивительный дедушка, отец, муж  и прос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ороший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ы всегда будем помнить 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ечная ему и таким же как он памя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3" descr="веч ог"/>
          <p:cNvPicPr/>
          <p:nvPr/>
        </p:nvPicPr>
        <p:blipFill>
          <a:blip r:embed="rId1"/>
          <a:stretch/>
        </p:blipFill>
        <p:spPr>
          <a:xfrm>
            <a:off x="0" y="3154320"/>
            <a:ext cx="4211640" cy="3703680"/>
          </a:xfrm>
          <a:prstGeom prst="rect">
            <a:avLst/>
          </a:prstGeom>
          <a:ln w="0">
            <a:noFill/>
          </a:ln>
        </p:spPr>
      </p:pic>
      <p:sp>
        <p:nvSpPr>
          <p:cNvPr id="522" name="WordArt 4"/>
          <p:cNvSpPr txBox="1"/>
          <p:nvPr/>
        </p:nvSpPr>
        <p:spPr>
          <a:xfrm>
            <a:off x="1908000" y="404640"/>
            <a:ext cx="4824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бед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23" name="iosif_kobzon_-_den_pobedi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4" name="WordArt 8"/>
          <p:cNvSpPr txBox="1"/>
          <p:nvPr/>
        </p:nvSpPr>
        <p:spPr>
          <a:xfrm>
            <a:off x="4427640" y="3500280"/>
            <a:ext cx="4465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 мая 1945 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5337" fill="hold"/>
                                        <p:tgtEl>
                                          <p:spTgt spid="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4" descr="Безымянный12345"/>
          <p:cNvPicPr/>
          <p:nvPr/>
        </p:nvPicPr>
        <p:blipFill>
          <a:blip r:embed="rId1"/>
          <a:stretch/>
        </p:blipFill>
        <p:spPr>
          <a:xfrm>
            <a:off x="826920" y="641520"/>
            <a:ext cx="741708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Знаете ли Вы, через какие события прошла наша Родина в сороковые годы прошлого века?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чему каждый год 9 Мая страна чтит своих павших героев минутой молчания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чему суровеют глаза и лица наших ветеранов при звуках песни «Вставай, страна огромная»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му мы должны быть благодарны за то, что живем на этой земле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284720" y="1197000"/>
            <a:ext cx="4330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87" name="WordArt 5" descr=""/>
          <p:cNvPicPr/>
          <p:nvPr/>
        </p:nvPicPr>
        <p:blipFill>
          <a:blip r:embed="rId1"/>
          <a:stretch/>
        </p:blipFill>
        <p:spPr>
          <a:xfrm>
            <a:off x="4700520" y="542880"/>
            <a:ext cx="4211640" cy="1189080"/>
          </a:xfrm>
          <a:prstGeom prst="rect">
            <a:avLst/>
          </a:prstGeom>
          <a:ln w="0">
            <a:noFill/>
          </a:ln>
        </p:spPr>
      </p:pic>
      <p:sp>
        <p:nvSpPr>
          <p:cNvPr id="488" name="WordArt 6"/>
          <p:cNvSpPr txBox="1"/>
          <p:nvPr/>
        </p:nvSpPr>
        <p:spPr>
          <a:xfrm>
            <a:off x="4932360" y="2565360"/>
            <a:ext cx="37800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дился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4  Апреля  1925 год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9" name="WordArt 6"/>
          <p:cNvSpPr txBox="1"/>
          <p:nvPr/>
        </p:nvSpPr>
        <p:spPr>
          <a:xfrm>
            <a:off x="5072040" y="4286160"/>
            <a:ext cx="3780000" cy="18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  Великой    Отечественной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йне  с  апреля 1944 года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  9 мая 1945 года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0" name="Рисунок 6" descr="IMG_5667.JPG"/>
          <p:cNvPicPr/>
          <p:nvPr/>
        </p:nvPicPr>
        <p:blipFill>
          <a:blip r:embed="rId2"/>
          <a:stretch/>
        </p:blipFill>
        <p:spPr>
          <a:xfrm>
            <a:off x="142920" y="285840"/>
            <a:ext cx="4508280" cy="6011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252720" y="3933720"/>
            <a:ext cx="6264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ступил воскресный день 22 июня 1941 года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чалась Великая Отечественная войн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92" name="Picture 3" descr="i"/>
          <p:cNvPicPr/>
          <p:nvPr/>
        </p:nvPicPr>
        <p:blipFill>
          <a:blip r:embed="rId1"/>
          <a:stretch/>
        </p:blipFill>
        <p:spPr>
          <a:xfrm>
            <a:off x="0" y="0"/>
            <a:ext cx="3924360" cy="24843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" descr="кегвлоел"/>
          <p:cNvPicPr/>
          <p:nvPr/>
        </p:nvPicPr>
        <p:blipFill>
          <a:blip r:embed="rId2"/>
          <a:stretch/>
        </p:blipFill>
        <p:spPr>
          <a:xfrm>
            <a:off x="5786280" y="928800"/>
            <a:ext cx="3059280" cy="4365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4500720" y="357120"/>
            <a:ext cx="442908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160"/>
              </a:lnSpc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 января 1943 го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зван на военную службу курсан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м военно-пехотного училищ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 января 1943 года принял прися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мае 1943 года направлен в 14 гвар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йскую бригаду (ВДВ) старшим пов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м (он очень хорошо готови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счету у него 47 боевых прыжков с парашю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142920" y="3786120"/>
            <a:ext cx="464328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160"/>
              </a:lnSpc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апреле 1944 года  переведен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45 гвардейский десантный пол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же старшим пова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дедушка дошел до Ве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Берлине воевать ему не пришлось , так как часть осталась дислоцироваться в городе Вена (Австр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родину после службу пришлось вернуться аж в марте 1949 г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Рисунок 10" descr="IMG_5695.JPG"/>
          <p:cNvPicPr/>
          <p:nvPr/>
        </p:nvPicPr>
        <p:blipFill>
          <a:blip r:embed="rId1"/>
          <a:stretch/>
        </p:blipFill>
        <p:spPr>
          <a:xfrm>
            <a:off x="4857840" y="2928960"/>
            <a:ext cx="3952800" cy="2965320"/>
          </a:xfrm>
          <a:prstGeom prst="rect">
            <a:avLst/>
          </a:prstGeom>
          <a:ln w="0">
            <a:noFill/>
          </a:ln>
        </p:spPr>
      </p:pic>
      <p:pic>
        <p:nvPicPr>
          <p:cNvPr id="497" name="Рисунок 12" descr="IMG_5670.JPG"/>
          <p:cNvPicPr/>
          <p:nvPr/>
        </p:nvPicPr>
        <p:blipFill>
          <a:blip r:embed="rId2"/>
          <a:stretch/>
        </p:blipFill>
        <p:spPr>
          <a:xfrm>
            <a:off x="214200" y="285840"/>
            <a:ext cx="4000680" cy="314316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3"/>
          <p:cNvSpPr/>
          <p:nvPr/>
        </p:nvSpPr>
        <p:spPr>
          <a:xfrm>
            <a:off x="287280" y="3097080"/>
            <a:ext cx="385452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ahoma"/>
              </a:rPr>
              <a:t>Прадедушка на фото слева (от него 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ahoma"/>
              </a:rPr>
              <a:t>многом зависел боевой дух и настроение боевых товарищей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Рисунок 6" descr="IMG_5674.JPG"/>
          <p:cNvPicPr/>
          <p:nvPr/>
        </p:nvPicPr>
        <p:blipFill>
          <a:blip r:embed="rId1"/>
          <a:stretch/>
        </p:blipFill>
        <p:spPr>
          <a:xfrm rot="21316800">
            <a:off x="120600" y="45360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7" descr="IMG_5671.JPG"/>
          <p:cNvPicPr/>
          <p:nvPr/>
        </p:nvPicPr>
        <p:blipFill>
          <a:blip r:embed="rId2"/>
          <a:stretch/>
        </p:blipFill>
        <p:spPr>
          <a:xfrm>
            <a:off x="468360" y="3500280"/>
            <a:ext cx="2106720" cy="281016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11" descr="IMG_5675.JPG"/>
          <p:cNvPicPr/>
          <p:nvPr/>
        </p:nvPicPr>
        <p:blipFill>
          <a:blip r:embed="rId3"/>
          <a:stretch/>
        </p:blipFill>
        <p:spPr>
          <a:xfrm rot="437400">
            <a:off x="5295960" y="3941280"/>
            <a:ext cx="2798640" cy="2100240"/>
          </a:xfrm>
          <a:prstGeom prst="rect">
            <a:avLst/>
          </a:prstGeom>
          <a:ln w="0">
            <a:noFill/>
          </a:ln>
        </p:spPr>
      </p:pic>
      <p:pic>
        <p:nvPicPr>
          <p:cNvPr id="502" name="Рисунок 12" descr="IMG_5678.JPG"/>
          <p:cNvPicPr/>
          <p:nvPr/>
        </p:nvPicPr>
        <p:blipFill>
          <a:blip r:embed="rId4"/>
          <a:stretch/>
        </p:blipFill>
        <p:spPr>
          <a:xfrm>
            <a:off x="3003480" y="42552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14" descr="IMG_5683.JPG"/>
          <p:cNvPicPr/>
          <p:nvPr/>
        </p:nvPicPr>
        <p:blipFill>
          <a:blip r:embed="rId5"/>
          <a:stretch/>
        </p:blipFill>
        <p:spPr>
          <a:xfrm>
            <a:off x="7093080" y="746280"/>
            <a:ext cx="1753920" cy="233820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1" descr=""/>
          <p:cNvPicPr/>
          <p:nvPr/>
        </p:nvPicPr>
        <p:blipFill>
          <a:blip r:embed="rId6"/>
          <a:stretch/>
        </p:blipFill>
        <p:spPr>
          <a:xfrm rot="6082200">
            <a:off x="2088360" y="3629520"/>
            <a:ext cx="2998800" cy="224784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3" descr=""/>
          <p:cNvPicPr/>
          <p:nvPr/>
        </p:nvPicPr>
        <p:blipFill>
          <a:blip r:embed="rId7"/>
          <a:stretch/>
        </p:blipFill>
        <p:spPr>
          <a:xfrm rot="4932600">
            <a:off x="4991400" y="987840"/>
            <a:ext cx="2471760" cy="1854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Рисунок 3" descr="IMG_5680.JPG"/>
          <p:cNvPicPr/>
          <p:nvPr/>
        </p:nvPicPr>
        <p:blipFill>
          <a:blip r:embed="rId1"/>
          <a:stretch/>
        </p:blipFill>
        <p:spPr>
          <a:xfrm rot="5613000">
            <a:off x="138600" y="800640"/>
            <a:ext cx="3272040" cy="245448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4" descr="IMG_5681.JPG"/>
          <p:cNvPicPr/>
          <p:nvPr/>
        </p:nvPicPr>
        <p:blipFill>
          <a:blip r:embed="rId2"/>
          <a:stretch/>
        </p:blipFill>
        <p:spPr>
          <a:xfrm rot="5201400">
            <a:off x="5556960" y="872280"/>
            <a:ext cx="3547800" cy="266040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5" descr="IMG_5676.JPG"/>
          <p:cNvPicPr/>
          <p:nvPr/>
        </p:nvPicPr>
        <p:blipFill>
          <a:blip r:embed="rId3"/>
          <a:stretch/>
        </p:blipFill>
        <p:spPr>
          <a:xfrm>
            <a:off x="3357720" y="1785960"/>
            <a:ext cx="2214360" cy="295272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3"/>
          <p:cNvSpPr/>
          <p:nvPr/>
        </p:nvSpPr>
        <p:spPr>
          <a:xfrm>
            <a:off x="785880" y="4857840"/>
            <a:ext cx="6696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то товарищи прадедушки с которыми ему довелось воевать  и сдружи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Рисунок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213440" cy="561636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3"/>
          <p:cNvSpPr/>
          <p:nvPr/>
        </p:nvSpPr>
        <p:spPr>
          <a:xfrm>
            <a:off x="4392720" y="620640"/>
            <a:ext cx="42321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рошо посидеть с гитар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дедушка умел не только своим умением готовить поднять настроение бойцов, но и его игра на гитаре никого не оставляла равнодуш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н и в мирное время умел поднять настро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Рисунок 4" descr="IMG_5668.JPG"/>
          <p:cNvPicPr/>
          <p:nvPr/>
        </p:nvPicPr>
        <p:blipFill>
          <a:blip r:embed="rId1"/>
          <a:stretch/>
        </p:blipFill>
        <p:spPr>
          <a:xfrm>
            <a:off x="571680" y="214200"/>
            <a:ext cx="4214520" cy="561996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3"/>
          <p:cNvSpPr/>
          <p:nvPr/>
        </p:nvSpPr>
        <p:spPr>
          <a:xfrm>
            <a:off x="4572000" y="1268280"/>
            <a:ext cx="43578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687920" y="1357200"/>
            <a:ext cx="44560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 своим талантом готовить он поразил мою прабабушку которая стала его женой и с которой они прожили счастливую жиз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8:53:57Z</dcterms:created>
  <dc:creator>Сергей</dc:creator>
  <dc:description/>
  <dc:language>en-US</dc:language>
  <cp:lastModifiedBy>Сергей</cp:lastModifiedBy>
  <cp:lastPrinted>2012-09-18T06:45:19Z</cp:lastPrinted>
  <dcterms:modified xsi:type="dcterms:W3CDTF">2012-09-26T16:35:25Z</dcterms:modified>
  <cp:revision>43</cp:revision>
  <dc:subject/>
  <dc:title>Слайд 1</dc:title>
</cp:coreProperties>
</file>