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18D-CB8F-4960-AC34-A041130A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948-486D-4B04-AEE9-7C93694E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2B3-B495-4506-9A52-1CC7B34E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280-20EC-44C2-A1CA-C85C30C0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EFB-03F9-404C-B7DB-7B8A89A3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ED0-8BF3-4DBF-88D0-4A55D3BD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A9F-740A-4806-8E2A-1DB6E006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680-F9C6-4CEB-A11F-3AD1CA82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440-3D25-42BD-A619-E4414E3B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ABC-32EA-4D18-A544-1DEEE4D1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E50-B1D2-4BCE-8FB8-C88458A5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D0B-A339-4769-A364-A8B488D5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61E6-6AD8-41C7-BB47-D000005167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1989000"/>
            <a:ext cx="71532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равила педагогической гигиены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 9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Высшим проявлением педагогической успешности является улыбка на лицах дете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10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Помни: хорошие педагоги живут долго и почти никогда не болеют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 11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Отдай школе все, а выйдя из стен школы , начни новую жизнь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12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Постарайся всегда быть здоровой, даже если в это кто-то не поверит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13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Помни: если твой голос становится угрожающе хриплым, значит ты делаешь что-то не т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 14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Одевайся так, чтобы никто не сказал тебе вслед: « Вон учительница пош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15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Хорошо, если поздним вечером, когда ты вспоминаешь своих учеников , лицо твое озаряется улыбко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 1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Monotype Corsiva"/>
              </a:rPr>
              <a:t>Пришел в школу- сделай умное и благородное лиц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 2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Деньги и педагогика малосовместим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3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447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Не заходи в душу к детям, если тебя об этом не просил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4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Иди на урок с радостью, выходи с урока с приятной усталостью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5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Приходить на урок следует настолько подготовленной, чтобы знать точно: для чего ты пришла, куда пришла, что будешь делать и будет ли это хорошо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6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Люби кого-нибудь помимо школы, и тогда у тебя будет все в порядк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7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Если к тебе пришли на урок, вспомни, что ты актриса, ты лучший педагог страны, ты самый счастливый человек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Monotype Corsiva"/>
              </a:rPr>
              <a:t>Правила №8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Говори родителям всегда самую лучшую правду, которую ты знаешь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50:07Z</dcterms:created>
  <dc:creator>User</dc:creator>
  <dc:description/>
  <dc:language>en-US</dc:language>
  <cp:lastModifiedBy>гульна</cp:lastModifiedBy>
  <dcterms:modified xsi:type="dcterms:W3CDTF">2011-12-17T05:34:19Z</dcterms:modified>
  <cp:revision>2</cp:revision>
  <dc:subject/>
  <dc:title>Слайд 1</dc:title>
</cp:coreProperties>
</file>