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003-9B72-4DC5-B0AB-68426F70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C10-5DCD-4693-AE30-9A675A4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EC0-92B4-4CCD-B539-DACBC611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8CF-10DB-40C9-90A0-69A8035D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418-6A4F-40D6-96F8-CAF3846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B2B-8D0F-451B-9B81-8E05734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C5F-4C6E-4F61-87FA-8ADF382A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45B-A9B9-4D21-B4E0-2E1166F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839-2EAD-4804-81F3-27B7BDC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79F-A7E1-4E33-9339-CD8DF9C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BBB-F8A2-4FF3-889D-AB866E6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02B-9D72-4859-B4F2-D627DDB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58E-6574-4B54-A0C0-5B278DE1B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6504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ODYSSEU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AS A GREEK HERO THE MONST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ITH SIX HEADS LIVED IN A CA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28440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HE MONST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ITH SIX HEA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TTACHED AN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TE THEM HE CAME FROM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972880" y="764640"/>
            <a:ext cx="22022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ODYSSEEU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AS IN TH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EA TEN DAYS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ALIPSO INVITED ODYSEUS TO HER H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94760" y="334800"/>
            <a:ext cx="9533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HE TEAM HAV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JUST PASSE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HE CAVE THER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AS A TERRIB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TOR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3:41:29Z</dcterms:created>
  <dc:creator>Владелец</dc:creator>
  <dc:description/>
  <dc:language>en-US</dc:language>
  <cp:lastModifiedBy>Владелец</cp:lastModifiedBy>
  <dcterms:modified xsi:type="dcterms:W3CDTF">2011-01-13T13:48:55Z</dcterms:modified>
  <cp:revision>2</cp:revision>
  <dc:subject/>
  <dc:title>Слайд 1</dc:title>
</cp:coreProperties>
</file>