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1F6-5F83-411F-8317-BDF36B43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275-5C8E-402C-9983-5931AD2E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06A-0FC6-4AD1-A542-7B7C6D1B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7E9-BF1E-4020-AB00-09930FAB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5753-7AEC-47CE-9DA1-600FC354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5234-EFFA-49D4-BBE4-BF060D65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7562-13E7-411C-844C-2E1E5FAF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D521-CCE7-4650-AC85-110B3351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14D7-8DFC-4443-9238-5FC3A465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0FEA-661A-4F4F-9817-2B0B21A1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7A97-D30C-4998-AD57-4723DD29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556-72EC-484D-982F-0331311B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A1A8-D74A-41AE-AC94-DB473F31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6082-4B41-4DD3-8603-003A1385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1CCB-7D37-429D-89A9-C4DF46B5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CF12-1BC8-45F1-AD9C-639FC87A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1442-9C56-40BA-8325-EDE74E24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37FC-2334-4FC8-983B-91358765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10A5-FE17-4BE8-8872-78FDF8B8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3DBE-894E-4A09-A5AE-9AF86B97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7731-7E9A-4160-9F5E-D476A460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9A04-661B-457E-A2C6-D0569C56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D9F-16BE-4E2A-806C-426A2AA2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4C9E-55B3-4E40-88DE-ED7A4B0D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0EB6-C0A0-47C1-AEB3-E04527E1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148DB-AABA-4D20-A54F-CA7D8C1C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8C63-37EC-45F7-91D2-1EAFB199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318AD-F309-4DEA-9F59-56D0076C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97EB-F9A7-41DD-89F7-97DADC47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FA0F-DFFD-4137-BD5B-22ADFD51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E088-8F81-488F-8477-1FB9C1B7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BDFA-AB2F-4625-85C0-AF402424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ABEC-9002-45A5-959C-876B7047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924-C437-4921-B3C9-9F0DF23C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22AC-EC8D-4F98-AFCD-3D8CB749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4B9EE-D56C-4306-9A5D-0E7CE3ED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EF98-9344-4367-8F09-6E30EC33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2514-8825-47FE-B206-46FDFA05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16627-67B2-4D96-BE7F-A94BFE27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D758F-756E-45F3-B35A-9F0432FA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46E79-F0EF-499D-8C5E-986AC1C3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9E2C3-AE60-4841-847C-97B9913B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0FE8-F42D-42D9-90E0-0BC18499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674-C6E4-48E7-BDB6-8DAC050F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F29-EF84-4C8E-B8D7-0284C89C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246-07D8-45A0-BEBB-14FF5A1B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F82-BB61-4F53-9E98-C6CBC415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A62-D5E6-4DDE-A616-6503DFED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DBA3-5F78-46D7-AA0F-BF755CD15D6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291F-D11B-4C69-BEE6-0F98B3507DF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4A37-83E8-41E6-B25F-CC538859BF1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ABB8-0E44-4B75-80ED-49829ABB50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экономики: Краюшкина О.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Экономическая модель являе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иллюстрацией экономических принцип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)объяснением того, как функционирует экономик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)инструментом для экономических прогноз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)идеальным типом экономики, который необходим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стич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)абсолютно верным отражением конкретной эконо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ической ситу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преде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номика – это наука, изучающая выбор людей эффективного использования ограниченных ресурсов в производстве материальных благ для максимального удовлетворения потребностей люд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Функции экономической теор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Эмпирическа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Теоретическа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бразовательна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рактическа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етоды экономического исследов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блюдение и сбор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сперимен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од научных абстракц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ализ и синте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стемный комплексный подх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дукция и дедукц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торический и логический мето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фический мет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ные вопросы экономи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то производит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ак производит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Для кого производит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с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I. Какие из следующих утверждений верны, а какие — нет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 Объектом изучения макроэкономики является регулирование денежного обраще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9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казать о том, что уровень безработицы в этом месяце составляет 7,8%, — значит высказать нормативное сужде­ние о макроэкономическом поняти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. Последствия монополизации экономики являются объ­ектом изучения микроэкономик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4. Фундаментальной экономической проблемой является определение объема продукции, которую необходимо производит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5. Экономическая наука занимается изучением мето­дов, способов использования ограниченных ресурсов для наиболее полного удовлетворения потребностей люде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6. Нормативные утверждения, как правило, спорн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7. Используя экономические модели, можно прогнозиро­вать будущее развитие экономических процесс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ние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 Экономическая теория изучает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 законы экономического развития; 2) бухгалтерский учет; 3) экономическую политику государства; 4) поведение потребител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)верны все утвержд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)верны 1) и 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)верно только 1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)верны 1), 3) и 4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В какой из вариантов включены фундаментальные вопросы экономик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) Кто производит, как производит, что потребляет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)Что производится, как производится, кем потреб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яет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)Как производится, кем производится, как потреб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яет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)Кто производит, что потребляется, кем потребля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т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ние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Укажите, какие из приведенных положений являются правильным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 следующих случаях речь идет о проблемах микроэкономики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)фирме удалось использовать для производства вместо натурального сырья искусственное, и затратына производство снизилис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)выпавший снег и наступившие холода привели к гибели кофейных деревьев и росту цен на кофе намировых рынка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)снижение учетной ставки Центрального банка сделало кредит более доступным, и в экономике наметилось оживл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)директор школы никак не мог принять решение: истратить ли выделенные школе деньги на ремонт столовой или на покупку нового оборудования для кабинета хим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)рост цен на энергоресурсы вызвал новую волну инфляционного роста цен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)расходы на рекламу увеличили число приверженцев потребления маргарина вместо животного масл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ж)экономический кризис привел к падению спроса на мебель и росту безработицы среди работников мебельных фабри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 Приведенные утверждения являются отражением позитивной экономики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а)рост спроса на цветы в канун 8 Марта приводит к повышению цен на ни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)отсутствие контроля государства за деятельностью химических комбинатов может привести к загрязнению притока Волги, протекающего по территор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бласти, где работают комбинаты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) для того чтобы страна не попала в экономическую зависимость от других, более развитых стран, следует наладить на ее территории производство всей необходимой продукци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г) снижение поступления налогов в бюджет государства приводит к возникновению бюджетного дефицит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) для уменьшения дефицита государственного бюджета необходимо увеличить ставку налога на прибыль предприят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е) если бы цена на женскую обувь повысилась на 80%, объем продаж снизился бы вдво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ж)переход к рыночной экономике следует начинать с приватизации государственных предприяти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3-02-27T11:40:26Z</dcterms:modified>
  <cp:revision>7</cp:revision>
  <dc:subject/>
  <dc:title>Предмет и метод экономической теории</dc:title>
</cp:coreProperties>
</file>