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90160" y="878040"/>
            <a:ext cx="44737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Users/&#1075;&#1091;&#1083;&#1100;&#1085;&#1072;/Desktop/&#1084;&#1072;&#1090;&#1077;&#1090;&#1080;&#1082;&#1072;%20&#1092;&#1091;&#1085;&#1082;&#1094;&#1080;&#1103;&#1083;&#1101;&#1088;/2%20&#1092;&#1091;&#1085;&#1082;&#1094;&#1080;&#1103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giperb"/>
          <p:cNvPicPr/>
          <p:nvPr/>
        </p:nvPicPr>
        <p:blipFill>
          <a:blip r:embed="rId1"/>
          <a:srcRect l="25168" t="5557" r="25168" b="10802"/>
          <a:stretch/>
        </p:blipFill>
        <p:spPr>
          <a:xfrm>
            <a:off x="539640" y="549360"/>
            <a:ext cx="7991640" cy="564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kub"/>
          <p:cNvPicPr/>
          <p:nvPr/>
        </p:nvPicPr>
        <p:blipFill>
          <a:blip r:embed="rId2"/>
          <a:srcRect l="20305" t="0" r="27968" b="0"/>
          <a:stretch/>
        </p:blipFill>
        <p:spPr>
          <a:xfrm>
            <a:off x="468360" y="189000"/>
            <a:ext cx="8137440" cy="640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kvadr"/>
          <p:cNvPicPr/>
          <p:nvPr/>
        </p:nvPicPr>
        <p:blipFill>
          <a:blip r:embed="rId3"/>
          <a:srcRect l="24908" t="0" r="33398" b="0"/>
          <a:stretch/>
        </p:blipFill>
        <p:spPr>
          <a:xfrm>
            <a:off x="468360" y="189000"/>
            <a:ext cx="8064360" cy="633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pocas"/>
          <p:cNvPicPr/>
          <p:nvPr/>
        </p:nvPicPr>
        <p:blipFill>
          <a:blip r:embed="rId4"/>
          <a:srcRect l="0" t="0" r="33634" b="0"/>
          <a:stretch/>
        </p:blipFill>
        <p:spPr>
          <a:xfrm>
            <a:off x="0" y="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in"/>
          <p:cNvPicPr/>
          <p:nvPr/>
        </p:nvPicPr>
        <p:blipFill>
          <a:blip r:embed="rId5"/>
          <a:srcRect l="13319" t="0" r="20313" b="0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tg"/>
          <p:cNvPicPr/>
          <p:nvPr/>
        </p:nvPicPr>
        <p:blipFill>
          <a:blip r:embed="rId6"/>
          <a:srcRect l="18442" t="0" r="27708" b="0"/>
          <a:stretch/>
        </p:blipFill>
        <p:spPr>
          <a:xfrm>
            <a:off x="0" y="-936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553000" cy="414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296040" cy="4303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843120" y="89856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09280" y="78408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520" y="744480"/>
            <a:ext cx="780876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Рассмотрим решение 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 на построение графиков функций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Управляющая кнопка: в начало 2">
            <a:hlinkClick r:id="rId1"/>
          </p:cNvPr>
          <p:cNvSpPr/>
          <p:nvPr/>
        </p:nvSpPr>
        <p:spPr>
          <a:xfrm>
            <a:off x="1835280" y="4941720"/>
            <a:ext cx="3241440" cy="790920"/>
          </a:xfrm>
          <a:custGeom>
            <a:avLst/>
            <a:gdLst>
              <a:gd name="textAreaLeft" fmla="*/ 51120 w 3241440"/>
              <a:gd name="textAreaRight" fmla="*/ 3190320 w 3241440"/>
              <a:gd name="textAreaTop" fmla="*/ 51120 h 790920"/>
              <a:gd name="textAreaBottom" fmla="*/ 739800 h 790920"/>
            </a:gdLst>
            <a:ahLst/>
            <a:rect l="textAreaLeft" t="textAreaTop" r="textAreaRight" b="textAreaBottom"/>
            <a:pathLst>
              <a:path w="88493" h="21600">
                <a:moveTo>
                  <a:pt x="0" y="0"/>
                </a:moveTo>
                <a:lnTo>
                  <a:pt x="88493" y="0"/>
                </a:lnTo>
                <a:lnTo>
                  <a:pt x="88493" y="21600"/>
                </a:lnTo>
                <a:lnTo>
                  <a:pt x="0" y="21600"/>
                </a:lnTo>
                <a:close/>
              </a:path>
              <a:path fill="lightenLess" w="88493" h="21600">
                <a:moveTo>
                  <a:pt x="0" y="0"/>
                </a:moveTo>
                <a:lnTo>
                  <a:pt x="88493" y="0"/>
                </a:lnTo>
                <a:lnTo>
                  <a:pt x="87093" y="1400"/>
                </a:lnTo>
                <a:lnTo>
                  <a:pt x="1400" y="1400"/>
                </a:lnTo>
                <a:close/>
              </a:path>
              <a:path fill="darken" w="88493" h="21600">
                <a:moveTo>
                  <a:pt x="88493" y="0"/>
                </a:moveTo>
                <a:lnTo>
                  <a:pt x="88493" y="21600"/>
                </a:lnTo>
                <a:lnTo>
                  <a:pt x="87093" y="20200"/>
                </a:lnTo>
                <a:lnTo>
                  <a:pt x="87093" y="1400"/>
                </a:lnTo>
                <a:close/>
              </a:path>
              <a:path fill="darkenLess" w="88493" h="21600">
                <a:moveTo>
                  <a:pt x="8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93" y="20200"/>
                </a:lnTo>
                <a:close/>
              </a:path>
              <a:path fill="lighten" w="8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93" h="21600">
                <a:moveTo>
                  <a:pt x="40748" y="10800"/>
                </a:moveTo>
                <a:lnTo>
                  <a:pt x="51253" y="3794"/>
                </a:lnTo>
                <a:lnTo>
                  <a:pt x="51253" y="17806"/>
                </a:lnTo>
                <a:close/>
              </a:path>
              <a:path fill="darken" w="88493" h="21600">
                <a:moveTo>
                  <a:pt x="37240" y="3794"/>
                </a:moveTo>
                <a:lnTo>
                  <a:pt x="38903" y="3794"/>
                </a:lnTo>
                <a:lnTo>
                  <a:pt x="38903" y="17806"/>
                </a:lnTo>
                <a:lnTo>
                  <a:pt x="37240" y="17806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520" y="796680"/>
            <a:ext cx="780876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реобразования 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графиков функций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524640" cy="421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6705720" cy="4286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260360" y="720720"/>
            <a:ext cx="111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=k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=kx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=kx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524560" cy="362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6886800" cy="36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296040" cy="361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258920" y="692280"/>
            <a:ext cx="648000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124680" cy="30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88644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58120" cy="401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629480" cy="40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86440" cy="42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04844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5754600" cy="425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12468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</cp:lastModifiedBy>
  <dcterms:modified xsi:type="dcterms:W3CDTF">2012-09-10T05:05:24Z</dcterms:modified>
  <cp:revision>13</cp:revision>
  <dc:subject/>
  <dc:title>PowerPoint Presentation</dc:title>
</cp:coreProperties>
</file>