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98D-F982-43D0-98D5-7505042E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A39-294A-4166-9BE4-B31AEA0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E81-F83B-460E-B1A2-2C6C12B7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F3C-D656-4F73-A25B-85BAA402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67F8-C4C9-4EAF-B8C4-AEB694C5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EAC4-1F8F-43FC-A052-2E750B39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BA6E-B180-43F7-9230-55281DD7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4345-ADFB-4218-BB35-C46027B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0A4-F13F-4ED1-9ACF-4E587FF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6FC2-E0AB-43FC-AC4F-42DE2B58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864-E82F-4FCB-9A16-9B5CD8DF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42A-2B60-42F6-A156-34BCC572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B5CC-8431-4E01-89F2-9309192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0779-A6E5-493B-A57E-A4042A16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0B59-3EFB-4E78-A8AE-510BFDF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9120-4FFF-4EAF-8308-DC32EF02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4511-DE7B-476F-A040-7E568276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73D-DDFE-4518-B065-0FAE8C6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623-A64E-4ABA-A0FF-4CB0ED5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DB2-C397-4B7E-9303-436AFC94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339-43BB-4E28-A44E-B0951358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8A3-EDD9-496E-97D9-31983B0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FC8-29F5-44C5-94B3-C15B1245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98B-1DFD-4524-BD15-CFB3D60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053-186E-478C-8DBF-8ED263E02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095-9880-45F9-98B3-B2BDFBAC5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. +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m/is/are + Ving+_ _ _ + now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79912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6. They (watch / not) TV every da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n’t w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Mary (dance) at the mome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 d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d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d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. Three ducks (get up) early every da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getting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ge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. +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m/is/are + not + Ving+_ _ _ + now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son (swim)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ducks (fly)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p and Dale (sleep)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phin (eat)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use (laugh)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ducks (dance)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son (laugh)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use (sleep)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m/Is/Are +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.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+ Ving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_ _ _ + now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son (fly)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ducks (eat)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p and Dale (sleep) now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phin (dance) now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use (laugh) now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ducks (sleep)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lphin (swim)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use (dance) now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I do my homework every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I did my homework yester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I will do my homework tomorr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I am doing my homework now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. We (watch) TV at the mome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w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. Kate (play) with her cat every da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3. They (do) their homework yesterda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He (go) shopping tomorrow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She (eat / not) now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not 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’t 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9:34:49Z</dcterms:created>
  <dc:creator>Admin</dc:creator>
  <dc:description/>
  <dc:language>en-US</dc:language>
  <cp:lastModifiedBy>Admin</cp:lastModifiedBy>
  <dcterms:modified xsi:type="dcterms:W3CDTF">2012-02-27T22:19:32Z</dcterms:modified>
  <cp:revision>15</cp:revision>
  <dc:subject/>
  <dc:title>Слайд 1</dc:title>
</cp:coreProperties>
</file>