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CA9-A7F9-47E1-B54D-25489BD3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F67-9DA1-49AC-B762-0E63F266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0C9-B3B9-4D63-8800-EC220666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BB0-A8FD-4A71-A384-0BCE2E09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F2B-71F5-4A8E-84C0-881BF30A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B42-DE58-4757-9E0B-41661573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178-880D-41D6-A680-327FF194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198-4D06-45F0-A881-2CEAF83A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04D9-0096-4CBD-B9B4-78BD36B0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950-EB86-4026-B876-2CCB8A49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613A-188D-44D5-8110-9880C078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BEA-CFFC-4F05-B8F4-1D2756B4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1706-289D-4A79-B87E-88C2F1E161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7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20.png"/><Relationship Id="rId29" Type="http://schemas.openxmlformats.org/officeDocument/2006/relationships/image" Target="../media/image31.png"/><Relationship Id="rId30" Type="http://schemas.openxmlformats.org/officeDocument/2006/relationships/image" Target="../media/image2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390600" y="378000"/>
            <a:ext cx="8345520" cy="2761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31920" y="4076640"/>
            <a:ext cx="859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Галиева Гульназ Муллагалиевна , учитель математики и информат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БОУ «Изминская средняя общеобразовательная шко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абинского муниципального района Республики Татарстан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1"/>
          <p:cNvSpPr/>
          <p:nvPr/>
        </p:nvSpPr>
        <p:spPr>
          <a:xfrm>
            <a:off x="3082320" y="285840"/>
            <a:ext cx="1937880" cy="581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"/>
          <p:cNvSpPr/>
          <p:nvPr/>
        </p:nvSpPr>
        <p:spPr>
          <a:xfrm>
            <a:off x="724320" y="1214280"/>
            <a:ext cx="2000520" cy="520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t= - 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3"/>
          <p:cNvSpPr/>
          <p:nvPr/>
        </p:nvSpPr>
        <p:spPr>
          <a:xfrm>
            <a:off x="5509440" y="1214280"/>
            <a:ext cx="1735200" cy="520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int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1079640" y="3714840"/>
            <a:ext cx="1596600" cy="520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tgt =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Группа 8" descr=""/>
          <p:cNvPicPr/>
          <p:nvPr/>
        </p:nvPicPr>
        <p:blipFill>
          <a:blip r:embed="rId1"/>
          <a:stretch/>
        </p:blipFill>
        <p:spPr>
          <a:xfrm>
            <a:off x="5261040" y="3627360"/>
            <a:ext cx="2255760" cy="6825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10"/>
          <p:cNvSpPr/>
          <p:nvPr/>
        </p:nvSpPr>
        <p:spPr>
          <a:xfrm>
            <a:off x="442800" y="2071800"/>
            <a:ext cx="348192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 ±arccos(-1/2)+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 ±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+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1"/>
          <p:cNvSpPr/>
          <p:nvPr/>
        </p:nvSpPr>
        <p:spPr>
          <a:xfrm>
            <a:off x="5370120" y="2071800"/>
            <a:ext cx="236772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й случа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4"/>
          <p:cNvSpPr/>
          <p:nvPr/>
        </p:nvSpPr>
        <p:spPr>
          <a:xfrm>
            <a:off x="653760" y="4572000"/>
            <a:ext cx="252468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arctg1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+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Группа 20"/>
          <p:cNvGrpSpPr/>
          <p:nvPr/>
        </p:nvGrpSpPr>
        <p:grpSpPr>
          <a:xfrm>
            <a:off x="5013720" y="4572000"/>
            <a:ext cx="3169440" cy="825480"/>
            <a:chOff x="5013720" y="4572000"/>
            <a:chExt cx="3169440" cy="825480"/>
          </a:xfrm>
        </p:grpSpPr>
        <p:sp>
          <p:nvSpPr>
            <p:cNvPr id="427" name="TextBox 15"/>
            <p:cNvSpPr/>
            <p:nvPr/>
          </p:nvSpPr>
          <p:spPr>
            <a:xfrm>
              <a:off x="5013720" y="4572000"/>
              <a:ext cx="3169440" cy="82548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 = arcctg(      )+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, k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Є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 = 5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6+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, k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Є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Picture 5" descr=""/>
            <p:cNvPicPr/>
            <p:nvPr/>
          </p:nvPicPr>
          <p:blipFill>
            <a:blip r:embed="rId2"/>
            <a:stretch/>
          </p:blipFill>
          <p:spPr>
            <a:xfrm>
              <a:off x="6357960" y="4714560"/>
              <a:ext cx="399960" cy="304560"/>
            </a:xfrm>
            <a:prstGeom prst="rect">
              <a:avLst/>
            </a:prstGeom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Группа 44"/>
          <p:cNvGrpSpPr/>
          <p:nvPr/>
        </p:nvGrpSpPr>
        <p:grpSpPr>
          <a:xfrm>
            <a:off x="1000080" y="142920"/>
            <a:ext cx="7143840" cy="6071760"/>
            <a:chOff x="1000080" y="142920"/>
            <a:chExt cx="7143840" cy="6071760"/>
          </a:xfrm>
        </p:grpSpPr>
        <p:grpSp>
          <p:nvGrpSpPr>
            <p:cNvPr id="430" name="Группа 38"/>
            <p:cNvGrpSpPr/>
            <p:nvPr/>
          </p:nvGrpSpPr>
          <p:grpSpPr>
            <a:xfrm>
              <a:off x="1071000" y="214200"/>
              <a:ext cx="7072920" cy="6000480"/>
              <a:chOff x="1071000" y="214200"/>
              <a:chExt cx="7072920" cy="6000480"/>
            </a:xfrm>
          </p:grpSpPr>
          <p:sp>
            <p:nvSpPr>
              <p:cNvPr id="431" name="TextBox 21"/>
              <p:cNvSpPr/>
              <p:nvPr/>
            </p:nvSpPr>
            <p:spPr>
              <a:xfrm>
                <a:off x="4357440" y="214200"/>
                <a:ext cx="357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Группа 37"/>
              <p:cNvGrpSpPr/>
              <p:nvPr/>
            </p:nvGrpSpPr>
            <p:grpSpPr>
              <a:xfrm>
                <a:off x="1071000" y="284760"/>
                <a:ext cx="7072920" cy="5929920"/>
                <a:chOff x="1071000" y="284760"/>
                <a:chExt cx="7072920" cy="5929920"/>
              </a:xfrm>
            </p:grpSpPr>
            <p:cxnSp>
              <p:nvCxnSpPr>
                <p:cNvPr id="433" name="Прямая со стрелкой 2"/>
                <p:cNvCxnSpPr/>
                <p:nvPr/>
              </p:nvCxnSpPr>
              <p:spPr>
                <a:xfrm>
                  <a:off x="1071000" y="3429000"/>
                  <a:ext cx="6787800" cy="2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34" name="Прямая со стрелкой 4"/>
                <p:cNvCxnSpPr/>
                <p:nvPr/>
              </p:nvCxnSpPr>
              <p:spPr>
                <a:xfrm flipH="1" flipV="1">
                  <a:off x="4285800" y="284760"/>
                  <a:ext cx="72000" cy="59302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435" name="Овал 5"/>
                <p:cNvSpPr/>
                <p:nvPr/>
              </p:nvSpPr>
              <p:spPr>
                <a:xfrm>
                  <a:off x="2785680" y="1928520"/>
                  <a:ext cx="3143160" cy="30718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Прямая соединительная линия 7"/>
                <p:cNvSpPr/>
                <p:nvPr/>
              </p:nvSpPr>
              <p:spPr>
                <a:xfrm>
                  <a:off x="1571400" y="2643120"/>
                  <a:ext cx="5500800" cy="14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Овал 9"/>
                <p:cNvSpPr/>
                <p:nvPr/>
              </p:nvSpPr>
              <p:spPr>
                <a:xfrm>
                  <a:off x="5572080" y="2571480"/>
                  <a:ext cx="142560" cy="142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Овал 10"/>
                <p:cNvSpPr/>
                <p:nvPr/>
              </p:nvSpPr>
              <p:spPr>
                <a:xfrm>
                  <a:off x="3000240" y="2571480"/>
                  <a:ext cx="142560" cy="142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Прямая соединительная линия 15"/>
                <p:cNvSpPr/>
                <p:nvPr/>
              </p:nvSpPr>
              <p:spPr>
                <a:xfrm flipH="1" flipV="1">
                  <a:off x="3000240" y="2642760"/>
                  <a:ext cx="1357200" cy="78588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Прямая соединительная линия 17"/>
                <p:cNvSpPr/>
                <p:nvPr/>
              </p:nvSpPr>
              <p:spPr>
                <a:xfrm flipV="1">
                  <a:off x="4357440" y="2693520"/>
                  <a:ext cx="1235160" cy="73476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TextBox 20"/>
                <p:cNvSpPr/>
                <p:nvPr/>
              </p:nvSpPr>
              <p:spPr>
                <a:xfrm>
                  <a:off x="7643880" y="3429000"/>
                  <a:ext cx="500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х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TextBox 23"/>
                <p:cNvSpPr/>
                <p:nvPr/>
              </p:nvSpPr>
              <p:spPr>
                <a:xfrm>
                  <a:off x="5643720" y="2071440"/>
                  <a:ext cx="785520" cy="52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TextBox 24"/>
                <p:cNvSpPr/>
                <p:nvPr/>
              </p:nvSpPr>
              <p:spPr>
                <a:xfrm>
                  <a:off x="2571480" y="2071440"/>
                  <a:ext cx="500040" cy="52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TextBox 25"/>
                <p:cNvSpPr/>
                <p:nvPr/>
              </p:nvSpPr>
              <p:spPr>
                <a:xfrm>
                  <a:off x="7072560" y="2285640"/>
                  <a:ext cx="785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У=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45" name="Object 2"/>
                    <p:cNvSpPr txBox="1"/>
                    <p:nvPr/>
                  </p:nvSpPr>
                  <p:spPr>
                    <a:xfrm>
                      <a:off x="7429680" y="2071440"/>
                      <a:ext cx="428400" cy="714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46" name="TextBox 27"/>
                <p:cNvSpPr/>
                <p:nvPr/>
              </p:nvSpPr>
              <p:spPr>
                <a:xfrm>
                  <a:off x="6000840" y="3500280"/>
                  <a:ext cx="57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Прямая соединительная линия 34"/>
                <p:cNvSpPr/>
                <p:nvPr/>
              </p:nvSpPr>
              <p:spPr>
                <a:xfrm flipV="1">
                  <a:off x="3070800" y="2377800"/>
                  <a:ext cx="174600" cy="19368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8" name="TextBox 42"/>
            <p:cNvSpPr/>
            <p:nvPr/>
          </p:nvSpPr>
          <p:spPr>
            <a:xfrm>
              <a:off x="1000080" y="2854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sin x &gt;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Object 3"/>
                <p:cNvSpPr txBox="1"/>
                <p:nvPr/>
              </p:nvSpPr>
              <p:spPr>
                <a:xfrm>
                  <a:off x="2000160" y="142920"/>
                  <a:ext cx="500040" cy="78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Группа 29"/>
          <p:cNvGrpSpPr/>
          <p:nvPr/>
        </p:nvGrpSpPr>
        <p:grpSpPr>
          <a:xfrm>
            <a:off x="1071720" y="285840"/>
            <a:ext cx="7072200" cy="6000480"/>
            <a:chOff x="1071720" y="285840"/>
            <a:chExt cx="7072200" cy="6000480"/>
          </a:xfrm>
        </p:grpSpPr>
        <p:grpSp>
          <p:nvGrpSpPr>
            <p:cNvPr id="451" name="Группа 28"/>
            <p:cNvGrpSpPr/>
            <p:nvPr/>
          </p:nvGrpSpPr>
          <p:grpSpPr>
            <a:xfrm>
              <a:off x="1071720" y="285840"/>
              <a:ext cx="7072200" cy="6000480"/>
              <a:chOff x="1071720" y="285840"/>
              <a:chExt cx="7072200" cy="6000480"/>
            </a:xfrm>
          </p:grpSpPr>
          <p:grpSp>
            <p:nvGrpSpPr>
              <p:cNvPr id="452" name="Группа 38"/>
              <p:cNvGrpSpPr/>
              <p:nvPr/>
            </p:nvGrpSpPr>
            <p:grpSpPr>
              <a:xfrm>
                <a:off x="1071720" y="285840"/>
                <a:ext cx="7072200" cy="6000480"/>
                <a:chOff x="1071720" y="285840"/>
                <a:chExt cx="7072200" cy="6000480"/>
              </a:xfrm>
            </p:grpSpPr>
            <p:sp>
              <p:nvSpPr>
                <p:cNvPr id="453" name="TextBox 21"/>
                <p:cNvSpPr/>
                <p:nvPr/>
              </p:nvSpPr>
              <p:spPr>
                <a:xfrm>
                  <a:off x="4357800" y="285840"/>
                  <a:ext cx="357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Группа 37"/>
                <p:cNvGrpSpPr/>
                <p:nvPr/>
              </p:nvGrpSpPr>
              <p:grpSpPr>
                <a:xfrm>
                  <a:off x="1071720" y="356400"/>
                  <a:ext cx="7072200" cy="5929920"/>
                  <a:chOff x="1071720" y="356400"/>
                  <a:chExt cx="7072200" cy="5929920"/>
                </a:xfrm>
              </p:grpSpPr>
              <p:cxnSp>
                <p:nvCxnSpPr>
                  <p:cNvPr id="455" name="Прямая со стрелкой 2"/>
                  <p:cNvCxnSpPr/>
                  <p:nvPr/>
                </p:nvCxnSpPr>
                <p:spPr>
                  <a:xfrm>
                    <a:off x="1071720" y="3500640"/>
                    <a:ext cx="6787440" cy="216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456" name="Прямая со стрелкой 4"/>
                  <p:cNvCxnSpPr/>
                  <p:nvPr/>
                </p:nvCxnSpPr>
                <p:spPr>
                  <a:xfrm flipH="1" flipV="1">
                    <a:off x="4285800" y="356400"/>
                    <a:ext cx="72000" cy="593028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457" name="Овал 5"/>
                  <p:cNvSpPr/>
                  <p:nvPr/>
                </p:nvSpPr>
                <p:spPr>
                  <a:xfrm>
                    <a:off x="2786040" y="2000160"/>
                    <a:ext cx="3143160" cy="3071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Прямая соединительная линия 7"/>
                  <p:cNvSpPr/>
                  <p:nvPr/>
                </p:nvSpPr>
                <p:spPr>
                  <a:xfrm>
                    <a:off x="1571760" y="2714760"/>
                    <a:ext cx="5500800" cy="1440"/>
                  </a:xfrm>
                  <a:prstGeom prst="line">
                    <a:avLst/>
                  </a:prstGeom>
                  <a:ln w="2844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Овал 9"/>
                  <p:cNvSpPr/>
                  <p:nvPr/>
                </p:nvSpPr>
                <p:spPr>
                  <a:xfrm>
                    <a:off x="5572080" y="2643120"/>
                    <a:ext cx="142560" cy="1425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Овал 10"/>
                  <p:cNvSpPr/>
                  <p:nvPr/>
                </p:nvSpPr>
                <p:spPr>
                  <a:xfrm>
                    <a:off x="3000240" y="2643120"/>
                    <a:ext cx="142560" cy="1425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Прямая соединительная линия 15"/>
                  <p:cNvSpPr/>
                  <p:nvPr/>
                </p:nvSpPr>
                <p:spPr>
                  <a:xfrm flipH="1" flipV="1">
                    <a:off x="3000240" y="2714400"/>
                    <a:ext cx="1357200" cy="78588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Прямая соединительная линия 17"/>
                  <p:cNvSpPr/>
                  <p:nvPr/>
                </p:nvSpPr>
                <p:spPr>
                  <a:xfrm flipV="1">
                    <a:off x="4357800" y="2765160"/>
                    <a:ext cx="1234800" cy="73476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TextBox 20"/>
                  <p:cNvSpPr/>
                  <p:nvPr/>
                </p:nvSpPr>
                <p:spPr>
                  <a:xfrm>
                    <a:off x="7643880" y="3500640"/>
                    <a:ext cx="5000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х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TextBox 23"/>
                  <p:cNvSpPr/>
                  <p:nvPr/>
                </p:nvSpPr>
                <p:spPr>
                  <a:xfrm>
                    <a:off x="5572080" y="2143080"/>
                    <a:ext cx="785520" cy="523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TextBox 24"/>
                  <p:cNvSpPr/>
                  <p:nvPr/>
                </p:nvSpPr>
                <p:spPr>
                  <a:xfrm>
                    <a:off x="2571840" y="2143080"/>
                    <a:ext cx="500040" cy="523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TextBox 25"/>
                  <p:cNvSpPr/>
                  <p:nvPr/>
                </p:nvSpPr>
                <p:spPr>
                  <a:xfrm>
                    <a:off x="7072560" y="2357280"/>
                    <a:ext cx="785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У=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467" name="Object 2"/>
                      <p:cNvSpPr txBox="1"/>
                      <p:nvPr/>
                    </p:nvSpPr>
                    <p:spPr>
                      <a:xfrm>
                        <a:off x="7429680" y="2143080"/>
                        <a:ext cx="428400" cy="7142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468" name="TextBox 27"/>
                  <p:cNvSpPr/>
                  <p:nvPr/>
                </p:nvSpPr>
                <p:spPr>
                  <a:xfrm>
                    <a:off x="6000840" y="3571920"/>
                    <a:ext cx="571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Прямая соединительная линия 34"/>
                  <p:cNvSpPr/>
                  <p:nvPr/>
                </p:nvSpPr>
                <p:spPr>
                  <a:xfrm flipV="1">
                    <a:off x="3071160" y="2449440"/>
                    <a:ext cx="174600" cy="19368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470" name="Прямая со стрелкой 40"/>
              <p:cNvCxnSpPr/>
              <p:nvPr/>
            </p:nvCxnSpPr>
            <p:spPr>
              <a:xfrm flipH="1" flipV="1">
                <a:off x="4785840" y="1713960"/>
                <a:ext cx="500760" cy="21492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471" name="Дуга 22"/>
              <p:cNvSpPr/>
              <p:nvPr/>
            </p:nvSpPr>
            <p:spPr>
              <a:xfrm rot="15947400">
                <a:off x="3206520" y="1725480"/>
                <a:ext cx="2254320" cy="2790720"/>
              </a:xfrm>
              <a:custGeom>
                <a:avLst/>
                <a:gdLst>
                  <a:gd name="textAreaLeft" fmla="*/ 1461600 w 2254320"/>
                  <a:gd name="textAreaRight" fmla="*/ 2254680 w 2254320"/>
                  <a:gd name="textAreaTop" fmla="*/ 187200 h 2790720"/>
                  <a:gd name="textAreaBottom" fmla="*/ 2728080 h 2790720"/>
                </a:gdLst>
                <a:ahLst/>
                <a:rect l="textAreaLeft" t="textAreaTop" r="textAreaRight" b="textAreaBottom"/>
                <a:pathLst>
                  <a:path stroke="0" w="2254266" h="2790845">
                    <a:moveTo>
                      <a:pt x="1691421" y="187468"/>
                    </a:moveTo>
                    <a:lnTo>
                      <a:pt x="1691421" y="187468"/>
                    </a:lnTo>
                    <a:arcTo wR="1127133" hR="1395423" stAng="-3897639" swAng="8452965"/>
                    <a:lnTo>
                      <a:pt x="1127133" y="1395423"/>
                    </a:lnTo>
                    <a:close/>
                  </a:path>
                  <a:path fill="none" w="2254266" h="2790845">
                    <a:moveTo>
                      <a:pt x="1691421" y="187468"/>
                    </a:moveTo>
                    <a:lnTo>
                      <a:pt x="1691421" y="187468"/>
                    </a:lnTo>
                    <a:arcTo wR="1127133" hR="1395423" stAng="-3897639" swAng="8452965"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72" name="Object 3"/>
                <p:cNvSpPr txBox="1"/>
                <p:nvPr/>
              </p:nvSpPr>
              <p:spPr>
                <a:xfrm>
                  <a:off x="1071720" y="357120"/>
                  <a:ext cx="157140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Группа 33"/>
          <p:cNvGrpSpPr/>
          <p:nvPr/>
        </p:nvGrpSpPr>
        <p:grpSpPr>
          <a:xfrm>
            <a:off x="1071720" y="214200"/>
            <a:ext cx="7072200" cy="6000480"/>
            <a:chOff x="1071720" y="214200"/>
            <a:chExt cx="7072200" cy="6000480"/>
          </a:xfrm>
        </p:grpSpPr>
        <p:grpSp>
          <p:nvGrpSpPr>
            <p:cNvPr id="474" name="Группа 28"/>
            <p:cNvGrpSpPr/>
            <p:nvPr/>
          </p:nvGrpSpPr>
          <p:grpSpPr>
            <a:xfrm>
              <a:off x="1071720" y="214200"/>
              <a:ext cx="7072200" cy="6000480"/>
              <a:chOff x="1071720" y="214200"/>
              <a:chExt cx="7072200" cy="6000480"/>
            </a:xfrm>
          </p:grpSpPr>
          <p:grpSp>
            <p:nvGrpSpPr>
              <p:cNvPr id="475" name="Группа 38"/>
              <p:cNvGrpSpPr/>
              <p:nvPr/>
            </p:nvGrpSpPr>
            <p:grpSpPr>
              <a:xfrm>
                <a:off x="1071720" y="214200"/>
                <a:ext cx="7072200" cy="6000480"/>
                <a:chOff x="1071720" y="214200"/>
                <a:chExt cx="7072200" cy="6000480"/>
              </a:xfrm>
            </p:grpSpPr>
            <p:sp>
              <p:nvSpPr>
                <p:cNvPr id="476" name="TextBox 21"/>
                <p:cNvSpPr/>
                <p:nvPr/>
              </p:nvSpPr>
              <p:spPr>
                <a:xfrm>
                  <a:off x="4357800" y="214200"/>
                  <a:ext cx="357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Группа 37"/>
                <p:cNvGrpSpPr/>
                <p:nvPr/>
              </p:nvGrpSpPr>
              <p:grpSpPr>
                <a:xfrm>
                  <a:off x="1071720" y="284760"/>
                  <a:ext cx="7072200" cy="5929920"/>
                  <a:chOff x="1071720" y="284760"/>
                  <a:chExt cx="7072200" cy="5929920"/>
                </a:xfrm>
              </p:grpSpPr>
              <p:cxnSp>
                <p:nvCxnSpPr>
                  <p:cNvPr id="478" name="Прямая со стрелкой 2"/>
                  <p:cNvCxnSpPr/>
                  <p:nvPr/>
                </p:nvCxnSpPr>
                <p:spPr>
                  <a:xfrm>
                    <a:off x="1071720" y="3429000"/>
                    <a:ext cx="6787440" cy="216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479" name="Прямая со стрелкой 4"/>
                  <p:cNvCxnSpPr/>
                  <p:nvPr/>
                </p:nvCxnSpPr>
                <p:spPr>
                  <a:xfrm flipH="1" flipV="1">
                    <a:off x="4285800" y="284760"/>
                    <a:ext cx="72000" cy="593028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480" name="Овал 5"/>
                  <p:cNvSpPr/>
                  <p:nvPr/>
                </p:nvSpPr>
                <p:spPr>
                  <a:xfrm>
                    <a:off x="2786040" y="1928520"/>
                    <a:ext cx="3143160" cy="3071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Прямая соединительная линия 7"/>
                  <p:cNvSpPr/>
                  <p:nvPr/>
                </p:nvSpPr>
                <p:spPr>
                  <a:xfrm>
                    <a:off x="1571760" y="2643120"/>
                    <a:ext cx="5500800" cy="1440"/>
                  </a:xfrm>
                  <a:prstGeom prst="line">
                    <a:avLst/>
                  </a:prstGeom>
                  <a:ln w="2844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Овал 9"/>
                  <p:cNvSpPr/>
                  <p:nvPr/>
                </p:nvSpPr>
                <p:spPr>
                  <a:xfrm>
                    <a:off x="5572080" y="2571480"/>
                    <a:ext cx="142560" cy="1425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Овал 10"/>
                  <p:cNvSpPr/>
                  <p:nvPr/>
                </p:nvSpPr>
                <p:spPr>
                  <a:xfrm>
                    <a:off x="3000240" y="2571480"/>
                    <a:ext cx="142560" cy="1425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Прямая соединительная линия 15"/>
                  <p:cNvSpPr/>
                  <p:nvPr/>
                </p:nvSpPr>
                <p:spPr>
                  <a:xfrm flipH="1" flipV="1">
                    <a:off x="3000240" y="2642760"/>
                    <a:ext cx="1357200" cy="78588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Прямая соединительная линия 17"/>
                  <p:cNvSpPr/>
                  <p:nvPr/>
                </p:nvSpPr>
                <p:spPr>
                  <a:xfrm flipV="1">
                    <a:off x="4357800" y="2693520"/>
                    <a:ext cx="1234800" cy="73476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TextBox 20"/>
                  <p:cNvSpPr/>
                  <p:nvPr/>
                </p:nvSpPr>
                <p:spPr>
                  <a:xfrm>
                    <a:off x="7643880" y="3429000"/>
                    <a:ext cx="5000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х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TextBox 25"/>
                  <p:cNvSpPr/>
                  <p:nvPr/>
                </p:nvSpPr>
                <p:spPr>
                  <a:xfrm>
                    <a:off x="7072560" y="2285640"/>
                    <a:ext cx="785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У=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488" name="Object 2"/>
                      <p:cNvSpPr txBox="1"/>
                      <p:nvPr/>
                    </p:nvSpPr>
                    <p:spPr>
                      <a:xfrm>
                        <a:off x="7429680" y="2071440"/>
                        <a:ext cx="428400" cy="7142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489" name="TextBox 27"/>
                  <p:cNvSpPr/>
                  <p:nvPr/>
                </p:nvSpPr>
                <p:spPr>
                  <a:xfrm>
                    <a:off x="6000840" y="3500280"/>
                    <a:ext cx="571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Прямая соединительная линия 34"/>
                  <p:cNvSpPr/>
                  <p:nvPr/>
                </p:nvSpPr>
                <p:spPr>
                  <a:xfrm flipV="1">
                    <a:off x="3071160" y="2377800"/>
                    <a:ext cx="174600" cy="19368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491" name="Прямая со стрелкой 40"/>
              <p:cNvCxnSpPr/>
              <p:nvPr/>
            </p:nvCxnSpPr>
            <p:spPr>
              <a:xfrm flipH="1" flipV="1">
                <a:off x="4785840" y="1642320"/>
                <a:ext cx="500760" cy="21492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492" name="Дуга 22"/>
              <p:cNvSpPr/>
              <p:nvPr/>
            </p:nvSpPr>
            <p:spPr>
              <a:xfrm rot="15947400">
                <a:off x="3206520" y="1653840"/>
                <a:ext cx="2254320" cy="2790720"/>
              </a:xfrm>
              <a:custGeom>
                <a:avLst/>
                <a:gdLst>
                  <a:gd name="textAreaLeft" fmla="*/ 1461600 w 2254320"/>
                  <a:gd name="textAreaRight" fmla="*/ 2254680 w 2254320"/>
                  <a:gd name="textAreaTop" fmla="*/ 187200 h 2790720"/>
                  <a:gd name="textAreaBottom" fmla="*/ 2728080 h 2790720"/>
                </a:gdLst>
                <a:ahLst/>
                <a:rect l="textAreaLeft" t="textAreaTop" r="textAreaRight" b="textAreaBottom"/>
                <a:pathLst>
                  <a:path stroke="0" w="2254266" h="2790845">
                    <a:moveTo>
                      <a:pt x="1691421" y="187468"/>
                    </a:moveTo>
                    <a:lnTo>
                      <a:pt x="1691421" y="187468"/>
                    </a:lnTo>
                    <a:arcTo wR="1127133" hR="1395423" stAng="-3897639" swAng="8452965"/>
                    <a:lnTo>
                      <a:pt x="1127133" y="1395423"/>
                    </a:lnTo>
                    <a:close/>
                  </a:path>
                  <a:path fill="none" w="2254266" h="2790845">
                    <a:moveTo>
                      <a:pt x="1691421" y="187468"/>
                    </a:moveTo>
                    <a:lnTo>
                      <a:pt x="1691421" y="187468"/>
                    </a:lnTo>
                    <a:arcTo wR="1127133" hR="1395423" stAng="-3897639" swAng="8452965"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93" name="Object 4"/>
                <p:cNvSpPr txBox="1"/>
                <p:nvPr/>
              </p:nvSpPr>
              <p:spPr>
                <a:xfrm>
                  <a:off x="5715000" y="1785600"/>
                  <a:ext cx="42840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Object 4"/>
                <p:cNvSpPr txBox="1"/>
                <p:nvPr/>
              </p:nvSpPr>
              <p:spPr>
                <a:xfrm>
                  <a:off x="2616120" y="1785600"/>
                  <a:ext cx="62676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Object 6"/>
                <p:cNvSpPr txBox="1"/>
                <p:nvPr/>
              </p:nvSpPr>
              <p:spPr>
                <a:xfrm>
                  <a:off x="1071720" y="285480"/>
                  <a:ext cx="157140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Группа 28"/>
          <p:cNvGrpSpPr/>
          <p:nvPr/>
        </p:nvGrpSpPr>
        <p:grpSpPr>
          <a:xfrm>
            <a:off x="785880" y="214200"/>
            <a:ext cx="8072280" cy="6215040"/>
            <a:chOff x="785880" y="214200"/>
            <a:chExt cx="8072280" cy="6215040"/>
          </a:xfrm>
        </p:grpSpPr>
        <p:grpSp>
          <p:nvGrpSpPr>
            <p:cNvPr id="497" name="Группа 28"/>
            <p:cNvGrpSpPr/>
            <p:nvPr/>
          </p:nvGrpSpPr>
          <p:grpSpPr>
            <a:xfrm>
              <a:off x="1071360" y="214200"/>
              <a:ext cx="7072200" cy="6000480"/>
              <a:chOff x="1071360" y="214200"/>
              <a:chExt cx="7072200" cy="6000480"/>
            </a:xfrm>
          </p:grpSpPr>
          <p:grpSp>
            <p:nvGrpSpPr>
              <p:cNvPr id="498" name="Группа 38"/>
              <p:cNvGrpSpPr/>
              <p:nvPr/>
            </p:nvGrpSpPr>
            <p:grpSpPr>
              <a:xfrm>
                <a:off x="1071360" y="214200"/>
                <a:ext cx="7072200" cy="6000480"/>
                <a:chOff x="1071360" y="214200"/>
                <a:chExt cx="7072200" cy="6000480"/>
              </a:xfrm>
            </p:grpSpPr>
            <p:sp>
              <p:nvSpPr>
                <p:cNvPr id="499" name="TextBox 21"/>
                <p:cNvSpPr/>
                <p:nvPr/>
              </p:nvSpPr>
              <p:spPr>
                <a:xfrm>
                  <a:off x="4357440" y="214200"/>
                  <a:ext cx="357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0" name="Группа 37"/>
                <p:cNvGrpSpPr/>
                <p:nvPr/>
              </p:nvGrpSpPr>
              <p:grpSpPr>
                <a:xfrm>
                  <a:off x="1071360" y="284760"/>
                  <a:ext cx="7072200" cy="5929920"/>
                  <a:chOff x="1071360" y="284760"/>
                  <a:chExt cx="7072200" cy="5929920"/>
                </a:xfrm>
              </p:grpSpPr>
              <p:cxnSp>
                <p:nvCxnSpPr>
                  <p:cNvPr id="501" name="Прямая со стрелкой 2"/>
                  <p:cNvCxnSpPr/>
                  <p:nvPr/>
                </p:nvCxnSpPr>
                <p:spPr>
                  <a:xfrm>
                    <a:off x="1071360" y="3429000"/>
                    <a:ext cx="6787440" cy="216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502" name="Прямая со стрелкой 4"/>
                  <p:cNvCxnSpPr/>
                  <p:nvPr/>
                </p:nvCxnSpPr>
                <p:spPr>
                  <a:xfrm flipH="1" flipV="1">
                    <a:off x="4285440" y="284760"/>
                    <a:ext cx="72000" cy="593028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503" name="Овал 5"/>
                  <p:cNvSpPr/>
                  <p:nvPr/>
                </p:nvSpPr>
                <p:spPr>
                  <a:xfrm>
                    <a:off x="2785680" y="1928520"/>
                    <a:ext cx="3143160" cy="3071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Прямая соединительная линия 7"/>
                  <p:cNvSpPr/>
                  <p:nvPr/>
                </p:nvSpPr>
                <p:spPr>
                  <a:xfrm>
                    <a:off x="1571400" y="2643120"/>
                    <a:ext cx="5500800" cy="1440"/>
                  </a:xfrm>
                  <a:prstGeom prst="line">
                    <a:avLst/>
                  </a:prstGeom>
                  <a:ln w="2844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Овал 9"/>
                  <p:cNvSpPr/>
                  <p:nvPr/>
                </p:nvSpPr>
                <p:spPr>
                  <a:xfrm>
                    <a:off x="5571720" y="2571480"/>
                    <a:ext cx="142560" cy="1425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Овал 10"/>
                  <p:cNvSpPr/>
                  <p:nvPr/>
                </p:nvSpPr>
                <p:spPr>
                  <a:xfrm>
                    <a:off x="2999880" y="2571480"/>
                    <a:ext cx="142560" cy="1425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Прямая соединительная линия 15"/>
                  <p:cNvSpPr/>
                  <p:nvPr/>
                </p:nvSpPr>
                <p:spPr>
                  <a:xfrm flipH="1" flipV="1">
                    <a:off x="2999880" y="2642760"/>
                    <a:ext cx="1357200" cy="78588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Прямая соединительная линия 17"/>
                  <p:cNvSpPr/>
                  <p:nvPr/>
                </p:nvSpPr>
                <p:spPr>
                  <a:xfrm flipV="1">
                    <a:off x="4357440" y="2693520"/>
                    <a:ext cx="1234800" cy="73476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TextBox 20"/>
                  <p:cNvSpPr/>
                  <p:nvPr/>
                </p:nvSpPr>
                <p:spPr>
                  <a:xfrm>
                    <a:off x="7643520" y="3429000"/>
                    <a:ext cx="5000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х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TextBox 25"/>
                  <p:cNvSpPr/>
                  <p:nvPr/>
                </p:nvSpPr>
                <p:spPr>
                  <a:xfrm>
                    <a:off x="7072200" y="2285640"/>
                    <a:ext cx="785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У=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511" name="Object 2"/>
                      <p:cNvSpPr txBox="1"/>
                      <p:nvPr/>
                    </p:nvSpPr>
                    <p:spPr>
                      <a:xfrm>
                        <a:off x="7429320" y="2071440"/>
                        <a:ext cx="428400" cy="7142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512" name="TextBox 27"/>
                  <p:cNvSpPr/>
                  <p:nvPr/>
                </p:nvSpPr>
                <p:spPr>
                  <a:xfrm>
                    <a:off x="6000480" y="3500280"/>
                    <a:ext cx="571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Прямая соединительная линия 34"/>
                  <p:cNvSpPr/>
                  <p:nvPr/>
                </p:nvSpPr>
                <p:spPr>
                  <a:xfrm flipV="1">
                    <a:off x="3070800" y="2377800"/>
                    <a:ext cx="174600" cy="19368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14" name="Прямая со стрелкой 40"/>
              <p:cNvCxnSpPr/>
              <p:nvPr/>
            </p:nvCxnSpPr>
            <p:spPr>
              <a:xfrm flipH="1" flipV="1">
                <a:off x="4785480" y="1642320"/>
                <a:ext cx="500760" cy="21492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515" name="Дуга 22"/>
              <p:cNvSpPr/>
              <p:nvPr/>
            </p:nvSpPr>
            <p:spPr>
              <a:xfrm rot="15947400">
                <a:off x="3206160" y="1653840"/>
                <a:ext cx="2254320" cy="2790720"/>
              </a:xfrm>
              <a:custGeom>
                <a:avLst/>
                <a:gdLst>
                  <a:gd name="textAreaLeft" fmla="*/ 1461600 w 2254320"/>
                  <a:gd name="textAreaRight" fmla="*/ 2254680 w 2254320"/>
                  <a:gd name="textAreaTop" fmla="*/ 187200 h 2790720"/>
                  <a:gd name="textAreaBottom" fmla="*/ 2728080 h 2790720"/>
                </a:gdLst>
                <a:ahLst/>
                <a:rect l="textAreaLeft" t="textAreaTop" r="textAreaRight" b="textAreaBottom"/>
                <a:pathLst>
                  <a:path stroke="0" w="2254266" h="2790845">
                    <a:moveTo>
                      <a:pt x="1691421" y="187468"/>
                    </a:moveTo>
                    <a:lnTo>
                      <a:pt x="1691421" y="187468"/>
                    </a:lnTo>
                    <a:arcTo wR="1127133" hR="1395423" stAng="-3897639" swAng="8452965"/>
                    <a:lnTo>
                      <a:pt x="1127133" y="1395423"/>
                    </a:lnTo>
                    <a:close/>
                  </a:path>
                  <a:path fill="none" w="2254266" h="2790845">
                    <a:moveTo>
                      <a:pt x="1691421" y="187468"/>
                    </a:moveTo>
                    <a:lnTo>
                      <a:pt x="1691421" y="187468"/>
                    </a:lnTo>
                    <a:arcTo wR="1127133" hR="1395423" stAng="-3897639" swAng="8452965"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16" name="Object 3"/>
                <p:cNvSpPr txBox="1"/>
                <p:nvPr/>
              </p:nvSpPr>
              <p:spPr>
                <a:xfrm>
                  <a:off x="5715000" y="1785600"/>
                  <a:ext cx="42840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7" name="Object 4"/>
                <p:cNvSpPr txBox="1"/>
                <p:nvPr/>
              </p:nvSpPr>
              <p:spPr>
                <a:xfrm>
                  <a:off x="2616120" y="1785600"/>
                  <a:ext cx="62676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8" name="Object 5"/>
                <p:cNvSpPr txBox="1"/>
                <p:nvPr/>
              </p:nvSpPr>
              <p:spPr>
                <a:xfrm>
                  <a:off x="4500720" y="5143320"/>
                  <a:ext cx="4357440" cy="12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9" name="Object 6"/>
                <p:cNvSpPr txBox="1"/>
                <p:nvPr/>
              </p:nvSpPr>
              <p:spPr>
                <a:xfrm>
                  <a:off x="785880" y="356760"/>
                  <a:ext cx="157140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Группа 41"/>
          <p:cNvGrpSpPr/>
          <p:nvPr/>
        </p:nvGrpSpPr>
        <p:grpSpPr>
          <a:xfrm>
            <a:off x="1000080" y="142920"/>
            <a:ext cx="7734240" cy="6429240"/>
            <a:chOff x="1000080" y="142920"/>
            <a:chExt cx="7734240" cy="6429240"/>
          </a:xfrm>
        </p:grpSpPr>
        <p:grpSp>
          <p:nvGrpSpPr>
            <p:cNvPr id="521" name="Группа 44"/>
            <p:cNvGrpSpPr/>
            <p:nvPr/>
          </p:nvGrpSpPr>
          <p:grpSpPr>
            <a:xfrm>
              <a:off x="1000080" y="142920"/>
              <a:ext cx="7143840" cy="5357520"/>
              <a:chOff x="1000080" y="142920"/>
              <a:chExt cx="7143840" cy="5357520"/>
            </a:xfrm>
          </p:grpSpPr>
          <p:grpSp>
            <p:nvGrpSpPr>
              <p:cNvPr id="522" name="Группа 38"/>
              <p:cNvGrpSpPr/>
              <p:nvPr/>
            </p:nvGrpSpPr>
            <p:grpSpPr>
              <a:xfrm>
                <a:off x="1071000" y="214200"/>
                <a:ext cx="7072920" cy="5286240"/>
                <a:chOff x="1071000" y="214200"/>
                <a:chExt cx="7072920" cy="5286240"/>
              </a:xfrm>
            </p:grpSpPr>
            <p:sp>
              <p:nvSpPr>
                <p:cNvPr id="523" name="TextBox 21"/>
                <p:cNvSpPr/>
                <p:nvPr/>
              </p:nvSpPr>
              <p:spPr>
                <a:xfrm>
                  <a:off x="4357440" y="214200"/>
                  <a:ext cx="357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4" name="Группа 37"/>
                <p:cNvGrpSpPr/>
                <p:nvPr/>
              </p:nvGrpSpPr>
              <p:grpSpPr>
                <a:xfrm>
                  <a:off x="1071000" y="284760"/>
                  <a:ext cx="7072920" cy="5215680"/>
                  <a:chOff x="1071000" y="284760"/>
                  <a:chExt cx="7072920" cy="5215680"/>
                </a:xfrm>
              </p:grpSpPr>
              <p:cxnSp>
                <p:nvCxnSpPr>
                  <p:cNvPr id="525" name="Прямая со стрелкой 2"/>
                  <p:cNvCxnSpPr/>
                  <p:nvPr/>
                </p:nvCxnSpPr>
                <p:spPr>
                  <a:xfrm>
                    <a:off x="1071000" y="3429000"/>
                    <a:ext cx="6787800" cy="216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526" name="Прямая со стрелкой 4"/>
                  <p:cNvCxnSpPr/>
                  <p:nvPr/>
                </p:nvCxnSpPr>
                <p:spPr>
                  <a:xfrm flipH="1" flipV="1">
                    <a:off x="4285800" y="284760"/>
                    <a:ext cx="72000" cy="521604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527" name="Овал 5"/>
                  <p:cNvSpPr/>
                  <p:nvPr/>
                </p:nvSpPr>
                <p:spPr>
                  <a:xfrm>
                    <a:off x="2785680" y="1928520"/>
                    <a:ext cx="3143160" cy="30722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Прямая соединительная линия 7"/>
                  <p:cNvSpPr/>
                  <p:nvPr/>
                </p:nvSpPr>
                <p:spPr>
                  <a:xfrm>
                    <a:off x="1571400" y="2643120"/>
                    <a:ext cx="5500800" cy="1440"/>
                  </a:xfrm>
                  <a:prstGeom prst="line">
                    <a:avLst/>
                  </a:prstGeom>
                  <a:ln w="2844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Овал 9"/>
                  <p:cNvSpPr/>
                  <p:nvPr/>
                </p:nvSpPr>
                <p:spPr>
                  <a:xfrm>
                    <a:off x="5572080" y="2571480"/>
                    <a:ext cx="142560" cy="1425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Овал 10"/>
                  <p:cNvSpPr/>
                  <p:nvPr/>
                </p:nvSpPr>
                <p:spPr>
                  <a:xfrm>
                    <a:off x="3000240" y="2571480"/>
                    <a:ext cx="142560" cy="1425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Прямая соединительная линия 15"/>
                  <p:cNvSpPr/>
                  <p:nvPr/>
                </p:nvSpPr>
                <p:spPr>
                  <a:xfrm flipH="1" flipV="1">
                    <a:off x="3000240" y="2642760"/>
                    <a:ext cx="1357200" cy="78588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Прямая соединительная линия 17"/>
                  <p:cNvSpPr/>
                  <p:nvPr/>
                </p:nvSpPr>
                <p:spPr>
                  <a:xfrm flipV="1">
                    <a:off x="4357440" y="2693520"/>
                    <a:ext cx="1235160" cy="73476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TextBox 20"/>
                  <p:cNvSpPr/>
                  <p:nvPr/>
                </p:nvSpPr>
                <p:spPr>
                  <a:xfrm>
                    <a:off x="7643880" y="3429000"/>
                    <a:ext cx="5000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х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TextBox 23"/>
                  <p:cNvSpPr/>
                  <p:nvPr/>
                </p:nvSpPr>
                <p:spPr>
                  <a:xfrm>
                    <a:off x="5643720" y="2071440"/>
                    <a:ext cx="785520" cy="523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TextBox 24"/>
                  <p:cNvSpPr/>
                  <p:nvPr/>
                </p:nvSpPr>
                <p:spPr>
                  <a:xfrm>
                    <a:off x="2571480" y="2071440"/>
                    <a:ext cx="500040" cy="523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TextBox 25"/>
                  <p:cNvSpPr/>
                  <p:nvPr/>
                </p:nvSpPr>
                <p:spPr>
                  <a:xfrm>
                    <a:off x="7072560" y="2286000"/>
                    <a:ext cx="785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У=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537" name="Object 2"/>
                      <p:cNvSpPr txBox="1"/>
                      <p:nvPr/>
                    </p:nvSpPr>
                    <p:spPr>
                      <a:xfrm>
                        <a:off x="7429680" y="2071440"/>
                        <a:ext cx="428400" cy="7142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538" name="TextBox 27"/>
                  <p:cNvSpPr/>
                  <p:nvPr/>
                </p:nvSpPr>
                <p:spPr>
                  <a:xfrm>
                    <a:off x="6000840" y="3500280"/>
                    <a:ext cx="571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Прямая соединительная линия 34"/>
                  <p:cNvSpPr/>
                  <p:nvPr/>
                </p:nvSpPr>
                <p:spPr>
                  <a:xfrm flipV="1">
                    <a:off x="3070800" y="2377800"/>
                    <a:ext cx="174600" cy="19368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0" name="TextBox 42"/>
              <p:cNvSpPr/>
              <p:nvPr/>
            </p:nvSpPr>
            <p:spPr>
              <a:xfrm>
                <a:off x="1000080" y="2854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sin x &lt;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1" name="Object 3"/>
                  <p:cNvSpPr txBox="1"/>
                  <p:nvPr/>
                </p:nvSpPr>
                <p:spPr>
                  <a:xfrm>
                    <a:off x="2000160" y="142920"/>
                    <a:ext cx="500040" cy="78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42" name="Дуга 22"/>
            <p:cNvSpPr/>
            <p:nvPr/>
          </p:nvSpPr>
          <p:spPr>
            <a:xfrm rot="9568200">
              <a:off x="2679120" y="1825200"/>
              <a:ext cx="3260520" cy="3240000"/>
            </a:xfrm>
            <a:custGeom>
              <a:avLst/>
              <a:gdLst>
                <a:gd name="textAreaLeft" fmla="*/ 0 w 3260520"/>
                <a:gd name="textAreaRight" fmla="*/ 1210680 w 3260520"/>
                <a:gd name="textAreaTop" fmla="*/ 54360 h 3240000"/>
                <a:gd name="textAreaBottom" fmla="*/ 1817640 h 3240000"/>
              </a:gdLst>
              <a:ahLst/>
              <a:rect l="textAreaLeft" t="textAreaTop" r="textAreaRight" b="textAreaBottom"/>
              <a:pathLst>
                <a:path stroke="0" w="3260734" h="3240106">
                  <a:moveTo>
                    <a:pt x="12172" y="1817644"/>
                  </a:moveTo>
                  <a:lnTo>
                    <a:pt x="12172" y="1817644"/>
                  </a:lnTo>
                  <a:arcTo wR="1630367" hR="1620053" stAng="10382299" swAng="4917665"/>
                  <a:lnTo>
                    <a:pt x="1630367" y="1620053"/>
                  </a:lnTo>
                  <a:close/>
                </a:path>
                <a:path fill="none" w="3260734" h="3240106">
                  <a:moveTo>
                    <a:pt x="12172" y="1817644"/>
                  </a:moveTo>
                  <a:lnTo>
                    <a:pt x="12172" y="1817644"/>
                  </a:lnTo>
                  <a:arcTo wR="1630367" hR="1620053" stAng="10382299" swAng="4917665"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Дуга 28"/>
            <p:cNvSpPr/>
            <p:nvPr/>
          </p:nvSpPr>
          <p:spPr>
            <a:xfrm rot="9568200">
              <a:off x="2679120" y="1825200"/>
              <a:ext cx="3260520" cy="3240000"/>
            </a:xfrm>
            <a:custGeom>
              <a:avLst/>
              <a:gdLst>
                <a:gd name="textAreaLeft" fmla="*/ 0 w 3260520"/>
                <a:gd name="textAreaRight" fmla="*/ 1207080 w 3260520"/>
                <a:gd name="textAreaTop" fmla="*/ 55440 h 3240000"/>
                <a:gd name="textAreaBottom" fmla="*/ 1879200 h 3240000"/>
              </a:gdLst>
              <a:ahLst/>
              <a:rect l="textAreaLeft" t="textAreaTop" r="textAreaRight" b="textAreaBottom"/>
              <a:pathLst>
                <a:path stroke="0" w="3260734" h="3240106">
                  <a:moveTo>
                    <a:pt x="21019" y="1879352"/>
                  </a:moveTo>
                  <a:lnTo>
                    <a:pt x="21019" y="1879352"/>
                  </a:lnTo>
                  <a:arcTo wR="1630367" hR="1620053" stAng="10250828" swAng="5041191"/>
                  <a:lnTo>
                    <a:pt x="1630367" y="1620053"/>
                  </a:lnTo>
                  <a:close/>
                </a:path>
                <a:path fill="none" w="3260734" h="3240106">
                  <a:moveTo>
                    <a:pt x="21019" y="1879352"/>
                  </a:moveTo>
                  <a:lnTo>
                    <a:pt x="21019" y="1879352"/>
                  </a:lnTo>
                  <a:arcTo wR="1630367" hR="1620053" stAng="10250828" swAng="5041191"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Дуга 29"/>
            <p:cNvSpPr/>
            <p:nvPr/>
          </p:nvSpPr>
          <p:spPr>
            <a:xfrm rot="14177400">
              <a:off x="2775240" y="1927800"/>
              <a:ext cx="3262320" cy="3213000"/>
            </a:xfrm>
            <a:custGeom>
              <a:avLst/>
              <a:gdLst>
                <a:gd name="textAreaLeft" fmla="*/ 2003400 w 3262320"/>
                <a:gd name="textAreaRight" fmla="*/ 3129480 w 3262320"/>
                <a:gd name="textAreaTop" fmla="*/ 42120 h 3213000"/>
                <a:gd name="textAreaBottom" fmla="*/ 971280 h 3213000"/>
              </a:gdLst>
              <a:ahLst/>
              <a:rect l="textAreaLeft" t="textAreaTop" r="textAreaRight" b="textAreaBottom"/>
              <a:pathLst>
                <a:path stroke="0" w="3262330" h="3213109">
                  <a:moveTo>
                    <a:pt x="2003543" y="42424"/>
                  </a:moveTo>
                  <a:lnTo>
                    <a:pt x="2003543" y="42424"/>
                  </a:lnTo>
                  <a:arcTo wR="1631165" hR="1606555" stAng="-4596519" swAng="3217871"/>
                  <a:lnTo>
                    <a:pt x="1631165" y="1606555"/>
                  </a:lnTo>
                  <a:close/>
                </a:path>
                <a:path fill="none" w="3262330" h="3213109">
                  <a:moveTo>
                    <a:pt x="2003543" y="42424"/>
                  </a:moveTo>
                  <a:lnTo>
                    <a:pt x="2003543" y="42424"/>
                  </a:lnTo>
                  <a:arcTo wR="1631165" hR="1606555" stAng="-4596519" swAng="3217871"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Дуга 30"/>
            <p:cNvSpPr/>
            <p:nvPr/>
          </p:nvSpPr>
          <p:spPr>
            <a:xfrm rot="14692200">
              <a:off x="2761200" y="1718280"/>
              <a:ext cx="3262320" cy="3311640"/>
            </a:xfrm>
            <a:custGeom>
              <a:avLst/>
              <a:gdLst>
                <a:gd name="textAreaLeft" fmla="*/ 0 w 3262320"/>
                <a:gd name="textAreaRight" fmla="*/ 1675080 w 3262320"/>
                <a:gd name="textAreaTop" fmla="*/ 0 h 3311640"/>
                <a:gd name="textAreaBottom" fmla="*/ 1915560 h 3311640"/>
              </a:gdLst>
              <a:ahLst/>
              <a:rect l="textAreaLeft" t="textAreaTop" r="textAreaRight" b="textAreaBottom"/>
              <a:pathLst>
                <a:path stroke="0" w="3262331" h="3311534">
                  <a:moveTo>
                    <a:pt x="20168" y="1915332"/>
                  </a:moveTo>
                  <a:lnTo>
                    <a:pt x="20168" y="1915332"/>
                  </a:lnTo>
                  <a:arcTo wR="1631166" hR="1655767" stAng="10250828" swAng="6040690"/>
                  <a:lnTo>
                    <a:pt x="1631166" y="1655767"/>
                  </a:lnTo>
                  <a:close/>
                </a:path>
                <a:path fill="none" w="3262331" h="3311534">
                  <a:moveTo>
                    <a:pt x="20168" y="1915332"/>
                  </a:moveTo>
                  <a:lnTo>
                    <a:pt x="20168" y="1915332"/>
                  </a:lnTo>
                  <a:arcTo wR="1631166" hR="1655767" stAng="10250828" swAng="6040690"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6" name="Прямая со стрелкой 32"/>
            <p:cNvCxnSpPr/>
            <p:nvPr/>
          </p:nvCxnSpPr>
          <p:spPr>
            <a:xfrm>
              <a:off x="2571480" y="4142880"/>
              <a:ext cx="429120" cy="5720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47" name="Object 4"/>
                <p:cNvSpPr txBox="1"/>
                <p:nvPr/>
              </p:nvSpPr>
              <p:spPr>
                <a:xfrm>
                  <a:off x="2616120" y="1785960"/>
                  <a:ext cx="62676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8" name="Object 5"/>
                <p:cNvSpPr txBox="1"/>
                <p:nvPr/>
              </p:nvSpPr>
              <p:spPr>
                <a:xfrm>
                  <a:off x="5559480" y="1785960"/>
                  <a:ext cx="81108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Object 6"/>
                <p:cNvSpPr txBox="1"/>
                <p:nvPr/>
              </p:nvSpPr>
              <p:spPr>
                <a:xfrm>
                  <a:off x="4000320" y="5286600"/>
                  <a:ext cx="4734000" cy="12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Группа 24"/>
          <p:cNvGrpSpPr/>
          <p:nvPr/>
        </p:nvGrpSpPr>
        <p:grpSpPr>
          <a:xfrm>
            <a:off x="1000080" y="213840"/>
            <a:ext cx="7286760" cy="5572440"/>
            <a:chOff x="1000080" y="213840"/>
            <a:chExt cx="7286760" cy="5572440"/>
          </a:xfrm>
        </p:grpSpPr>
        <p:cxnSp>
          <p:nvCxnSpPr>
            <p:cNvPr id="551" name="Прямая со стрелкой 2"/>
            <p:cNvCxnSpPr/>
            <p:nvPr/>
          </p:nvCxnSpPr>
          <p:spPr>
            <a:xfrm>
              <a:off x="1000080" y="3214440"/>
              <a:ext cx="678744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2" name="Прямая со стрелкой 4"/>
            <p:cNvCxnSpPr/>
            <p:nvPr/>
          </p:nvCxnSpPr>
          <p:spPr>
            <a:xfrm flipH="1" flipV="1">
              <a:off x="4071600" y="213840"/>
              <a:ext cx="72000" cy="5572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3" name="Овал 5"/>
            <p:cNvSpPr/>
            <p:nvPr/>
          </p:nvSpPr>
          <p:spPr>
            <a:xfrm>
              <a:off x="2500200" y="1500120"/>
              <a:ext cx="3214800" cy="3214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Прямая соединительная линия 7"/>
            <p:cNvSpPr/>
            <p:nvPr/>
          </p:nvSpPr>
          <p:spPr>
            <a:xfrm>
              <a:off x="3214440" y="714240"/>
              <a:ext cx="71280" cy="4857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Овал 9"/>
            <p:cNvSpPr/>
            <p:nvPr/>
          </p:nvSpPr>
          <p:spPr>
            <a:xfrm>
              <a:off x="3143160" y="1714320"/>
              <a:ext cx="142560" cy="142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Овал 10"/>
            <p:cNvSpPr/>
            <p:nvPr/>
          </p:nvSpPr>
          <p:spPr>
            <a:xfrm>
              <a:off x="3214440" y="4429080"/>
              <a:ext cx="142560" cy="142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Прямая соединительная линия 12"/>
            <p:cNvSpPr/>
            <p:nvPr/>
          </p:nvSpPr>
          <p:spPr>
            <a:xfrm flipH="1" flipV="1">
              <a:off x="3265560" y="1836000"/>
              <a:ext cx="806400" cy="137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Прямая соединительная линия 15"/>
            <p:cNvSpPr/>
            <p:nvPr/>
          </p:nvSpPr>
          <p:spPr>
            <a:xfrm flipH="1">
              <a:off x="3286080" y="3214440"/>
              <a:ext cx="785520" cy="1214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16"/>
            <p:cNvSpPr/>
            <p:nvPr/>
          </p:nvSpPr>
          <p:spPr>
            <a:xfrm>
              <a:off x="4143240" y="2142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17"/>
            <p:cNvSpPr/>
            <p:nvPr/>
          </p:nvSpPr>
          <p:spPr>
            <a:xfrm>
              <a:off x="7572600" y="32860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18"/>
            <p:cNvSpPr/>
            <p:nvPr/>
          </p:nvSpPr>
          <p:spPr>
            <a:xfrm>
              <a:off x="5715000" y="32144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2" name="Object 2"/>
                <p:cNvSpPr txBox="1"/>
                <p:nvPr/>
              </p:nvSpPr>
              <p:spPr>
                <a:xfrm>
                  <a:off x="2367000" y="214200"/>
                  <a:ext cx="765000" cy="78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3" name="Object 3"/>
                <p:cNvSpPr txBox="1"/>
                <p:nvPr/>
              </p:nvSpPr>
              <p:spPr>
                <a:xfrm>
                  <a:off x="6286680" y="285480"/>
                  <a:ext cx="200016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Группа 22"/>
          <p:cNvGrpSpPr/>
          <p:nvPr/>
        </p:nvGrpSpPr>
        <p:grpSpPr>
          <a:xfrm>
            <a:off x="1000080" y="213840"/>
            <a:ext cx="7286760" cy="5572440"/>
            <a:chOff x="1000080" y="213840"/>
            <a:chExt cx="7286760" cy="5572440"/>
          </a:xfrm>
        </p:grpSpPr>
        <p:cxnSp>
          <p:nvCxnSpPr>
            <p:cNvPr id="565" name="Прямая со стрелкой 2"/>
            <p:cNvCxnSpPr/>
            <p:nvPr/>
          </p:nvCxnSpPr>
          <p:spPr>
            <a:xfrm>
              <a:off x="1000080" y="3214440"/>
              <a:ext cx="678744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6" name="Прямая со стрелкой 4"/>
            <p:cNvCxnSpPr/>
            <p:nvPr/>
          </p:nvCxnSpPr>
          <p:spPr>
            <a:xfrm flipH="1" flipV="1">
              <a:off x="4071600" y="213840"/>
              <a:ext cx="72000" cy="5572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7" name="Овал 5"/>
            <p:cNvSpPr/>
            <p:nvPr/>
          </p:nvSpPr>
          <p:spPr>
            <a:xfrm>
              <a:off x="2500200" y="1500120"/>
              <a:ext cx="3214800" cy="3214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Прямая соединительная линия 7"/>
            <p:cNvSpPr/>
            <p:nvPr/>
          </p:nvSpPr>
          <p:spPr>
            <a:xfrm>
              <a:off x="3214440" y="714240"/>
              <a:ext cx="71280" cy="4857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Овал 9"/>
            <p:cNvSpPr/>
            <p:nvPr/>
          </p:nvSpPr>
          <p:spPr>
            <a:xfrm>
              <a:off x="3143160" y="1714320"/>
              <a:ext cx="142560" cy="1425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Овал 10"/>
            <p:cNvSpPr/>
            <p:nvPr/>
          </p:nvSpPr>
          <p:spPr>
            <a:xfrm>
              <a:off x="3214440" y="4429080"/>
              <a:ext cx="142560" cy="1425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Прямая соединительная линия 12"/>
            <p:cNvSpPr/>
            <p:nvPr/>
          </p:nvSpPr>
          <p:spPr>
            <a:xfrm flipH="1" flipV="1">
              <a:off x="3265560" y="1836000"/>
              <a:ext cx="806400" cy="137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Прямая соединительная линия 15"/>
            <p:cNvSpPr/>
            <p:nvPr/>
          </p:nvSpPr>
          <p:spPr>
            <a:xfrm flipH="1">
              <a:off x="3286080" y="3214440"/>
              <a:ext cx="785520" cy="1214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Box 16"/>
            <p:cNvSpPr/>
            <p:nvPr/>
          </p:nvSpPr>
          <p:spPr>
            <a:xfrm>
              <a:off x="4143240" y="2142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Box 17"/>
            <p:cNvSpPr/>
            <p:nvPr/>
          </p:nvSpPr>
          <p:spPr>
            <a:xfrm>
              <a:off x="7572600" y="32860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18"/>
            <p:cNvSpPr/>
            <p:nvPr/>
          </p:nvSpPr>
          <p:spPr>
            <a:xfrm>
              <a:off x="5715000" y="32144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6" name="Object 2"/>
                <p:cNvSpPr txBox="1"/>
                <p:nvPr/>
              </p:nvSpPr>
              <p:spPr>
                <a:xfrm>
                  <a:off x="2367000" y="214200"/>
                  <a:ext cx="765000" cy="78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7" name="Object 3"/>
                <p:cNvSpPr txBox="1"/>
                <p:nvPr/>
              </p:nvSpPr>
              <p:spPr>
                <a:xfrm>
                  <a:off x="6286680" y="285480"/>
                  <a:ext cx="200016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78" name="Дуга 14"/>
            <p:cNvSpPr/>
            <p:nvPr/>
          </p:nvSpPr>
          <p:spPr>
            <a:xfrm>
              <a:off x="2571480" y="1500120"/>
              <a:ext cx="3143160" cy="3214800"/>
            </a:xfrm>
            <a:custGeom>
              <a:avLst/>
              <a:gdLst>
                <a:gd name="textAreaLeft" fmla="*/ 714960 w 3143160"/>
                <a:gd name="textAreaRight" fmla="*/ 3143520 w 3143160"/>
                <a:gd name="textAreaTop" fmla="*/ 0 h 3214800"/>
                <a:gd name="textAreaBottom" fmla="*/ 3215160 h 3214800"/>
              </a:gdLst>
              <a:ahLst/>
              <a:rect l="textAreaLeft" t="textAreaTop" r="textAreaRight" b="textAreaBottom"/>
              <a:pathLst>
                <a:path stroke="0" w="3143272" h="3214709">
                  <a:moveTo>
                    <a:pt x="715240" y="259594"/>
                  </a:moveTo>
                  <a:lnTo>
                    <a:pt x="715240" y="259594"/>
                  </a:lnTo>
                  <a:arcTo wR="1571636" hR="1607355" stAng="-7345965" swAng="14515096"/>
                  <a:lnTo>
                    <a:pt x="1571636" y="1607355"/>
                  </a:lnTo>
                  <a:close/>
                </a:path>
                <a:path fill="none" w="3143272" h="3214709">
                  <a:moveTo>
                    <a:pt x="715240" y="259594"/>
                  </a:moveTo>
                  <a:lnTo>
                    <a:pt x="715240" y="259594"/>
                  </a:lnTo>
                  <a:arcTo wR="1571636" hR="1607355" stAng="-7345965" swAng="14515096"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9" name="Прямая со стрелкой 21"/>
            <p:cNvCxnSpPr/>
            <p:nvPr/>
          </p:nvCxnSpPr>
          <p:spPr>
            <a:xfrm flipH="1" flipV="1">
              <a:off x="5500440" y="1713600"/>
              <a:ext cx="357840" cy="5007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Группа 22"/>
          <p:cNvGrpSpPr/>
          <p:nvPr/>
        </p:nvGrpSpPr>
        <p:grpSpPr>
          <a:xfrm>
            <a:off x="1000080" y="142920"/>
            <a:ext cx="7286760" cy="5643360"/>
            <a:chOff x="1000080" y="142920"/>
            <a:chExt cx="7286760" cy="5643360"/>
          </a:xfrm>
        </p:grpSpPr>
        <p:cxnSp>
          <p:nvCxnSpPr>
            <p:cNvPr id="581" name="Прямая со стрелкой 2"/>
            <p:cNvCxnSpPr/>
            <p:nvPr/>
          </p:nvCxnSpPr>
          <p:spPr>
            <a:xfrm>
              <a:off x="1000080" y="3214800"/>
              <a:ext cx="678744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2" name="Прямая со стрелкой 4"/>
            <p:cNvCxnSpPr/>
            <p:nvPr/>
          </p:nvCxnSpPr>
          <p:spPr>
            <a:xfrm flipH="1" flipV="1">
              <a:off x="4071600" y="213840"/>
              <a:ext cx="72000" cy="5572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3" name="Овал 5"/>
            <p:cNvSpPr/>
            <p:nvPr/>
          </p:nvSpPr>
          <p:spPr>
            <a:xfrm>
              <a:off x="2500200" y="1500120"/>
              <a:ext cx="3214800" cy="3214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Прямая соединительная линия 7"/>
            <p:cNvSpPr/>
            <p:nvPr/>
          </p:nvSpPr>
          <p:spPr>
            <a:xfrm>
              <a:off x="3214440" y="714240"/>
              <a:ext cx="71280" cy="4857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Овал 9"/>
            <p:cNvSpPr/>
            <p:nvPr/>
          </p:nvSpPr>
          <p:spPr>
            <a:xfrm>
              <a:off x="3143160" y="1714320"/>
              <a:ext cx="142560" cy="1425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Овал 10"/>
            <p:cNvSpPr/>
            <p:nvPr/>
          </p:nvSpPr>
          <p:spPr>
            <a:xfrm>
              <a:off x="3214440" y="4429080"/>
              <a:ext cx="142560" cy="1425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Прямая соединительная линия 12"/>
            <p:cNvSpPr/>
            <p:nvPr/>
          </p:nvSpPr>
          <p:spPr>
            <a:xfrm flipH="1" flipV="1">
              <a:off x="3265560" y="1836360"/>
              <a:ext cx="806400" cy="137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Прямая соединительная линия 15"/>
            <p:cNvSpPr/>
            <p:nvPr/>
          </p:nvSpPr>
          <p:spPr>
            <a:xfrm flipH="1">
              <a:off x="3286080" y="3214800"/>
              <a:ext cx="785520" cy="1214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Box 16"/>
            <p:cNvSpPr/>
            <p:nvPr/>
          </p:nvSpPr>
          <p:spPr>
            <a:xfrm>
              <a:off x="4143240" y="2142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Box 17"/>
            <p:cNvSpPr/>
            <p:nvPr/>
          </p:nvSpPr>
          <p:spPr>
            <a:xfrm>
              <a:off x="7572600" y="32860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Box 18"/>
            <p:cNvSpPr/>
            <p:nvPr/>
          </p:nvSpPr>
          <p:spPr>
            <a:xfrm>
              <a:off x="5715000" y="3214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2" name="Object 2"/>
                <p:cNvSpPr txBox="1"/>
                <p:nvPr/>
              </p:nvSpPr>
              <p:spPr>
                <a:xfrm>
                  <a:off x="3071880" y="142920"/>
                  <a:ext cx="765000" cy="78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3" name="Object 3"/>
                <p:cNvSpPr txBox="1"/>
                <p:nvPr/>
              </p:nvSpPr>
              <p:spPr>
                <a:xfrm>
                  <a:off x="6286680" y="285480"/>
                  <a:ext cx="200016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4" name="Дуга 14"/>
            <p:cNvSpPr/>
            <p:nvPr/>
          </p:nvSpPr>
          <p:spPr>
            <a:xfrm>
              <a:off x="2571480" y="1500120"/>
              <a:ext cx="3143160" cy="3214440"/>
            </a:xfrm>
            <a:custGeom>
              <a:avLst/>
              <a:gdLst>
                <a:gd name="textAreaLeft" fmla="*/ 714960 w 3143160"/>
                <a:gd name="textAreaRight" fmla="*/ 3143520 w 3143160"/>
                <a:gd name="textAreaTop" fmla="*/ 0 h 3214440"/>
                <a:gd name="textAreaBottom" fmla="*/ 3214800 h 3214440"/>
              </a:gdLst>
              <a:ahLst/>
              <a:rect l="textAreaLeft" t="textAreaTop" r="textAreaRight" b="textAreaBottom"/>
              <a:pathLst>
                <a:path stroke="0" w="3143272" h="3214709">
                  <a:moveTo>
                    <a:pt x="715240" y="259594"/>
                  </a:moveTo>
                  <a:lnTo>
                    <a:pt x="715240" y="259594"/>
                  </a:lnTo>
                  <a:arcTo wR="1571636" hR="1607355" stAng="-7345965" swAng="14515096"/>
                  <a:lnTo>
                    <a:pt x="1571636" y="1607355"/>
                  </a:lnTo>
                  <a:close/>
                </a:path>
                <a:path fill="none" w="3143272" h="3214709">
                  <a:moveTo>
                    <a:pt x="715240" y="259594"/>
                  </a:moveTo>
                  <a:lnTo>
                    <a:pt x="715240" y="259594"/>
                  </a:lnTo>
                  <a:arcTo wR="1571636" hR="1607355" stAng="-7345965" swAng="14515096"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5" name="Прямая со стрелкой 21"/>
            <p:cNvCxnSpPr/>
            <p:nvPr/>
          </p:nvCxnSpPr>
          <p:spPr>
            <a:xfrm flipH="1" flipV="1">
              <a:off x="5500440" y="1713600"/>
              <a:ext cx="357840" cy="5007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6" name="Object 4"/>
                <p:cNvSpPr txBox="1"/>
                <p:nvPr/>
              </p:nvSpPr>
              <p:spPr>
                <a:xfrm>
                  <a:off x="2286000" y="4357800"/>
                  <a:ext cx="92376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7" name="Object 5"/>
                <p:cNvSpPr txBox="1"/>
                <p:nvPr/>
              </p:nvSpPr>
              <p:spPr>
                <a:xfrm>
                  <a:off x="2357280" y="1071360"/>
                  <a:ext cx="6602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Группа 27"/>
          <p:cNvGrpSpPr/>
          <p:nvPr/>
        </p:nvGrpSpPr>
        <p:grpSpPr>
          <a:xfrm>
            <a:off x="1000080" y="142920"/>
            <a:ext cx="7827840" cy="6429240"/>
            <a:chOff x="1000080" y="142920"/>
            <a:chExt cx="7827840" cy="6429240"/>
          </a:xfrm>
        </p:grpSpPr>
        <p:cxnSp>
          <p:nvCxnSpPr>
            <p:cNvPr id="599" name="Прямая со стрелкой 2"/>
            <p:cNvCxnSpPr/>
            <p:nvPr/>
          </p:nvCxnSpPr>
          <p:spPr>
            <a:xfrm>
              <a:off x="1000080" y="3214800"/>
              <a:ext cx="678744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0" name="Прямая со стрелкой 4"/>
            <p:cNvCxnSpPr/>
            <p:nvPr/>
          </p:nvCxnSpPr>
          <p:spPr>
            <a:xfrm flipH="1" flipV="1">
              <a:off x="4071600" y="213480"/>
              <a:ext cx="72000" cy="507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1" name="Овал 5"/>
            <p:cNvSpPr/>
            <p:nvPr/>
          </p:nvSpPr>
          <p:spPr>
            <a:xfrm>
              <a:off x="2500200" y="1500120"/>
              <a:ext cx="3214440" cy="3214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Прямая соединительная линия 7"/>
            <p:cNvSpPr/>
            <p:nvPr/>
          </p:nvSpPr>
          <p:spPr>
            <a:xfrm>
              <a:off x="3214440" y="714240"/>
              <a:ext cx="71280" cy="47149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Овал 9"/>
            <p:cNvSpPr/>
            <p:nvPr/>
          </p:nvSpPr>
          <p:spPr>
            <a:xfrm>
              <a:off x="3143160" y="1714320"/>
              <a:ext cx="142560" cy="1425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Овал 10"/>
            <p:cNvSpPr/>
            <p:nvPr/>
          </p:nvSpPr>
          <p:spPr>
            <a:xfrm>
              <a:off x="3214440" y="4429080"/>
              <a:ext cx="142560" cy="1425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Прямая соединительная линия 12"/>
            <p:cNvSpPr/>
            <p:nvPr/>
          </p:nvSpPr>
          <p:spPr>
            <a:xfrm flipH="1" flipV="1">
              <a:off x="3265200" y="1836360"/>
              <a:ext cx="806400" cy="137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Прямая соединительная линия 15"/>
            <p:cNvSpPr/>
            <p:nvPr/>
          </p:nvSpPr>
          <p:spPr>
            <a:xfrm flipH="1">
              <a:off x="3286080" y="3214800"/>
              <a:ext cx="785520" cy="1214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16"/>
            <p:cNvSpPr/>
            <p:nvPr/>
          </p:nvSpPr>
          <p:spPr>
            <a:xfrm>
              <a:off x="4143240" y="2142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17"/>
            <p:cNvSpPr/>
            <p:nvPr/>
          </p:nvSpPr>
          <p:spPr>
            <a:xfrm>
              <a:off x="7572240" y="32860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18"/>
            <p:cNvSpPr/>
            <p:nvPr/>
          </p:nvSpPr>
          <p:spPr>
            <a:xfrm>
              <a:off x="5715000" y="3214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0" name="Object 2"/>
                <p:cNvSpPr txBox="1"/>
                <p:nvPr/>
              </p:nvSpPr>
              <p:spPr>
                <a:xfrm>
                  <a:off x="3071520" y="142920"/>
                  <a:ext cx="765000" cy="78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1" name="Object 3"/>
                <p:cNvSpPr txBox="1"/>
                <p:nvPr/>
              </p:nvSpPr>
              <p:spPr>
                <a:xfrm>
                  <a:off x="6286320" y="285480"/>
                  <a:ext cx="200016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2" name="Дуга 14"/>
            <p:cNvSpPr/>
            <p:nvPr/>
          </p:nvSpPr>
          <p:spPr>
            <a:xfrm>
              <a:off x="2571480" y="1500120"/>
              <a:ext cx="3143160" cy="3214440"/>
            </a:xfrm>
            <a:custGeom>
              <a:avLst/>
              <a:gdLst>
                <a:gd name="textAreaLeft" fmla="*/ 714960 w 3143160"/>
                <a:gd name="textAreaRight" fmla="*/ 3143520 w 3143160"/>
                <a:gd name="textAreaTop" fmla="*/ 0 h 3214440"/>
                <a:gd name="textAreaBottom" fmla="*/ 3214800 h 3214440"/>
              </a:gdLst>
              <a:ahLst/>
              <a:rect l="textAreaLeft" t="textAreaTop" r="textAreaRight" b="textAreaBottom"/>
              <a:pathLst>
                <a:path stroke="0" w="3143260" h="3214698">
                  <a:moveTo>
                    <a:pt x="715237" y="259593"/>
                  </a:moveTo>
                  <a:lnTo>
                    <a:pt x="715237" y="259593"/>
                  </a:lnTo>
                  <a:arcTo wR="1571630" hR="1607349" stAng="-7345965" swAng="14515096"/>
                  <a:lnTo>
                    <a:pt x="1571630" y="1607349"/>
                  </a:lnTo>
                  <a:close/>
                </a:path>
                <a:path fill="none" w="3143260" h="3214698">
                  <a:moveTo>
                    <a:pt x="715237" y="259593"/>
                  </a:moveTo>
                  <a:lnTo>
                    <a:pt x="715237" y="259593"/>
                  </a:lnTo>
                  <a:arcTo wR="1571630" hR="1607349" stAng="-7345965" swAng="14515096"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3" name="Прямая со стрелкой 21"/>
            <p:cNvCxnSpPr/>
            <p:nvPr/>
          </p:nvCxnSpPr>
          <p:spPr>
            <a:xfrm flipH="1" flipV="1">
              <a:off x="5500080" y="1713600"/>
              <a:ext cx="357840" cy="5007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14" name="Object 4"/>
                <p:cNvSpPr txBox="1"/>
                <p:nvPr/>
              </p:nvSpPr>
              <p:spPr>
                <a:xfrm>
                  <a:off x="2285640" y="4357800"/>
                  <a:ext cx="92376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5" name="Object 5"/>
                <p:cNvSpPr txBox="1"/>
                <p:nvPr/>
              </p:nvSpPr>
              <p:spPr>
                <a:xfrm>
                  <a:off x="2357280" y="1071360"/>
                  <a:ext cx="6602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6" name="Object 6"/>
                <p:cNvSpPr txBox="1"/>
                <p:nvPr/>
              </p:nvSpPr>
              <p:spPr>
                <a:xfrm>
                  <a:off x="3906720" y="5286600"/>
                  <a:ext cx="4921200" cy="12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Овал 5"/>
          <p:cNvSpPr/>
          <p:nvPr/>
        </p:nvSpPr>
        <p:spPr>
          <a:xfrm>
            <a:off x="2143080" y="1143000"/>
            <a:ext cx="4786200" cy="4643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м значения сину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син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6426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90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20°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3                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3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60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35°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4                              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4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50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5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6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/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0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80°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-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0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0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0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/2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½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360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cos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10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7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6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/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11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6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30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[-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6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25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5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4                      -                                      7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15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-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4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40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4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3               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5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00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-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3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70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3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[-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i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Прямая со стрелкой 11"/>
          <p:cNvCxnSpPr/>
          <p:nvPr/>
        </p:nvCxnSpPr>
        <p:spPr>
          <a:xfrm>
            <a:off x="1000080" y="3499920"/>
            <a:ext cx="74304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Прямая со стрелкой 20"/>
          <p:cNvCxnSpPr/>
          <p:nvPr/>
        </p:nvCxnSpPr>
        <p:spPr>
          <a:xfrm flipH="1" flipV="1">
            <a:off x="4571640" y="570960"/>
            <a:ext cx="2160" cy="6072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Овал 26"/>
          <p:cNvSpPr/>
          <p:nvPr/>
        </p:nvSpPr>
        <p:spPr>
          <a:xfrm>
            <a:off x="6572160" y="228600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27"/>
          <p:cNvSpPr/>
          <p:nvPr/>
        </p:nvSpPr>
        <p:spPr>
          <a:xfrm>
            <a:off x="5715000" y="1428840"/>
            <a:ext cx="712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28"/>
          <p:cNvSpPr/>
          <p:nvPr/>
        </p:nvSpPr>
        <p:spPr>
          <a:xfrm>
            <a:off x="3357720" y="1428840"/>
            <a:ext cx="712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29"/>
          <p:cNvSpPr/>
          <p:nvPr/>
        </p:nvSpPr>
        <p:spPr>
          <a:xfrm>
            <a:off x="2428920" y="2286000"/>
            <a:ext cx="712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30"/>
          <p:cNvSpPr/>
          <p:nvPr/>
        </p:nvSpPr>
        <p:spPr>
          <a:xfrm>
            <a:off x="2786040" y="178596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31"/>
          <p:cNvSpPr/>
          <p:nvPr/>
        </p:nvSpPr>
        <p:spPr>
          <a:xfrm>
            <a:off x="2857680" y="5072040"/>
            <a:ext cx="71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32"/>
          <p:cNvSpPr/>
          <p:nvPr/>
        </p:nvSpPr>
        <p:spPr>
          <a:xfrm>
            <a:off x="2500200" y="46432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33"/>
          <p:cNvSpPr/>
          <p:nvPr/>
        </p:nvSpPr>
        <p:spPr>
          <a:xfrm>
            <a:off x="3357720" y="5429160"/>
            <a:ext cx="71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34"/>
          <p:cNvSpPr/>
          <p:nvPr/>
        </p:nvSpPr>
        <p:spPr>
          <a:xfrm flipH="1">
            <a:off x="6500880" y="4643280"/>
            <a:ext cx="71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35"/>
          <p:cNvSpPr/>
          <p:nvPr/>
        </p:nvSpPr>
        <p:spPr>
          <a:xfrm>
            <a:off x="5643720" y="5429160"/>
            <a:ext cx="71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36"/>
          <p:cNvSpPr/>
          <p:nvPr/>
        </p:nvSpPr>
        <p:spPr>
          <a:xfrm>
            <a:off x="6143760" y="5072040"/>
            <a:ext cx="71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37"/>
          <p:cNvSpPr/>
          <p:nvPr/>
        </p:nvSpPr>
        <p:spPr>
          <a:xfrm>
            <a:off x="4500720" y="1071720"/>
            <a:ext cx="712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8"/>
          <p:cNvSpPr/>
          <p:nvPr/>
        </p:nvSpPr>
        <p:spPr>
          <a:xfrm>
            <a:off x="4572000" y="578628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9"/>
          <p:cNvSpPr/>
          <p:nvPr/>
        </p:nvSpPr>
        <p:spPr>
          <a:xfrm>
            <a:off x="2143080" y="3429000"/>
            <a:ext cx="7164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40"/>
          <p:cNvSpPr/>
          <p:nvPr/>
        </p:nvSpPr>
        <p:spPr>
          <a:xfrm>
            <a:off x="6948360" y="3716280"/>
            <a:ext cx="7164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41"/>
          <p:cNvSpPr/>
          <p:nvPr/>
        </p:nvSpPr>
        <p:spPr>
          <a:xfrm>
            <a:off x="6215040" y="178596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43"/>
          <p:cNvSpPr/>
          <p:nvPr/>
        </p:nvSpPr>
        <p:spPr>
          <a:xfrm flipV="1">
            <a:off x="2844720" y="1821960"/>
            <a:ext cx="338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45"/>
          <p:cNvSpPr/>
          <p:nvPr/>
        </p:nvSpPr>
        <p:spPr>
          <a:xfrm flipH="1">
            <a:off x="3429000" y="1500120"/>
            <a:ext cx="239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58"/>
          <p:cNvSpPr/>
          <p:nvPr/>
        </p:nvSpPr>
        <p:spPr>
          <a:xfrm>
            <a:off x="2439360" y="2346480"/>
            <a:ext cx="4143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68"/>
          <p:cNvSpPr/>
          <p:nvPr/>
        </p:nvSpPr>
        <p:spPr>
          <a:xfrm>
            <a:off x="2859120" y="1857240"/>
            <a:ext cx="936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70"/>
          <p:cNvSpPr/>
          <p:nvPr/>
        </p:nvSpPr>
        <p:spPr>
          <a:xfrm flipH="1">
            <a:off x="3392640" y="1500120"/>
            <a:ext cx="25200" cy="39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76"/>
          <p:cNvSpPr/>
          <p:nvPr/>
        </p:nvSpPr>
        <p:spPr>
          <a:xfrm>
            <a:off x="2499480" y="2357280"/>
            <a:ext cx="25560" cy="229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78"/>
          <p:cNvSpPr/>
          <p:nvPr/>
        </p:nvSpPr>
        <p:spPr>
          <a:xfrm>
            <a:off x="2559960" y="4703760"/>
            <a:ext cx="40114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83"/>
          <p:cNvSpPr/>
          <p:nvPr/>
        </p:nvSpPr>
        <p:spPr>
          <a:xfrm flipH="1">
            <a:off x="6572160" y="2357280"/>
            <a:ext cx="36720" cy="230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85"/>
          <p:cNvSpPr/>
          <p:nvPr/>
        </p:nvSpPr>
        <p:spPr>
          <a:xfrm flipV="1">
            <a:off x="2928960" y="5106960"/>
            <a:ext cx="3298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09"/>
          <p:cNvSpPr/>
          <p:nvPr/>
        </p:nvSpPr>
        <p:spPr>
          <a:xfrm>
            <a:off x="3368520" y="5489640"/>
            <a:ext cx="23464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11"/>
          <p:cNvSpPr/>
          <p:nvPr/>
        </p:nvSpPr>
        <p:spPr>
          <a:xfrm flipH="1">
            <a:off x="5714640" y="1500120"/>
            <a:ext cx="36360" cy="39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14"/>
          <p:cNvSpPr/>
          <p:nvPr/>
        </p:nvSpPr>
        <p:spPr>
          <a:xfrm flipH="1">
            <a:off x="6214680" y="1797120"/>
            <a:ext cx="11160" cy="33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4214880" y="1357200"/>
            <a:ext cx="342720" cy="209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2357280" y="3571920"/>
            <a:ext cx="343080" cy="2095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3"/>
          <a:stretch/>
        </p:blipFill>
        <p:spPr>
          <a:xfrm>
            <a:off x="6500880" y="3571920"/>
            <a:ext cx="342720" cy="209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4143240" y="5286240"/>
            <a:ext cx="343080" cy="209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"/>
          <p:cNvPicPr/>
          <p:nvPr/>
        </p:nvPicPr>
        <p:blipFill>
          <a:blip r:embed="rId5"/>
          <a:stretch/>
        </p:blipFill>
        <p:spPr>
          <a:xfrm>
            <a:off x="4214880" y="1714680"/>
            <a:ext cx="342720" cy="209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"/>
          <p:cNvPicPr/>
          <p:nvPr/>
        </p:nvPicPr>
        <p:blipFill>
          <a:blip r:embed="rId6"/>
          <a:stretch/>
        </p:blipFill>
        <p:spPr>
          <a:xfrm>
            <a:off x="4143240" y="4929120"/>
            <a:ext cx="343080" cy="209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7"/>
          <a:stretch/>
        </p:blipFill>
        <p:spPr>
          <a:xfrm>
            <a:off x="2857680" y="3571920"/>
            <a:ext cx="34272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"/>
          <p:cNvPicPr/>
          <p:nvPr/>
        </p:nvPicPr>
        <p:blipFill>
          <a:blip r:embed="rId8"/>
          <a:stretch/>
        </p:blipFill>
        <p:spPr>
          <a:xfrm>
            <a:off x="6072120" y="3571920"/>
            <a:ext cx="34308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7" name="Object 2"/>
              <p:cNvSpPr txBox="1"/>
              <p:nvPr/>
            </p:nvSpPr>
            <p:spPr>
              <a:xfrm>
                <a:off x="3143160" y="0"/>
                <a:ext cx="7653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18" name="Группа 25"/>
          <p:cNvGrpSpPr/>
          <p:nvPr/>
        </p:nvGrpSpPr>
        <p:grpSpPr>
          <a:xfrm>
            <a:off x="1000080" y="142560"/>
            <a:ext cx="7763040" cy="6501240"/>
            <a:chOff x="1000080" y="142560"/>
            <a:chExt cx="7763040" cy="6501240"/>
          </a:xfrm>
        </p:grpSpPr>
        <p:cxnSp>
          <p:nvCxnSpPr>
            <p:cNvPr id="619" name="Прямая со стрелкой 2"/>
            <p:cNvCxnSpPr/>
            <p:nvPr/>
          </p:nvCxnSpPr>
          <p:spPr>
            <a:xfrm>
              <a:off x="1000080" y="3214800"/>
              <a:ext cx="678744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20" name="Группа 24"/>
            <p:cNvGrpSpPr/>
            <p:nvPr/>
          </p:nvGrpSpPr>
          <p:grpSpPr>
            <a:xfrm>
              <a:off x="2214000" y="142560"/>
              <a:ext cx="6549120" cy="6501240"/>
              <a:chOff x="2214000" y="142560"/>
              <a:chExt cx="6549120" cy="6501240"/>
            </a:xfrm>
          </p:grpSpPr>
          <p:cxnSp>
            <p:nvCxnSpPr>
              <p:cNvPr id="621" name="Прямая со стрелкой 4"/>
              <p:cNvCxnSpPr/>
              <p:nvPr/>
            </p:nvCxnSpPr>
            <p:spPr>
              <a:xfrm flipH="1" flipV="1">
                <a:off x="4071240" y="142560"/>
                <a:ext cx="72000" cy="51444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22" name="Овал 5"/>
              <p:cNvSpPr/>
              <p:nvPr/>
            </p:nvSpPr>
            <p:spPr>
              <a:xfrm>
                <a:off x="2499840" y="1500120"/>
                <a:ext cx="3214800" cy="3214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Прямая соединительная линия 7"/>
              <p:cNvSpPr/>
              <p:nvPr/>
            </p:nvSpPr>
            <p:spPr>
              <a:xfrm>
                <a:off x="3214440" y="500040"/>
                <a:ext cx="71280" cy="485784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Овал 9"/>
              <p:cNvSpPr/>
              <p:nvPr/>
            </p:nvSpPr>
            <p:spPr>
              <a:xfrm>
                <a:off x="3142800" y="1714320"/>
                <a:ext cx="142560" cy="142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Овал 10"/>
              <p:cNvSpPr/>
              <p:nvPr/>
            </p:nvSpPr>
            <p:spPr>
              <a:xfrm>
                <a:off x="3214440" y="4429440"/>
                <a:ext cx="142560" cy="142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Прямая соединительная линия 12"/>
              <p:cNvSpPr/>
              <p:nvPr/>
            </p:nvSpPr>
            <p:spPr>
              <a:xfrm flipH="1" flipV="1">
                <a:off x="3265200" y="1836360"/>
                <a:ext cx="806400" cy="13777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Прямая соединительная линия 15"/>
              <p:cNvSpPr/>
              <p:nvPr/>
            </p:nvSpPr>
            <p:spPr>
              <a:xfrm flipH="1">
                <a:off x="3285360" y="3214800"/>
                <a:ext cx="785880" cy="12142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Box 16"/>
              <p:cNvSpPr/>
              <p:nvPr/>
            </p:nvSpPr>
            <p:spPr>
              <a:xfrm>
                <a:off x="4143240" y="214200"/>
                <a:ext cx="71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Box 17"/>
              <p:cNvSpPr/>
              <p:nvPr/>
            </p:nvSpPr>
            <p:spPr>
              <a:xfrm>
                <a:off x="7572600" y="3286080"/>
                <a:ext cx="71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TextBox 18"/>
              <p:cNvSpPr/>
              <p:nvPr/>
            </p:nvSpPr>
            <p:spPr>
              <a:xfrm>
                <a:off x="5715000" y="3214800"/>
                <a:ext cx="92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1" name="Object 3"/>
                  <p:cNvSpPr txBox="1"/>
                  <p:nvPr/>
                </p:nvSpPr>
                <p:spPr>
                  <a:xfrm>
                    <a:off x="6286680" y="285480"/>
                    <a:ext cx="2000160" cy="89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2" name="Дуга 14"/>
              <p:cNvSpPr/>
              <p:nvPr/>
            </p:nvSpPr>
            <p:spPr>
              <a:xfrm rot="10800000">
                <a:off x="2499840" y="1500120"/>
                <a:ext cx="3214800" cy="3214800"/>
              </a:xfrm>
              <a:custGeom>
                <a:avLst/>
                <a:gdLst>
                  <a:gd name="textAreaLeft" fmla="*/ 2441160 w 3214800"/>
                  <a:gd name="textAreaRight" fmla="*/ 3215160 w 3214800"/>
                  <a:gd name="textAreaTop" fmla="*/ 232920 h 3214800"/>
                  <a:gd name="textAreaBottom" fmla="*/ 2890800 h 3214800"/>
                </a:gdLst>
                <a:ahLst/>
                <a:rect l="textAreaLeft" t="textAreaTop" r="textAreaRight" b="textAreaBottom"/>
                <a:pathLst>
                  <a:path stroke="0" w="3214696" h="3214698">
                    <a:moveTo>
                      <a:pt x="2440961" y="233064"/>
                    </a:moveTo>
                    <a:lnTo>
                      <a:pt x="2440961" y="233064"/>
                    </a:lnTo>
                    <a:arcTo wR="1607348" hR="1607349" stAng="-3525592" swAng="6704179"/>
                    <a:lnTo>
                      <a:pt x="1607348" y="1607349"/>
                    </a:lnTo>
                    <a:close/>
                  </a:path>
                  <a:path fill="none" w="3214696" h="3214698">
                    <a:moveTo>
                      <a:pt x="2440961" y="233064"/>
                    </a:moveTo>
                    <a:lnTo>
                      <a:pt x="2440961" y="233064"/>
                    </a:lnTo>
                    <a:arcTo wR="1607348" hR="1607349" stAng="-3525592" swAng="6704179"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3" name="Прямая со стрелкой 21"/>
              <p:cNvCxnSpPr/>
              <p:nvPr/>
            </p:nvCxnSpPr>
            <p:spPr>
              <a:xfrm flipH="1">
                <a:off x="2214000" y="2285640"/>
                <a:ext cx="143280" cy="50076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634" name="Object 4"/>
                  <p:cNvSpPr txBox="1"/>
                  <p:nvPr/>
                </p:nvSpPr>
                <p:spPr>
                  <a:xfrm>
                    <a:off x="2499840" y="928440"/>
                    <a:ext cx="660240" cy="85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5" name="Object 5"/>
                  <p:cNvSpPr txBox="1"/>
                  <p:nvPr/>
                </p:nvSpPr>
                <p:spPr>
                  <a:xfrm>
                    <a:off x="2571480" y="4286520"/>
                    <a:ext cx="660240" cy="85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6" name="Object 6"/>
                  <p:cNvSpPr txBox="1"/>
                  <p:nvPr/>
                </p:nvSpPr>
                <p:spPr>
                  <a:xfrm>
                    <a:off x="4143240" y="5215320"/>
                    <a:ext cx="4619880" cy="142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е тригонометрические нераве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3"/>
          <p:cNvSpPr/>
          <p:nvPr/>
        </p:nvSpPr>
        <p:spPr>
          <a:xfrm>
            <a:off x="504360" y="1143000"/>
            <a:ext cx="115776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&gt;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Группа 13"/>
          <p:cNvGrpSpPr/>
          <p:nvPr/>
        </p:nvGrpSpPr>
        <p:grpSpPr>
          <a:xfrm>
            <a:off x="1849320" y="928800"/>
            <a:ext cx="2079000" cy="1842480"/>
            <a:chOff x="1849320" y="928800"/>
            <a:chExt cx="2079000" cy="1842480"/>
          </a:xfrm>
        </p:grpSpPr>
        <p:sp>
          <p:nvSpPr>
            <p:cNvPr id="640" name="Блок-схема: узел 4"/>
            <p:cNvSpPr/>
            <p:nvPr/>
          </p:nvSpPr>
          <p:spPr>
            <a:xfrm>
              <a:off x="1999800" y="1285920"/>
              <a:ext cx="1428840" cy="1428480"/>
            </a:xfrm>
            <a:prstGeom prst="flowChartConnec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Прямая со стрелкой 6"/>
            <p:cNvCxnSpPr/>
            <p:nvPr/>
          </p:nvCxnSpPr>
          <p:spPr>
            <a:xfrm flipV="1">
              <a:off x="1849320" y="2002680"/>
              <a:ext cx="1904400" cy="6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42" name="Прямая со стрелкой 10"/>
            <p:cNvCxnSpPr/>
            <p:nvPr/>
          </p:nvCxnSpPr>
          <p:spPr>
            <a:xfrm flipH="1" flipV="1">
              <a:off x="2691720" y="1067760"/>
              <a:ext cx="20880" cy="1703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43" name="TextBox 11"/>
            <p:cNvSpPr/>
            <p:nvPr/>
          </p:nvSpPr>
          <p:spPr>
            <a:xfrm>
              <a:off x="2430360" y="928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12"/>
            <p:cNvSpPr/>
            <p:nvPr/>
          </p:nvSpPr>
          <p:spPr>
            <a:xfrm>
              <a:off x="3645360" y="1714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Группа 16"/>
          <p:cNvGrpSpPr/>
          <p:nvPr/>
        </p:nvGrpSpPr>
        <p:grpSpPr>
          <a:xfrm>
            <a:off x="2788560" y="1928880"/>
            <a:ext cx="295200" cy="368280"/>
            <a:chOff x="2788560" y="1928880"/>
            <a:chExt cx="295200" cy="368280"/>
          </a:xfrm>
        </p:grpSpPr>
        <p:sp>
          <p:nvSpPr>
            <p:cNvPr id="646" name="TextBox 14"/>
            <p:cNvSpPr/>
            <p:nvPr/>
          </p:nvSpPr>
          <p:spPr>
            <a:xfrm>
              <a:off x="2788560" y="1928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Блок-схема: узел 15"/>
            <p:cNvSpPr/>
            <p:nvPr/>
          </p:nvSpPr>
          <p:spPr>
            <a:xfrm>
              <a:off x="2970360" y="1969920"/>
              <a:ext cx="71280" cy="712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Группа 21"/>
          <p:cNvGrpSpPr/>
          <p:nvPr/>
        </p:nvGrpSpPr>
        <p:grpSpPr>
          <a:xfrm>
            <a:off x="2970360" y="1177920"/>
            <a:ext cx="91800" cy="1733400"/>
            <a:chOff x="2970360" y="1177920"/>
            <a:chExt cx="91800" cy="1733400"/>
          </a:xfrm>
        </p:grpSpPr>
        <p:sp>
          <p:nvSpPr>
            <p:cNvPr id="649" name="Прямая соединительная линия 18"/>
            <p:cNvSpPr/>
            <p:nvPr/>
          </p:nvSpPr>
          <p:spPr>
            <a:xfrm>
              <a:off x="2991600" y="1177920"/>
              <a:ext cx="28440" cy="17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Блок-схема: узел 19"/>
            <p:cNvSpPr/>
            <p:nvPr/>
          </p:nvSpPr>
          <p:spPr>
            <a:xfrm>
              <a:off x="2970360" y="1323720"/>
              <a:ext cx="71280" cy="712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Блок-схема: узел 20"/>
            <p:cNvSpPr/>
            <p:nvPr/>
          </p:nvSpPr>
          <p:spPr>
            <a:xfrm>
              <a:off x="2990880" y="2620800"/>
              <a:ext cx="71280" cy="712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Прямая соединительная линия 23"/>
          <p:cNvSpPr/>
          <p:nvPr/>
        </p:nvSpPr>
        <p:spPr>
          <a:xfrm>
            <a:off x="3041640" y="2004840"/>
            <a:ext cx="3888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Дуга 24"/>
          <p:cNvSpPr/>
          <p:nvPr/>
        </p:nvSpPr>
        <p:spPr>
          <a:xfrm>
            <a:off x="1928880" y="1285920"/>
            <a:ext cx="1500120" cy="1428840"/>
          </a:xfrm>
          <a:custGeom>
            <a:avLst/>
            <a:gdLst>
              <a:gd name="textAreaLeft" fmla="*/ 1108080 w 1500120"/>
              <a:gd name="textAreaRight" fmla="*/ 1500480 w 1500120"/>
              <a:gd name="textAreaTop" fmla="*/ 86400 h 1428840"/>
              <a:gd name="textAreaBottom" fmla="*/ 1340640 h 1428840"/>
            </a:gdLst>
            <a:ahLst/>
            <a:rect l="textAreaLeft" t="textAreaTop" r="textAreaRight" b="textAreaBottom"/>
            <a:pathLst>
              <a:path stroke="0" w="1500187" h="1428750">
                <a:moveTo>
                  <a:pt x="1107956" y="86544"/>
                </a:moveTo>
                <a:lnTo>
                  <a:pt x="1107956" y="86544"/>
                </a:lnTo>
                <a:arcTo wR="750094" hR="714375" stAng="-3619014" swAng="7219204"/>
                <a:lnTo>
                  <a:pt x="750094" y="714375"/>
                </a:lnTo>
                <a:close/>
              </a:path>
              <a:path fill="none" w="1500187" h="1428750">
                <a:moveTo>
                  <a:pt x="1107956" y="86544"/>
                </a:moveTo>
                <a:lnTo>
                  <a:pt x="1107956" y="86544"/>
                </a:lnTo>
                <a:arcTo wR="750094" hR="714375" stAng="-3619014" swAng="7219204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Группа 27"/>
          <p:cNvGrpSpPr/>
          <p:nvPr/>
        </p:nvGrpSpPr>
        <p:grpSpPr>
          <a:xfrm>
            <a:off x="3076560" y="1071720"/>
            <a:ext cx="956880" cy="1797480"/>
            <a:chOff x="3076560" y="1071720"/>
            <a:chExt cx="956880" cy="1797480"/>
          </a:xfrm>
        </p:grpSpPr>
        <p:sp>
          <p:nvSpPr>
            <p:cNvPr id="655" name="TextBox 25"/>
            <p:cNvSpPr/>
            <p:nvPr/>
          </p:nvSpPr>
          <p:spPr>
            <a:xfrm>
              <a:off x="3076560" y="1071720"/>
              <a:ext cx="88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ccos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26"/>
            <p:cNvSpPr/>
            <p:nvPr/>
          </p:nvSpPr>
          <p:spPr>
            <a:xfrm>
              <a:off x="3076920" y="250092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arccos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TextBox 28"/>
          <p:cNvSpPr/>
          <p:nvPr/>
        </p:nvSpPr>
        <p:spPr>
          <a:xfrm>
            <a:off x="230040" y="3286080"/>
            <a:ext cx="421308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(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co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; arcco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), 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29"/>
          <p:cNvSpPr/>
          <p:nvPr/>
        </p:nvSpPr>
        <p:spPr>
          <a:xfrm>
            <a:off x="4933800" y="1143000"/>
            <a:ext cx="111960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int &lt;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Группа 30"/>
          <p:cNvGrpSpPr/>
          <p:nvPr/>
        </p:nvGrpSpPr>
        <p:grpSpPr>
          <a:xfrm>
            <a:off x="6572160" y="928800"/>
            <a:ext cx="2079000" cy="1842480"/>
            <a:chOff x="6572160" y="928800"/>
            <a:chExt cx="2079000" cy="1842480"/>
          </a:xfrm>
        </p:grpSpPr>
        <p:sp>
          <p:nvSpPr>
            <p:cNvPr id="660" name="Блок-схема: узел 31"/>
            <p:cNvSpPr/>
            <p:nvPr/>
          </p:nvSpPr>
          <p:spPr>
            <a:xfrm>
              <a:off x="6722640" y="1285920"/>
              <a:ext cx="1428840" cy="1428480"/>
            </a:xfrm>
            <a:prstGeom prst="flowChartConnec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1" name="Прямая со стрелкой 32"/>
            <p:cNvCxnSpPr/>
            <p:nvPr/>
          </p:nvCxnSpPr>
          <p:spPr>
            <a:xfrm flipV="1">
              <a:off x="6572160" y="2002680"/>
              <a:ext cx="1904400" cy="6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62" name="Прямая со стрелкой 33"/>
            <p:cNvCxnSpPr/>
            <p:nvPr/>
          </p:nvCxnSpPr>
          <p:spPr>
            <a:xfrm flipH="1" flipV="1">
              <a:off x="7414560" y="1067760"/>
              <a:ext cx="20880" cy="1703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63" name="TextBox 34"/>
            <p:cNvSpPr/>
            <p:nvPr/>
          </p:nvSpPr>
          <p:spPr>
            <a:xfrm>
              <a:off x="7153200" y="928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5"/>
            <p:cNvSpPr/>
            <p:nvPr/>
          </p:nvSpPr>
          <p:spPr>
            <a:xfrm>
              <a:off x="8368200" y="1714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Группа 47"/>
          <p:cNvGrpSpPr/>
          <p:nvPr/>
        </p:nvGrpSpPr>
        <p:grpSpPr>
          <a:xfrm>
            <a:off x="7360560" y="1428840"/>
            <a:ext cx="295200" cy="368280"/>
            <a:chOff x="7360560" y="1428840"/>
            <a:chExt cx="295200" cy="368280"/>
          </a:xfrm>
        </p:grpSpPr>
        <p:sp>
          <p:nvSpPr>
            <p:cNvPr id="666" name="TextBox 43"/>
            <p:cNvSpPr/>
            <p:nvPr/>
          </p:nvSpPr>
          <p:spPr>
            <a:xfrm>
              <a:off x="7360560" y="1428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Блок-схема: узел 44"/>
            <p:cNvSpPr/>
            <p:nvPr/>
          </p:nvSpPr>
          <p:spPr>
            <a:xfrm>
              <a:off x="7389720" y="1576440"/>
              <a:ext cx="71280" cy="712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Группа 51"/>
          <p:cNvGrpSpPr/>
          <p:nvPr/>
        </p:nvGrpSpPr>
        <p:grpSpPr>
          <a:xfrm>
            <a:off x="6494400" y="1601640"/>
            <a:ext cx="1731960" cy="85680"/>
            <a:chOff x="6494400" y="1601640"/>
            <a:chExt cx="1731960" cy="85680"/>
          </a:xfrm>
        </p:grpSpPr>
        <p:sp>
          <p:nvSpPr>
            <p:cNvPr id="669" name="Блок-схема: узел 45"/>
            <p:cNvSpPr/>
            <p:nvPr/>
          </p:nvSpPr>
          <p:spPr>
            <a:xfrm>
              <a:off x="6791040" y="1615680"/>
              <a:ext cx="71280" cy="716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Блок-схема: узел 46"/>
            <p:cNvSpPr/>
            <p:nvPr/>
          </p:nvSpPr>
          <p:spPr>
            <a:xfrm>
              <a:off x="8023320" y="1601640"/>
              <a:ext cx="71280" cy="716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Прямая соединительная линия 49"/>
            <p:cNvSpPr/>
            <p:nvPr/>
          </p:nvSpPr>
          <p:spPr>
            <a:xfrm>
              <a:off x="6494400" y="1628640"/>
              <a:ext cx="1731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Прямая соединительная линия 53"/>
          <p:cNvSpPr/>
          <p:nvPr/>
        </p:nvSpPr>
        <p:spPr>
          <a:xfrm>
            <a:off x="7423920" y="1647720"/>
            <a:ext cx="9720" cy="1063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Дуга 54"/>
          <p:cNvSpPr/>
          <p:nvPr/>
        </p:nvSpPr>
        <p:spPr>
          <a:xfrm rot="5400000">
            <a:off x="6714720" y="1285560"/>
            <a:ext cx="1428840" cy="1428840"/>
          </a:xfrm>
          <a:custGeom>
            <a:avLst/>
            <a:gdLst>
              <a:gd name="textAreaLeft" fmla="*/ 390240 w 1428840"/>
              <a:gd name="textAreaRight" fmla="*/ 1429200 w 14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stroke="0" w="1428750" h="1428750">
                <a:moveTo>
                  <a:pt x="390276" y="77750"/>
                </a:moveTo>
                <a:lnTo>
                  <a:pt x="390276" y="77750"/>
                </a:lnTo>
                <a:arcTo wR="714375" hR="714375" stAng="-7018810" swAng="14001347"/>
                <a:lnTo>
                  <a:pt x="714375" y="714375"/>
                </a:lnTo>
                <a:close/>
              </a:path>
              <a:path fill="none" w="1428750" h="1428750">
                <a:moveTo>
                  <a:pt x="390276" y="77750"/>
                </a:moveTo>
                <a:lnTo>
                  <a:pt x="390276" y="77750"/>
                </a:lnTo>
                <a:arcTo wR="714375" hR="714375" stAng="-7018810" swAng="14001347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Группа 57"/>
          <p:cNvGrpSpPr/>
          <p:nvPr/>
        </p:nvGrpSpPr>
        <p:grpSpPr>
          <a:xfrm>
            <a:off x="5507280" y="1500120"/>
            <a:ext cx="3398760" cy="439560"/>
            <a:chOff x="5507280" y="1500120"/>
            <a:chExt cx="3398760" cy="439560"/>
          </a:xfrm>
        </p:grpSpPr>
        <p:sp>
          <p:nvSpPr>
            <p:cNvPr id="675" name="TextBox 55"/>
            <p:cNvSpPr/>
            <p:nvPr/>
          </p:nvSpPr>
          <p:spPr>
            <a:xfrm>
              <a:off x="8006040" y="150012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csin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56"/>
            <p:cNvSpPr/>
            <p:nvPr/>
          </p:nvSpPr>
          <p:spPr>
            <a:xfrm>
              <a:off x="5507280" y="157140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(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csin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а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TextBox 58"/>
          <p:cNvSpPr/>
          <p:nvPr/>
        </p:nvSpPr>
        <p:spPr>
          <a:xfrm>
            <a:off x="4374000" y="2786040"/>
            <a:ext cx="453456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(-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sin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2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; arcsin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), 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59"/>
          <p:cNvSpPr/>
          <p:nvPr/>
        </p:nvSpPr>
        <p:spPr>
          <a:xfrm>
            <a:off x="504360" y="3929040"/>
            <a:ext cx="1107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tgt &gt; -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Группа 75"/>
          <p:cNvGrpSpPr/>
          <p:nvPr/>
        </p:nvGrpSpPr>
        <p:grpSpPr>
          <a:xfrm>
            <a:off x="1928880" y="3857760"/>
            <a:ext cx="1671120" cy="1774800"/>
            <a:chOff x="1928880" y="3857760"/>
            <a:chExt cx="1671120" cy="1774800"/>
          </a:xfrm>
        </p:grpSpPr>
        <p:grpSp>
          <p:nvGrpSpPr>
            <p:cNvPr id="680" name="Группа 68"/>
            <p:cNvGrpSpPr/>
            <p:nvPr/>
          </p:nvGrpSpPr>
          <p:grpSpPr>
            <a:xfrm>
              <a:off x="1928880" y="3857760"/>
              <a:ext cx="1671120" cy="1774800"/>
              <a:chOff x="1928880" y="3857760"/>
              <a:chExt cx="1671120" cy="1774800"/>
            </a:xfrm>
          </p:grpSpPr>
          <p:grpSp>
            <p:nvGrpSpPr>
              <p:cNvPr id="681" name="Группа 60"/>
              <p:cNvGrpSpPr/>
              <p:nvPr/>
            </p:nvGrpSpPr>
            <p:grpSpPr>
              <a:xfrm>
                <a:off x="1928880" y="3881160"/>
                <a:ext cx="1671120" cy="1612080"/>
                <a:chOff x="1928880" y="3881160"/>
                <a:chExt cx="1671120" cy="1612080"/>
              </a:xfrm>
            </p:grpSpPr>
            <p:sp>
              <p:nvSpPr>
                <p:cNvPr id="682" name="Блок-схема: узел 61"/>
                <p:cNvSpPr/>
                <p:nvPr/>
              </p:nvSpPr>
              <p:spPr>
                <a:xfrm>
                  <a:off x="2047680" y="4157280"/>
                  <a:ext cx="1127160" cy="1107000"/>
                </a:xfrm>
                <a:prstGeom prst="flowChartConnector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83" name="Прямая со стрелкой 62"/>
                <p:cNvCxnSpPr/>
                <p:nvPr/>
              </p:nvCxnSpPr>
              <p:spPr>
                <a:xfrm flipV="1">
                  <a:off x="1928880" y="4714560"/>
                  <a:ext cx="1504080" cy="360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684" name="Прямая со стрелкой 63"/>
                <p:cNvCxnSpPr/>
                <p:nvPr/>
              </p:nvCxnSpPr>
              <p:spPr>
                <a:xfrm flipH="1" flipV="1">
                  <a:off x="2593800" y="3988800"/>
                  <a:ext cx="25920" cy="150480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685" name="TextBox 64"/>
                <p:cNvSpPr/>
                <p:nvPr/>
              </p:nvSpPr>
              <p:spPr>
                <a:xfrm>
                  <a:off x="2357640" y="388116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TextBox 65"/>
                <p:cNvSpPr/>
                <p:nvPr/>
              </p:nvSpPr>
              <p:spPr>
                <a:xfrm>
                  <a:off x="3317040" y="4490280"/>
                  <a:ext cx="282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Прямая соединительная линия 67"/>
              <p:cNvSpPr/>
              <p:nvPr/>
            </p:nvSpPr>
            <p:spPr>
              <a:xfrm>
                <a:off x="3179880" y="3857760"/>
                <a:ext cx="17280" cy="177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Блок-схема: узел 70"/>
            <p:cNvSpPr/>
            <p:nvPr/>
          </p:nvSpPr>
          <p:spPr>
            <a:xfrm>
              <a:off x="2562120" y="4119480"/>
              <a:ext cx="71280" cy="712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Блок-схема: узел 74"/>
            <p:cNvSpPr/>
            <p:nvPr/>
          </p:nvSpPr>
          <p:spPr>
            <a:xfrm>
              <a:off x="2571840" y="5221440"/>
              <a:ext cx="71280" cy="712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Группа 78"/>
          <p:cNvGrpSpPr/>
          <p:nvPr/>
        </p:nvGrpSpPr>
        <p:grpSpPr>
          <a:xfrm>
            <a:off x="3162240" y="5056200"/>
            <a:ext cx="477720" cy="368280"/>
            <a:chOff x="3162240" y="5056200"/>
            <a:chExt cx="477720" cy="368280"/>
          </a:xfrm>
        </p:grpSpPr>
        <p:sp>
          <p:nvSpPr>
            <p:cNvPr id="691" name="TextBox 77"/>
            <p:cNvSpPr/>
            <p:nvPr/>
          </p:nvSpPr>
          <p:spPr>
            <a:xfrm>
              <a:off x="3268440" y="505620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Блок-схема: узел 72"/>
            <p:cNvSpPr/>
            <p:nvPr/>
          </p:nvSpPr>
          <p:spPr>
            <a:xfrm>
              <a:off x="3162240" y="5254560"/>
              <a:ext cx="71280" cy="712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Группа 81"/>
          <p:cNvGrpSpPr/>
          <p:nvPr/>
        </p:nvGrpSpPr>
        <p:grpSpPr>
          <a:xfrm>
            <a:off x="2173320" y="4295880"/>
            <a:ext cx="999720" cy="968040"/>
            <a:chOff x="2173320" y="4295880"/>
            <a:chExt cx="999720" cy="968040"/>
          </a:xfrm>
        </p:grpSpPr>
        <p:sp>
          <p:nvSpPr>
            <p:cNvPr id="694" name="Прямая соединительная линия 80"/>
            <p:cNvSpPr/>
            <p:nvPr/>
          </p:nvSpPr>
          <p:spPr>
            <a:xfrm flipH="1" flipV="1">
              <a:off x="2209320" y="4330440"/>
              <a:ext cx="963720" cy="9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Блок-схема: узел 71"/>
            <p:cNvSpPr/>
            <p:nvPr/>
          </p:nvSpPr>
          <p:spPr>
            <a:xfrm>
              <a:off x="2173320" y="4295880"/>
              <a:ext cx="71280" cy="712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Блок-схема: узел 73"/>
            <p:cNvSpPr/>
            <p:nvPr/>
          </p:nvSpPr>
          <p:spPr>
            <a:xfrm>
              <a:off x="2979720" y="5070600"/>
              <a:ext cx="44280" cy="727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Прямая соединительная линия 83"/>
          <p:cNvSpPr/>
          <p:nvPr/>
        </p:nvSpPr>
        <p:spPr>
          <a:xfrm flipH="1" flipV="1">
            <a:off x="3180960" y="3859200"/>
            <a:ext cx="17640" cy="1393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Группа 86"/>
          <p:cNvGrpSpPr/>
          <p:nvPr/>
        </p:nvGrpSpPr>
        <p:grpSpPr>
          <a:xfrm>
            <a:off x="2030400" y="4142880"/>
            <a:ext cx="1184040" cy="1143360"/>
            <a:chOff x="2030400" y="4142880"/>
            <a:chExt cx="1184040" cy="1143360"/>
          </a:xfrm>
        </p:grpSpPr>
        <p:sp>
          <p:nvSpPr>
            <p:cNvPr id="699" name="Дуга 84"/>
            <p:cNvSpPr/>
            <p:nvPr/>
          </p:nvSpPr>
          <p:spPr>
            <a:xfrm>
              <a:off x="2030400" y="4143240"/>
              <a:ext cx="1155960" cy="1143000"/>
            </a:xfrm>
            <a:custGeom>
              <a:avLst/>
              <a:gdLst>
                <a:gd name="textAreaLeft" fmla="*/ 600480 w 1155960"/>
                <a:gd name="textAreaRight" fmla="*/ 1156320 w 1155960"/>
                <a:gd name="textAreaTop" fmla="*/ 360 h 1143000"/>
                <a:gd name="textAreaBottom" fmla="*/ 939240 h 1143000"/>
              </a:gdLst>
              <a:ahLst/>
              <a:rect l="textAreaLeft" t="textAreaTop" r="textAreaRight" b="textAreaBottom"/>
              <a:pathLst>
                <a:path stroke="0" w="1155356" h="1143008">
                  <a:moveTo>
                    <a:pt x="600100" y="431"/>
                  </a:moveTo>
                  <a:lnTo>
                    <a:pt x="600100" y="431"/>
                  </a:lnTo>
                  <a:arcTo wR="577678" hR="571504" stAng="-5265093" swAng="7650264"/>
                  <a:lnTo>
                    <a:pt x="577678" y="571504"/>
                  </a:lnTo>
                  <a:close/>
                </a:path>
                <a:path fill="none" w="1155356" h="1143008">
                  <a:moveTo>
                    <a:pt x="600100" y="431"/>
                  </a:moveTo>
                  <a:lnTo>
                    <a:pt x="600100" y="431"/>
                  </a:lnTo>
                  <a:arcTo wR="577678" hR="571504" stAng="-5265093" swAng="7650264"/>
                </a:path>
              </a:pathLst>
            </a:custGeom>
            <a:noFill/>
            <a:ln w="38160">
              <a:solidFill>
                <a:srgbClr val="4f81b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Дуга 85"/>
            <p:cNvSpPr/>
            <p:nvPr/>
          </p:nvSpPr>
          <p:spPr>
            <a:xfrm rot="10800000">
              <a:off x="2052000" y="4142880"/>
              <a:ext cx="1162440" cy="1135080"/>
            </a:xfrm>
            <a:custGeom>
              <a:avLst/>
              <a:gdLst>
                <a:gd name="textAreaLeft" fmla="*/ 651240 w 1162440"/>
                <a:gd name="textAreaRight" fmla="*/ 1162800 w 1162440"/>
                <a:gd name="textAreaTop" fmla="*/ 3960 h 1135080"/>
                <a:gd name="textAreaBottom" fmla="*/ 909720 h 1135080"/>
              </a:gdLst>
              <a:ahLst/>
              <a:rect l="textAreaLeft" t="textAreaTop" r="textAreaRight" b="textAreaBottom"/>
              <a:pathLst>
                <a:path stroke="0" w="1161705" h="1135071">
                  <a:moveTo>
                    <a:pt x="650812" y="4131"/>
                  </a:moveTo>
                  <a:lnTo>
                    <a:pt x="650812" y="4131"/>
                  </a:lnTo>
                  <a:arcTo wR="580853" hR="567536" stAng="-4975303" swAng="7160912"/>
                  <a:lnTo>
                    <a:pt x="580853" y="567536"/>
                  </a:lnTo>
                  <a:close/>
                </a:path>
                <a:path fill="none" w="1161705" h="1135071">
                  <a:moveTo>
                    <a:pt x="650812" y="4131"/>
                  </a:moveTo>
                  <a:lnTo>
                    <a:pt x="650812" y="4131"/>
                  </a:lnTo>
                  <a:arcTo wR="580853" hR="567536" stAng="-4975303" swAng="7160912"/>
                </a:path>
              </a:pathLst>
            </a:custGeom>
            <a:noFill/>
            <a:ln w="38160">
              <a:solidFill>
                <a:srgbClr val="4f81b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Группа 89"/>
          <p:cNvGrpSpPr/>
          <p:nvPr/>
        </p:nvGrpSpPr>
        <p:grpSpPr>
          <a:xfrm>
            <a:off x="2575080" y="3857760"/>
            <a:ext cx="1388880" cy="1440360"/>
            <a:chOff x="2575080" y="3857760"/>
            <a:chExt cx="1388880" cy="1440360"/>
          </a:xfrm>
        </p:grpSpPr>
        <p:sp>
          <p:nvSpPr>
            <p:cNvPr id="702" name="TextBox 87"/>
            <p:cNvSpPr/>
            <p:nvPr/>
          </p:nvSpPr>
          <p:spPr>
            <a:xfrm>
              <a:off x="3076200" y="492984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arctg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Box 88"/>
            <p:cNvSpPr/>
            <p:nvPr/>
          </p:nvSpPr>
          <p:spPr>
            <a:xfrm>
              <a:off x="2575080" y="3857760"/>
              <a:ext cx="47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Box 90"/>
          <p:cNvSpPr/>
          <p:nvPr/>
        </p:nvSpPr>
        <p:spPr>
          <a:xfrm>
            <a:off x="297360" y="5857920"/>
            <a:ext cx="33944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(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tg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;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/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), 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91"/>
          <p:cNvSpPr/>
          <p:nvPr/>
        </p:nvSpPr>
        <p:spPr>
          <a:xfrm>
            <a:off x="4718880" y="3929040"/>
            <a:ext cx="1133280" cy="368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ctgt &gt;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Группа 107"/>
          <p:cNvGrpSpPr/>
          <p:nvPr/>
        </p:nvGrpSpPr>
        <p:grpSpPr>
          <a:xfrm>
            <a:off x="6489720" y="3786120"/>
            <a:ext cx="1917720" cy="1357200"/>
            <a:chOff x="6489720" y="3786120"/>
            <a:chExt cx="1917720" cy="1357200"/>
          </a:xfrm>
        </p:grpSpPr>
        <p:grpSp>
          <p:nvGrpSpPr>
            <p:cNvPr id="707" name="Группа 92"/>
            <p:cNvGrpSpPr/>
            <p:nvPr/>
          </p:nvGrpSpPr>
          <p:grpSpPr>
            <a:xfrm>
              <a:off x="6742080" y="3786120"/>
              <a:ext cx="1649520" cy="1357200"/>
              <a:chOff x="6742080" y="3786120"/>
              <a:chExt cx="1649520" cy="1357200"/>
            </a:xfrm>
          </p:grpSpPr>
          <p:sp>
            <p:nvSpPr>
              <p:cNvPr id="708" name="Блок-схема: узел 93"/>
              <p:cNvSpPr/>
              <p:nvPr/>
            </p:nvSpPr>
            <p:spPr>
              <a:xfrm>
                <a:off x="6900840" y="4049640"/>
                <a:ext cx="1077840" cy="1051200"/>
              </a:xfrm>
              <a:prstGeom prst="flowChartConnector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9" name="Прямая со стрелкой 94"/>
              <p:cNvCxnSpPr/>
              <p:nvPr/>
            </p:nvCxnSpPr>
            <p:spPr>
              <a:xfrm flipV="1">
                <a:off x="6742080" y="4578120"/>
                <a:ext cx="1481760" cy="86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710" name="Прямая со стрелкой 95"/>
              <p:cNvCxnSpPr/>
              <p:nvPr/>
            </p:nvCxnSpPr>
            <p:spPr>
              <a:xfrm flipH="1" flipV="1">
                <a:off x="7422840" y="3888360"/>
                <a:ext cx="16560" cy="12553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711" name="TextBox 96"/>
              <p:cNvSpPr/>
              <p:nvPr/>
            </p:nvSpPr>
            <p:spPr>
              <a:xfrm>
                <a:off x="7191000" y="378612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TextBox 97"/>
              <p:cNvSpPr/>
              <p:nvPr/>
            </p:nvSpPr>
            <p:spPr>
              <a:xfrm>
                <a:off x="8108640" y="43646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Прямая соединительная линия 99"/>
            <p:cNvSpPr/>
            <p:nvPr/>
          </p:nvSpPr>
          <p:spPr>
            <a:xfrm>
              <a:off x="6489720" y="4025880"/>
              <a:ext cx="1917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Блок-схема: узел 101"/>
            <p:cNvSpPr/>
            <p:nvPr/>
          </p:nvSpPr>
          <p:spPr>
            <a:xfrm>
              <a:off x="6854760" y="4554720"/>
              <a:ext cx="71280" cy="712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Блок-схема: узел 102"/>
            <p:cNvSpPr/>
            <p:nvPr/>
          </p:nvSpPr>
          <p:spPr>
            <a:xfrm>
              <a:off x="7944120" y="4545000"/>
              <a:ext cx="71280" cy="712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Группа 110"/>
          <p:cNvGrpSpPr/>
          <p:nvPr/>
        </p:nvGrpSpPr>
        <p:grpSpPr>
          <a:xfrm>
            <a:off x="7950240" y="3714840"/>
            <a:ext cx="348120" cy="368280"/>
            <a:chOff x="7950240" y="3714840"/>
            <a:chExt cx="348120" cy="368280"/>
          </a:xfrm>
        </p:grpSpPr>
        <p:sp>
          <p:nvSpPr>
            <p:cNvPr id="717" name="Блок-схема: узел 105"/>
            <p:cNvSpPr/>
            <p:nvPr/>
          </p:nvSpPr>
          <p:spPr>
            <a:xfrm>
              <a:off x="7950240" y="3986280"/>
              <a:ext cx="71280" cy="712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Box 109"/>
            <p:cNvSpPr/>
            <p:nvPr/>
          </p:nvSpPr>
          <p:spPr>
            <a:xfrm>
              <a:off x="8003160" y="3714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Группа 114"/>
          <p:cNvGrpSpPr/>
          <p:nvPr/>
        </p:nvGrpSpPr>
        <p:grpSpPr>
          <a:xfrm>
            <a:off x="7037280" y="4046400"/>
            <a:ext cx="923760" cy="947880"/>
            <a:chOff x="7037280" y="4046400"/>
            <a:chExt cx="923760" cy="947880"/>
          </a:xfrm>
        </p:grpSpPr>
        <p:sp>
          <p:nvSpPr>
            <p:cNvPr id="720" name="Прямая соединительная линия 112"/>
            <p:cNvSpPr/>
            <p:nvPr/>
          </p:nvSpPr>
          <p:spPr>
            <a:xfrm flipH="1">
              <a:off x="7068600" y="4046400"/>
              <a:ext cx="89244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Блок-схема: узел 104"/>
            <p:cNvSpPr/>
            <p:nvPr/>
          </p:nvSpPr>
          <p:spPr>
            <a:xfrm>
              <a:off x="7778880" y="4160520"/>
              <a:ext cx="71280" cy="712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Блок-схема: узел 103"/>
            <p:cNvSpPr/>
            <p:nvPr/>
          </p:nvSpPr>
          <p:spPr>
            <a:xfrm>
              <a:off x="7037280" y="4923000"/>
              <a:ext cx="71280" cy="712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Группа 119"/>
          <p:cNvGrpSpPr/>
          <p:nvPr/>
        </p:nvGrpSpPr>
        <p:grpSpPr>
          <a:xfrm>
            <a:off x="6886440" y="4030560"/>
            <a:ext cx="1114560" cy="1090800"/>
            <a:chOff x="6886440" y="4030560"/>
            <a:chExt cx="1114560" cy="1090800"/>
          </a:xfrm>
        </p:grpSpPr>
        <p:sp>
          <p:nvSpPr>
            <p:cNvPr id="724" name="Дуга 115"/>
            <p:cNvSpPr/>
            <p:nvPr/>
          </p:nvSpPr>
          <p:spPr>
            <a:xfrm>
              <a:off x="6886440" y="4071600"/>
              <a:ext cx="1114560" cy="1049760"/>
            </a:xfrm>
            <a:custGeom>
              <a:avLst/>
              <a:gdLst>
                <a:gd name="textAreaLeft" fmla="*/ 960120 w 1114560"/>
                <a:gd name="textAreaRight" fmla="*/ 1112760 w 1114560"/>
                <a:gd name="textAreaTop" fmla="*/ 162000 h 1049760"/>
                <a:gd name="textAreaBottom" fmla="*/ 481320 h 1049760"/>
              </a:gdLst>
              <a:ahLst/>
              <a:rect l="textAreaLeft" t="textAreaTop" r="textAreaRight" b="textAreaBottom"/>
              <a:pathLst>
                <a:path stroke="0" w="1115194" h="1048104">
                  <a:moveTo>
                    <a:pt x="960688" y="161961"/>
                  </a:moveTo>
                  <a:lnTo>
                    <a:pt x="960688" y="161961"/>
                  </a:lnTo>
                  <a:arcTo wR="557597" hR="524052" stAng="-2515975" swAng="2248481"/>
                  <a:lnTo>
                    <a:pt x="557597" y="524052"/>
                  </a:lnTo>
                  <a:close/>
                </a:path>
                <a:path fill="none" w="1115194" h="1048104">
                  <a:moveTo>
                    <a:pt x="960688" y="161961"/>
                  </a:moveTo>
                  <a:lnTo>
                    <a:pt x="960688" y="161961"/>
                  </a:lnTo>
                  <a:arcTo wR="557597" hR="524052" stAng="-2515975" swAng="2248481"/>
                </a:path>
              </a:pathLst>
            </a:custGeom>
            <a:noFill/>
            <a:ln w="38160">
              <a:solidFill>
                <a:srgbClr val="8064a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Дуга 116"/>
            <p:cNvSpPr/>
            <p:nvPr/>
          </p:nvSpPr>
          <p:spPr>
            <a:xfrm rot="10800000">
              <a:off x="6894360" y="4030560"/>
              <a:ext cx="1106640" cy="1082880"/>
            </a:xfrm>
            <a:custGeom>
              <a:avLst/>
              <a:gdLst>
                <a:gd name="textAreaLeft" fmla="*/ 945720 w 1106640"/>
                <a:gd name="textAreaRight" fmla="*/ 1104120 w 1106640"/>
                <a:gd name="textAreaTop" fmla="*/ 159480 h 1082880"/>
                <a:gd name="textAreaBottom" fmla="*/ 489240 h 1082880"/>
              </a:gdLst>
              <a:ahLst/>
              <a:rect l="textAreaLeft" t="textAreaTop" r="textAreaRight" b="textAreaBottom"/>
              <a:pathLst>
                <a:path stroke="0" w="1107251" h="1081402">
                  <a:moveTo>
                    <a:pt x="946108" y="159357"/>
                  </a:moveTo>
                  <a:lnTo>
                    <a:pt x="946108" y="159357"/>
                  </a:lnTo>
                  <a:arcTo wR="553626" hR="540701" stAng="-2650518" swAng="2327309"/>
                  <a:lnTo>
                    <a:pt x="553626" y="540701"/>
                  </a:lnTo>
                  <a:close/>
                </a:path>
                <a:path fill="none" w="1107251" h="1081402">
                  <a:moveTo>
                    <a:pt x="946108" y="159357"/>
                  </a:moveTo>
                  <a:lnTo>
                    <a:pt x="946108" y="159357"/>
                  </a:lnTo>
                  <a:arcTo wR="553626" hR="540701" stAng="-2650518" swAng="2327309"/>
                </a:path>
              </a:pathLst>
            </a:custGeom>
            <a:noFill/>
            <a:ln w="38160">
              <a:solidFill>
                <a:srgbClr val="8064a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Прямая соединительная линия 118"/>
          <p:cNvSpPr/>
          <p:nvPr/>
        </p:nvSpPr>
        <p:spPr>
          <a:xfrm flipH="1">
            <a:off x="8024400" y="4024440"/>
            <a:ext cx="78588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Группа 124"/>
          <p:cNvGrpSpPr/>
          <p:nvPr/>
        </p:nvGrpSpPr>
        <p:grpSpPr>
          <a:xfrm>
            <a:off x="7864560" y="4000680"/>
            <a:ext cx="828360" cy="622800"/>
            <a:chOff x="7864560" y="4000680"/>
            <a:chExt cx="828360" cy="622800"/>
          </a:xfrm>
        </p:grpSpPr>
        <p:sp>
          <p:nvSpPr>
            <p:cNvPr id="728" name="TextBox 122"/>
            <p:cNvSpPr/>
            <p:nvPr/>
          </p:nvSpPr>
          <p:spPr>
            <a:xfrm>
              <a:off x="7931160" y="42861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Box 123"/>
            <p:cNvSpPr/>
            <p:nvPr/>
          </p:nvSpPr>
          <p:spPr>
            <a:xfrm>
              <a:off x="7864560" y="4000680"/>
              <a:ext cx="82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cctg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TextBox 125"/>
          <p:cNvSpPr/>
          <p:nvPr/>
        </p:nvSpPr>
        <p:spPr>
          <a:xfrm>
            <a:off x="4869000" y="5500800"/>
            <a:ext cx="3298680" cy="368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+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; arcctg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), 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син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99720"/>
            <a:ext cx="84009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ы: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24"/>
          <p:cNvGrpSpPr/>
          <p:nvPr/>
        </p:nvGrpSpPr>
        <p:grpSpPr>
          <a:xfrm>
            <a:off x="723600" y="1285920"/>
            <a:ext cx="2912040" cy="2878920"/>
            <a:chOff x="723600" y="1285920"/>
            <a:chExt cx="2912040" cy="2878920"/>
          </a:xfrm>
        </p:grpSpPr>
        <p:grpSp>
          <p:nvGrpSpPr>
            <p:cNvPr id="94" name="Группа 21"/>
            <p:cNvGrpSpPr/>
            <p:nvPr/>
          </p:nvGrpSpPr>
          <p:grpSpPr>
            <a:xfrm>
              <a:off x="723600" y="1285920"/>
              <a:ext cx="2912040" cy="2878920"/>
              <a:chOff x="723600" y="1285920"/>
              <a:chExt cx="2912040" cy="2878920"/>
            </a:xfrm>
          </p:grpSpPr>
          <p:sp>
            <p:nvSpPr>
              <p:cNvPr id="95" name="Овал 3"/>
              <p:cNvSpPr/>
              <p:nvPr/>
            </p:nvSpPr>
            <p:spPr>
              <a:xfrm>
                <a:off x="928440" y="1785960"/>
                <a:ext cx="2143080" cy="2071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6" name="Прямая со стрелкой 5"/>
              <p:cNvCxnSpPr/>
              <p:nvPr/>
            </p:nvCxnSpPr>
            <p:spPr>
              <a:xfrm flipV="1">
                <a:off x="723600" y="2809080"/>
                <a:ext cx="2715480" cy="68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7" name="TextBox 16"/>
              <p:cNvSpPr/>
              <p:nvPr/>
            </p:nvSpPr>
            <p:spPr>
              <a:xfrm>
                <a:off x="1711800" y="128592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17"/>
              <p:cNvSpPr/>
              <p:nvPr/>
            </p:nvSpPr>
            <p:spPr>
              <a:xfrm>
                <a:off x="3352680" y="25002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Box 18"/>
              <p:cNvSpPr/>
              <p:nvPr/>
            </p:nvSpPr>
            <p:spPr>
              <a:xfrm>
                <a:off x="1924200" y="1500120"/>
                <a:ext cx="45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400" spc="-1" strike="noStrike">
                    <a:solidFill>
                      <a:srgbClr val="000000"/>
                    </a:solidFill>
                    <a:latin typeface="Arial"/>
                  </a:rPr>
                  <a:t>π/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Box 19"/>
              <p:cNvSpPr/>
              <p:nvPr/>
            </p:nvSpPr>
            <p:spPr>
              <a:xfrm>
                <a:off x="1707480" y="3857760"/>
                <a:ext cx="51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l-GR" sz="1400" spc="-1" strike="noStrike">
                    <a:solidFill>
                      <a:srgbClr val="000000"/>
                    </a:solidFill>
                    <a:latin typeface="Arial"/>
                  </a:rPr>
                  <a:t>π/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1" name="Прямая со стрелкой 14"/>
            <p:cNvCxnSpPr/>
            <p:nvPr/>
          </p:nvCxnSpPr>
          <p:spPr>
            <a:xfrm flipH="1" flipV="1">
              <a:off x="1996560" y="1519920"/>
              <a:ext cx="8640" cy="2606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2" name="Дуга 20"/>
          <p:cNvSpPr/>
          <p:nvPr/>
        </p:nvSpPr>
        <p:spPr>
          <a:xfrm>
            <a:off x="928800" y="1785960"/>
            <a:ext cx="2149200" cy="20638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Группа 31"/>
          <p:cNvGrpSpPr/>
          <p:nvPr/>
        </p:nvGrpSpPr>
        <p:grpSpPr>
          <a:xfrm>
            <a:off x="1710360" y="1714680"/>
            <a:ext cx="353520" cy="2164320"/>
            <a:chOff x="1710360" y="1714680"/>
            <a:chExt cx="353520" cy="2164320"/>
          </a:xfrm>
        </p:grpSpPr>
        <p:sp>
          <p:nvSpPr>
            <p:cNvPr id="104" name="Прямая соединительная линия 26"/>
            <p:cNvSpPr/>
            <p:nvPr/>
          </p:nvSpPr>
          <p:spPr>
            <a:xfrm flipV="1">
              <a:off x="1994040" y="1785960"/>
              <a:ext cx="9360" cy="206208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29"/>
            <p:cNvSpPr/>
            <p:nvPr/>
          </p:nvSpPr>
          <p:spPr>
            <a:xfrm>
              <a:off x="1710360" y="357192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b05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30"/>
            <p:cNvSpPr/>
            <p:nvPr/>
          </p:nvSpPr>
          <p:spPr>
            <a:xfrm>
              <a:off x="1784160" y="1714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b05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Группа 36"/>
          <p:cNvGrpSpPr/>
          <p:nvPr/>
        </p:nvGrpSpPr>
        <p:grpSpPr>
          <a:xfrm>
            <a:off x="1982880" y="2136600"/>
            <a:ext cx="869400" cy="71640"/>
            <a:chOff x="1982880" y="2136600"/>
            <a:chExt cx="869400" cy="71640"/>
          </a:xfrm>
        </p:grpSpPr>
        <p:sp>
          <p:nvSpPr>
            <p:cNvPr id="108" name="Прямая соединительная линия 34"/>
            <p:cNvSpPr/>
            <p:nvPr/>
          </p:nvSpPr>
          <p:spPr>
            <a:xfrm flipH="1" flipV="1">
              <a:off x="1988640" y="2170080"/>
              <a:ext cx="863640" cy="28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Овал 35"/>
            <p:cNvSpPr/>
            <p:nvPr/>
          </p:nvSpPr>
          <p:spPr>
            <a:xfrm>
              <a:off x="1982880" y="2136600"/>
              <a:ext cx="71280" cy="71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37"/>
          <p:cNvSpPr/>
          <p:nvPr/>
        </p:nvSpPr>
        <p:spPr>
          <a:xfrm>
            <a:off x="1716480" y="2000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Группа 39"/>
          <p:cNvGrpSpPr/>
          <p:nvPr/>
        </p:nvGrpSpPr>
        <p:grpSpPr>
          <a:xfrm>
            <a:off x="2841480" y="1928880"/>
            <a:ext cx="1291320" cy="398880"/>
            <a:chOff x="2841480" y="1928880"/>
            <a:chExt cx="1291320" cy="398880"/>
          </a:xfrm>
        </p:grpSpPr>
        <p:sp>
          <p:nvSpPr>
            <p:cNvPr id="112" name="Овал 32"/>
            <p:cNvSpPr/>
            <p:nvPr/>
          </p:nvSpPr>
          <p:spPr>
            <a:xfrm>
              <a:off x="2841480" y="216072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38"/>
            <p:cNvSpPr/>
            <p:nvPr/>
          </p:nvSpPr>
          <p:spPr>
            <a:xfrm>
              <a:off x="2888280" y="192888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sin </a:t>
              </a:r>
              <a:r>
                <a:rPr b="1" i="1" lang="ru-RU" sz="1800" spc="-1" strike="noStrike">
                  <a:solidFill>
                    <a:srgbClr val="4f81bd"/>
                  </a:solidFill>
                  <a:latin typeface="Times New Roman"/>
                  <a:ea typeface="Times New Roman"/>
                </a:rPr>
                <a:t>а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1928880" y="4429080"/>
            <a:ext cx="1762200" cy="743040"/>
          </a:xfrm>
          <a:prstGeom prst="rect">
            <a:avLst/>
          </a:prstGeom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807000" y="4500720"/>
            <a:ext cx="264960" cy="676080"/>
          </a:xfrm>
          <a:prstGeom prst="rect">
            <a:avLst/>
          </a:prstGeom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1928880" y="5286240"/>
            <a:ext cx="2219400" cy="924120"/>
          </a:xfrm>
          <a:prstGeom prst="rect">
            <a:avLst/>
          </a:prstGeom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4238640" y="5361120"/>
            <a:ext cx="781200" cy="849240"/>
          </a:xfrm>
          <a:prstGeom prst="rect">
            <a:avLst/>
          </a:prstGeom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5"/>
          <a:stretch/>
        </p:blipFill>
        <p:spPr>
          <a:xfrm>
            <a:off x="5429160" y="4572000"/>
            <a:ext cx="1333440" cy="409680"/>
          </a:xfrm>
          <a:prstGeom prst="rect">
            <a:avLst/>
          </a:prstGeom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6"/>
          <a:stretch/>
        </p:blipFill>
        <p:spPr>
          <a:xfrm>
            <a:off x="6929280" y="4572000"/>
            <a:ext cx="486000" cy="409680"/>
          </a:xfrm>
          <a:prstGeom prst="rect">
            <a:avLst/>
          </a:prstGeom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grpSp>
        <p:nvGrpSpPr>
          <p:cNvPr id="128" name="Группа 45"/>
          <p:cNvGrpSpPr/>
          <p:nvPr/>
        </p:nvGrpSpPr>
        <p:grpSpPr>
          <a:xfrm>
            <a:off x="1990800" y="3340080"/>
            <a:ext cx="794880" cy="71280"/>
            <a:chOff x="1990800" y="3340080"/>
            <a:chExt cx="794880" cy="71280"/>
          </a:xfrm>
        </p:grpSpPr>
        <p:sp>
          <p:nvSpPr>
            <p:cNvPr id="129" name="Овал 41"/>
            <p:cNvSpPr/>
            <p:nvPr/>
          </p:nvSpPr>
          <p:spPr>
            <a:xfrm>
              <a:off x="1990800" y="334008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Прямая соединительная линия 43"/>
            <p:cNvSpPr/>
            <p:nvPr/>
          </p:nvSpPr>
          <p:spPr>
            <a:xfrm flipH="1">
              <a:off x="2009160" y="3357360"/>
              <a:ext cx="77652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46"/>
          <p:cNvSpPr/>
          <p:nvPr/>
        </p:nvSpPr>
        <p:spPr>
          <a:xfrm>
            <a:off x="1643040" y="314316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7"/>
          <p:cNvSpPr/>
          <p:nvPr/>
        </p:nvSpPr>
        <p:spPr>
          <a:xfrm>
            <a:off x="4729680" y="3357720"/>
            <a:ext cx="3186360" cy="520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csin(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-</a:t>
            </a:r>
            <a:r>
              <a:rPr b="1" i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csin</a:t>
            </a:r>
            <a:r>
              <a:rPr b="1" i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49"/>
          <p:cNvGrpSpPr/>
          <p:nvPr/>
        </p:nvGrpSpPr>
        <p:grpSpPr>
          <a:xfrm>
            <a:off x="2870280" y="3214800"/>
            <a:ext cx="1355760" cy="368280"/>
            <a:chOff x="2870280" y="3214800"/>
            <a:chExt cx="1355760" cy="368280"/>
          </a:xfrm>
        </p:grpSpPr>
        <p:sp>
          <p:nvSpPr>
            <p:cNvPr id="134" name="Овал 40"/>
            <p:cNvSpPr/>
            <p:nvPr/>
          </p:nvSpPr>
          <p:spPr>
            <a:xfrm>
              <a:off x="2870280" y="332100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48"/>
            <p:cNvSpPr/>
            <p:nvPr/>
          </p:nvSpPr>
          <p:spPr>
            <a:xfrm>
              <a:off x="3036240" y="3214800"/>
              <a:ext cx="118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sin(</a:t>
              </a:r>
              <a:r>
                <a:rPr b="0" lang="en-US" sz="1800" spc="-1" strike="noStrike">
                  <a:solidFill>
                    <a:srgbClr val="0070c0"/>
                  </a:solidFill>
                  <a:latin typeface="Arial"/>
                </a:rPr>
                <a:t>-</a:t>
              </a:r>
              <a:r>
                <a:rPr b="1" i="1" lang="ru-RU" sz="1800" spc="-1" strike="noStrike">
                  <a:solidFill>
                    <a:srgbClr val="4f81bd"/>
                  </a:solidFill>
                  <a:latin typeface="Times New Roman"/>
                  <a:ea typeface="Times New Roman"/>
                </a:rPr>
                <a:t> 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50"/>
          <p:cNvSpPr/>
          <p:nvPr/>
        </p:nvSpPr>
        <p:spPr>
          <a:xfrm>
            <a:off x="4286160" y="1214280"/>
            <a:ext cx="4429080" cy="131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синусом числа </a:t>
            </a:r>
            <a:r>
              <a:rPr b="1" i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число (угол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/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/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ём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≤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582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косин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Группа 21"/>
          <p:cNvGrpSpPr/>
          <p:nvPr/>
        </p:nvGrpSpPr>
        <p:grpSpPr>
          <a:xfrm>
            <a:off x="428400" y="1285920"/>
            <a:ext cx="3546000" cy="3562200"/>
            <a:chOff x="428400" y="1285920"/>
            <a:chExt cx="3546000" cy="3562200"/>
          </a:xfrm>
        </p:grpSpPr>
        <p:sp>
          <p:nvSpPr>
            <p:cNvPr id="139" name="Овал 6"/>
            <p:cNvSpPr/>
            <p:nvPr/>
          </p:nvSpPr>
          <p:spPr>
            <a:xfrm>
              <a:off x="679320" y="1919160"/>
              <a:ext cx="2635200" cy="2620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Прямая со стрелкой 7"/>
            <p:cNvCxnSpPr/>
            <p:nvPr/>
          </p:nvCxnSpPr>
          <p:spPr>
            <a:xfrm flipV="1">
              <a:off x="428400" y="3212640"/>
              <a:ext cx="3336120" cy="10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TextBox 8"/>
            <p:cNvSpPr/>
            <p:nvPr/>
          </p:nvSpPr>
          <p:spPr>
            <a:xfrm>
              <a:off x="1674720" y="1285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9"/>
            <p:cNvSpPr/>
            <p:nvPr/>
          </p:nvSpPr>
          <p:spPr>
            <a:xfrm>
              <a:off x="3691440" y="28227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10"/>
            <p:cNvSpPr/>
            <p:nvPr/>
          </p:nvSpPr>
          <p:spPr>
            <a:xfrm>
              <a:off x="1955520" y="1557000"/>
              <a:ext cx="45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π/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11"/>
            <p:cNvSpPr/>
            <p:nvPr/>
          </p:nvSpPr>
          <p:spPr>
            <a:xfrm>
              <a:off x="1645920" y="4540320"/>
              <a:ext cx="184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Прямая со стрелкой 5"/>
          <p:cNvCxnSpPr/>
          <p:nvPr/>
        </p:nvCxnSpPr>
        <p:spPr>
          <a:xfrm flipH="1" flipV="1">
            <a:off x="1991520" y="1584000"/>
            <a:ext cx="10440" cy="3294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" name="Дуга 12"/>
          <p:cNvSpPr/>
          <p:nvPr/>
        </p:nvSpPr>
        <p:spPr>
          <a:xfrm>
            <a:off x="658800" y="1892160"/>
            <a:ext cx="2679840" cy="2679840"/>
          </a:xfrm>
          <a:custGeom>
            <a:avLst/>
            <a:gdLst>
              <a:gd name="textAreaLeft" fmla="*/ 360 w 2679840"/>
              <a:gd name="textAreaRight" fmla="*/ 2680200 w 2679840"/>
              <a:gd name="textAreaTop" fmla="*/ 0 h 2679840"/>
              <a:gd name="textAreaBottom" fmla="*/ 1339920 h 2679840"/>
            </a:gdLst>
            <a:ahLst/>
            <a:rect l="textAreaLeft" t="textAreaTop" r="textAreaRight" b="textAreaBottom"/>
            <a:pathLst>
              <a:path stroke="0" w="2679700" h="2679700">
                <a:moveTo>
                  <a:pt x="369" y="1308400"/>
                </a:moveTo>
                <a:lnTo>
                  <a:pt x="369" y="1308400"/>
                </a:lnTo>
                <a:arcTo wR="1339850" hR="1339850" stAng="-10719299" swAng="10719307"/>
                <a:lnTo>
                  <a:pt x="1339850" y="1339850"/>
                </a:lnTo>
                <a:close/>
              </a:path>
              <a:path fill="none" w="2679700" h="2679700">
                <a:moveTo>
                  <a:pt x="369" y="1308400"/>
                </a:moveTo>
                <a:lnTo>
                  <a:pt x="369" y="1308400"/>
                </a:lnTo>
                <a:arcTo wR="1339850" hR="1339850" stAng="-10719299" swAng="10719307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3283920" y="285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4"/>
          <p:cNvSpPr/>
          <p:nvPr/>
        </p:nvSpPr>
        <p:spPr>
          <a:xfrm>
            <a:off x="417600" y="285768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3069720" y="3143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6"/>
          <p:cNvSpPr/>
          <p:nvPr/>
        </p:nvSpPr>
        <p:spPr>
          <a:xfrm>
            <a:off x="637920" y="31431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18"/>
          <p:cNvSpPr/>
          <p:nvPr/>
        </p:nvSpPr>
        <p:spPr>
          <a:xfrm flipV="1">
            <a:off x="676440" y="3211560"/>
            <a:ext cx="2641320" cy="79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28"/>
          <p:cNvGrpSpPr/>
          <p:nvPr/>
        </p:nvGrpSpPr>
        <p:grpSpPr>
          <a:xfrm>
            <a:off x="1357200" y="3181320"/>
            <a:ext cx="398520" cy="503640"/>
            <a:chOff x="1357200" y="3181320"/>
            <a:chExt cx="398520" cy="503640"/>
          </a:xfrm>
        </p:grpSpPr>
        <p:sp>
          <p:nvSpPr>
            <p:cNvPr id="153" name="Овал 19"/>
            <p:cNvSpPr/>
            <p:nvPr/>
          </p:nvSpPr>
          <p:spPr>
            <a:xfrm>
              <a:off x="1511280" y="318132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22"/>
            <p:cNvSpPr/>
            <p:nvPr/>
          </p:nvSpPr>
          <p:spPr>
            <a:xfrm>
              <a:off x="1357200" y="3286080"/>
              <a:ext cx="39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4f81bd"/>
                  </a:solidFill>
                  <a:latin typeface="Times New Roman"/>
                  <a:ea typeface="Times New Roman"/>
                </a:rPr>
                <a:t>-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Группа 27"/>
          <p:cNvGrpSpPr/>
          <p:nvPr/>
        </p:nvGrpSpPr>
        <p:grpSpPr>
          <a:xfrm>
            <a:off x="2340000" y="3165480"/>
            <a:ext cx="393840" cy="509040"/>
            <a:chOff x="2340000" y="3165480"/>
            <a:chExt cx="393840" cy="509040"/>
          </a:xfrm>
        </p:grpSpPr>
        <p:sp>
          <p:nvSpPr>
            <p:cNvPr id="156" name="Овал 17"/>
            <p:cNvSpPr/>
            <p:nvPr/>
          </p:nvSpPr>
          <p:spPr>
            <a:xfrm>
              <a:off x="2460600" y="3165480"/>
              <a:ext cx="7920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21"/>
            <p:cNvSpPr/>
            <p:nvPr/>
          </p:nvSpPr>
          <p:spPr>
            <a:xfrm>
              <a:off x="2340000" y="3275640"/>
              <a:ext cx="39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4f81bd"/>
                  </a:solidFill>
                  <a:latin typeface="Times New Roman"/>
                  <a:ea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Прямая соединительная линия 30"/>
          <p:cNvSpPr/>
          <p:nvPr/>
        </p:nvSpPr>
        <p:spPr>
          <a:xfrm flipH="1" flipV="1">
            <a:off x="2504880" y="2009520"/>
            <a:ext cx="4680" cy="1176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Группа 33"/>
          <p:cNvGrpSpPr/>
          <p:nvPr/>
        </p:nvGrpSpPr>
        <p:grpSpPr>
          <a:xfrm>
            <a:off x="2457360" y="1643040"/>
            <a:ext cx="1379520" cy="703800"/>
            <a:chOff x="2457360" y="1643040"/>
            <a:chExt cx="1379520" cy="703800"/>
          </a:xfrm>
        </p:grpSpPr>
        <p:sp>
          <p:nvSpPr>
            <p:cNvPr id="160" name="Овал 31"/>
            <p:cNvSpPr/>
            <p:nvPr/>
          </p:nvSpPr>
          <p:spPr>
            <a:xfrm>
              <a:off x="2457360" y="197640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32"/>
            <p:cNvSpPr/>
            <p:nvPr/>
          </p:nvSpPr>
          <p:spPr>
            <a:xfrm>
              <a:off x="2571480" y="1643040"/>
              <a:ext cx="126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ccos </a:t>
              </a:r>
              <a:r>
                <a:rPr b="1" i="1" lang="ru-RU" sz="1800" spc="-1" strike="noStrike">
                  <a:solidFill>
                    <a:srgbClr val="4f81bd"/>
                  </a:solidFill>
                  <a:latin typeface="Times New Roman"/>
                  <a:ea typeface="Times New Roman"/>
                </a:rPr>
                <a:t>а</a:t>
              </a:r>
              <a:r>
                <a:rPr b="1" i="1" lang="en-US" sz="1800" spc="-1" strike="noStrike">
                  <a:solidFill>
                    <a:srgbClr val="4f81bd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34"/>
          <p:cNvSpPr/>
          <p:nvPr/>
        </p:nvSpPr>
        <p:spPr>
          <a:xfrm>
            <a:off x="648720" y="1643040"/>
            <a:ext cx="11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cos(</a:t>
            </a:r>
            <a:r>
              <a:rPr b="0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-</a:t>
            </a:r>
            <a:r>
              <a:rPr b="1" i="1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Группа 39"/>
          <p:cNvGrpSpPr/>
          <p:nvPr/>
        </p:nvGrpSpPr>
        <p:grpSpPr>
          <a:xfrm>
            <a:off x="1481040" y="1976400"/>
            <a:ext cx="71640" cy="1233000"/>
            <a:chOff x="1481040" y="1976400"/>
            <a:chExt cx="71640" cy="1233000"/>
          </a:xfrm>
        </p:grpSpPr>
        <p:sp>
          <p:nvSpPr>
            <p:cNvPr id="164" name="Овал 35"/>
            <p:cNvSpPr/>
            <p:nvPr/>
          </p:nvSpPr>
          <p:spPr>
            <a:xfrm>
              <a:off x="1481040" y="1976400"/>
              <a:ext cx="7164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ая соединительная линия 37"/>
            <p:cNvSpPr/>
            <p:nvPr/>
          </p:nvSpPr>
          <p:spPr>
            <a:xfrm flipV="1">
              <a:off x="1543320" y="1990080"/>
              <a:ext cx="0" cy="1219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40"/>
          <p:cNvSpPr/>
          <p:nvPr/>
        </p:nvSpPr>
        <p:spPr>
          <a:xfrm>
            <a:off x="4583880" y="1285920"/>
            <a:ext cx="3989160" cy="131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косинусом числа </a:t>
            </a:r>
            <a:r>
              <a:rPr b="1" i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число (угол)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[0;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ём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≤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1"/>
          <p:cNvSpPr/>
          <p:nvPr/>
        </p:nvSpPr>
        <p:spPr>
          <a:xfrm>
            <a:off x="5013360" y="3071880"/>
            <a:ext cx="31543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cos(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-</a:t>
            </a:r>
            <a:r>
              <a:rPr b="1" i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rccos</a:t>
            </a:r>
            <a:r>
              <a:rPr b="1" i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2"/>
          <p:cNvSpPr/>
          <p:nvPr/>
        </p:nvSpPr>
        <p:spPr>
          <a:xfrm>
            <a:off x="571680" y="485784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6"/>
          <p:cNvSpPr/>
          <p:nvPr/>
        </p:nvSpPr>
        <p:spPr>
          <a:xfrm>
            <a:off x="2292840" y="4929120"/>
            <a:ext cx="129924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cos(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8"/>
          <p:cNvSpPr/>
          <p:nvPr/>
        </p:nvSpPr>
        <p:spPr>
          <a:xfrm>
            <a:off x="3728520" y="4896000"/>
            <a:ext cx="52812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Группа 44" descr=""/>
          <p:cNvPicPr/>
          <p:nvPr/>
        </p:nvPicPr>
        <p:blipFill>
          <a:blip r:embed="rId1"/>
          <a:stretch/>
        </p:blipFill>
        <p:spPr>
          <a:xfrm>
            <a:off x="2189160" y="5389560"/>
            <a:ext cx="1577880" cy="6634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3849840" y="5456160"/>
            <a:ext cx="428400" cy="628560"/>
          </a:xfrm>
          <a:prstGeom prst="rect">
            <a:avLst/>
          </a:prstGeom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аких значениях х имеет смысл выражение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939600" y="1357200"/>
            <a:ext cx="226872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sin(2x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5511960" y="1357200"/>
            <a:ext cx="224568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arccos(5-2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1011600" y="3714840"/>
            <a:ext cx="217404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arccos(x²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5369040" y="3714840"/>
            <a:ext cx="247284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arcsin(4x²-3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5357880" y="178596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293840" y="2214720"/>
            <a:ext cx="1518840" cy="11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-1≤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х-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≤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≤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1;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5792400" y="2214720"/>
            <a:ext cx="1579680" cy="11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-1≤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2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≤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≤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2;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Группа 17"/>
          <p:cNvGrpSpPr/>
          <p:nvPr/>
        </p:nvGrpSpPr>
        <p:grpSpPr>
          <a:xfrm>
            <a:off x="1357200" y="4572000"/>
            <a:ext cx="1295640" cy="1465560"/>
            <a:chOff x="1357200" y="4572000"/>
            <a:chExt cx="1295640" cy="1465560"/>
          </a:xfrm>
        </p:grpSpPr>
        <p:sp>
          <p:nvSpPr>
            <p:cNvPr id="188" name="TextBox 10"/>
            <p:cNvSpPr/>
            <p:nvPr/>
          </p:nvSpPr>
          <p:spPr>
            <a:xfrm>
              <a:off x="1357200" y="4572000"/>
              <a:ext cx="1295640" cy="146556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≤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²-1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≤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≤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²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≤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вет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5" descr=""/>
            <p:cNvPicPr/>
            <p:nvPr/>
          </p:nvPicPr>
          <p:blipFill>
            <a:blip r:embed="rId1"/>
            <a:stretch/>
          </p:blipFill>
          <p:spPr>
            <a:xfrm>
              <a:off x="1571400" y="5500800"/>
              <a:ext cx="876600" cy="323640"/>
            </a:xfrm>
            <a:prstGeom prst="rect">
              <a:avLst/>
            </a:prstGeom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</p:pic>
      </p:grpSp>
      <p:sp>
        <p:nvSpPr>
          <p:cNvPr id="1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Группа 23" descr=""/>
          <p:cNvPicPr/>
          <p:nvPr/>
        </p:nvPicPr>
        <p:blipFill>
          <a:blip r:embed="rId2"/>
          <a:stretch/>
        </p:blipFill>
        <p:spPr>
          <a:xfrm>
            <a:off x="5834160" y="4443480"/>
            <a:ext cx="154152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Овал 3"/>
          <p:cNvSpPr/>
          <p:nvPr/>
        </p:nvSpPr>
        <p:spPr>
          <a:xfrm>
            <a:off x="1071720" y="1857240"/>
            <a:ext cx="2057400" cy="2057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м значения тангенса и котанге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7142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я тангенсов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‡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+ 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g t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‡ 0 + </a:t>
            </a:r>
            <a:r>
              <a:rPr b="0" lang="el-G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я котанген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0         х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Овал 4"/>
          <p:cNvSpPr/>
          <p:nvPr/>
        </p:nvSpPr>
        <p:spPr>
          <a:xfrm>
            <a:off x="5286240" y="4071960"/>
            <a:ext cx="2057400" cy="2057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Прямая со стрелкой 6"/>
          <p:cNvCxnSpPr/>
          <p:nvPr/>
        </p:nvCxnSpPr>
        <p:spPr>
          <a:xfrm>
            <a:off x="714240" y="2928960"/>
            <a:ext cx="285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Прямая со стрелкой 8"/>
          <p:cNvCxnSpPr/>
          <p:nvPr/>
        </p:nvCxnSpPr>
        <p:spPr>
          <a:xfrm flipV="1">
            <a:off x="2142000" y="1499760"/>
            <a:ext cx="2520" cy="26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8" name="Прямая соединительная линия 17"/>
          <p:cNvSpPr/>
          <p:nvPr/>
        </p:nvSpPr>
        <p:spPr>
          <a:xfrm flipH="1">
            <a:off x="3141720" y="857160"/>
            <a:ext cx="1440" cy="407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Прямая со стрелкой 20"/>
          <p:cNvCxnSpPr/>
          <p:nvPr/>
        </p:nvCxnSpPr>
        <p:spPr>
          <a:xfrm flipV="1">
            <a:off x="6286680" y="3285360"/>
            <a:ext cx="2160" cy="300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Прямая со стрелкой 22"/>
          <p:cNvCxnSpPr/>
          <p:nvPr/>
        </p:nvCxnSpPr>
        <p:spPr>
          <a:xfrm>
            <a:off x="4929120" y="5072040"/>
            <a:ext cx="2929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1" name="Прямая соединительная линия 29"/>
          <p:cNvSpPr/>
          <p:nvPr/>
        </p:nvSpPr>
        <p:spPr>
          <a:xfrm>
            <a:off x="4143240" y="4071960"/>
            <a:ext cx="4143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35"/>
          <p:cNvSpPr/>
          <p:nvPr/>
        </p:nvSpPr>
        <p:spPr>
          <a:xfrm flipV="1">
            <a:off x="1214280" y="2356920"/>
            <a:ext cx="19288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37"/>
          <p:cNvSpPr/>
          <p:nvPr/>
        </p:nvSpPr>
        <p:spPr>
          <a:xfrm flipV="1">
            <a:off x="1428840" y="1928880"/>
            <a:ext cx="1714320" cy="17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39"/>
          <p:cNvSpPr/>
          <p:nvPr/>
        </p:nvSpPr>
        <p:spPr>
          <a:xfrm flipV="1">
            <a:off x="1642320" y="1285560"/>
            <a:ext cx="1500120" cy="25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41"/>
          <p:cNvSpPr/>
          <p:nvPr/>
        </p:nvSpPr>
        <p:spPr>
          <a:xfrm>
            <a:off x="1642320" y="2000160"/>
            <a:ext cx="1500120" cy="264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44"/>
          <p:cNvSpPr/>
          <p:nvPr/>
        </p:nvSpPr>
        <p:spPr>
          <a:xfrm>
            <a:off x="1214280" y="2357280"/>
            <a:ext cx="19288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46"/>
          <p:cNvSpPr/>
          <p:nvPr/>
        </p:nvSpPr>
        <p:spPr>
          <a:xfrm>
            <a:off x="1428840" y="2143080"/>
            <a:ext cx="171432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48"/>
          <p:cNvSpPr/>
          <p:nvPr/>
        </p:nvSpPr>
        <p:spPr>
          <a:xfrm flipV="1">
            <a:off x="5429160" y="4071960"/>
            <a:ext cx="242892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50"/>
          <p:cNvSpPr/>
          <p:nvPr/>
        </p:nvSpPr>
        <p:spPr>
          <a:xfrm flipV="1">
            <a:off x="5785560" y="4071960"/>
            <a:ext cx="1071720" cy="19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52"/>
          <p:cNvSpPr/>
          <p:nvPr/>
        </p:nvSpPr>
        <p:spPr>
          <a:xfrm flipV="1">
            <a:off x="5587200" y="4071600"/>
            <a:ext cx="1698840" cy="17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54"/>
          <p:cNvSpPr/>
          <p:nvPr/>
        </p:nvSpPr>
        <p:spPr>
          <a:xfrm flipH="1" flipV="1">
            <a:off x="5643360" y="4071960"/>
            <a:ext cx="1214280" cy="19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56"/>
          <p:cNvSpPr/>
          <p:nvPr/>
        </p:nvSpPr>
        <p:spPr>
          <a:xfrm flipH="1" flipV="1">
            <a:off x="4643280" y="4071960"/>
            <a:ext cx="257184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58"/>
          <p:cNvSpPr/>
          <p:nvPr/>
        </p:nvSpPr>
        <p:spPr>
          <a:xfrm flipH="1" flipV="1">
            <a:off x="5286240" y="4071600"/>
            <a:ext cx="1756080" cy="17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4433400" y="9792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3214800" y="1357200"/>
            <a:ext cx="171360" cy="209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433400" y="9792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4433400" y="9792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7929720" y="3857760"/>
            <a:ext cx="171360" cy="20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4433400" y="9792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4433400" y="9792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7"/>
          <p:cNvSpPr/>
          <p:nvPr/>
        </p:nvSpPr>
        <p:spPr>
          <a:xfrm>
            <a:off x="4433400" y="9792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8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4433400" y="9792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1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4433400" y="9792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83"/>
          <p:cNvSpPr/>
          <p:nvPr/>
        </p:nvSpPr>
        <p:spPr>
          <a:xfrm>
            <a:off x="2071800" y="178596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84"/>
          <p:cNvSpPr/>
          <p:nvPr/>
        </p:nvSpPr>
        <p:spPr>
          <a:xfrm>
            <a:off x="2071800" y="3929040"/>
            <a:ext cx="712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85"/>
          <p:cNvSpPr/>
          <p:nvPr/>
        </p:nvSpPr>
        <p:spPr>
          <a:xfrm>
            <a:off x="7358040" y="500076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86"/>
          <p:cNvSpPr/>
          <p:nvPr/>
        </p:nvSpPr>
        <p:spPr>
          <a:xfrm>
            <a:off x="5214960" y="500076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5" descr=""/>
          <p:cNvPicPr/>
          <p:nvPr/>
        </p:nvPicPr>
        <p:blipFill>
          <a:blip r:embed="rId3"/>
          <a:stretch/>
        </p:blipFill>
        <p:spPr>
          <a:xfrm>
            <a:off x="4429080" y="3857760"/>
            <a:ext cx="276120" cy="2095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7" descr=""/>
          <p:cNvPicPr/>
          <p:nvPr/>
        </p:nvPicPr>
        <p:blipFill>
          <a:blip r:embed="rId4"/>
          <a:stretch/>
        </p:blipFill>
        <p:spPr>
          <a:xfrm>
            <a:off x="3214800" y="4429080"/>
            <a:ext cx="276120" cy="2095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9" descr=""/>
          <p:cNvPicPr/>
          <p:nvPr/>
        </p:nvPicPr>
        <p:blipFill>
          <a:blip r:embed="rId5"/>
          <a:stretch/>
        </p:blipFill>
        <p:spPr>
          <a:xfrm>
            <a:off x="3214800" y="3429000"/>
            <a:ext cx="419040" cy="2095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1" descr=""/>
          <p:cNvPicPr/>
          <p:nvPr/>
        </p:nvPicPr>
        <p:blipFill>
          <a:blip r:embed="rId6"/>
          <a:stretch/>
        </p:blipFill>
        <p:spPr>
          <a:xfrm>
            <a:off x="5500800" y="3857760"/>
            <a:ext cx="419040" cy="2095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3" descr=""/>
          <p:cNvPicPr/>
          <p:nvPr/>
        </p:nvPicPr>
        <p:blipFill>
          <a:blip r:embed="rId7"/>
          <a:stretch/>
        </p:blipFill>
        <p:spPr>
          <a:xfrm>
            <a:off x="6643800" y="3857760"/>
            <a:ext cx="314280" cy="209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5" descr=""/>
          <p:cNvPicPr/>
          <p:nvPr/>
        </p:nvPicPr>
        <p:blipFill>
          <a:blip r:embed="rId8"/>
          <a:stretch/>
        </p:blipFill>
        <p:spPr>
          <a:xfrm>
            <a:off x="7286760" y="3857760"/>
            <a:ext cx="95040" cy="2379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7" descr=""/>
          <p:cNvPicPr/>
          <p:nvPr/>
        </p:nvPicPr>
        <p:blipFill>
          <a:blip r:embed="rId9"/>
          <a:stretch/>
        </p:blipFill>
        <p:spPr>
          <a:xfrm>
            <a:off x="5143680" y="385776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9" descr=""/>
          <p:cNvPicPr/>
          <p:nvPr/>
        </p:nvPicPr>
        <p:blipFill>
          <a:blip r:embed="rId10"/>
          <a:stretch/>
        </p:blipFill>
        <p:spPr>
          <a:xfrm>
            <a:off x="3214800" y="392904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1" descr=""/>
          <p:cNvPicPr/>
          <p:nvPr/>
        </p:nvPicPr>
        <p:blipFill>
          <a:blip r:embed="rId11"/>
          <a:stretch/>
        </p:blipFill>
        <p:spPr>
          <a:xfrm>
            <a:off x="3214800" y="2286000"/>
            <a:ext cx="314280" cy="2095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" descr=""/>
          <p:cNvPicPr/>
          <p:nvPr/>
        </p:nvPicPr>
        <p:blipFill>
          <a:blip r:embed="rId12"/>
          <a:stretch/>
        </p:blipFill>
        <p:spPr>
          <a:xfrm>
            <a:off x="1000080" y="2000160"/>
            <a:ext cx="333360" cy="2095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3"/>
          <a:stretch/>
        </p:blipFill>
        <p:spPr>
          <a:xfrm>
            <a:off x="785880" y="3357720"/>
            <a:ext cx="333360" cy="20952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4"/>
          <a:stretch/>
        </p:blipFill>
        <p:spPr>
          <a:xfrm>
            <a:off x="1000080" y="3643200"/>
            <a:ext cx="333360" cy="2095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"/>
          <p:cNvPicPr/>
          <p:nvPr/>
        </p:nvPicPr>
        <p:blipFill>
          <a:blip r:embed="rId15"/>
          <a:stretch/>
        </p:blipFill>
        <p:spPr>
          <a:xfrm>
            <a:off x="5214960" y="5786280"/>
            <a:ext cx="333360" cy="2098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9" descr=""/>
          <p:cNvPicPr/>
          <p:nvPr/>
        </p:nvPicPr>
        <p:blipFill>
          <a:blip r:embed="rId16"/>
          <a:stretch/>
        </p:blipFill>
        <p:spPr>
          <a:xfrm>
            <a:off x="2286000" y="3643200"/>
            <a:ext cx="333360" cy="2095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1" descr=""/>
          <p:cNvPicPr/>
          <p:nvPr/>
        </p:nvPicPr>
        <p:blipFill>
          <a:blip r:embed="rId17"/>
          <a:stretch/>
        </p:blipFill>
        <p:spPr>
          <a:xfrm>
            <a:off x="6715080" y="6072120"/>
            <a:ext cx="333360" cy="20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3" descr=""/>
          <p:cNvPicPr/>
          <p:nvPr/>
        </p:nvPicPr>
        <p:blipFill>
          <a:blip r:embed="rId18"/>
          <a:stretch/>
        </p:blipFill>
        <p:spPr>
          <a:xfrm>
            <a:off x="2500200" y="3429000"/>
            <a:ext cx="333360" cy="2095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5" descr=""/>
          <p:cNvPicPr/>
          <p:nvPr/>
        </p:nvPicPr>
        <p:blipFill>
          <a:blip r:embed="rId19"/>
          <a:stretch/>
        </p:blipFill>
        <p:spPr>
          <a:xfrm>
            <a:off x="7072200" y="5857920"/>
            <a:ext cx="333360" cy="209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7" descr=""/>
          <p:cNvPicPr/>
          <p:nvPr/>
        </p:nvPicPr>
        <p:blipFill>
          <a:blip r:embed="rId20"/>
          <a:stretch/>
        </p:blipFill>
        <p:spPr>
          <a:xfrm>
            <a:off x="2571840" y="3214800"/>
            <a:ext cx="419040" cy="2095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9" descr=""/>
          <p:cNvPicPr/>
          <p:nvPr/>
        </p:nvPicPr>
        <p:blipFill>
          <a:blip r:embed="rId21"/>
          <a:stretch/>
        </p:blipFill>
        <p:spPr>
          <a:xfrm>
            <a:off x="7215120" y="5572080"/>
            <a:ext cx="419040" cy="2095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1" descr=""/>
          <p:cNvPicPr/>
          <p:nvPr/>
        </p:nvPicPr>
        <p:blipFill>
          <a:blip r:embed="rId22"/>
          <a:stretch/>
        </p:blipFill>
        <p:spPr>
          <a:xfrm>
            <a:off x="1785960" y="4000680"/>
            <a:ext cx="333360" cy="2095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3" descr=""/>
          <p:cNvPicPr/>
          <p:nvPr/>
        </p:nvPicPr>
        <p:blipFill>
          <a:blip r:embed="rId23"/>
          <a:stretch/>
        </p:blipFill>
        <p:spPr>
          <a:xfrm>
            <a:off x="6143760" y="6215040"/>
            <a:ext cx="333360" cy="209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5" descr=""/>
          <p:cNvPicPr/>
          <p:nvPr/>
        </p:nvPicPr>
        <p:blipFill>
          <a:blip r:embed="rId24"/>
          <a:stretch/>
        </p:blipFill>
        <p:spPr>
          <a:xfrm>
            <a:off x="7215120" y="4429080"/>
            <a:ext cx="257400" cy="20952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7" descr=""/>
          <p:cNvPicPr/>
          <p:nvPr/>
        </p:nvPicPr>
        <p:blipFill>
          <a:blip r:embed="rId25"/>
          <a:stretch/>
        </p:blipFill>
        <p:spPr>
          <a:xfrm>
            <a:off x="7072200" y="4214880"/>
            <a:ext cx="257400" cy="2095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9" descr=""/>
          <p:cNvPicPr/>
          <p:nvPr/>
        </p:nvPicPr>
        <p:blipFill>
          <a:blip r:embed="rId26"/>
          <a:stretch/>
        </p:blipFill>
        <p:spPr>
          <a:xfrm>
            <a:off x="6858000" y="4071960"/>
            <a:ext cx="257040" cy="2095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1" descr=""/>
          <p:cNvPicPr/>
          <p:nvPr/>
        </p:nvPicPr>
        <p:blipFill>
          <a:blip r:embed="rId27"/>
          <a:stretch/>
        </p:blipFill>
        <p:spPr>
          <a:xfrm>
            <a:off x="5429160" y="4071960"/>
            <a:ext cx="333360" cy="2095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3" descr=""/>
          <p:cNvPicPr/>
          <p:nvPr/>
        </p:nvPicPr>
        <p:blipFill>
          <a:blip r:embed="rId28"/>
          <a:stretch/>
        </p:blipFill>
        <p:spPr>
          <a:xfrm>
            <a:off x="5214960" y="4214880"/>
            <a:ext cx="333360" cy="2095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5" descr=""/>
          <p:cNvPicPr/>
          <p:nvPr/>
        </p:nvPicPr>
        <p:blipFill>
          <a:blip r:embed="rId29"/>
          <a:stretch/>
        </p:blipFill>
        <p:spPr>
          <a:xfrm>
            <a:off x="5000760" y="4500720"/>
            <a:ext cx="333360" cy="2095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7" descr=""/>
          <p:cNvPicPr/>
          <p:nvPr/>
        </p:nvPicPr>
        <p:blipFill>
          <a:blip r:embed="rId30"/>
          <a:stretch/>
        </p:blipFill>
        <p:spPr>
          <a:xfrm>
            <a:off x="5000760" y="5500800"/>
            <a:ext cx="333360" cy="20952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9" descr=""/>
          <p:cNvPicPr/>
          <p:nvPr/>
        </p:nvPicPr>
        <p:blipFill>
          <a:blip r:embed="rId31"/>
          <a:stretch/>
        </p:blipFill>
        <p:spPr>
          <a:xfrm>
            <a:off x="5500800" y="6072120"/>
            <a:ext cx="371520" cy="2095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1" descr=""/>
          <p:cNvPicPr/>
          <p:nvPr/>
        </p:nvPicPr>
        <p:blipFill>
          <a:blip r:embed="rId32"/>
          <a:stretch/>
        </p:blipFill>
        <p:spPr>
          <a:xfrm>
            <a:off x="928800" y="2714760"/>
            <a:ext cx="95040" cy="2095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5" descr=""/>
          <p:cNvPicPr/>
          <p:nvPr/>
        </p:nvPicPr>
        <p:blipFill>
          <a:blip r:embed="rId33"/>
          <a:stretch/>
        </p:blipFill>
        <p:spPr>
          <a:xfrm>
            <a:off x="2357280" y="3857760"/>
            <a:ext cx="362160" cy="2095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7" descr=""/>
          <p:cNvPicPr/>
          <p:nvPr/>
        </p:nvPicPr>
        <p:blipFill>
          <a:blip r:embed="rId34"/>
          <a:stretch/>
        </p:blipFill>
        <p:spPr>
          <a:xfrm>
            <a:off x="2643120" y="3643200"/>
            <a:ext cx="362160" cy="2095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9" descr=""/>
          <p:cNvPicPr/>
          <p:nvPr/>
        </p:nvPicPr>
        <p:blipFill>
          <a:blip r:embed="rId35"/>
          <a:stretch/>
        </p:blipFill>
        <p:spPr>
          <a:xfrm>
            <a:off x="2928960" y="3357720"/>
            <a:ext cx="228600" cy="3427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3" descr=""/>
          <p:cNvPicPr/>
          <p:nvPr/>
        </p:nvPicPr>
        <p:blipFill>
          <a:blip r:embed="rId36"/>
          <a:stretch/>
        </p:blipFill>
        <p:spPr>
          <a:xfrm>
            <a:off x="5786280" y="785880"/>
            <a:ext cx="3812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7900920" cy="654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танген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Овал 4"/>
          <p:cNvSpPr/>
          <p:nvPr/>
        </p:nvSpPr>
        <p:spPr>
          <a:xfrm>
            <a:off x="1036800" y="2428920"/>
            <a:ext cx="2106360" cy="207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Группа 33"/>
          <p:cNvGrpSpPr/>
          <p:nvPr/>
        </p:nvGrpSpPr>
        <p:grpSpPr>
          <a:xfrm>
            <a:off x="857160" y="1479600"/>
            <a:ext cx="2337840" cy="4067280"/>
            <a:chOff x="857160" y="1479600"/>
            <a:chExt cx="2337840" cy="4067280"/>
          </a:xfrm>
        </p:grpSpPr>
        <p:sp>
          <p:nvSpPr>
            <p:cNvPr id="309" name="Прямая соединительная линия 17"/>
            <p:cNvSpPr/>
            <p:nvPr/>
          </p:nvSpPr>
          <p:spPr>
            <a:xfrm flipV="1">
              <a:off x="3180960" y="1479600"/>
              <a:ext cx="14040" cy="406728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Дуга 20"/>
            <p:cNvSpPr/>
            <p:nvPr/>
          </p:nvSpPr>
          <p:spPr>
            <a:xfrm>
              <a:off x="857160" y="2409840"/>
              <a:ext cx="2314800" cy="2090880"/>
            </a:xfrm>
            <a:custGeom>
              <a:avLst/>
              <a:gdLst>
                <a:gd name="textAreaLeft" fmla="*/ 1211400 w 2314800"/>
                <a:gd name="textAreaRight" fmla="*/ 2315160 w 2314800"/>
                <a:gd name="textAreaTop" fmla="*/ 1080 h 2090880"/>
                <a:gd name="textAreaBottom" fmla="*/ 2089440 h 2090880"/>
              </a:gdLst>
              <a:ahLst/>
              <a:rect l="textAreaLeft" t="textAreaTop" r="textAreaRight" b="textAreaBottom"/>
              <a:pathLst>
                <a:path stroke="0" w="2314104" h="2090664">
                  <a:moveTo>
                    <a:pt x="1210854" y="1131"/>
                  </a:moveTo>
                  <a:lnTo>
                    <a:pt x="1210854" y="1131"/>
                  </a:lnTo>
                  <a:arcTo wR="1157052" hR="1045332" stAng="-5223028" swAng="10418297"/>
                  <a:lnTo>
                    <a:pt x="1157052" y="1045332"/>
                  </a:lnTo>
                  <a:close/>
                </a:path>
                <a:path fill="none" w="2314104" h="2090664">
                  <a:moveTo>
                    <a:pt x="1210854" y="1131"/>
                  </a:moveTo>
                  <a:lnTo>
                    <a:pt x="1210854" y="1131"/>
                  </a:lnTo>
                  <a:arcTo wR="1157052" hR="1045332" stAng="-5223028" swAng="10418297"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Группа 32"/>
          <p:cNvGrpSpPr/>
          <p:nvPr/>
        </p:nvGrpSpPr>
        <p:grpSpPr>
          <a:xfrm>
            <a:off x="601560" y="1643040"/>
            <a:ext cx="5685120" cy="4929120"/>
            <a:chOff x="601560" y="1643040"/>
            <a:chExt cx="5685120" cy="4929120"/>
          </a:xfrm>
        </p:grpSpPr>
        <p:cxnSp>
          <p:nvCxnSpPr>
            <p:cNvPr id="312" name="Прямая со стрелкой 5"/>
            <p:cNvCxnSpPr/>
            <p:nvPr/>
          </p:nvCxnSpPr>
          <p:spPr>
            <a:xfrm>
              <a:off x="601560" y="3484440"/>
              <a:ext cx="3269520" cy="3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13" name="TextBox 6"/>
            <p:cNvSpPr/>
            <p:nvPr/>
          </p:nvSpPr>
          <p:spPr>
            <a:xfrm>
              <a:off x="1785600" y="1643040"/>
              <a:ext cx="23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7"/>
            <p:cNvSpPr/>
            <p:nvPr/>
          </p:nvSpPr>
          <p:spPr>
            <a:xfrm>
              <a:off x="6001200" y="3571920"/>
              <a:ext cx="28548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8"/>
            <p:cNvSpPr/>
            <p:nvPr/>
          </p:nvSpPr>
          <p:spPr>
            <a:xfrm>
              <a:off x="1714320" y="2143080"/>
              <a:ext cx="48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π/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9"/>
            <p:cNvSpPr/>
            <p:nvPr/>
          </p:nvSpPr>
          <p:spPr>
            <a:xfrm>
              <a:off x="3261240" y="6109200"/>
              <a:ext cx="42552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Прямая со стрелкой 15"/>
            <p:cNvCxnSpPr/>
            <p:nvPr/>
          </p:nvCxnSpPr>
          <p:spPr>
            <a:xfrm flipV="1">
              <a:off x="2073240" y="1839240"/>
              <a:ext cx="11520" cy="2891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18" name="TextBox 19"/>
            <p:cNvSpPr/>
            <p:nvPr/>
          </p:nvSpPr>
          <p:spPr>
            <a:xfrm>
              <a:off x="1564920" y="4500720"/>
              <a:ext cx="55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l-GR" sz="1600" spc="-1" strike="noStrike">
                  <a:solidFill>
                    <a:srgbClr val="000000"/>
                  </a:solidFill>
                  <a:latin typeface="Arial"/>
                </a:rPr>
                <a:t>π/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29"/>
            <p:cNvSpPr/>
            <p:nvPr/>
          </p:nvSpPr>
          <p:spPr>
            <a:xfrm>
              <a:off x="3852360" y="3214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Овал 30"/>
            <p:cNvSpPr/>
            <p:nvPr/>
          </p:nvSpPr>
          <p:spPr>
            <a:xfrm>
              <a:off x="2023920" y="4481640"/>
              <a:ext cx="71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Овал 31"/>
            <p:cNvSpPr/>
            <p:nvPr/>
          </p:nvSpPr>
          <p:spPr>
            <a:xfrm>
              <a:off x="2033640" y="2395440"/>
              <a:ext cx="71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Box 34"/>
          <p:cNvSpPr/>
          <p:nvPr/>
        </p:nvSpPr>
        <p:spPr>
          <a:xfrm>
            <a:off x="314064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Группа 42"/>
          <p:cNvGrpSpPr/>
          <p:nvPr/>
        </p:nvGrpSpPr>
        <p:grpSpPr>
          <a:xfrm>
            <a:off x="3143160" y="1571760"/>
            <a:ext cx="453600" cy="398880"/>
            <a:chOff x="3143160" y="1571760"/>
            <a:chExt cx="453600" cy="398880"/>
          </a:xfrm>
        </p:grpSpPr>
        <p:sp>
          <p:nvSpPr>
            <p:cNvPr id="324" name="Овал 38"/>
            <p:cNvSpPr/>
            <p:nvPr/>
          </p:nvSpPr>
          <p:spPr>
            <a:xfrm>
              <a:off x="3143160" y="178596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1"/>
            <p:cNvSpPr/>
            <p:nvPr/>
          </p:nvSpPr>
          <p:spPr>
            <a:xfrm>
              <a:off x="3287880" y="1571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4f81bd"/>
                  </a:solidFill>
                  <a:latin typeface="Times New Roman"/>
                  <a:ea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Группа 27"/>
          <p:cNvGrpSpPr/>
          <p:nvPr/>
        </p:nvGrpSpPr>
        <p:grpSpPr>
          <a:xfrm>
            <a:off x="1521000" y="1797120"/>
            <a:ext cx="1682640" cy="2519280"/>
            <a:chOff x="1521000" y="1797120"/>
            <a:chExt cx="1682640" cy="2519280"/>
          </a:xfrm>
        </p:grpSpPr>
        <p:sp>
          <p:nvSpPr>
            <p:cNvPr id="327" name="Овал 39"/>
            <p:cNvSpPr/>
            <p:nvPr/>
          </p:nvSpPr>
          <p:spPr>
            <a:xfrm>
              <a:off x="2657520" y="2571840"/>
              <a:ext cx="6984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Прямая соединительная линия 25"/>
            <p:cNvSpPr/>
            <p:nvPr/>
          </p:nvSpPr>
          <p:spPr>
            <a:xfrm flipH="1">
              <a:off x="1521000" y="1797120"/>
              <a:ext cx="1682640" cy="251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28"/>
          <p:cNvSpPr/>
          <p:nvPr/>
        </p:nvSpPr>
        <p:spPr>
          <a:xfrm>
            <a:off x="2718360" y="2286000"/>
            <a:ext cx="11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tg</a:t>
            </a:r>
            <a:r>
              <a:rPr b="1" i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</a:t>
            </a:r>
            <a:r>
              <a:rPr b="1" i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6"/>
          <p:cNvSpPr/>
          <p:nvPr/>
        </p:nvSpPr>
        <p:spPr>
          <a:xfrm>
            <a:off x="4586400" y="1714680"/>
            <a:ext cx="3873240" cy="131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тангенсом числа </a:t>
            </a:r>
            <a:r>
              <a:rPr b="1" i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число (угол)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(-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/2;π/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ём, </a:t>
            </a:r>
            <a:r>
              <a:rPr b="1" i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7"/>
          <p:cNvSpPr/>
          <p:nvPr/>
        </p:nvSpPr>
        <p:spPr>
          <a:xfrm>
            <a:off x="4929120" y="4071960"/>
            <a:ext cx="29354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tg(</a:t>
            </a:r>
            <a:r>
              <a:rPr b="0" lang="en-US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</a:t>
            </a:r>
            <a:r>
              <a:rPr b="1" i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 arctg </a:t>
            </a:r>
            <a:r>
              <a:rPr b="1" i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35"/>
          <p:cNvSpPr/>
          <p:nvPr/>
        </p:nvSpPr>
        <p:spPr>
          <a:xfrm>
            <a:off x="3160800" y="5075280"/>
            <a:ext cx="712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43"/>
          <p:cNvSpPr/>
          <p:nvPr/>
        </p:nvSpPr>
        <p:spPr>
          <a:xfrm>
            <a:off x="3288240" y="492912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</a:t>
            </a:r>
            <a:r>
              <a:rPr b="1" i="1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Группа 49"/>
          <p:cNvGrpSpPr/>
          <p:nvPr/>
        </p:nvGrpSpPr>
        <p:grpSpPr>
          <a:xfrm>
            <a:off x="1488600" y="2593800"/>
            <a:ext cx="1683000" cy="2541600"/>
            <a:chOff x="1488600" y="2593800"/>
            <a:chExt cx="1683000" cy="2541600"/>
          </a:xfrm>
        </p:grpSpPr>
        <p:sp>
          <p:nvSpPr>
            <p:cNvPr id="336" name="Прямая соединительная линия 47"/>
            <p:cNvSpPr/>
            <p:nvPr/>
          </p:nvSpPr>
          <p:spPr>
            <a:xfrm flipH="1" flipV="1">
              <a:off x="1488600" y="2593800"/>
              <a:ext cx="1683000" cy="254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Овал 48"/>
            <p:cNvSpPr/>
            <p:nvPr/>
          </p:nvSpPr>
          <p:spPr>
            <a:xfrm>
              <a:off x="2587680" y="428472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Box 50"/>
          <p:cNvSpPr/>
          <p:nvPr/>
        </p:nvSpPr>
        <p:spPr>
          <a:xfrm>
            <a:off x="2648160" y="4143240"/>
            <a:ext cx="10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tg(</a:t>
            </a:r>
            <a:r>
              <a:rPr b="0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</a:t>
            </a:r>
            <a:r>
              <a:rPr b="1" i="1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</a:t>
            </a:r>
            <a:r>
              <a:rPr b="1" i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4"/>
          <p:cNvSpPr/>
          <p:nvPr/>
        </p:nvSpPr>
        <p:spPr>
          <a:xfrm>
            <a:off x="363240" y="5429160"/>
            <a:ext cx="127188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45"/>
          <p:cNvSpPr/>
          <p:nvPr/>
        </p:nvSpPr>
        <p:spPr>
          <a:xfrm>
            <a:off x="1863360" y="5929200"/>
            <a:ext cx="149292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tg√3/3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46"/>
          <p:cNvSpPr/>
          <p:nvPr/>
        </p:nvSpPr>
        <p:spPr>
          <a:xfrm>
            <a:off x="3471480" y="5937120"/>
            <a:ext cx="47484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1"/>
          <p:cNvSpPr/>
          <p:nvPr/>
        </p:nvSpPr>
        <p:spPr>
          <a:xfrm>
            <a:off x="4720680" y="5929200"/>
            <a:ext cx="147600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rctg(-1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2"/>
          <p:cNvSpPr/>
          <p:nvPr/>
        </p:nvSpPr>
        <p:spPr>
          <a:xfrm>
            <a:off x="6361560" y="5929200"/>
            <a:ext cx="5511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котанген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Овал 4"/>
          <p:cNvSpPr/>
          <p:nvPr/>
        </p:nvSpPr>
        <p:spPr>
          <a:xfrm>
            <a:off x="1036800" y="2428920"/>
            <a:ext cx="2106360" cy="2071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Прямая со стрелкой 7"/>
          <p:cNvCxnSpPr/>
          <p:nvPr/>
        </p:nvCxnSpPr>
        <p:spPr>
          <a:xfrm>
            <a:off x="730080" y="3460320"/>
            <a:ext cx="284256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Прямая со стрелкой 10"/>
          <p:cNvCxnSpPr/>
          <p:nvPr/>
        </p:nvCxnSpPr>
        <p:spPr>
          <a:xfrm flipH="1" flipV="1">
            <a:off x="2076120" y="1739160"/>
            <a:ext cx="25920" cy="2934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TextBox 11"/>
          <p:cNvSpPr/>
          <p:nvPr/>
        </p:nvSpPr>
        <p:spPr>
          <a:xfrm>
            <a:off x="1783440" y="1571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2"/>
          <p:cNvSpPr/>
          <p:nvPr/>
        </p:nvSpPr>
        <p:spPr>
          <a:xfrm>
            <a:off x="3495600" y="3214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13"/>
          <p:cNvSpPr/>
          <p:nvPr/>
        </p:nvSpPr>
        <p:spPr>
          <a:xfrm>
            <a:off x="3110040" y="343548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14"/>
          <p:cNvSpPr/>
          <p:nvPr/>
        </p:nvSpPr>
        <p:spPr>
          <a:xfrm>
            <a:off x="1011240" y="343224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6"/>
          <p:cNvSpPr/>
          <p:nvPr/>
        </p:nvSpPr>
        <p:spPr>
          <a:xfrm>
            <a:off x="3212280" y="314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7"/>
          <p:cNvSpPr/>
          <p:nvPr/>
        </p:nvSpPr>
        <p:spPr>
          <a:xfrm>
            <a:off x="630720" y="314316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Группа 22"/>
          <p:cNvGrpSpPr/>
          <p:nvPr/>
        </p:nvGrpSpPr>
        <p:grpSpPr>
          <a:xfrm>
            <a:off x="279360" y="2403360"/>
            <a:ext cx="3643200" cy="2097360"/>
            <a:chOff x="279360" y="2403360"/>
            <a:chExt cx="3643200" cy="2097360"/>
          </a:xfrm>
        </p:grpSpPr>
        <p:sp>
          <p:nvSpPr>
            <p:cNvPr id="355" name="Дуга 18"/>
            <p:cNvSpPr/>
            <p:nvPr/>
          </p:nvSpPr>
          <p:spPr>
            <a:xfrm>
              <a:off x="1041120" y="2428560"/>
              <a:ext cx="2082600" cy="2072160"/>
            </a:xfrm>
            <a:custGeom>
              <a:avLst/>
              <a:gdLst>
                <a:gd name="textAreaLeft" fmla="*/ 720 w 2082600"/>
                <a:gd name="textAreaRight" fmla="*/ 2082240 w 2082600"/>
                <a:gd name="textAreaTop" fmla="*/ 0 h 2072160"/>
                <a:gd name="textAreaBottom" fmla="*/ 1001880 h 2072160"/>
              </a:gdLst>
              <a:ahLst/>
              <a:rect l="textAreaLeft" t="textAreaTop" r="textAreaRight" b="textAreaBottom"/>
              <a:pathLst>
                <a:path stroke="0" w="2082814" h="2071702">
                  <a:moveTo>
                    <a:pt x="916" y="992415"/>
                  </a:moveTo>
                  <a:lnTo>
                    <a:pt x="916" y="992415"/>
                  </a:lnTo>
                  <a:arcTo wR="1041407" hR="1035851" stAng="-10656572" swAng="10543140"/>
                  <a:lnTo>
                    <a:pt x="1041407" y="1035851"/>
                  </a:lnTo>
                  <a:close/>
                </a:path>
                <a:path fill="none" w="2082814" h="2071702">
                  <a:moveTo>
                    <a:pt x="916" y="992415"/>
                  </a:moveTo>
                  <a:lnTo>
                    <a:pt x="916" y="992415"/>
                  </a:lnTo>
                  <a:arcTo wR="1041407" hR="1035851" stAng="-10656572" swAng="10543140"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Прямая соединительная линия 20"/>
            <p:cNvSpPr/>
            <p:nvPr/>
          </p:nvSpPr>
          <p:spPr>
            <a:xfrm>
              <a:off x="279360" y="2403360"/>
              <a:ext cx="3643200" cy="144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Группа 36"/>
          <p:cNvGrpSpPr/>
          <p:nvPr/>
        </p:nvGrpSpPr>
        <p:grpSpPr>
          <a:xfrm>
            <a:off x="1271520" y="2000160"/>
            <a:ext cx="2526480" cy="2109240"/>
            <a:chOff x="1271520" y="2000160"/>
            <a:chExt cx="2526480" cy="2109240"/>
          </a:xfrm>
        </p:grpSpPr>
        <p:grpSp>
          <p:nvGrpSpPr>
            <p:cNvPr id="358" name="Группа 30"/>
            <p:cNvGrpSpPr/>
            <p:nvPr/>
          </p:nvGrpSpPr>
          <p:grpSpPr>
            <a:xfrm>
              <a:off x="1271520" y="2353320"/>
              <a:ext cx="2211120" cy="1756080"/>
              <a:chOff x="1271520" y="2353320"/>
              <a:chExt cx="2211120" cy="1756080"/>
            </a:xfrm>
          </p:grpSpPr>
          <p:sp>
            <p:nvSpPr>
              <p:cNvPr id="359" name="Овал 24"/>
              <p:cNvSpPr/>
              <p:nvPr/>
            </p:nvSpPr>
            <p:spPr>
              <a:xfrm>
                <a:off x="3411360" y="23533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Прямая соединительная линия 27"/>
              <p:cNvSpPr/>
              <p:nvPr/>
            </p:nvSpPr>
            <p:spPr>
              <a:xfrm flipH="1">
                <a:off x="1271520" y="2373120"/>
                <a:ext cx="2185920" cy="173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Овал 25"/>
              <p:cNvSpPr/>
              <p:nvPr/>
            </p:nvSpPr>
            <p:spPr>
              <a:xfrm>
                <a:off x="2871720" y="27676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Box 34"/>
            <p:cNvSpPr/>
            <p:nvPr/>
          </p:nvSpPr>
          <p:spPr>
            <a:xfrm>
              <a:off x="3502800" y="2000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4f81bd"/>
                  </a:solidFill>
                  <a:latin typeface="Times New Roman"/>
                  <a:ea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Box 37"/>
          <p:cNvSpPr/>
          <p:nvPr/>
        </p:nvSpPr>
        <p:spPr>
          <a:xfrm>
            <a:off x="2933280" y="2571840"/>
            <a:ext cx="133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ctg</a:t>
            </a:r>
            <a:r>
              <a:rPr b="1" i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38"/>
          <p:cNvSpPr/>
          <p:nvPr/>
        </p:nvSpPr>
        <p:spPr>
          <a:xfrm>
            <a:off x="4509720" y="1714680"/>
            <a:ext cx="4124880" cy="131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котангенсом числа </a:t>
            </a:r>
            <a:r>
              <a:rPr b="1" i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число (угол)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(0;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ём, </a:t>
            </a:r>
            <a:r>
              <a:rPr b="1" i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9"/>
          <p:cNvSpPr/>
          <p:nvPr/>
        </p:nvSpPr>
        <p:spPr>
          <a:xfrm>
            <a:off x="4714200" y="3786120"/>
            <a:ext cx="3221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ctg(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</a:t>
            </a:r>
            <a:r>
              <a:rPr b="1" i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rcctg </a:t>
            </a:r>
            <a:r>
              <a:rPr b="1" i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23"/>
          <p:cNvSpPr/>
          <p:nvPr/>
        </p:nvSpPr>
        <p:spPr>
          <a:xfrm>
            <a:off x="785520" y="192888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Группа 33"/>
          <p:cNvGrpSpPr/>
          <p:nvPr/>
        </p:nvGrpSpPr>
        <p:grpSpPr>
          <a:xfrm>
            <a:off x="785880" y="2357280"/>
            <a:ext cx="2106000" cy="1789200"/>
            <a:chOff x="785880" y="2357280"/>
            <a:chExt cx="2106000" cy="1789200"/>
          </a:xfrm>
        </p:grpSpPr>
        <p:sp>
          <p:nvSpPr>
            <p:cNvPr id="368" name="Овал 26"/>
            <p:cNvSpPr/>
            <p:nvPr/>
          </p:nvSpPr>
          <p:spPr>
            <a:xfrm>
              <a:off x="785880" y="235728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29"/>
            <p:cNvSpPr/>
            <p:nvPr/>
          </p:nvSpPr>
          <p:spPr>
            <a:xfrm>
              <a:off x="821520" y="2357280"/>
              <a:ext cx="2070360" cy="178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Овал 32"/>
            <p:cNvSpPr/>
            <p:nvPr/>
          </p:nvSpPr>
          <p:spPr>
            <a:xfrm>
              <a:off x="1274760" y="274464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Box 35"/>
          <p:cNvSpPr/>
          <p:nvPr/>
        </p:nvSpPr>
        <p:spPr>
          <a:xfrm>
            <a:off x="114480" y="2606760"/>
            <a:ext cx="11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ctg(</a:t>
            </a: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</a:t>
            </a:r>
            <a:r>
              <a:rPr b="1" i="1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31"/>
          <p:cNvSpPr/>
          <p:nvPr/>
        </p:nvSpPr>
        <p:spPr>
          <a:xfrm>
            <a:off x="789120" y="5500800"/>
            <a:ext cx="167148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cctg(-1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0"/>
          <p:cNvSpPr/>
          <p:nvPr/>
        </p:nvSpPr>
        <p:spPr>
          <a:xfrm>
            <a:off x="792000" y="4857840"/>
            <a:ext cx="127188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1"/>
          <p:cNvSpPr/>
          <p:nvPr/>
        </p:nvSpPr>
        <p:spPr>
          <a:xfrm>
            <a:off x="2592720" y="5543640"/>
            <a:ext cx="58932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42"/>
          <p:cNvSpPr/>
          <p:nvPr/>
        </p:nvSpPr>
        <p:spPr>
          <a:xfrm>
            <a:off x="4292280" y="5572080"/>
            <a:ext cx="141660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ctg√3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43"/>
          <p:cNvSpPr/>
          <p:nvPr/>
        </p:nvSpPr>
        <p:spPr>
          <a:xfrm>
            <a:off x="5832360" y="5575320"/>
            <a:ext cx="47484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корней простых тригонометрических уравнен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 rot="10800000">
            <a:off x="285840" y="6428520"/>
            <a:ext cx="85723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3"/>
          <p:cNvSpPr/>
          <p:nvPr/>
        </p:nvSpPr>
        <p:spPr>
          <a:xfrm>
            <a:off x="225000" y="1000080"/>
            <a:ext cx="249588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cost =</a:t>
            </a:r>
            <a:r>
              <a:rPr b="1" i="1" lang="ru-RU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|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| ≤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Группа 11"/>
          <p:cNvGrpSpPr/>
          <p:nvPr/>
        </p:nvGrpSpPr>
        <p:grpSpPr>
          <a:xfrm>
            <a:off x="285840" y="1643040"/>
            <a:ext cx="2523960" cy="642960"/>
            <a:chOff x="285840" y="1643040"/>
            <a:chExt cx="2523960" cy="642960"/>
          </a:xfrm>
        </p:grpSpPr>
        <p:pic>
          <p:nvPicPr>
            <p:cNvPr id="383" name="Picture 1" descr=""/>
            <p:cNvPicPr/>
            <p:nvPr/>
          </p:nvPicPr>
          <p:blipFill>
            <a:blip r:embed="rId1"/>
            <a:stretch/>
          </p:blipFill>
          <p:spPr>
            <a:xfrm>
              <a:off x="428400" y="1714320"/>
              <a:ext cx="2228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3" descr=""/>
            <p:cNvPicPr/>
            <p:nvPr/>
          </p:nvPicPr>
          <p:blipFill>
            <a:blip r:embed="rId2"/>
            <a:stretch/>
          </p:blipFill>
          <p:spPr>
            <a:xfrm>
              <a:off x="428400" y="2000160"/>
              <a:ext cx="238140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Левая круглая скобка 9"/>
            <p:cNvSpPr/>
            <p:nvPr/>
          </p:nvSpPr>
          <p:spPr>
            <a:xfrm>
              <a:off x="285840" y="1643040"/>
              <a:ext cx="214200" cy="642960"/>
            </a:xfrm>
            <a:custGeom>
              <a:avLst/>
              <a:gdLst>
                <a:gd name="textAreaLeft" fmla="*/ 63000 w 214200"/>
                <a:gd name="textAreaRight" fmla="*/ 214560 w 214200"/>
                <a:gd name="textAreaTop" fmla="*/ 8640 h 642960"/>
                <a:gd name="textAreaBottom" fmla="*/ 63432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00"/>
                    <a:pt x="0" y="600"/>
                  </a:cubicBezTo>
                  <a:lnTo>
                    <a:pt x="0" y="21000"/>
                  </a:lnTo>
                  <a:cubicBezTo>
                    <a:pt x="0" y="21300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Box 10"/>
          <p:cNvSpPr/>
          <p:nvPr/>
        </p:nvSpPr>
        <p:spPr>
          <a:xfrm>
            <a:off x="1290240" y="2286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5" descr=""/>
          <p:cNvPicPr/>
          <p:nvPr/>
        </p:nvPicPr>
        <p:blipFill>
          <a:blip r:embed="rId3"/>
          <a:stretch/>
        </p:blipFill>
        <p:spPr>
          <a:xfrm>
            <a:off x="285840" y="2714760"/>
            <a:ext cx="2381040" cy="276120"/>
          </a:xfrm>
          <a:prstGeom prst="rect">
            <a:avLst/>
          </a:prstGeom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89" name="TextBox 15"/>
          <p:cNvSpPr/>
          <p:nvPr/>
        </p:nvSpPr>
        <p:spPr>
          <a:xfrm>
            <a:off x="508680" y="3214800"/>
            <a:ext cx="1738080" cy="3682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ные случа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6"/>
          <p:cNvSpPr/>
          <p:nvPr/>
        </p:nvSpPr>
        <p:spPr>
          <a:xfrm>
            <a:off x="435600" y="3857760"/>
            <a:ext cx="1683360" cy="6426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s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/2+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‚ 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7"/>
          <p:cNvSpPr/>
          <p:nvPr/>
        </p:nvSpPr>
        <p:spPr>
          <a:xfrm>
            <a:off x="434520" y="4714920"/>
            <a:ext cx="1675800" cy="6426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st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0+2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‚ 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8"/>
          <p:cNvSpPr/>
          <p:nvPr/>
        </p:nvSpPr>
        <p:spPr>
          <a:xfrm>
            <a:off x="434880" y="5572080"/>
            <a:ext cx="1619280" cy="6426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st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+2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‚ 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9"/>
          <p:cNvSpPr/>
          <p:nvPr/>
        </p:nvSpPr>
        <p:spPr>
          <a:xfrm>
            <a:off x="3362400" y="1000080"/>
            <a:ext cx="2460600" cy="398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sint 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де | а |≤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Группа 29"/>
          <p:cNvGrpSpPr/>
          <p:nvPr/>
        </p:nvGrpSpPr>
        <p:grpSpPr>
          <a:xfrm>
            <a:off x="3214800" y="1643040"/>
            <a:ext cx="2714400" cy="571680"/>
            <a:chOff x="3214800" y="1643040"/>
            <a:chExt cx="2714400" cy="571680"/>
          </a:xfrm>
        </p:grpSpPr>
        <p:pic>
          <p:nvPicPr>
            <p:cNvPr id="397" name="Picture 7" descr=""/>
            <p:cNvPicPr/>
            <p:nvPr/>
          </p:nvPicPr>
          <p:blipFill>
            <a:blip r:embed="rId4"/>
            <a:stretch/>
          </p:blipFill>
          <p:spPr>
            <a:xfrm>
              <a:off x="3357360" y="1643040"/>
              <a:ext cx="220968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9" descr=""/>
            <p:cNvPicPr/>
            <p:nvPr/>
          </p:nvPicPr>
          <p:blipFill>
            <a:blip r:embed="rId5"/>
            <a:stretch/>
          </p:blipFill>
          <p:spPr>
            <a:xfrm>
              <a:off x="3357360" y="1928880"/>
              <a:ext cx="2571840" cy="2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Левая круглая скобка 24"/>
            <p:cNvSpPr/>
            <p:nvPr/>
          </p:nvSpPr>
          <p:spPr>
            <a:xfrm>
              <a:off x="3214800" y="1643040"/>
              <a:ext cx="142560" cy="571680"/>
            </a:xfrm>
            <a:custGeom>
              <a:avLst/>
              <a:gdLst>
                <a:gd name="textAreaLeft" fmla="*/ 41760 w 142560"/>
                <a:gd name="textAreaRight" fmla="*/ 142920 w 142560"/>
                <a:gd name="textAreaTop" fmla="*/ 5760 h 571680"/>
                <a:gd name="textAreaBottom" fmla="*/ 565920 h 57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25"/>
                    <a:pt x="0" y="450"/>
                  </a:cubicBezTo>
                  <a:lnTo>
                    <a:pt x="0" y="21150"/>
                  </a:lnTo>
                  <a:cubicBezTo>
                    <a:pt x="0" y="21375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Box 25"/>
          <p:cNvSpPr/>
          <p:nvPr/>
        </p:nvSpPr>
        <p:spPr>
          <a:xfrm>
            <a:off x="4219200" y="2286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1" descr=""/>
          <p:cNvPicPr/>
          <p:nvPr/>
        </p:nvPicPr>
        <p:blipFill>
          <a:blip r:embed="rId6"/>
          <a:stretch/>
        </p:blipFill>
        <p:spPr>
          <a:xfrm>
            <a:off x="3286080" y="2786040"/>
            <a:ext cx="2629080" cy="285840"/>
          </a:xfrm>
          <a:prstGeom prst="rect">
            <a:avLst/>
          </a:prstGeom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403" name="TextBox 32"/>
          <p:cNvSpPr/>
          <p:nvPr/>
        </p:nvSpPr>
        <p:spPr>
          <a:xfrm>
            <a:off x="3651840" y="3286080"/>
            <a:ext cx="17380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ные случа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3"/>
          <p:cNvSpPr/>
          <p:nvPr/>
        </p:nvSpPr>
        <p:spPr>
          <a:xfrm>
            <a:off x="3791520" y="3857760"/>
            <a:ext cx="1503720" cy="6426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n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0+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‚ 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4"/>
          <p:cNvSpPr/>
          <p:nvPr/>
        </p:nvSpPr>
        <p:spPr>
          <a:xfrm>
            <a:off x="3650040" y="4786200"/>
            <a:ext cx="1797480" cy="6426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nt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/2+2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‚ 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5"/>
          <p:cNvSpPr/>
          <p:nvPr/>
        </p:nvSpPr>
        <p:spPr>
          <a:xfrm>
            <a:off x="3579120" y="5643720"/>
            <a:ext cx="1931760" cy="6426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nt =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-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/2+2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‚ 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36"/>
          <p:cNvSpPr/>
          <p:nvPr/>
        </p:nvSpPr>
        <p:spPr>
          <a:xfrm flipH="1">
            <a:off x="2928960" y="928800"/>
            <a:ext cx="1440" cy="542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38"/>
          <p:cNvSpPr/>
          <p:nvPr/>
        </p:nvSpPr>
        <p:spPr>
          <a:xfrm flipH="1">
            <a:off x="6071760" y="928800"/>
            <a:ext cx="1800" cy="542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9"/>
          <p:cNvSpPr/>
          <p:nvPr/>
        </p:nvSpPr>
        <p:spPr>
          <a:xfrm>
            <a:off x="6512040" y="1214280"/>
            <a:ext cx="220500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t 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,  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40"/>
          <p:cNvSpPr/>
          <p:nvPr/>
        </p:nvSpPr>
        <p:spPr>
          <a:xfrm>
            <a:off x="6226560" y="2000160"/>
            <a:ext cx="27806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arctg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‚ 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41"/>
          <p:cNvSpPr/>
          <p:nvPr/>
        </p:nvSpPr>
        <p:spPr>
          <a:xfrm>
            <a:off x="6511680" y="3714840"/>
            <a:ext cx="226440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gt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 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42"/>
          <p:cNvSpPr/>
          <p:nvPr/>
        </p:nvSpPr>
        <p:spPr>
          <a:xfrm>
            <a:off x="6129720" y="4699080"/>
            <a:ext cx="291492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arcctg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‚ 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43"/>
          <p:cNvSpPr/>
          <p:nvPr/>
        </p:nvSpPr>
        <p:spPr>
          <a:xfrm>
            <a:off x="6357960" y="3286080"/>
            <a:ext cx="2428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4:17:06Z</dcterms:created>
  <dc:creator>user</dc:creator>
  <dc:description/>
  <dc:language>en-US</dc:language>
  <cp:lastModifiedBy>гульна</cp:lastModifiedBy>
  <dcterms:modified xsi:type="dcterms:W3CDTF">2012-10-31T16:23:24Z</dcterms:modified>
  <cp:revision>31</cp:revision>
  <dc:subject/>
  <dc:title>Слайд 1</dc:title>
</cp:coreProperties>
</file>