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19.wmf" ContentType="image/x-wmf"/>
  <Override PartName="/ppt/media/image2.jpeg" ContentType="image/jpeg"/>
  <Override PartName="/ppt/media/image20.png" ContentType="image/png"/>
  <Override PartName="/ppt/media/image18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10.png" ContentType="image/png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  <p:sldId id="274" r:id="rId41"/>
    <p:sldId id="275" r:id="rId42"/>
    <p:sldId id="27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slide" Target="slides/slide19.xml"/><Relationship Id="rId42" Type="http://schemas.openxmlformats.org/officeDocument/2006/relationships/slide" Target="slides/slide20.xml"/><Relationship Id="rId43" Type="http://schemas.openxmlformats.org/officeDocument/2006/relationships/slide" Target="slides/slide2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A541-FE93-4213-9790-1F66E9664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FBF1-AA9A-4905-8E30-68D8A9C16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F3DF20-B5DC-4B37-8D0D-0EC4F8E27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89C099-F382-441E-B01A-4AB258ED7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428A22-6A12-44CD-A49F-190DB1D27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3940E4-8BAF-4324-B440-FF200DC3F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BBCB0E-D624-49FD-BBC6-B006F52CF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5524A4-4D3A-4037-A629-9BB68290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347DDA-2D1C-4E76-AA8A-9F1B36CF2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DC9DF4-6FA8-4215-983B-58F08CEF1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8D66F3-8EC8-4927-A02D-D60A8C7E5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AA5650-CAC3-4002-9066-04B71FCAF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3A11-6D0F-424E-8C33-B00337F12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D9440C-0619-46A6-9125-8639DEF17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A9878F-99A1-48DC-A18E-0D8818E61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419F67-7198-47E6-B9C0-51B234BD5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002911-04BC-4AA0-A3F6-E915A14BD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2FE1A0-E2EF-4D47-BAE0-6921F9D6F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8728D2-B7F4-47DD-8E65-B6C7FEF2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03C79E-6CEC-442D-A852-82CED0FA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AC185F-3D14-4C64-89E1-AD46259D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765708-5DD7-48BB-B78C-F2C9B7687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3FF453-97B9-4578-A2BD-497F22C63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A832-A947-45A8-9A60-47C4B19AC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A12001-CD9B-40D9-86CC-61BE17B17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998602-C4CC-4A76-B61A-21A8A74E0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E3C3F1-E5DB-4D8B-A62C-509BAC8D1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00E60F-E9CC-4FD7-B695-3896EE242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C6C0F0-2772-40D7-B264-2020D34B7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530693-5573-4E31-B77F-10FBD88C2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7DF4E5-B662-4CDC-AF15-03E5D9D1E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7AEB58-B6BE-434A-ADDA-29183EFA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F9861D-7909-41BE-8507-983A87C4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2E8BD9-5359-4D0F-ABA2-FB52A2AA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E5699-0579-4D42-8031-D92AABEC6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B75C47-B67C-4DD4-BF42-F1A354A45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1A8D58-E53E-4F7B-A07D-5DE23865A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A288E3-A321-4DE7-8F8D-DE2A73F8F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C04CED-E991-44C6-90B9-2150ABDBA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BABDAF-4926-48ED-BEB9-40BA566FB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2D3D17-2E47-4AC6-A477-0BB355706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06A7B3-6B47-431E-A528-BB1068F46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B77B1C-38EA-4888-BB68-D1771BF77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B14BEC-45BA-4211-9E34-D6C24904B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3E75AE-E860-42C0-9A40-3A5C0C6C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58B96-FA78-423F-8877-4DAA2B5C6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3A6DF1-7C10-4353-8CC0-EEC70ED1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83DCA9-2548-4E81-BE60-A72F67C7E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06A93D-C116-4D4B-BE1C-EAA4E07C6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F9B804-6401-48B0-912C-70E45B0DD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47F9CE-4EC1-44F7-A4B9-A867DD578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AF4AE4-7345-476E-B743-F11651219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EDB4C3-CCE5-4181-8AF6-83887C402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F2FDE6-6524-4C9D-A486-114D7EDD1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A8F3DC-004B-4E2D-8946-DAC10498B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801A67-7677-41E3-A428-FEEBC8A57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B82E9-717B-416F-B4A4-5950BD1F2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433D03-5A55-491C-A683-B2A9D188B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B12636-EAF0-4E7D-8EE0-A411A91DD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605251-057B-47E1-B79A-7AD3B8A66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2625B6-434D-4F6B-8E66-A600354BD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7C8A48-92C4-4FBA-82A4-5D569543D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638E39-B2AB-4500-A1BC-35D12EAA4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5C0085-39F4-4CEC-9C69-4E2DFF0A4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4222E4-006F-46CD-BE25-CBA2198AA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A17F59-8505-4070-81B5-50022B040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74ACD3-E3B3-4735-908C-62366D1F8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E2955-EDE3-457F-9FF3-79FC8D419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05EAF5-DE84-42A9-81EF-A83803E6B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66195D-CFC5-43FC-8D6A-04C356B43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1FB5DB-804A-4855-A2AA-F3369C255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0B054F-83E0-4852-8F08-11D0B2E95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5FD322-488C-4951-8AFB-6970C605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B24A99-281E-4266-B9D0-B84D2854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D6408C-2585-4EBA-BEF1-00561F837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929560-C9F7-4EB1-8082-F9930D590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488BDC-C84E-4653-9EAD-2F956947A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34D0FE0-A7A5-46B2-82FB-91D8EF2D7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E9ACE-47F9-4DC7-94B0-B7CD26AF0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5627539-963C-4935-B2FA-CF9DE9D1F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C022FE9-4E9E-40B8-8F13-EF031C59F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DC22454-C523-4704-AECD-0B92231DA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845AFB6-815A-4AEE-8864-16B560880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8EF928F-A183-4FA4-A3A4-0F50127CE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DBE5D36-A676-404D-B1A3-4F75A958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7CE2236-16AA-4B8A-86F3-8899CE58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C0D2649-8049-4D0B-B0EC-CFB74280A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F1C749D-DEE7-4858-811E-D73108D83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CD5131A-A757-4E0E-9859-F172588AF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2FD6F-D2F6-4A1D-ADD6-2225B5D82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F79B8E3-45EE-4120-B126-048CAB0F3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B13A150-AC93-43D8-9B58-0848DB110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119EA74-DE28-4BBD-87B4-30C20F849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BE40FAE-DBB1-4F4D-8CD4-3F5E79746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0679C82-1BAE-4A33-B531-AA24DFE49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2CCDF5E-97B2-4D4C-BCF9-30537D125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CB9512C-10A8-4751-ADC3-56B483A88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17667AB-3636-4EAB-9BE5-29D4400EB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C003AAF-06DB-4CCD-BD90-B48DE0455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B296921-927F-4023-A52F-C8DFD63D9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4FFDB-80D0-43A0-B074-D7E61DB29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C641DC5-D03B-44BD-83E2-CEEC1C346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C0C1AC3-E843-47FB-9C94-7195A4397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91E9BDE-F7D3-48C6-9BDA-D6C068A87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BA0A58-4287-4479-9016-F856EE315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04E032-25F8-4120-99B3-F85D5E9D6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FFFB77-398F-4E14-9AA6-557D298D8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BD9FB1-1CEE-4683-9899-971151558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A3EBFF-1DDC-4B0C-9EAC-F2372D15C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6E7A18-3E2F-4AB9-9C82-C764B122F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2E2EEC-70D8-460F-B765-43B75D271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9EB2-BBFF-45CC-B23A-DFAE8446F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8EA8F-F1FE-4C56-8448-86ECACDF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1E9B1C-0AA4-4C75-8466-7EBB9165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BA4DFC-B393-4475-8D85-71F8D568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134A24-7B47-42AF-9062-DF3AEC7B8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32FE10-B674-49C2-A4FA-4066164A0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617D04-C0BF-45D0-8E19-BF73D175D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6BCDAA4-6784-4735-B311-038280EE8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78B750A-24FC-4467-A3DB-8CA3C9E09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7D3F87F-59A2-47D9-B204-0056396FD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4BFBC85-CB2A-4B40-AE12-6A8D001D5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F28E362-4456-43CA-B6B8-6DCCB5B62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37D00-9127-4BE1-BB11-EFB7AD7D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2FAC3C0-30AC-4641-BF1B-C24BB873A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0283BFB-F863-4E8D-B849-C5AD860C9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CF2755D-24B9-4AF0-BB89-0E1B8F58C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39C877B-2615-43E0-A27F-3214260A1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6CE8A77-F363-4035-8FF1-1AF429F1E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3DAB823-5C3E-455B-87FD-215C31C58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FA4BF44-27D6-4821-8CCF-6C54ED105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C9AB99-4B60-4F1D-8632-B1C17CA92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425DC7-2477-455D-8887-894A7B0F2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2E9A93-66BF-4C31-BB89-C557CAB4B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C6BF2-273C-417D-8337-0ED713EE9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96860E-6961-4955-A06C-CF47F4E33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C53FDF-4CC0-438D-9339-BF6FA209D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D9B660-1FF3-4D57-B4FA-1842C7AC9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51B7C6-3749-4D00-B770-90104E730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DAE1E4-7461-4C0F-BD50-D9551E63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758EC9-58D1-40C4-AF08-0C2EC2E9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8E322B-6711-48F8-9096-B3E2EB057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3E0BF7-03CD-4251-9D6C-A5FBB9A84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03E418-B6B4-4FDD-9A0E-2D369E7E4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F31018-38AB-4D97-B8BA-62633EC5D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80795-357B-4F0F-91E6-78BE96973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B460C4-4153-4B48-B5A6-6A06A6D95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F4BD55-F9D6-4B0B-BF58-B6C4779D5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860615-2667-4DDF-ACA5-1A8E93AE2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865DA5-F0F6-4C50-B1BA-95AF0FBA9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316133-90D1-4C10-BB3B-90CF40301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DE782C-B4D4-4172-B999-300253E8D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3AFAFD-8969-4CA6-BD25-12482D253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89A1AC-D46F-4A5F-A515-5CEC74520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75420F-F9E3-4C49-8A0D-FB4BFAED9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3F9D9E-3D2E-45F6-88F9-D0F1ABCB7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DAEF9-A6C8-4417-A029-236719080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07C6F7-0303-4204-8641-4B455EE5C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2EF9C8-A264-452E-95E3-02FABC387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A5AB4B-68CD-4F14-958F-C691401CC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882FF37-A62B-4A11-8DBC-0D5C3F89A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7D10CE-C136-43DD-B365-7041CD3AA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142B73-F674-4784-BB81-BC094C5D4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3456066-369B-469D-BD02-670BA0F27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C27F37-59CB-443B-8D67-B8C83C3E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AD2F16-FDEF-40D7-9AC2-65A960B5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942425-1909-4DD5-B32E-351C0BFC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2F1C8-BA58-4BE4-965B-2A0AB140A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0D10E5-724D-44A1-AB25-70F271BB4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3A7029-27AF-413C-A4FB-AB6BEDC94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4D830B-907F-4BDE-9317-949E5007C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1FDE1-2F5E-42F6-A6E1-D16E6CC5E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B208C-2530-42ED-8CAE-376E67DC0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8557E-04CF-47D0-8205-8E636F50F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E39C0-2B14-43E8-95DF-68AC86383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88E2-1DCF-45C9-9970-C6EBA2DE5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BBF09-D8B1-4C79-9D1B-4F1118614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73013-0096-4E94-8E0D-AB75B9518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5CF4D-F5FC-428D-9256-D4C9FF88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F8AEE-EAA9-4A0B-B7C0-495F0D02D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72C38-C503-475C-9EE8-399590853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65F04-3AEA-4055-ADB5-3FCE7D492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32CA6-6A45-44B0-AC9D-45AE45A1E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AEA9F-C373-4DFD-8157-20294FC1A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1EDC9-02F7-4A68-8CEF-636481A00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65165-EB78-4D23-8045-ED683B26D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6F31-AEAD-4AA6-BFAA-D49DD6823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A143B-6648-4F80-8B4F-011ABD43B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2697E-DBD2-4BBB-8C5E-4E7E92381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0B396-0090-4247-975C-77683985B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86DE3-1BD3-41B3-9AAF-B5866EACA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3013A-D958-4387-9ACE-D659C1E5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751E3-47F9-413A-990C-AFDBE69F7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71171-0BED-415C-857B-BDEC3BA37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3D8A2-8140-47CE-80BD-18E09E7FC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B50C0-57EA-4164-8681-9E42C1974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B87B48-8F72-4EA3-BC6E-6D78F3C0F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8393-D6DA-4643-9776-256031190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7231E5-5CE6-43A1-860B-4A7A48A63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B5807-0580-4BB8-AFAF-D0E5E4752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C041D4-5002-408A-B2F1-FF59F6180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D60F92-F771-45F5-9602-7B2AB80F3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4C991-F3F2-4BA1-93B2-3F9DC5BAC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BCDA94-DFBC-4357-AD58-2357F505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FA7B31-6ABE-4354-83F1-14D2E791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4F610-7FCF-487F-ADE6-C73ABB00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2B19A8-3241-460F-BD58-075A77D93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542D08-43F7-4E56-A43C-3F6933C22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AF80-3138-4779-85E0-0DF6375E5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D4D4F-9C49-4A66-85C0-2A068917B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093579-63FB-436D-A69E-C31258C7F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9BBA1C-4F47-4173-ABA7-4F4F632F5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B13C7E-7716-42CA-B7F8-C327A42B4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513AB9-94A9-458C-9831-C147EECCD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F6AC3C-259B-4F45-94C0-44724A1A0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E75B73-8151-493E-A749-AEE3D7B34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616E56-447E-42EE-934B-35A38F63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FFBEE1-869E-4362-A3B5-08682802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63AAF6-A82B-4FB8-89D2-EF56D405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0E50-7DC9-4184-88D4-7A4591792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BC7E94-FED8-47E3-9416-A454AFDA6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9B072-5CCE-4669-9831-24A796BF4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134225-40B5-4167-A3E1-20173D381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F7953E-E76C-4346-8B3F-7F89B989C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9B79F3-EC8D-489B-A023-A0AE7D6E4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1B64ED-6E00-4FDC-8541-A5D679D28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19EF0C-23CF-4A91-A209-F44958A1F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5D59A2-E46B-4EA7-B53E-5E8796DFE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5F6692-67FB-458E-B6B9-4B1FB1E80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219638-8CA5-402B-8EA7-072A0045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231C-17BB-4A44-877B-38D9CC36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A9AE20-19DF-439A-B3E7-01680153C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5385BA-EA31-400A-80E9-17B70829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6AEFFB-3BEF-4A63-A2DE-C8B803E45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1EC911-3F1C-444F-ACB3-C75023FFA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E48848-46E1-4F80-ABE0-E2D7CE777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1564A9-23D6-4A5C-8822-927D967AA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8C8B6A-E9E6-4155-91CD-E9F9F0D13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C0E8AF-C887-4119-A8AD-997336C68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90AACB-EFD4-4482-B109-0074F04C1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16E762-A412-4D64-A5D4-2B6E09E38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76C4-3CDB-46C7-86B7-90161CD1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D6D091-72B6-4B29-8226-9A543A2AB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F2B1A6-2463-4E37-BAAD-C811C9FEE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54002B-59AA-4C91-B2E3-B97C6088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E8C904-5E28-4A53-A73B-441EBE27E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A5D089-F4F9-4791-8F8F-26E348BED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9E4262-DDBA-4B3B-87CF-88CF82B80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DB4AD7-E928-4A76-834C-64B153C60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779B62-7CDD-440B-96C2-EE604A748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F210F4-9F37-4859-8605-732C044E1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F0DF3E-58F8-4013-A320-73DA50132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image" Target="../media/image3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52752-41B2-4BB3-B129-7EFD173F7A0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E7FB9-7E80-4995-82C6-027D4D905B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a04d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c4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8c438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c4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c438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43808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04da3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465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b5d3d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ftr" idx="2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dt" idx="2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43FDF-B63C-4603-A08C-F90FE6C6AB43}" type="datetime">
              <a:rPr b="0" lang="en-US" sz="1400" spc="-1" strike="noStrike">
                <a:solidFill>
                  <a:srgbClr val="ffffff"/>
                </a:solidFill>
                <a:latin typeface="Georgi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30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c438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864CC-0753-49F6-93E7-9E3C56CA8B59}" type="slidenum">
              <a:rPr b="0" lang="en-US" sz="1600" spc="-1" strike="noStrike">
                <a:solidFill>
                  <a:srgbClr val="8c438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a04d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c4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c438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c4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42445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c438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43808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04da3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465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b5d3d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1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72530-5C13-4EBB-BBA4-4E6A3A1143AB}" type="datetime">
              <a:rPr b="0" lang="en-US" sz="1400" spc="-1" strike="noStrike">
                <a:solidFill>
                  <a:srgbClr val="ffffff"/>
                </a:solidFill>
                <a:latin typeface="Georgi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c438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AE030-E666-4FD5-9EF3-12A73E554C77}" type="slidenum">
              <a:rPr b="0" lang="en-US" sz="1600" spc="-1" strike="noStrike">
                <a:solidFill>
                  <a:srgbClr val="8c438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42445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a04d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8c438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c4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c4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c438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43808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04da3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465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b5d3d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dt" idx="3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7439C-3868-470B-9D6D-C204C6486E6E}" type="datetime">
              <a:rPr b="0" lang="en-US" sz="1400" spc="-1" strike="noStrike">
                <a:solidFill>
                  <a:srgbClr val="ffffff"/>
                </a:solidFill>
                <a:latin typeface="Georgi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ftr" idx="35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sldNum" idx="36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c438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26750-0015-42CF-938B-59499AA132B6}" type="slidenum">
              <a:rPr b="0" lang="en-US" sz="1600" spc="-1" strike="noStrike">
                <a:solidFill>
                  <a:srgbClr val="8c438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a04d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c4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c438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c4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c438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43808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04da3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465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b5d3d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 type="dt" idx="3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A885A-CFB2-4825-833C-E83D346C2D16}" type="datetime">
              <a:rPr b="0" lang="en-US" sz="1400" spc="-1" strike="noStrike">
                <a:solidFill>
                  <a:srgbClr val="ffffff"/>
                </a:solidFill>
                <a:latin typeface="Georgi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 type="ftr" idx="3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 type="sldNum" idx="39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c438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B48C0-909E-49E1-B33A-4C0C0DB6CB67}" type="slidenum">
              <a:rPr b="0" lang="en-US" sz="1600" spc="-1" strike="noStrike">
                <a:solidFill>
                  <a:srgbClr val="8c438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a04d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8c4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c438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43808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04da3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465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b5d3d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dt" idx="40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12EEA-0611-40FC-AA5D-C36AEF086D37}" type="datetime">
              <a:rPr b="0" lang="en-US" sz="1400" spc="-1" strike="noStrike">
                <a:solidFill>
                  <a:srgbClr val="ffffff"/>
                </a:solidFill>
                <a:latin typeface="Georgi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ftr" idx="41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 type="sldNum" idx="42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91A6E-36D3-42D1-A47E-252762052E03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a04d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c4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c438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c4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a04d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c438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43808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04da3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465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b5d3d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 type="sldNum" idx="43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c438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930EF-461A-4DBA-98D9-2DFB1D5DDE1D}" type="slidenum">
              <a:rPr b="0" lang="en-US" sz="1600" spc="-1" strike="noStrike">
                <a:solidFill>
                  <a:srgbClr val="8c438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 type="dt" idx="4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52667-72FA-48DB-BCA1-BB896EB5C9A1}" type="datetime">
              <a:rPr b="0" lang="en-US" sz="1400" spc="-1" strike="noStrike">
                <a:solidFill>
                  <a:srgbClr val="ffffff"/>
                </a:solidFill>
                <a:latin typeface="Georgi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 type="ftr" idx="45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c438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a04d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c4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c4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a04d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c438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43808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04da3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465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b5d3d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 type="sldNum" idx="46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c438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D0F7D-3EBC-4A98-AA5D-7DD87223A9E8}" type="slidenum">
              <a:rPr b="0" lang="en-US" sz="1600" spc="-1" strike="noStrike">
                <a:solidFill>
                  <a:srgbClr val="8c438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 type="dt" idx="47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11747-0D89-43B9-8C8C-2AB494D0F32A}" type="datetime">
              <a:rPr b="0" lang="en-US" sz="1400" spc="-1" strike="noStrike">
                <a:solidFill>
                  <a:srgbClr val="ffffff"/>
                </a:solidFill>
                <a:latin typeface="Georgi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 type="ftr" idx="48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a04d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c4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c438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c4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c438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43808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04da3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465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b5d3d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 type="dt" idx="4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3D282-D599-4218-B965-9477DE3664F3}" type="datetime">
              <a:rPr b="0" lang="en-US" sz="1400" spc="-1" strike="noStrike">
                <a:solidFill>
                  <a:srgbClr val="ffffff"/>
                </a:solidFill>
                <a:latin typeface="Georgi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 type="ftr" idx="5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 type="sldNum" idx="51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c438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FA0D7-3420-44DF-AB48-B37D46265FD4}" type="slidenum">
              <a:rPr b="0" lang="en-US" sz="1600" spc="-1" strike="noStrike">
                <a:solidFill>
                  <a:srgbClr val="8c438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a04d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c4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8c438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c4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c438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43808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04da3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465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b5d3d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sldNum" idx="52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c438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D120E-D3F7-4F55-8856-1E6C1E48D099}" type="slidenum">
              <a:rPr b="0" lang="en-US" sz="1600" spc="-1" strike="noStrike">
                <a:solidFill>
                  <a:srgbClr val="8c438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dt" idx="53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DD65F-5AAA-46E3-BEAF-639F130E5FE9}" type="datetime">
              <a:rPr b="0" lang="en-US" sz="1400" spc="-1" strike="noStrike">
                <a:solidFill>
                  <a:srgbClr val="ffffff"/>
                </a:solidFill>
                <a:latin typeface="Georgi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ftr" idx="5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89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90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90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 type="dt" idx="55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C8E7B-62EE-4449-A7AE-284FA2491E70}" type="datetime">
              <a:rPr b="0" lang="en-US" sz="1400" spc="-1" strike="noStrike">
                <a:solidFill>
                  <a:srgbClr val="1c1c1c"/>
                </a:solidFill>
                <a:latin typeface="Tahom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 type="ftr" idx="56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 type="sldNum" idx="57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DFD37-61C6-4749-8E98-31E04E78BDC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a04d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3C08E-84A2-4A1B-98C9-D4CF41F33D66}" type="datetime">
              <a:rPr b="0" lang="en-US" sz="1400" spc="-1" strike="noStrike">
                <a:solidFill>
                  <a:srgbClr val="ffffff"/>
                </a:solidFill>
                <a:latin typeface="Georgi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c4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c438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c4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c438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47AFA-1F21-4B83-BBAA-2B5CC2139536}" type="slidenum">
              <a:rPr b="0" lang="en-US" sz="1600" spc="-1" strike="noStrike">
                <a:solidFill>
                  <a:srgbClr val="8c438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c438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43808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04da3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465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b5d3d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9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950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f0ad00"/>
                </a:gs>
                <a:gs pos="100000">
                  <a:srgbClr val="6f5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f0ad00"/>
                </a:gs>
                <a:gs pos="100000">
                  <a:srgbClr val="6f5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f5000"/>
                </a:gs>
                <a:gs pos="100000">
                  <a:srgbClr val="f0a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f5000"/>
                </a:gs>
                <a:gs pos="100000">
                  <a:srgbClr val="f0a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10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f5000"/>
                </a:gs>
                <a:gs pos="50000">
                  <a:srgbClr val="f0ad00"/>
                </a:gs>
                <a:gs pos="100000">
                  <a:srgbClr val="6f5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11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4200"/>
                <a:gd name="textAreaBottom" fmla="*/ 1024560 h 102420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f5000"/>
                </a:gs>
                <a:gs pos="50000">
                  <a:srgbClr val="f0ad00"/>
                </a:gs>
                <a:gs pos="100000">
                  <a:srgbClr val="6f5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12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f5000"/>
                </a:gs>
                <a:gs pos="50000">
                  <a:srgbClr val="f0ad00"/>
                </a:gs>
                <a:gs pos="100000">
                  <a:srgbClr val="6f5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13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f5000"/>
                </a:gs>
                <a:gs pos="50000">
                  <a:srgbClr val="f0ad00"/>
                </a:gs>
                <a:gs pos="100000">
                  <a:srgbClr val="6f5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14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f5000"/>
                </a:gs>
                <a:gs pos="50000">
                  <a:srgbClr val="f0ad00"/>
                </a:gs>
                <a:gs pos="100000">
                  <a:srgbClr val="6f5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15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f5000"/>
                </a:gs>
                <a:gs pos="50000">
                  <a:srgbClr val="f0ad00"/>
                </a:gs>
                <a:gs pos="100000">
                  <a:srgbClr val="6f5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16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4200"/>
                <a:gd name="textAreaBottom" fmla="*/ 1024560 h 102420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f5000"/>
                </a:gs>
                <a:gs pos="50000">
                  <a:srgbClr val="f0ad00"/>
                </a:gs>
                <a:gs pos="100000">
                  <a:srgbClr val="6f5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17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912960"/>
                <a:gd name="textAreaBottom" fmla="*/ 913320 h 912960"/>
              </a:gdLst>
              <a:ahLst/>
              <a:rect l="textAreaLeft" t="textAreaTop" r="textAreaRight" b="textAreaBottom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f5000"/>
                </a:gs>
                <a:gs pos="50000">
                  <a:srgbClr val="f0ad00"/>
                </a:gs>
                <a:gs pos="100000">
                  <a:srgbClr val="6f5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f0ad00"/>
                </a:gs>
                <a:gs pos="100000">
                  <a:srgbClr val="6f5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f0ad00"/>
                </a:gs>
                <a:gs pos="100000">
                  <a:srgbClr val="6f5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f5000"/>
                </a:gs>
                <a:gs pos="100000">
                  <a:srgbClr val="f0a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f5000"/>
                </a:gs>
                <a:gs pos="100000">
                  <a:srgbClr val="f0a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22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f5000"/>
                </a:gs>
                <a:gs pos="50000">
                  <a:srgbClr val="f0ad00"/>
                </a:gs>
                <a:gs pos="100000">
                  <a:srgbClr val="6f5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23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f5000"/>
                </a:gs>
                <a:gs pos="50000">
                  <a:srgbClr val="f0ad00"/>
                </a:gs>
                <a:gs pos="100000">
                  <a:srgbClr val="6f5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24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f5000"/>
                </a:gs>
                <a:gs pos="50000">
                  <a:srgbClr val="f0ad00"/>
                </a:gs>
                <a:gs pos="100000">
                  <a:srgbClr val="6f5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25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f5000"/>
                </a:gs>
                <a:gs pos="50000">
                  <a:srgbClr val="f0ad00"/>
                </a:gs>
                <a:gs pos="100000">
                  <a:srgbClr val="6f5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26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f5000"/>
                </a:gs>
                <a:gs pos="50000">
                  <a:srgbClr val="f0ad00"/>
                </a:gs>
                <a:gs pos="100000">
                  <a:srgbClr val="6f5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27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>
                <a:gd name="textAreaLeft" fmla="*/ 0 w 554040"/>
                <a:gd name="textAreaRight" fmla="*/ 554400 w 55404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f5000"/>
                </a:gs>
                <a:gs pos="50000">
                  <a:srgbClr val="f0ad00"/>
                </a:gs>
                <a:gs pos="100000">
                  <a:srgbClr val="6f5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28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f5000"/>
                </a:gs>
                <a:gs pos="50000">
                  <a:srgbClr val="f0ad00"/>
                </a:gs>
                <a:gs pos="100000">
                  <a:srgbClr val="6f5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29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911160"/>
                <a:gd name="textAreaBottom" fmla="*/ 911520 h 911160"/>
              </a:gdLst>
              <a:ahLst/>
              <a:rect l="textAreaLeft" t="textAreaTop" r="textAreaRight" b="textAreaBottom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f5000"/>
                </a:gs>
                <a:gs pos="50000">
                  <a:srgbClr val="f0ad00"/>
                </a:gs>
                <a:gs pos="100000">
                  <a:srgbClr val="6f5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30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466560"/>
                <a:gd name="textAreaBottom" fmla="*/ 466920 h 466560"/>
              </a:gdLst>
              <a:ahLst/>
              <a:rect l="textAreaLeft" t="textAreaTop" r="textAreaRight" b="textAreaBottom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f5000"/>
                </a:gs>
                <a:gs pos="50000">
                  <a:srgbClr val="f0ad00"/>
                </a:gs>
                <a:gs pos="100000">
                  <a:srgbClr val="6f5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31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f5000"/>
                </a:gs>
                <a:gs pos="50000">
                  <a:srgbClr val="f0ad00"/>
                </a:gs>
                <a:gs pos="100000">
                  <a:srgbClr val="6f5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9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980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1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982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983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984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0ad00"/>
                      </a:gs>
                      <a:gs pos="100000">
                        <a:srgbClr val="6f5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5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f5000"/>
                      </a:gs>
                      <a:gs pos="100000">
                        <a:srgbClr val="f0ad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6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f5000"/>
                      </a:gs>
                      <a:gs pos="100000">
                        <a:srgbClr val="f0ad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7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0ad00"/>
                      </a:gs>
                      <a:gs pos="100000">
                        <a:srgbClr val="6f5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88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f5000"/>
                    </a:gs>
                    <a:gs pos="100000">
                      <a:srgbClr val="f0ad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9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0ad00"/>
                    </a:gs>
                    <a:gs pos="100000">
                      <a:srgbClr val="6f50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0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f5000"/>
                    </a:gs>
                    <a:gs pos="100000">
                      <a:srgbClr val="f0ad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1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0ad00"/>
                    </a:gs>
                    <a:gs pos="100000">
                      <a:srgbClr val="6f50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2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993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custGeom>
                  <a:avLst/>
                  <a:gdLst>
                    <a:gd name="textAreaLeft" fmla="*/ 0 w 54000"/>
                    <a:gd name="textAreaRight" fmla="*/ 54360 w 5400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fill="none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</a:path>
                    <a:path stroke="0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0ad00"/>
                    </a:gs>
                    <a:gs pos="100000">
                      <a:srgbClr val="6f50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4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custGeom>
                  <a:avLst/>
                  <a:gdLst>
                    <a:gd name="textAreaLeft" fmla="*/ 0 w 54000"/>
                    <a:gd name="textAreaRight" fmla="*/ 54360 w 5400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fill="none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</a:path>
                    <a:path stroke="0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  <a:lnTo>
                        <a:pt x="21600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f5000"/>
                    </a:gs>
                    <a:gs pos="100000">
                      <a:srgbClr val="f0ad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5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f5000"/>
                    </a:gs>
                    <a:gs pos="50000">
                      <a:srgbClr val="f0ad00"/>
                    </a:gs>
                    <a:gs pos="100000">
                      <a:srgbClr val="6f50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6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>
                    <a:gd name="textAreaLeft" fmla="*/ 0 w 350640"/>
                    <a:gd name="textAreaRight" fmla="*/ 351000 w 350640"/>
                    <a:gd name="textAreaTop" fmla="*/ 0 h 365040"/>
                    <a:gd name="textAreaBottom" fmla="*/ 365040 h 365040"/>
                  </a:gdLst>
                  <a:ahLst/>
                  <a:rect l="textAreaLeft" t="textAreaTop" r="textAreaRight" b="textAreaBottom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f0ad00"/>
                    </a:gs>
                    <a:gs pos="100000">
                      <a:srgbClr val="6f50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7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>
                    <a:gd name="textAreaLeft" fmla="*/ 0 w 352440"/>
                    <a:gd name="textAreaRight" fmla="*/ 352800 w 352440"/>
                    <a:gd name="textAreaTop" fmla="*/ 0 h 365040"/>
                    <a:gd name="textAreaBottom" fmla="*/ 365040 h 365040"/>
                  </a:gdLst>
                  <a:ahLst/>
                  <a:rect l="textAreaLeft" t="textAreaTop" r="textAreaRight" b="textAreaBottom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f0ad00"/>
                    </a:gs>
                    <a:gs pos="100000">
                      <a:srgbClr val="6f50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8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0ad00"/>
                    </a:gs>
                    <a:gs pos="100000">
                      <a:srgbClr val="6f50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99" name="PlaceHolder 1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168bb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68bb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68b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68bb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68b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dt" idx="58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 type="ftr" idx="59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 type="sldNum" idx="60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9E6F8-8FA9-4BC1-91D9-B5AE063A2A8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AutoShape 1026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99cc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Rectangle 1029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Rectangle 1030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6633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800"/>
              </a:spcBef>
              <a:buClr>
                <a:srgbClr val="01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668520" indent="-257040">
              <a:spcBef>
                <a:spcPts val="1800"/>
              </a:spcBef>
              <a:buClr>
                <a:srgbClr val="01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028520" indent="-205560">
              <a:spcBef>
                <a:spcPts val="1800"/>
              </a:spcBef>
              <a:buClr>
                <a:srgbClr val="01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440000" indent="-205560">
              <a:spcBef>
                <a:spcPts val="1800"/>
              </a:spcBef>
              <a:buClr>
                <a:srgbClr val="01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4" marL="1851480" indent="-205560">
              <a:spcBef>
                <a:spcPts val="1800"/>
              </a:spcBef>
              <a:buClr>
                <a:srgbClr val="01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5" marL="1851480" indent="-205560">
              <a:spcBef>
                <a:spcPts val="1800"/>
              </a:spcBef>
              <a:buClr>
                <a:srgbClr val="01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6" marL="1851480" indent="-205560">
              <a:spcBef>
                <a:spcPts val="1800"/>
              </a:spcBef>
              <a:buClr>
                <a:srgbClr val="01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 type="dt" idx="61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1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F9642-CC4F-4B34-BAF7-868379BF6ABF}" type="datetime"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 type="ftr" idx="62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 type="sldNum" idx="63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1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2CAC6-A66A-4B72-94E1-33B3973C1802}" type="slidenum"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EA18E-0F14-4A6C-A0CF-24C237228CF6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65E7D-54EB-45F8-8D30-0776882EB6C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DD839-A790-4794-8A2E-81F103BBB1A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Group 7"/>
          <p:cNvGrpSpPr/>
          <p:nvPr/>
        </p:nvGrpSpPr>
        <p:grpSpPr>
          <a:xfrm>
            <a:off x="178920" y="4508640"/>
            <a:ext cx="8542440" cy="1052280"/>
            <a:chOff x="178920" y="4508640"/>
            <a:chExt cx="8542440" cy="1052280"/>
          </a:xfrm>
        </p:grpSpPr>
        <p:sp>
          <p:nvSpPr>
            <p:cNvPr id="142" name="Rectangle 8"/>
            <p:cNvSpPr/>
            <p:nvPr/>
          </p:nvSpPr>
          <p:spPr>
            <a:xfrm flipH="1">
              <a:off x="8160480" y="496548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Group 9"/>
            <p:cNvGrpSpPr/>
            <p:nvPr/>
          </p:nvGrpSpPr>
          <p:grpSpPr>
            <a:xfrm>
              <a:off x="178920" y="4508640"/>
              <a:ext cx="8251920" cy="1052280"/>
              <a:chOff x="178920" y="4508640"/>
              <a:chExt cx="8251920" cy="1052280"/>
            </a:xfrm>
          </p:grpSpPr>
          <p:sp>
            <p:nvSpPr>
              <p:cNvPr id="144" name="Rectangle 10"/>
              <p:cNvSpPr/>
              <p:nvPr/>
            </p:nvSpPr>
            <p:spPr>
              <a:xfrm flipH="1">
                <a:off x="7992360" y="4616280"/>
                <a:ext cx="438120" cy="47412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Rectangle 11"/>
              <p:cNvSpPr/>
              <p:nvPr/>
            </p:nvSpPr>
            <p:spPr>
              <a:xfrm flipH="1">
                <a:off x="7719120" y="4616280"/>
                <a:ext cx="328680" cy="474120"/>
              </a:xfrm>
              <a:prstGeom prst="rect">
                <a:avLst/>
              </a:prstGeom>
              <a:gradFill rotWithShape="0">
                <a:gsLst>
                  <a:gs pos="0">
                    <a:srgbClr val="333399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Rectangle 12"/>
              <p:cNvSpPr/>
              <p:nvPr/>
            </p:nvSpPr>
            <p:spPr>
              <a:xfrm flipH="1">
                <a:off x="7884360" y="5038560"/>
                <a:ext cx="422280" cy="4741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Rectangle 13"/>
              <p:cNvSpPr/>
              <p:nvPr/>
            </p:nvSpPr>
            <p:spPr>
              <a:xfrm flipH="1">
                <a:off x="7568640" y="5038560"/>
                <a:ext cx="368280" cy="474120"/>
              </a:xfrm>
              <a:prstGeom prst="rect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Rectangle 14"/>
              <p:cNvSpPr/>
              <p:nvPr/>
            </p:nvSpPr>
            <p:spPr>
              <a:xfrm flipH="1">
                <a:off x="8054640" y="4508640"/>
                <a:ext cx="31680" cy="1052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Rectangle 15"/>
              <p:cNvSpPr/>
              <p:nvPr/>
            </p:nvSpPr>
            <p:spPr>
              <a:xfrm flipH="1">
                <a:off x="178560" y="5298840"/>
                <a:ext cx="8226360" cy="313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87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f0ad00"/>
                </a:gs>
                <a:gs pos="100000">
                  <a:srgbClr val="6f5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f0ad00"/>
                </a:gs>
                <a:gs pos="100000">
                  <a:srgbClr val="6f5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f5000"/>
                </a:gs>
                <a:gs pos="100000">
                  <a:srgbClr val="f0a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f5000"/>
                </a:gs>
                <a:gs pos="100000">
                  <a:srgbClr val="f0a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f5000"/>
                </a:gs>
                <a:gs pos="50000">
                  <a:srgbClr val="f0ad00"/>
                </a:gs>
                <a:gs pos="100000">
                  <a:srgbClr val="6f5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4200"/>
                <a:gd name="textAreaBottom" fmla="*/ 1024560 h 102420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f5000"/>
                </a:gs>
                <a:gs pos="50000">
                  <a:srgbClr val="f0ad00"/>
                </a:gs>
                <a:gs pos="100000">
                  <a:srgbClr val="6f5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f5000"/>
                </a:gs>
                <a:gs pos="50000">
                  <a:srgbClr val="f0ad00"/>
                </a:gs>
                <a:gs pos="100000">
                  <a:srgbClr val="6f5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f5000"/>
                </a:gs>
                <a:gs pos="50000">
                  <a:srgbClr val="f0ad00"/>
                </a:gs>
                <a:gs pos="100000">
                  <a:srgbClr val="6f5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f5000"/>
                </a:gs>
                <a:gs pos="50000">
                  <a:srgbClr val="f0ad00"/>
                </a:gs>
                <a:gs pos="100000">
                  <a:srgbClr val="6f5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f5000"/>
                </a:gs>
                <a:gs pos="50000">
                  <a:srgbClr val="f0ad00"/>
                </a:gs>
                <a:gs pos="100000">
                  <a:srgbClr val="6f5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4200"/>
                <a:gd name="textAreaBottom" fmla="*/ 1024560 h 102420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f5000"/>
                </a:gs>
                <a:gs pos="50000">
                  <a:srgbClr val="f0ad00"/>
                </a:gs>
                <a:gs pos="100000">
                  <a:srgbClr val="6f5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912960"/>
                <a:gd name="textAreaBottom" fmla="*/ 913320 h 912960"/>
              </a:gdLst>
              <a:ahLst/>
              <a:rect l="textAreaLeft" t="textAreaTop" r="textAreaRight" b="textAreaBottom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f5000"/>
                </a:gs>
                <a:gs pos="50000">
                  <a:srgbClr val="f0ad00"/>
                </a:gs>
                <a:gs pos="100000">
                  <a:srgbClr val="6f5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f0ad00"/>
                </a:gs>
                <a:gs pos="100000">
                  <a:srgbClr val="6f5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f0ad00"/>
                </a:gs>
                <a:gs pos="100000">
                  <a:srgbClr val="6f5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f5000"/>
                </a:gs>
                <a:gs pos="100000">
                  <a:srgbClr val="f0a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f5000"/>
                </a:gs>
                <a:gs pos="100000">
                  <a:srgbClr val="f0a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f5000"/>
                </a:gs>
                <a:gs pos="50000">
                  <a:srgbClr val="f0ad00"/>
                </a:gs>
                <a:gs pos="100000">
                  <a:srgbClr val="6f5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f5000"/>
                </a:gs>
                <a:gs pos="50000">
                  <a:srgbClr val="f0ad00"/>
                </a:gs>
                <a:gs pos="100000">
                  <a:srgbClr val="6f5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f5000"/>
                </a:gs>
                <a:gs pos="50000">
                  <a:srgbClr val="f0ad00"/>
                </a:gs>
                <a:gs pos="100000">
                  <a:srgbClr val="6f5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f5000"/>
                </a:gs>
                <a:gs pos="50000">
                  <a:srgbClr val="f0ad00"/>
                </a:gs>
                <a:gs pos="100000">
                  <a:srgbClr val="6f5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f5000"/>
                </a:gs>
                <a:gs pos="50000">
                  <a:srgbClr val="f0ad00"/>
                </a:gs>
                <a:gs pos="100000">
                  <a:srgbClr val="6f5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>
                <a:gd name="textAreaLeft" fmla="*/ 0 w 554040"/>
                <a:gd name="textAreaRight" fmla="*/ 554400 w 55404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f5000"/>
                </a:gs>
                <a:gs pos="50000">
                  <a:srgbClr val="f0ad00"/>
                </a:gs>
                <a:gs pos="100000">
                  <a:srgbClr val="6f5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f5000"/>
                </a:gs>
                <a:gs pos="50000">
                  <a:srgbClr val="f0ad00"/>
                </a:gs>
                <a:gs pos="100000">
                  <a:srgbClr val="6f5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911160"/>
                <a:gd name="textAreaBottom" fmla="*/ 911520 h 911160"/>
              </a:gdLst>
              <a:ahLst/>
              <a:rect l="textAreaLeft" t="textAreaTop" r="textAreaRight" b="textAreaBottom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f5000"/>
                </a:gs>
                <a:gs pos="50000">
                  <a:srgbClr val="f0ad00"/>
                </a:gs>
                <a:gs pos="100000">
                  <a:srgbClr val="6f5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466560"/>
                <a:gd name="textAreaBottom" fmla="*/ 466920 h 466560"/>
              </a:gdLst>
              <a:ahLst/>
              <a:rect l="textAreaLeft" t="textAreaTop" r="textAreaRight" b="textAreaBottom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f5000"/>
                </a:gs>
                <a:gs pos="50000">
                  <a:srgbClr val="f0ad00"/>
                </a:gs>
                <a:gs pos="100000">
                  <a:srgbClr val="6f5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f5000"/>
                </a:gs>
                <a:gs pos="50000">
                  <a:srgbClr val="f0ad00"/>
                </a:gs>
                <a:gs pos="100000">
                  <a:srgbClr val="6f5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f0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168bb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68bb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68b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68bb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68b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13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14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sldNum" idx="15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563AD-1CA5-430F-96B7-5E1B8B76C1E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6633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800"/>
              </a:spcBef>
              <a:buClr>
                <a:srgbClr val="01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668520" indent="-257040">
              <a:spcBef>
                <a:spcPts val="1800"/>
              </a:spcBef>
              <a:buClr>
                <a:srgbClr val="01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028520" indent="-205560">
              <a:spcBef>
                <a:spcPts val="1800"/>
              </a:spcBef>
              <a:buClr>
                <a:srgbClr val="01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440000" indent="-205560">
              <a:spcBef>
                <a:spcPts val="1800"/>
              </a:spcBef>
              <a:buClr>
                <a:srgbClr val="01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4" marL="1851480" indent="-205560">
              <a:spcBef>
                <a:spcPts val="1800"/>
              </a:spcBef>
              <a:buClr>
                <a:srgbClr val="01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5" marL="1851480" indent="-205560">
              <a:spcBef>
                <a:spcPts val="1800"/>
              </a:spcBef>
              <a:buClr>
                <a:srgbClr val="01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6" marL="1851480" indent="-205560">
              <a:spcBef>
                <a:spcPts val="1800"/>
              </a:spcBef>
              <a:buClr>
                <a:srgbClr val="01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6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F5873-B3AF-49CA-B4BA-27596E2F9AD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17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18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EA4C6-957A-4760-AC22-B52D09DCC3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299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19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5B589-9613-4C10-A86A-27D4B5C5492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0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1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E8872-F809-4404-9EB4-6B635BFB79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a04d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8c438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c4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c4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c438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43808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04da3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465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b5d3d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34CDE-54A9-4F84-A5BC-8B8FA5696FE1}" type="datetime">
              <a:rPr b="0" lang="en-US" sz="1400" spc="-1" strike="noStrike">
                <a:solidFill>
                  <a:srgbClr val="ffffff"/>
                </a:solidFill>
                <a:latin typeface="Georgi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24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c438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7E72F-7969-46E3-8A35-886C29809A1F}" type="slidenum">
              <a:rPr b="0" lang="en-US" sz="1600" spc="-1" strike="noStrike">
                <a:solidFill>
                  <a:srgbClr val="8c438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a04d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c4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c438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c4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c438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43808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04da3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465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b5d3d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dt" idx="2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2FD31-4244-464E-B80F-B5E72522C25D}" type="datetime">
              <a:rPr b="0" lang="en-US" sz="1400" spc="-1" strike="noStrike">
                <a:solidFill>
                  <a:srgbClr val="ffffff"/>
                </a:solidFill>
                <a:latin typeface="Georgi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ftr" idx="2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 type="sldNum" idx="27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c438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46D9C-13E6-4EC1-BD8F-93F9C77EA2A4}" type="slidenum">
              <a:rPr b="0" lang="en-US" sz="1600" spc="-1" strike="noStrike">
                <a:solidFill>
                  <a:srgbClr val="8c438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208;&#152;&#208;&#183;&#208;&#190;&#208;&#177;&#209;&#128;&#208;&#176;&#208;&#182;&#208;&#181;&#208;&#189;&#208;&#184;&#208;&#181;:Gabriel_Cramer_2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6f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ubTitle"/>
          </p:nvPr>
        </p:nvSpPr>
        <p:spPr>
          <a:xfrm>
            <a:off x="990360" y="457200"/>
            <a:ext cx="784836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b2107"/>
                </a:solidFill>
                <a:latin typeface="Times New Roman"/>
              </a:rPr>
              <a:t>Крамер методы </a:t>
            </a:r>
            <a:r>
              <a:rPr b="1" i="1" lang="tt-RU" sz="4000" spc="-1" strike="noStrike">
                <a:solidFill>
                  <a:srgbClr val="3b2107"/>
                </a:solidFill>
                <a:latin typeface="Times New Roman"/>
              </a:rPr>
              <a:t>һәм</a:t>
            </a:r>
            <a:r>
              <a:rPr b="1" i="1" lang="ru-RU" sz="4000" spc="-1" strike="noStrike">
                <a:solidFill>
                  <a:srgbClr val="3b2107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3b2107"/>
                </a:solidFill>
                <a:latin typeface="Times New Roman"/>
              </a:rPr>
              <a:t>Microsoft Excel</a:t>
            </a:r>
            <a:r>
              <a:rPr b="1" i="1" lang="ru-RU" sz="4000" spc="-1" strike="noStrike">
                <a:solidFill>
                  <a:srgbClr val="3b2107"/>
                </a:solidFill>
                <a:latin typeface="Times New Roman"/>
              </a:rPr>
              <a:t> программасы ярдәмендә сызыкча тигезләмәләр системасын чиш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4" name="Группа 5"/>
          <p:cNvGrpSpPr/>
          <p:nvPr/>
        </p:nvGrpSpPr>
        <p:grpSpPr>
          <a:xfrm>
            <a:off x="1447560" y="4648680"/>
            <a:ext cx="1603800" cy="1693080"/>
            <a:chOff x="1447560" y="4648680"/>
            <a:chExt cx="1603800" cy="1693080"/>
          </a:xfrm>
        </p:grpSpPr>
        <p:pic>
          <p:nvPicPr>
            <p:cNvPr id="1085" name="Picture 8" descr=""/>
            <p:cNvPicPr/>
            <p:nvPr/>
          </p:nvPicPr>
          <p:blipFill>
            <a:blip r:embed="rId1"/>
            <a:stretch/>
          </p:blipFill>
          <p:spPr>
            <a:xfrm rot="21155400">
              <a:off x="1539720" y="4734000"/>
              <a:ext cx="1419480" cy="152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6" name="Picture 1" descr=""/>
            <p:cNvPicPr/>
            <p:nvPr/>
          </p:nvPicPr>
          <p:blipFill>
            <a:blip r:embed="rId2"/>
            <a:srcRect l="0" t="43770" r="52673" b="0"/>
            <a:stretch/>
          </p:blipFill>
          <p:spPr>
            <a:xfrm rot="21472200">
              <a:off x="1951920" y="4818240"/>
              <a:ext cx="822600" cy="740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7" name="Содержимое 2"/>
          <p:cNvSpPr/>
          <p:nvPr/>
        </p:nvSpPr>
        <p:spPr>
          <a:xfrm>
            <a:off x="2895480" y="3581280"/>
            <a:ext cx="55627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… 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ик гыйлем аша табылды тугъры юл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улды г</a:t>
            </a:r>
            <a:r>
              <a:rPr b="0" lang="tt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ө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бакча ничаклы тозлы чүл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                                   </a:t>
            </a:r>
            <a:r>
              <a:rPr b="0" lang="tt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.Утыз-Имә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"/>
          <p:cNvSpPr txBox="1"/>
          <p:nvPr/>
        </p:nvSpPr>
        <p:spPr>
          <a:xfrm>
            <a:off x="380880" y="457200"/>
            <a:ext cx="8229600" cy="545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a6378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5a6378"/>
              </a:solidFill>
              <a:latin typeface="Times New Roman"/>
            </a:endParaRPr>
          </a:p>
        </p:txBody>
      </p:sp>
      <p:sp>
        <p:nvSpPr>
          <p:cNvPr id="116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2" name="Picture 1" descr=""/>
          <p:cNvPicPr/>
          <p:nvPr/>
        </p:nvPicPr>
        <p:blipFill>
          <a:blip r:embed="rId1"/>
          <a:stretch/>
        </p:blipFill>
        <p:spPr>
          <a:xfrm>
            <a:off x="1371600" y="533520"/>
            <a:ext cx="7315200" cy="2057400"/>
          </a:xfrm>
          <a:prstGeom prst="rect">
            <a:avLst/>
          </a:prstGeom>
          <a:ln w="0">
            <a:noFill/>
          </a:ln>
        </p:spPr>
      </p:pic>
      <p:sp>
        <p:nvSpPr>
          <p:cNvPr id="1163" name="Прямоугольник 9"/>
          <p:cNvSpPr/>
          <p:nvPr/>
        </p:nvSpPr>
        <p:spPr>
          <a:xfrm>
            <a:off x="1643040" y="328608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Әгәр     ∆≠  0,  ул вакыт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4" name="Picture 1" descr=""/>
          <p:cNvPicPr/>
          <p:nvPr/>
        </p:nvPicPr>
        <p:blipFill>
          <a:blip r:embed="rId2"/>
          <a:stretch/>
        </p:blipFill>
        <p:spPr>
          <a:xfrm>
            <a:off x="1447920" y="4038480"/>
            <a:ext cx="1357200" cy="1133640"/>
          </a:xfrm>
          <a:prstGeom prst="rect">
            <a:avLst/>
          </a:prstGeom>
          <a:ln w="0">
            <a:noFill/>
          </a:ln>
        </p:spPr>
      </p:pic>
      <p:sp>
        <p:nvSpPr>
          <p:cNvPr id="1165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6" name="Object 3"/>
              <p:cNvSpPr txBox="1"/>
              <p:nvPr/>
            </p:nvSpPr>
            <p:spPr>
              <a:xfrm>
                <a:off x="2895480" y="3962520"/>
                <a:ext cx="237492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Δ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7" name="Object 4"/>
              <p:cNvSpPr txBox="1"/>
              <p:nvPr/>
            </p:nvSpPr>
            <p:spPr>
              <a:xfrm>
                <a:off x="5562720" y="3886200"/>
                <a:ext cx="190476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Δ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zoom dir="out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22860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783a7a"/>
                </a:solidFill>
                <a:uFillTx/>
                <a:latin typeface="Times New Roman"/>
              </a:rPr>
              <a:t>Тема</a:t>
            </a:r>
            <a:r>
              <a:rPr b="1" lang="ru-RU" sz="1800" spc="-1" strike="noStrike">
                <a:solidFill>
                  <a:srgbClr val="0d0d0d"/>
                </a:solidFill>
                <a:latin typeface="Times New Roman"/>
              </a:rPr>
              <a:t>:  </a:t>
            </a:r>
            <a:br>
              <a:rPr sz="1800"/>
            </a:br>
            <a:r>
              <a:rPr b="1" lang="ru-RU" sz="2000" spc="-1" strike="noStrike">
                <a:solidFill>
                  <a:srgbClr val="0d0d0d"/>
                </a:solidFill>
                <a:latin typeface="Times New Roman"/>
              </a:rPr>
              <a:t>Крамер методы ярдәмендә тигезләмәләр системасын чишү</a:t>
            </a:r>
            <a:endParaRPr b="0" lang="en-US" sz="2000" spc="-1" strike="noStrike">
              <a:solidFill>
                <a:srgbClr val="5a6378"/>
              </a:solidFill>
              <a:latin typeface="Times New Roman"/>
            </a:endParaRPr>
          </a:p>
        </p:txBody>
      </p:sp>
      <p:sp>
        <p:nvSpPr>
          <p:cNvPr id="1169" name=""/>
          <p:cNvSpPr txBox="1"/>
          <p:nvPr/>
        </p:nvSpPr>
        <p:spPr>
          <a:xfrm>
            <a:off x="1294920" y="182880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үзгәрешл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сызыкча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игезләмәләр системасы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х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+ а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х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+ … + а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х 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21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х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+ а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22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х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+ … + а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х 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2          </a:t>
            </a:r>
            <a:r>
              <a:rPr b="1" i="1" lang="ru-RU" sz="24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……………………………………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х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+ а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х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+ … + а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nn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х 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, а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, … а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эффициентлар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, х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, … х 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лгесез үзгәрешле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, …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рекле буыннар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68bb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0" name="Picture 4" descr="H:\Рисунки\deti25.jpg"/>
          <p:cNvPicPr/>
          <p:nvPr/>
        </p:nvPicPr>
        <p:blipFill>
          <a:blip r:embed="rId1"/>
          <a:stretch/>
        </p:blipFill>
        <p:spPr>
          <a:xfrm>
            <a:off x="228600" y="228600"/>
            <a:ext cx="1752480" cy="2590920"/>
          </a:xfrm>
          <a:prstGeom prst="rect">
            <a:avLst/>
          </a:prstGeom>
          <a:ln w="19080">
            <a:solidFill>
              <a:srgbClr val="a50021"/>
            </a:solidFill>
            <a:miter/>
          </a:ln>
        </p:spPr>
      </p:pic>
      <p:sp>
        <p:nvSpPr>
          <p:cNvPr id="1171" name="Левая фигурная скобка 6"/>
          <p:cNvSpPr/>
          <p:nvPr/>
        </p:nvSpPr>
        <p:spPr>
          <a:xfrm>
            <a:off x="2438280" y="3200400"/>
            <a:ext cx="381240" cy="1523880"/>
          </a:xfrm>
          <a:custGeom>
            <a:avLst/>
            <a:gdLst>
              <a:gd name="textAreaLeft" fmla="*/ 243720 w 381240"/>
              <a:gd name="textAreaRight" fmla="*/ 381600 w 381240"/>
              <a:gd name="textAreaTop" fmla="*/ 9720 h 1523880"/>
              <a:gd name="textAreaBottom" fmla="*/ 151416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25"/>
                  <a:pt x="10800" y="450"/>
                </a:cubicBezTo>
                <a:lnTo>
                  <a:pt x="10800" y="10350"/>
                </a:lnTo>
                <a:cubicBezTo>
                  <a:pt x="10800" y="10575"/>
                  <a:pt x="5400" y="10800"/>
                  <a:pt x="0" y="10800"/>
                </a:cubicBezTo>
                <a:cubicBezTo>
                  <a:pt x="5400" y="10800"/>
                  <a:pt x="10800" y="11025"/>
                  <a:pt x="10800" y="11250"/>
                </a:cubicBezTo>
                <a:lnTo>
                  <a:pt x="10800" y="21150"/>
                </a:lnTo>
                <a:cubicBezTo>
                  <a:pt x="10800" y="21375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"/>
          <p:cNvSpPr txBox="1"/>
          <p:nvPr/>
        </p:nvSpPr>
        <p:spPr>
          <a:xfrm>
            <a:off x="761760" y="15238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а</a:t>
            </a:r>
            <a:r>
              <a:rPr b="1" i="1" lang="ru-RU" sz="2600" spc="-1" strike="noStrike" baseline="-25000">
                <a:solidFill>
                  <a:srgbClr val="000000"/>
                </a:solidFill>
                <a:latin typeface="Georgia"/>
              </a:rPr>
              <a:t>11</a:t>
            </a: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   а</a:t>
            </a:r>
            <a:r>
              <a:rPr b="1" i="1" lang="ru-RU" sz="2600" spc="-1" strike="noStrike" baseline="-25000">
                <a:solidFill>
                  <a:srgbClr val="000000"/>
                </a:solidFill>
                <a:latin typeface="Georgia"/>
              </a:rPr>
              <a:t>12 </a:t>
            </a: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 … а</a:t>
            </a:r>
            <a:r>
              <a:rPr b="1" i="1" lang="ru-RU" sz="26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Georgia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                 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ru-RU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Georgia"/>
              </a:rPr>
              <a:t>=</a:t>
            </a: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            а</a:t>
            </a:r>
            <a:r>
              <a:rPr b="1" i="1" lang="ru-RU" sz="2600" spc="-1" strike="noStrike" baseline="-25000">
                <a:solidFill>
                  <a:srgbClr val="000000"/>
                </a:solidFill>
                <a:latin typeface="Georgia"/>
              </a:rPr>
              <a:t>21</a:t>
            </a: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   а</a:t>
            </a:r>
            <a:r>
              <a:rPr b="1" i="1" lang="ru-RU" sz="2600" spc="-1" strike="noStrike" baseline="-25000">
                <a:solidFill>
                  <a:srgbClr val="000000"/>
                </a:solidFill>
                <a:latin typeface="Georgia"/>
              </a:rPr>
              <a:t>22</a:t>
            </a: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 … а</a:t>
            </a:r>
            <a:r>
              <a:rPr b="1" i="1" lang="ru-RU" sz="26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Georgia"/>
              </a:rPr>
              <a:t>n</a:t>
            </a: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 ………………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а</a:t>
            </a:r>
            <a:r>
              <a:rPr b="1" i="1" lang="ru-RU" sz="2600" spc="-1" strike="noStrike" baseline="-25000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Georgia"/>
              </a:rPr>
              <a:t>n</a:t>
            </a:r>
            <a:r>
              <a:rPr b="1" i="1" lang="ru-RU" sz="26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 а</a:t>
            </a:r>
            <a:r>
              <a:rPr b="1" i="1" lang="ru-RU" sz="2600" spc="-1" strike="noStrike" baseline="-25000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Georgia"/>
              </a:rPr>
              <a:t>n</a:t>
            </a:r>
            <a:r>
              <a:rPr b="1" i="1" lang="ru-RU" sz="26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 …  а</a:t>
            </a:r>
            <a:r>
              <a:rPr b="1" i="1" lang="ru-RU" sz="2600" spc="-1" strike="noStrike" baseline="-25000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Georgia"/>
              </a:rPr>
              <a:t>nn</a:t>
            </a: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Крамер кагыйдәсе буенча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әгә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р   </a:t>
            </a:r>
            <a:r>
              <a:rPr b="1" i="1" lang="ru-RU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 ≠ 0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,  ул вакытта (1) системаны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ң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 бердән- бер чишелеше бар. по правилу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                      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Монда  </a:t>
            </a:r>
            <a:r>
              <a:rPr b="0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х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х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, … </a:t>
            </a:r>
            <a:r>
              <a:rPr b="0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eorgia"/>
              </a:rPr>
              <a:t>n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Georgia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ярдәмче билгеләгечләр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173" name="Picture 4" descr="H:\Рисунки\deti25.jpg"/>
          <p:cNvPicPr/>
          <p:nvPr/>
        </p:nvPicPr>
        <p:blipFill>
          <a:blip r:embed="rId1"/>
          <a:stretch/>
        </p:blipFill>
        <p:spPr>
          <a:xfrm>
            <a:off x="228600" y="228600"/>
            <a:ext cx="1752480" cy="2597040"/>
          </a:xfrm>
          <a:prstGeom prst="rect">
            <a:avLst/>
          </a:prstGeom>
          <a:ln w="19080">
            <a:solidFill>
              <a:srgbClr val="a50021"/>
            </a:solidFill>
            <a:miter/>
          </a:ln>
        </p:spPr>
      </p:pic>
      <p:sp>
        <p:nvSpPr>
          <p:cNvPr id="1174" name="Прямая соединительная линия 7"/>
          <p:cNvSpPr/>
          <p:nvPr/>
        </p:nvSpPr>
        <p:spPr>
          <a:xfrm flipH="1">
            <a:off x="6248520" y="1828800"/>
            <a:ext cx="144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Прямая соединительная линия 8"/>
          <p:cNvSpPr/>
          <p:nvPr/>
        </p:nvSpPr>
        <p:spPr>
          <a:xfrm flipH="1">
            <a:off x="3505320" y="1752480"/>
            <a:ext cx="1440" cy="152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6" name="Picture 3" descr=""/>
          <p:cNvPicPr/>
          <p:nvPr/>
        </p:nvPicPr>
        <p:blipFill>
          <a:blip r:embed="rId2">
            <a:lum contrast="10000"/>
          </a:blip>
          <a:srcRect l="13280" t="68110" r="56251" b="23957"/>
          <a:stretch/>
        </p:blipFill>
        <p:spPr>
          <a:xfrm>
            <a:off x="2286000" y="4267080"/>
            <a:ext cx="4059360" cy="990720"/>
          </a:xfrm>
          <a:prstGeom prst="rect">
            <a:avLst/>
          </a:prstGeom>
          <a:ln w="0">
            <a:noFill/>
          </a:ln>
        </p:spPr>
      </p:pic>
      <p:sp>
        <p:nvSpPr>
          <p:cNvPr id="1177" name="Заголовок 1"/>
          <p:cNvSpPr/>
          <p:nvPr/>
        </p:nvSpPr>
        <p:spPr>
          <a:xfrm>
            <a:off x="2286000" y="45720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783a7a"/>
                </a:solidFill>
                <a:uFillTx/>
                <a:latin typeface="Georgia"/>
              </a:rPr>
              <a:t>Тема</a:t>
            </a:r>
            <a:r>
              <a:rPr b="1" lang="ru-RU" sz="1800" spc="-1" strike="noStrike">
                <a:solidFill>
                  <a:srgbClr val="0d0d0d"/>
                </a:solidFill>
                <a:latin typeface="Georgia"/>
              </a:rPr>
              <a:t>:  </a:t>
            </a:r>
            <a:br>
              <a:rPr sz="1800"/>
            </a:br>
            <a:r>
              <a:rPr b="1" lang="ru-RU" sz="2000" spc="-1" strike="noStrike">
                <a:solidFill>
                  <a:srgbClr val="0d0d0d"/>
                </a:solidFill>
                <a:latin typeface="Times New Roman"/>
              </a:rPr>
              <a:t>Крамер методы ярдәмендә тигезләмәләр системасын чиш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38086"/>
                                      </p:to>
                                    </p:animClr>
                                    <p:animClr clrSpc="rgb">
                                      <p:cBhvr>
                                        <p:cTn id="23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38086"/>
                                      </p:to>
                                    </p:animClr>
                                    <p:set>
                                      <p:cBhvr>
                                        <p:cTn id="23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3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3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37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"/>
          <p:cNvSpPr txBox="1"/>
          <p:nvPr/>
        </p:nvSpPr>
        <p:spPr>
          <a:xfrm>
            <a:off x="609480" y="2819160"/>
            <a:ext cx="3657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2400" spc="-1" strike="noStrike" u="sng">
                <a:solidFill>
                  <a:srgbClr val="d02800"/>
                </a:solidFill>
                <a:uFillTx/>
                <a:latin typeface="Georgia"/>
              </a:rPr>
              <a:t>Искәрмә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179" name="Picture 4" descr="H:\Рисунки\deti25.jpg"/>
          <p:cNvPicPr/>
          <p:nvPr/>
        </p:nvPicPr>
        <p:blipFill>
          <a:blip r:embed="rId1"/>
          <a:stretch/>
        </p:blipFill>
        <p:spPr>
          <a:xfrm>
            <a:off x="228600" y="228600"/>
            <a:ext cx="1752480" cy="2597040"/>
          </a:xfrm>
          <a:prstGeom prst="rect">
            <a:avLst/>
          </a:prstGeom>
          <a:ln w="19080">
            <a:solidFill>
              <a:srgbClr val="a50021"/>
            </a:solidFill>
            <a:miter/>
          </a:ln>
        </p:spPr>
      </p:pic>
      <p:sp>
        <p:nvSpPr>
          <p:cNvPr id="1180" name="Содержимое 4"/>
          <p:cNvSpPr/>
          <p:nvPr/>
        </p:nvSpPr>
        <p:spPr>
          <a:xfrm>
            <a:off x="2514600" y="3505320"/>
            <a:ext cx="6172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Әгәр</a:t>
            </a:r>
            <a:r>
              <a:rPr b="0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=0, </a:t>
            </a:r>
            <a:r>
              <a:rPr b="0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х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eorgia"/>
              </a:rPr>
              <a:t>i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≠0 ( 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i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= 1,2, … 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n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), ул вакытта (1) системаның  чишелеше ю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Содержимое 4"/>
          <p:cNvSpPr/>
          <p:nvPr/>
        </p:nvSpPr>
        <p:spPr>
          <a:xfrm>
            <a:off x="2438280" y="4724280"/>
            <a:ext cx="61722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93000"/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Әгәр </a:t>
            </a:r>
            <a:r>
              <a:rPr b="0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=0, </a:t>
            </a:r>
            <a:r>
              <a:rPr b="0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х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eorgia"/>
              </a:rPr>
              <a:t>i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= 0 ( 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i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= 1,2, … 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n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), ул вакытта (1) системаның  чишелеше чиксез күп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buClr>
                <a:srgbClr val="ff0000"/>
              </a:buClr>
              <a:buSzPct val="85000"/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TextBox 11"/>
          <p:cNvSpPr/>
          <p:nvPr/>
        </p:nvSpPr>
        <p:spPr>
          <a:xfrm>
            <a:off x="4191120" y="1600200"/>
            <a:ext cx="4572000" cy="14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а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Georgia"/>
              </a:rPr>
              <a:t>11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 х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+ а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Georgia"/>
              </a:rPr>
              <a:t>12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 х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 +…+ а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Georgia"/>
              </a:rPr>
              <a:t>n</a:t>
            </a:r>
            <a:r>
              <a:rPr b="1" i="1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х 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Georgia"/>
              </a:rPr>
              <a:t>n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 = </a:t>
            </a:r>
            <a:r>
              <a:rPr b="1" i="1" lang="en-US" sz="2000" spc="-1" strike="noStrike">
                <a:solidFill>
                  <a:srgbClr val="000000"/>
                </a:solidFill>
                <a:latin typeface="Georgia"/>
              </a:rPr>
              <a:t>b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а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Georgia"/>
              </a:rPr>
              <a:t>21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 х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 + а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Georgia"/>
              </a:rPr>
              <a:t>22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 х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 +…+а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Georgia"/>
              </a:rPr>
              <a:t>n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 х 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Georgia"/>
              </a:rPr>
              <a:t>n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= </a:t>
            </a:r>
            <a:r>
              <a:rPr b="1" i="1" lang="en-US" sz="2000" spc="-1" strike="noStrike">
                <a:solidFill>
                  <a:srgbClr val="000000"/>
                </a:solidFill>
                <a:latin typeface="Georgia"/>
              </a:rPr>
              <a:t>b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Georgia"/>
              </a:rPr>
              <a:t>2      </a:t>
            </a:r>
            <a:r>
              <a:rPr b="1" i="1" lang="ru-RU" sz="2000" spc="-1" strike="noStrike" baseline="-25000">
                <a:solidFill>
                  <a:srgbClr val="ff0000"/>
                </a:solidFill>
                <a:latin typeface="Georgia"/>
              </a:rPr>
              <a:t>  (1)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Georgia"/>
              </a:rPr>
              <a:t>        </a:t>
            </a:r>
            <a:r>
              <a:rPr b="1" i="1" lang="ru-RU" sz="2000" spc="-1" strike="noStrike" baseline="-25000">
                <a:solidFill>
                  <a:srgbClr val="ff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 ……………………………………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а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Georgia"/>
              </a:rPr>
              <a:t>n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 х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+ а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Georgia"/>
              </a:rPr>
              <a:t>n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 х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 +… +а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Georgia"/>
              </a:rPr>
              <a:t>nn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 х 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Georgia"/>
              </a:rPr>
              <a:t>n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= </a:t>
            </a:r>
            <a:r>
              <a:rPr b="1" i="1" lang="en-US" sz="2000" spc="-1" strike="noStrike">
                <a:solidFill>
                  <a:srgbClr val="000000"/>
                </a:solidFill>
                <a:latin typeface="Georgia"/>
              </a:rPr>
              <a:t>b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Georgi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Левая фигурная скобка 12"/>
          <p:cNvSpPr/>
          <p:nvPr/>
        </p:nvSpPr>
        <p:spPr>
          <a:xfrm>
            <a:off x="3733920" y="1447920"/>
            <a:ext cx="380880" cy="1523880"/>
          </a:xfrm>
          <a:custGeom>
            <a:avLst/>
            <a:gdLst>
              <a:gd name="textAreaLeft" fmla="*/ 243360 w 380880"/>
              <a:gd name="textAreaRight" fmla="*/ 381240 w 380880"/>
              <a:gd name="textAreaTop" fmla="*/ 9720 h 1523880"/>
              <a:gd name="textAreaBottom" fmla="*/ 151416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25"/>
                  <a:pt x="10800" y="450"/>
                </a:cubicBezTo>
                <a:lnTo>
                  <a:pt x="10800" y="10350"/>
                </a:lnTo>
                <a:cubicBezTo>
                  <a:pt x="10800" y="10575"/>
                  <a:pt x="5400" y="10800"/>
                  <a:pt x="0" y="10800"/>
                </a:cubicBezTo>
                <a:cubicBezTo>
                  <a:pt x="5400" y="10800"/>
                  <a:pt x="10800" y="11025"/>
                  <a:pt x="10800" y="11250"/>
                </a:cubicBezTo>
                <a:lnTo>
                  <a:pt x="10800" y="21150"/>
                </a:lnTo>
                <a:cubicBezTo>
                  <a:pt x="10800" y="21375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TextBox 8"/>
          <p:cNvSpPr/>
          <p:nvPr/>
        </p:nvSpPr>
        <p:spPr>
          <a:xfrm>
            <a:off x="380880" y="3581280"/>
            <a:ext cx="3048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Заголовок 1"/>
          <p:cNvSpPr/>
          <p:nvPr/>
        </p:nvSpPr>
        <p:spPr>
          <a:xfrm>
            <a:off x="2057400" y="45720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783a7a"/>
                </a:solidFill>
                <a:uFillTx/>
                <a:latin typeface="Georgia"/>
              </a:rPr>
              <a:t>Тема</a:t>
            </a:r>
            <a:r>
              <a:rPr b="1" lang="ru-RU" sz="1800" spc="-1" strike="noStrike">
                <a:solidFill>
                  <a:srgbClr val="0d0d0d"/>
                </a:solidFill>
                <a:latin typeface="Georgia"/>
              </a:rPr>
              <a:t>:  </a:t>
            </a:r>
            <a:br>
              <a:rPr sz="1800"/>
            </a:br>
            <a:r>
              <a:rPr b="1" lang="ru-RU" sz="2000" spc="-1" strike="noStrike">
                <a:solidFill>
                  <a:srgbClr val="0d0d0d"/>
                </a:solidFill>
                <a:latin typeface="Times New Roman"/>
              </a:rPr>
              <a:t>Крамер методы ярдәмендә тигезләмәләр системасын чиш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43" dur="2000" fill="hold"/>
                                        <p:tgtEl>
                                          <p:spTgt spid="1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6" name="Object 2"/>
          <p:cNvGraphicFramePr/>
          <p:nvPr/>
        </p:nvGraphicFramePr>
        <p:xfrm>
          <a:off x="838080" y="1600200"/>
          <a:ext cx="8305920" cy="481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8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00200"/>
                    <a:ext cx="8305920" cy="48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88" name="Picture 5" descr="Испытатель"/>
          <p:cNvPicPr/>
          <p:nvPr/>
        </p:nvPicPr>
        <p:blipFill>
          <a:blip r:embed="rId3"/>
          <a:stretch/>
        </p:blipFill>
        <p:spPr>
          <a:xfrm>
            <a:off x="0" y="255600"/>
            <a:ext cx="2514600" cy="1649520"/>
          </a:xfrm>
          <a:prstGeom prst="rect">
            <a:avLst/>
          </a:prstGeom>
          <a:ln w="0">
            <a:noFill/>
          </a:ln>
        </p:spPr>
      </p:pic>
      <p:sp>
        <p:nvSpPr>
          <p:cNvPr id="1189" name="WordArt 3"/>
          <p:cNvSpPr txBox="1"/>
          <p:nvPr/>
        </p:nvSpPr>
        <p:spPr>
          <a:xfrm>
            <a:off x="1828800" y="228600"/>
            <a:ext cx="72388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84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ff">
                        <a:alpha val="50196"/>
                      </a:srgbClr>
                    </a:gs>
                    <a:gs pos="100000">
                      <a:srgbClr val="000076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Garamond"/>
              </a:rPr>
              <a:t>Физкультминутка</a:t>
            </a:r>
            <a:endParaRPr b="1" lang="en-US" sz="4400" spc="1" strike="noStrike">
              <a:ln w="284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ff">
                      <a:alpha val="50196"/>
                    </a:srgbClr>
                  </a:gs>
                  <a:gs pos="100000">
                    <a:srgbClr val="000076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Garamond"/>
              <a:ea typeface="Garamond"/>
            </a:endParaRPr>
          </a:p>
        </p:txBody>
      </p:sp>
    </p:spTree>
  </p:cSld>
  <p:transition spd="med">
    <p:pull dir="r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TextBox 2"/>
          <p:cNvSpPr/>
          <p:nvPr/>
        </p:nvSpPr>
        <p:spPr>
          <a:xfrm>
            <a:off x="838080" y="533520"/>
            <a:ext cx="8001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300" spc="-1" strike="noStrike">
                <a:solidFill>
                  <a:srgbClr val="000000"/>
                </a:solidFill>
                <a:latin typeface="Times New Roman"/>
              </a:rPr>
              <a:t>Тигезләмәләр системасын  Крамер методы белән чишәргә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1" name="Object 2"/>
              <p:cNvSpPr txBox="1"/>
              <p:nvPr/>
            </p:nvSpPr>
            <p:spPr>
              <a:xfrm>
                <a:off x="2133720" y="1143000"/>
                <a:ext cx="235584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4</m:t>
                            </m:r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у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2" name="Object 3"/>
              <p:cNvSpPr txBox="1"/>
              <p:nvPr/>
            </p:nvSpPr>
            <p:spPr>
              <a:xfrm>
                <a:off x="1371600" y="2590920"/>
                <a:ext cx="6548400" cy="20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5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∗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93" name="Object 2"/>
              <p:cNvSpPr txBox="1"/>
              <p:nvPr/>
            </p:nvSpPr>
            <p:spPr>
              <a:xfrm>
                <a:off x="1262160" y="169920"/>
                <a:ext cx="6856200" cy="576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х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5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e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у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4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e>
                      <m:e>
                        <m:r>
                          <m:t xml:space="preserve">х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х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у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у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94" name="TextBox 4"/>
          <p:cNvSpPr/>
          <p:nvPr/>
        </p:nvSpPr>
        <p:spPr>
          <a:xfrm>
            <a:off x="5570280" y="4267080"/>
            <a:ext cx="225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Times New Roman"/>
              </a:rPr>
              <a:t>Җавап:  (1;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95" name="Object 3"/>
              <p:cNvSpPr txBox="1"/>
              <p:nvPr/>
            </p:nvSpPr>
            <p:spPr>
              <a:xfrm>
                <a:off x="2286000" y="380880"/>
                <a:ext cx="4800600" cy="19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у</m:t>
                            </m:r>
                            <m:r>
                              <m:t xml:space="preserve">+</m:t>
                            </m:r>
                            <m:r>
                              <m:t xml:space="preserve">z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z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6" name="Object 6"/>
              <p:cNvSpPr txBox="1"/>
              <p:nvPr/>
            </p:nvSpPr>
            <p:spPr>
              <a:xfrm>
                <a:off x="1727280" y="2895480"/>
                <a:ext cx="6377040" cy="259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3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∗</m:t>
                        </m:r>
                        <m:r>
                          <m:t xml:space="preserve">2</m:t>
                        </m:r>
                        <m:r>
                          <m:t xml:space="preserve">∗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∗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∗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−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∗</m:t>
                        </m:r>
                        <m:r>
                          <m:t xml:space="preserve">2</m:t>
                        </m:r>
                        <m:r>
                          <m:t xml:space="preserve">∗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∗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97" name="Object 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8" name="Object 5"/>
              <p:cNvSpPr txBox="1"/>
              <p:nvPr/>
            </p:nvSpPr>
            <p:spPr>
              <a:xfrm>
                <a:off x="930240" y="838080"/>
                <a:ext cx="8213760" cy="342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х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3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3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∗</m:t>
                        </m:r>
                        <m:r>
                          <m:t xml:space="preserve">2</m:t>
                        </m:r>
                        <m:r>
                          <m:t xml:space="preserve">∗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∗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∗</m:t>
                        </m:r>
                        <m:r>
                          <m:t xml:space="preserve">2</m:t>
                        </m:r>
                        <m:r>
                          <m:t xml:space="preserve">∗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∗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99" name="Object 2"/>
              <p:cNvSpPr txBox="1"/>
              <p:nvPr/>
            </p:nvSpPr>
            <p:spPr>
              <a:xfrm>
                <a:off x="1066680" y="762120"/>
                <a:ext cx="7467840" cy="29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у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∗</m:t>
                        </m:r>
                        <m:r>
                          <m:t xml:space="preserve">0</m:t>
                        </m:r>
                        <m:r>
                          <m:t xml:space="preserve">∗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∗</m:t>
                        </m:r>
                        <m:r>
                          <m:t xml:space="preserve">3</m:t>
                        </m:r>
                        <m:r>
                          <m:t xml:space="preserve">∗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∗</m:t>
                        </m:r>
                        <m:r>
                          <m:t xml:space="preserve">0</m:t>
                        </m:r>
                        <m:r>
                          <m:t xml:space="preserve">∗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∗</m:t>
                        </m:r>
                        <m:r>
                          <m:t xml:space="preserve">3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∗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Rectangle 1"/>
          <p:cNvSpPr/>
          <p:nvPr/>
        </p:nvSpPr>
        <p:spPr>
          <a:xfrm>
            <a:off x="1156320" y="933480"/>
            <a:ext cx="7664760" cy="43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ксатлар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Белем бирү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ызыкча тигезләмәләр системасын Крамер методы һә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S Excel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грамм</a:t>
            </a:r>
            <a:r>
              <a:rPr b="0" lang="tt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сы ярдәмендә чишә алуларны ирешү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ызыкча тигезләмәләр системасын чишкәндә төрле алымна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tt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улланып чишә алуларына ирешү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S Excel</a:t>
            </a:r>
            <a:r>
              <a:rPr b="0" lang="tt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программасында эшләү күнекмәләрен ныгы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Үстерүче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метара бәйлелеккә уңай караш тәрбияләү, укучыларны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tt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җади эшчәнлеген үстерү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Тәрбияви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Укучыларның танып белү эшчәнлеген, коммуникати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эшчәнлеген үстерү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Белем алуга карата аңлы караш тәрбияләү</a:t>
            </a:r>
            <a:r>
              <a:rPr b="0" lang="tt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00" name="Object 2"/>
              <p:cNvSpPr txBox="1"/>
              <p:nvPr/>
            </p:nvSpPr>
            <p:spPr>
              <a:xfrm>
                <a:off x="914400" y="457200"/>
                <a:ext cx="7977240" cy="22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3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∗</m:t>
                        </m:r>
                        <m:r>
                          <m:t xml:space="preserve">2</m:t>
                        </m:r>
                        <m:r>
                          <m:t xml:space="preserve">∗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∗</m:t>
                        </m:r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∗</m:t>
                        </m:r>
                        <m:r>
                          <m:t xml:space="preserve">2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∗</m:t>
                        </m:r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∗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1" name="Object 3"/>
              <p:cNvSpPr txBox="1"/>
              <p:nvPr/>
            </p:nvSpPr>
            <p:spPr>
              <a:xfrm>
                <a:off x="1676520" y="3200400"/>
                <a:ext cx="3886200" cy="28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TextBox 1"/>
          <p:cNvSpPr/>
          <p:nvPr/>
        </p:nvSpPr>
        <p:spPr>
          <a:xfrm>
            <a:off x="1371600" y="838080"/>
            <a:ext cx="73152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c00000"/>
                </a:solidFill>
                <a:latin typeface="Times New Roman"/>
              </a:rPr>
              <a:t>Өйгә э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ztest.r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Тест № 15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Тест №16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Тренинг №5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Тренинг №6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Прямоугольник 4"/>
          <p:cNvSpPr/>
          <p:nvPr/>
        </p:nvSpPr>
        <p:spPr>
          <a:xfrm>
            <a:off x="5410080" y="762120"/>
            <a:ext cx="373392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Arial"/>
              </a:rPr>
              <a:t>Габриэ́ль  Кра́мер </a:t>
            </a:r>
            <a:r>
              <a:rPr b="0" lang="ru-RU" sz="2600" spc="-1" strike="noStrike">
                <a:solidFill>
                  <a:srgbClr val="0d0d0d"/>
                </a:solidFill>
                <a:latin typeface="Arial"/>
              </a:rPr>
              <a:t>(нем. </a:t>
            </a:r>
            <a:r>
              <a:rPr b="0" i="1" lang="de-DE" sz="2600" spc="-1" strike="noStrike">
                <a:solidFill>
                  <a:srgbClr val="0d0d0d"/>
                </a:solidFill>
                <a:latin typeface="Arial"/>
              </a:rPr>
              <a:t>Gabriel Cramer</a:t>
            </a:r>
            <a:r>
              <a:rPr b="0" lang="ru-RU" sz="2600" spc="-1" strike="noStrike">
                <a:solidFill>
                  <a:srgbClr val="0d0d0d"/>
                </a:solidFill>
                <a:latin typeface="Arial"/>
              </a:rPr>
              <a:t>,   </a:t>
            </a:r>
            <a:r>
              <a:rPr b="0" lang="ru-RU" sz="2600" spc="-1" strike="noStrike">
                <a:solidFill>
                  <a:srgbClr val="0070c0"/>
                </a:solidFill>
                <a:latin typeface="Arial"/>
              </a:rPr>
              <a:t>31 июль 1704 нче елда</a:t>
            </a:r>
            <a:r>
              <a:rPr b="0" lang="ru-RU" sz="2600" spc="-1" strike="noStrike">
                <a:solidFill>
                  <a:srgbClr val="0d0d0d"/>
                </a:solidFill>
                <a:latin typeface="Arial"/>
              </a:rPr>
              <a:t> Женева шәһәрендә туа. Швейцария математигы, Иоганна Бернуллиның дусты һәм укучысы, сызыкча алгебра </a:t>
            </a:r>
            <a:r>
              <a:rPr b="0" lang="tt-RU" sz="2600" spc="-1" strike="noStrike">
                <a:solidFill>
                  <a:srgbClr val="0d0d0d"/>
                </a:solidFill>
                <a:latin typeface="Arial"/>
              </a:rPr>
              <a:t>өлкәсендә бик күп хезмәтләр язган гали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0" name="Группа 7"/>
          <p:cNvGrpSpPr/>
          <p:nvPr/>
        </p:nvGrpSpPr>
        <p:grpSpPr>
          <a:xfrm>
            <a:off x="1600200" y="1219320"/>
            <a:ext cx="3657600" cy="4495680"/>
            <a:chOff x="1600200" y="1219320"/>
            <a:chExt cx="3657600" cy="4495680"/>
          </a:xfrm>
        </p:grpSpPr>
        <p:pic>
          <p:nvPicPr>
            <p:cNvPr id="1091" name="Рисунок 5" descr="Портрет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752480" y="1447920"/>
              <a:ext cx="3276720" cy="403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2" name="Рамка 6"/>
            <p:cNvSpPr/>
            <p:nvPr/>
          </p:nvSpPr>
          <p:spPr>
            <a:xfrm>
              <a:off x="1600200" y="1219320"/>
              <a:ext cx="3657600" cy="4495680"/>
            </a:xfrm>
            <a:custGeom>
              <a:avLst/>
              <a:gdLst>
                <a:gd name="textAreaLeft" fmla="*/ 280080 w 3657600"/>
                <a:gd name="textAreaRight" fmla="*/ 3377520 w 3657600"/>
                <a:gd name="textAreaTop" fmla="*/ 279720 h 4495680"/>
                <a:gd name="textAreaBottom" fmla="*/ 4215960 h 4495680"/>
              </a:gdLst>
              <a:ahLst/>
              <a:rect l="textAreaLeft" t="textAreaTop" r="textAreaRight" b="textAreaBottom"/>
              <a:pathLst>
                <a:path w="3657600" h="4495800">
                  <a:moveTo>
                    <a:pt x="0" y="0"/>
                  </a:moveTo>
                  <a:lnTo>
                    <a:pt x="3657600" y="0"/>
                  </a:lnTo>
                  <a:lnTo>
                    <a:pt x="3657600" y="4495800"/>
                  </a:lnTo>
                  <a:lnTo>
                    <a:pt x="0" y="4495800"/>
                  </a:lnTo>
                  <a:close/>
                  <a:moveTo>
                    <a:pt x="280062" y="280062"/>
                  </a:moveTo>
                  <a:lnTo>
                    <a:pt x="280062" y="4215738"/>
                  </a:lnTo>
                  <a:lnTo>
                    <a:pt x="3377538" y="4215738"/>
                  </a:lnTo>
                  <a:lnTo>
                    <a:pt x="3377538" y="280062"/>
                  </a:lnTo>
                  <a:close/>
                </a:path>
              </a:pathLst>
            </a:custGeom>
            <a:solidFill>
              <a:srgbClr val="b48200"/>
            </a:solidFill>
            <a:ln w="25560">
              <a:solidFill>
                <a:srgbClr val="b07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0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"/>
          <p:cNvSpPr txBox="1"/>
          <p:nvPr/>
        </p:nvSpPr>
        <p:spPr>
          <a:xfrm>
            <a:off x="457200" y="2071440"/>
            <a:ext cx="8229600" cy="393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+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=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+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=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үбәндәге типтагы тигезләмәләрне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ишү өчен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төп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һәм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ярдәмч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илгеләгечләрне табарга кирәк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ке үзгәрешле сызыкча тигезләмәләрне чишү</a:t>
            </a:r>
            <a:endParaRPr b="0" lang="en-US" sz="3200" spc="-1" strike="noStrike">
              <a:solidFill>
                <a:srgbClr val="5a637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5" name="Object 2"/>
              <p:cNvSpPr txBox="1"/>
              <p:nvPr/>
            </p:nvSpPr>
            <p:spPr>
              <a:xfrm>
                <a:off x="3276720" y="2209680"/>
                <a:ext cx="19044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/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"/>
          <p:cNvSpPr txBox="1"/>
          <p:nvPr/>
        </p:nvSpPr>
        <p:spPr>
          <a:xfrm>
            <a:off x="1500120" y="1523520"/>
            <a:ext cx="7491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tt-RU" sz="3200" spc="-1" strike="noStrike" baseline="-25000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Билгеләгечләрне исәпләү</a:t>
            </a:r>
            <a:endParaRPr b="0" lang="en-US" sz="3600" spc="-1" strike="noStrike">
              <a:solidFill>
                <a:srgbClr val="5a6378"/>
              </a:solidFill>
              <a:latin typeface="Times New Roman"/>
            </a:endParaRPr>
          </a:p>
        </p:txBody>
      </p:sp>
      <p:sp>
        <p:nvSpPr>
          <p:cNvPr id="109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1" name="Picture 5" descr=""/>
          <p:cNvPicPr/>
          <p:nvPr/>
        </p:nvPicPr>
        <p:blipFill>
          <a:blip r:embed="rId1"/>
          <a:stretch/>
        </p:blipFill>
        <p:spPr>
          <a:xfrm>
            <a:off x="1600200" y="1447920"/>
            <a:ext cx="5881680" cy="1042920"/>
          </a:xfrm>
          <a:prstGeom prst="rect">
            <a:avLst/>
          </a:prstGeom>
          <a:ln w="0">
            <a:noFill/>
          </a:ln>
        </p:spPr>
      </p:pic>
      <p:sp>
        <p:nvSpPr>
          <p:cNvPr id="110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3" name="Picture 7" descr=""/>
          <p:cNvPicPr/>
          <p:nvPr/>
        </p:nvPicPr>
        <p:blipFill>
          <a:blip r:embed="rId2"/>
          <a:stretch/>
        </p:blipFill>
        <p:spPr>
          <a:xfrm>
            <a:off x="2438280" y="3124080"/>
            <a:ext cx="5246640" cy="1114560"/>
          </a:xfrm>
          <a:prstGeom prst="rect">
            <a:avLst/>
          </a:prstGeom>
          <a:ln w="0">
            <a:noFill/>
          </a:ln>
        </p:spPr>
      </p:pic>
      <p:sp>
        <p:nvSpPr>
          <p:cNvPr id="110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5" name="Picture 9" descr=""/>
          <p:cNvPicPr/>
          <p:nvPr/>
        </p:nvPicPr>
        <p:blipFill>
          <a:blip r:embed="rId3"/>
          <a:stretch/>
        </p:blipFill>
        <p:spPr>
          <a:xfrm>
            <a:off x="2514600" y="5029200"/>
            <a:ext cx="4976640" cy="928800"/>
          </a:xfrm>
          <a:prstGeom prst="rect">
            <a:avLst/>
          </a:prstGeom>
          <a:ln w="0">
            <a:noFill/>
          </a:ln>
        </p:spPr>
      </p:pic>
      <p:cxnSp>
        <p:nvCxnSpPr>
          <p:cNvPr id="1106" name="Прямая со стрелкой 12"/>
          <p:cNvCxnSpPr/>
          <p:nvPr/>
        </p:nvCxnSpPr>
        <p:spPr>
          <a:xfrm>
            <a:off x="2895120" y="1752120"/>
            <a:ext cx="429480" cy="358200"/>
          </a:xfrm>
          <a:prstGeom prst="straightConnector1">
            <a:avLst/>
          </a:prstGeom>
          <a:ln w="57240">
            <a:solidFill>
              <a:srgbClr val="f61b0a"/>
            </a:solidFill>
            <a:miter/>
            <a:tailEnd len="med" type="arrow" w="med"/>
          </a:ln>
        </p:spPr>
      </p:cxnSp>
      <p:cxnSp>
        <p:nvCxnSpPr>
          <p:cNvPr id="1107" name="Прямая со стрелкой 14"/>
          <p:cNvCxnSpPr/>
          <p:nvPr/>
        </p:nvCxnSpPr>
        <p:spPr>
          <a:xfrm flipH="1">
            <a:off x="2894760" y="1751400"/>
            <a:ext cx="500760" cy="358200"/>
          </a:xfrm>
          <a:prstGeom prst="straightConnector1">
            <a:avLst/>
          </a:prstGeom>
          <a:ln w="57240">
            <a:solidFill>
              <a:srgbClr val="f61b0a"/>
            </a:solidFill>
            <a:miter/>
            <a:tailEnd len="med" type="arrow" w="med"/>
          </a:ln>
        </p:spPr>
      </p:cxnSp>
      <p:cxnSp>
        <p:nvCxnSpPr>
          <p:cNvPr id="1108" name="Прямая со стрелкой 15"/>
          <p:cNvCxnSpPr/>
          <p:nvPr/>
        </p:nvCxnSpPr>
        <p:spPr>
          <a:xfrm>
            <a:off x="2895120" y="3505320"/>
            <a:ext cx="429480" cy="357840"/>
          </a:xfrm>
          <a:prstGeom prst="straightConnector1">
            <a:avLst/>
          </a:prstGeom>
          <a:ln w="57240">
            <a:solidFill>
              <a:srgbClr val="f61b0a"/>
            </a:solidFill>
            <a:miter/>
            <a:tailEnd len="med" type="arrow" w="med"/>
          </a:ln>
        </p:spPr>
      </p:cxnSp>
      <p:cxnSp>
        <p:nvCxnSpPr>
          <p:cNvPr id="1109" name="Прямая со стрелкой 16"/>
          <p:cNvCxnSpPr/>
          <p:nvPr/>
        </p:nvCxnSpPr>
        <p:spPr>
          <a:xfrm flipH="1">
            <a:off x="2894760" y="3505320"/>
            <a:ext cx="500760" cy="357840"/>
          </a:xfrm>
          <a:prstGeom prst="straightConnector1">
            <a:avLst/>
          </a:prstGeom>
          <a:ln w="57240">
            <a:solidFill>
              <a:srgbClr val="f61b0a"/>
            </a:solidFill>
            <a:miter/>
            <a:tailEnd len="med" type="arrow" w="med"/>
          </a:ln>
        </p:spPr>
      </p:cxnSp>
      <p:cxnSp>
        <p:nvCxnSpPr>
          <p:cNvPr id="1110" name="Прямая со стрелкой 17"/>
          <p:cNvCxnSpPr/>
          <p:nvPr/>
        </p:nvCxnSpPr>
        <p:spPr>
          <a:xfrm>
            <a:off x="2971800" y="5257440"/>
            <a:ext cx="534240" cy="305640"/>
          </a:xfrm>
          <a:prstGeom prst="straightConnector1">
            <a:avLst/>
          </a:prstGeom>
          <a:ln w="57240">
            <a:solidFill>
              <a:srgbClr val="f61b0a"/>
            </a:solidFill>
            <a:miter/>
            <a:tailEnd len="med" type="arrow" w="med"/>
          </a:ln>
        </p:spPr>
      </p:cxnSp>
      <p:cxnSp>
        <p:nvCxnSpPr>
          <p:cNvPr id="1111" name="Прямая со стрелкой 18"/>
          <p:cNvCxnSpPr/>
          <p:nvPr/>
        </p:nvCxnSpPr>
        <p:spPr>
          <a:xfrm flipH="1">
            <a:off x="2971440" y="5334120"/>
            <a:ext cx="534240" cy="281520"/>
          </a:xfrm>
          <a:prstGeom prst="straightConnector1">
            <a:avLst/>
          </a:prstGeom>
          <a:ln w="57240">
            <a:solidFill>
              <a:srgbClr val="f61b0a"/>
            </a:solidFill>
            <a:miter/>
            <a:tailEnd len="med" type="arrow" w="med"/>
          </a:ln>
        </p:spPr>
      </p:cxnSp>
    </p:spTree>
  </p:cSld>
  <p:transition>
    <p:pull dir="l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20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20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20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20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20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20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"/>
          <p:cNvSpPr txBox="1"/>
          <p:nvPr/>
        </p:nvSpPr>
        <p:spPr>
          <a:xfrm>
            <a:off x="1447560" y="1447560"/>
            <a:ext cx="74912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                               </a:t>
            </a: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- Краме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                               </a:t>
            </a: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формуласы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214200" y="214200"/>
            <a:ext cx="822960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Әгәр               , ул вакытта</a:t>
            </a:r>
            <a:br>
              <a:rPr sz="3600"/>
            </a:br>
            <a:endParaRPr b="0" lang="en-US" sz="3600" spc="-1" strike="noStrike">
              <a:solidFill>
                <a:srgbClr val="5a6378"/>
              </a:solidFill>
              <a:latin typeface="Times New Roman"/>
            </a:endParaRPr>
          </a:p>
        </p:txBody>
      </p:sp>
      <p:sp>
        <p:nvSpPr>
          <p:cNvPr id="111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5" name="Picture 1" descr=""/>
          <p:cNvPicPr/>
          <p:nvPr/>
        </p:nvPicPr>
        <p:blipFill>
          <a:blip r:embed="rId1"/>
          <a:stretch/>
        </p:blipFill>
        <p:spPr>
          <a:xfrm>
            <a:off x="1752480" y="2133720"/>
            <a:ext cx="1744920" cy="1457280"/>
          </a:xfrm>
          <a:prstGeom prst="rect">
            <a:avLst/>
          </a:prstGeom>
          <a:ln w="0">
            <a:noFill/>
          </a:ln>
        </p:spPr>
      </p:pic>
      <p:sp>
        <p:nvSpPr>
          <p:cNvPr id="111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8" name="Picture 5" descr=""/>
          <p:cNvPicPr/>
          <p:nvPr/>
        </p:nvPicPr>
        <p:blipFill>
          <a:blip r:embed="rId2"/>
          <a:stretch/>
        </p:blipFill>
        <p:spPr>
          <a:xfrm>
            <a:off x="3048120" y="228600"/>
            <a:ext cx="1130040" cy="61920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3" descr=""/>
          <p:cNvPicPr/>
          <p:nvPr/>
        </p:nvPicPr>
        <p:blipFill>
          <a:blip r:embed="rId3"/>
          <a:stretch/>
        </p:blipFill>
        <p:spPr>
          <a:xfrm>
            <a:off x="1752480" y="4267080"/>
            <a:ext cx="1903680" cy="1571760"/>
          </a:xfrm>
          <a:prstGeom prst="rect">
            <a:avLst/>
          </a:prstGeom>
          <a:ln w="0">
            <a:noFill/>
          </a:ln>
        </p:spPr>
      </p:pic>
      <p:sp>
        <p:nvSpPr>
          <p:cNvPr id="1120" name="Двойная стрелка влево/вверх 9"/>
          <p:cNvSpPr/>
          <p:nvPr/>
        </p:nvSpPr>
        <p:spPr>
          <a:xfrm>
            <a:off x="4191120" y="2971800"/>
            <a:ext cx="571320" cy="2143080"/>
          </a:xfrm>
          <a:custGeom>
            <a:avLst/>
            <a:gdLst>
              <a:gd name="textAreaLeft" fmla="*/ 71280 w 571320"/>
              <a:gd name="textAreaRight" fmla="*/ 428760 w 571320"/>
              <a:gd name="textAreaTop" fmla="*/ 1928880 h 2143080"/>
              <a:gd name="textAreaBottom" fmla="*/ 2071800 h 2143080"/>
            </a:gdLst>
            <a:ahLst/>
            <a:rect l="textAreaLeft" t="textAreaTop" r="textAreaRight" b="textAreaBottom"/>
            <a:pathLst>
              <a:path w="571500" h="2143125">
                <a:moveTo>
                  <a:pt x="0" y="2000250"/>
                </a:moveTo>
                <a:lnTo>
                  <a:pt x="142875" y="1857375"/>
                </a:lnTo>
                <a:lnTo>
                  <a:pt x="142875" y="1928813"/>
                </a:lnTo>
                <a:lnTo>
                  <a:pt x="357188" y="1928813"/>
                </a:lnTo>
                <a:lnTo>
                  <a:pt x="357188" y="142875"/>
                </a:lnTo>
                <a:lnTo>
                  <a:pt x="285750" y="142875"/>
                </a:lnTo>
                <a:lnTo>
                  <a:pt x="428625" y="0"/>
                </a:lnTo>
                <a:lnTo>
                  <a:pt x="571500" y="142875"/>
                </a:lnTo>
                <a:lnTo>
                  <a:pt x="500063" y="142875"/>
                </a:lnTo>
                <a:lnTo>
                  <a:pt x="500063" y="2071688"/>
                </a:lnTo>
                <a:lnTo>
                  <a:pt x="142875" y="2071688"/>
                </a:lnTo>
                <a:lnTo>
                  <a:pt x="142875" y="2143125"/>
                </a:lnTo>
                <a:close/>
              </a:path>
            </a:pathLst>
          </a:custGeom>
          <a:solidFill>
            <a:srgbClr val="f0ad00"/>
          </a:solidFill>
          <a:ln w="25560">
            <a:solidFill>
              <a:srgbClr val="b07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1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1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"/>
          <p:cNvSpPr txBox="1"/>
          <p:nvPr/>
        </p:nvSpPr>
        <p:spPr>
          <a:xfrm>
            <a:off x="1905120" y="152388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+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+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=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+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+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=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+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+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=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үбәндәге тигезләмәлә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истемасын чишү өчен өченч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әртиптәге </a:t>
            </a:r>
            <a:r>
              <a:rPr b="1" lang="ru-RU" sz="3200" spc="-1" strike="noStrike">
                <a:solidFill>
                  <a:srgbClr val="f61b0a"/>
                </a:solidFill>
                <a:latin typeface="Arial"/>
              </a:rPr>
              <a:t>төп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һәм </a:t>
            </a:r>
            <a:r>
              <a:rPr b="1" lang="ru-RU" sz="3200" spc="-1" strike="noStrike">
                <a:solidFill>
                  <a:srgbClr val="f61b0a"/>
                </a:solidFill>
                <a:latin typeface="Arial"/>
              </a:rPr>
              <a:t>ярдәмч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илгеләгечләрне табарга кирәк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168bb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 нче тәртиптәге сызыкча тигезләмәләрне чишү</a:t>
            </a:r>
            <a:endParaRPr b="0" lang="en-US" sz="3600" spc="-1" strike="noStrike">
              <a:solidFill>
                <a:srgbClr val="5a637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3" name="Object 2"/>
              <p:cNvSpPr txBox="1"/>
              <p:nvPr/>
            </p:nvSpPr>
            <p:spPr>
              <a:xfrm>
                <a:off x="1752480" y="2133720"/>
                <a:ext cx="190800" cy="16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/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/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"/>
          <p:cNvSpPr txBox="1"/>
          <p:nvPr/>
        </p:nvSpPr>
        <p:spPr>
          <a:xfrm>
            <a:off x="457200" y="914400"/>
            <a:ext cx="8229600" cy="500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84582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-нче тәртиптәге төп һәм ярдәмче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илгеләгечләрне табарга .</a:t>
            </a:r>
            <a:endParaRPr b="0" lang="en-US" sz="3200" spc="-1" strike="noStrike">
              <a:solidFill>
                <a:srgbClr val="5a6378"/>
              </a:solidFill>
              <a:latin typeface="Times New Roman"/>
            </a:endParaRPr>
          </a:p>
        </p:txBody>
      </p:sp>
      <p:sp>
        <p:nvSpPr>
          <p:cNvPr id="112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8" name="Picture 5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6153120" cy="1781280"/>
          </a:xfrm>
          <a:prstGeom prst="rect">
            <a:avLst/>
          </a:prstGeom>
          <a:ln w="0">
            <a:noFill/>
          </a:ln>
        </p:spPr>
      </p:pic>
      <p:sp>
        <p:nvSpPr>
          <p:cNvPr id="112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1" name="Прямая со стрелкой 11"/>
          <p:cNvCxnSpPr/>
          <p:nvPr/>
        </p:nvCxnSpPr>
        <p:spPr>
          <a:xfrm>
            <a:off x="1980720" y="2209320"/>
            <a:ext cx="1220040" cy="6865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132" name="Прямая соединительная линия 13"/>
          <p:cNvSpPr/>
          <p:nvPr/>
        </p:nvSpPr>
        <p:spPr>
          <a:xfrm>
            <a:off x="2590920" y="3352680"/>
            <a:ext cx="1295280" cy="0"/>
          </a:xfrm>
          <a:prstGeom prst="line">
            <a:avLst/>
          </a:prstGeom>
          <a:ln w="28440">
            <a:solidFill>
              <a:srgbClr val="f61b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3" name="Группа 23"/>
          <p:cNvGrpSpPr/>
          <p:nvPr/>
        </p:nvGrpSpPr>
        <p:grpSpPr>
          <a:xfrm>
            <a:off x="1981080" y="2057400"/>
            <a:ext cx="1295640" cy="898560"/>
            <a:chOff x="1981080" y="2057400"/>
            <a:chExt cx="1295640" cy="898560"/>
          </a:xfrm>
        </p:grpSpPr>
        <p:sp>
          <p:nvSpPr>
            <p:cNvPr id="1134" name="Полилиния 21"/>
            <p:cNvSpPr/>
            <p:nvPr/>
          </p:nvSpPr>
          <p:spPr>
            <a:xfrm>
              <a:off x="1981080" y="2438280"/>
              <a:ext cx="609840" cy="457200"/>
            </a:xfrm>
            <a:custGeom>
              <a:avLst/>
              <a:gdLst/>
              <a:ahLst/>
              <a:rect l="l" t="t" r="r" b="b"/>
              <a:pathLst>
                <a:path w="517160" h="936885">
                  <a:moveTo>
                    <a:pt x="0" y="0"/>
                  </a:moveTo>
                  <a:cubicBezTo>
                    <a:pt x="176134" y="326036"/>
                    <a:pt x="352268" y="652072"/>
                    <a:pt x="434714" y="794478"/>
                  </a:cubicBezTo>
                  <a:cubicBezTo>
                    <a:pt x="517160" y="936885"/>
                    <a:pt x="505917" y="895662"/>
                    <a:pt x="494675" y="854439"/>
                  </a:cubicBezTo>
                </a:path>
              </a:pathLst>
            </a:custGeom>
            <a:noFill/>
            <a:ln w="38160">
              <a:solidFill>
                <a:srgbClr val="f61b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Полилиния 22"/>
            <p:cNvSpPr/>
            <p:nvPr/>
          </p:nvSpPr>
          <p:spPr>
            <a:xfrm>
              <a:off x="2590920" y="2057400"/>
              <a:ext cx="685800" cy="898560"/>
            </a:xfrm>
            <a:custGeom>
              <a:avLst/>
              <a:gdLst/>
              <a:ahLst/>
              <a:rect l="l" t="t" r="r" b="b"/>
              <a:pathLst>
                <a:path w="494676" h="974360">
                  <a:moveTo>
                    <a:pt x="0" y="974360"/>
                  </a:moveTo>
                  <a:lnTo>
                    <a:pt x="494676" y="0"/>
                  </a:lnTo>
                  <a:lnTo>
                    <a:pt x="494676" y="0"/>
                  </a:lnTo>
                </a:path>
              </a:pathLst>
            </a:custGeom>
            <a:noFill/>
            <a:ln w="38160">
              <a:solidFill>
                <a:srgbClr val="f61b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6" name="Прямая соединительная линия 24"/>
          <p:cNvSpPr/>
          <p:nvPr/>
        </p:nvSpPr>
        <p:spPr>
          <a:xfrm>
            <a:off x="4267080" y="3352680"/>
            <a:ext cx="1295640" cy="0"/>
          </a:xfrm>
          <a:prstGeom prst="line">
            <a:avLst/>
          </a:prstGeom>
          <a:ln w="28440">
            <a:solidFill>
              <a:srgbClr val="f61b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7" name="Группа 30"/>
          <p:cNvGrpSpPr/>
          <p:nvPr/>
        </p:nvGrpSpPr>
        <p:grpSpPr>
          <a:xfrm>
            <a:off x="1904400" y="2133720"/>
            <a:ext cx="1144080" cy="761760"/>
            <a:chOff x="1904400" y="2133720"/>
            <a:chExt cx="1144080" cy="761760"/>
          </a:xfrm>
        </p:grpSpPr>
        <p:sp>
          <p:nvSpPr>
            <p:cNvPr id="1138" name="Прямая соединительная линия 26"/>
            <p:cNvSpPr/>
            <p:nvPr/>
          </p:nvSpPr>
          <p:spPr>
            <a:xfrm flipV="1">
              <a:off x="1904400" y="2133720"/>
              <a:ext cx="609480" cy="761760"/>
            </a:xfrm>
            <a:prstGeom prst="line">
              <a:avLst/>
            </a:prstGeom>
            <a:ln w="38160">
              <a:solidFill>
                <a:srgbClr val="f61b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9" name="Прямая со стрелкой 28"/>
            <p:cNvCxnSpPr/>
            <p:nvPr/>
          </p:nvCxnSpPr>
          <p:spPr>
            <a:xfrm>
              <a:off x="2514600" y="2133720"/>
              <a:ext cx="534240" cy="381600"/>
            </a:xfrm>
            <a:prstGeom prst="straightConnector1">
              <a:avLst/>
            </a:prstGeom>
            <a:ln w="38160">
              <a:solidFill>
                <a:srgbClr val="f61b0a"/>
              </a:solidFill>
              <a:miter/>
              <a:tailEnd len="med" type="arrow" w="med"/>
            </a:ln>
          </p:spPr>
        </p:cxnSp>
      </p:grpSp>
      <p:sp>
        <p:nvSpPr>
          <p:cNvPr id="1140" name="Прямая соединительная линия 31"/>
          <p:cNvSpPr/>
          <p:nvPr/>
        </p:nvSpPr>
        <p:spPr>
          <a:xfrm>
            <a:off x="5943600" y="3352680"/>
            <a:ext cx="1295280" cy="0"/>
          </a:xfrm>
          <a:prstGeom prst="line">
            <a:avLst/>
          </a:prstGeom>
          <a:ln w="28440">
            <a:solidFill>
              <a:srgbClr val="f61b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Прямая соединительная линия 33"/>
          <p:cNvSpPr/>
          <p:nvPr/>
        </p:nvSpPr>
        <p:spPr>
          <a:xfrm flipV="1">
            <a:off x="1981080" y="2133720"/>
            <a:ext cx="1371600" cy="76176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Прямая соединительная линия 36"/>
          <p:cNvSpPr/>
          <p:nvPr/>
        </p:nvSpPr>
        <p:spPr>
          <a:xfrm>
            <a:off x="5867280" y="3733920"/>
            <a:ext cx="1295640" cy="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Прямая соединительная линия 37"/>
          <p:cNvSpPr/>
          <p:nvPr/>
        </p:nvSpPr>
        <p:spPr>
          <a:xfrm>
            <a:off x="2514600" y="3733920"/>
            <a:ext cx="1295280" cy="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Прямая соединительная линия 38"/>
          <p:cNvSpPr/>
          <p:nvPr/>
        </p:nvSpPr>
        <p:spPr>
          <a:xfrm>
            <a:off x="4267080" y="3809880"/>
            <a:ext cx="1295640" cy="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5" name="Группа 44"/>
          <p:cNvGrpSpPr/>
          <p:nvPr/>
        </p:nvGrpSpPr>
        <p:grpSpPr>
          <a:xfrm>
            <a:off x="2056680" y="2057400"/>
            <a:ext cx="1144080" cy="822240"/>
            <a:chOff x="2056680" y="2057400"/>
            <a:chExt cx="1144080" cy="822240"/>
          </a:xfrm>
        </p:grpSpPr>
        <p:sp>
          <p:nvSpPr>
            <p:cNvPr id="1146" name="Прямая соединительная линия 40"/>
            <p:cNvSpPr/>
            <p:nvPr/>
          </p:nvSpPr>
          <p:spPr>
            <a:xfrm>
              <a:off x="2056680" y="2057400"/>
              <a:ext cx="609480" cy="8222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47" name="Прямая со стрелкой 42"/>
            <p:cNvCxnSpPr/>
            <p:nvPr/>
          </p:nvCxnSpPr>
          <p:spPr>
            <a:xfrm flipV="1">
              <a:off x="2666880" y="2437920"/>
              <a:ext cx="534240" cy="442080"/>
            </a:xfrm>
            <a:prstGeom prst="straightConnector1">
              <a:avLst/>
            </a:prstGeom>
            <a:ln w="38160">
              <a:solidFill>
                <a:srgbClr val="00b050"/>
              </a:solidFill>
              <a:miter/>
              <a:tailEnd len="med" type="arrow" w="med"/>
            </a:ln>
          </p:spPr>
        </p:cxnSp>
      </p:grpSp>
      <p:grpSp>
        <p:nvGrpSpPr>
          <p:cNvPr id="1148" name="Группа 49"/>
          <p:cNvGrpSpPr/>
          <p:nvPr/>
        </p:nvGrpSpPr>
        <p:grpSpPr>
          <a:xfrm>
            <a:off x="1981080" y="2133360"/>
            <a:ext cx="1295640" cy="686160"/>
            <a:chOff x="1981080" y="2133360"/>
            <a:chExt cx="1295640" cy="686160"/>
          </a:xfrm>
        </p:grpSpPr>
        <p:sp>
          <p:nvSpPr>
            <p:cNvPr id="1149" name="Прямая соединительная линия 46"/>
            <p:cNvSpPr/>
            <p:nvPr/>
          </p:nvSpPr>
          <p:spPr>
            <a:xfrm flipV="1">
              <a:off x="1981080" y="2133720"/>
              <a:ext cx="533520" cy="45720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50" name="Прямая со стрелкой 48"/>
            <p:cNvCxnSpPr/>
            <p:nvPr/>
          </p:nvCxnSpPr>
          <p:spPr>
            <a:xfrm>
              <a:off x="2514240" y="2133360"/>
              <a:ext cx="762840" cy="686520"/>
            </a:xfrm>
            <a:prstGeom prst="straightConnector1">
              <a:avLst/>
            </a:prstGeom>
            <a:ln w="38160">
              <a:solidFill>
                <a:srgbClr val="00b050"/>
              </a:solidFill>
              <a:miter/>
              <a:tailEnd len="med" type="arrow" w="med"/>
            </a:ln>
          </p:spPr>
        </p:cxnSp>
      </p:grpSp>
    </p:spTree>
  </p:cSld>
  <p:transition>
    <p:zoom dir="ou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20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20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20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20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20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"/>
          <p:cNvSpPr txBox="1"/>
          <p:nvPr/>
        </p:nvSpPr>
        <p:spPr>
          <a:xfrm>
            <a:off x="457200" y="990720"/>
            <a:ext cx="8229600" cy="500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845820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-нче тәртиптәге төп һәм ярдәмче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илгеләгечләрне табарга .</a:t>
            </a:r>
            <a:endParaRPr b="0" lang="en-US" sz="3200" spc="-1" strike="noStrike">
              <a:solidFill>
                <a:srgbClr val="5a6378"/>
              </a:solidFill>
              <a:latin typeface="Times New Roman"/>
            </a:endParaRPr>
          </a:p>
        </p:txBody>
      </p:sp>
      <p:sp>
        <p:nvSpPr>
          <p:cNvPr id="115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6" name="Picture 7" descr=""/>
          <p:cNvPicPr/>
          <p:nvPr/>
        </p:nvPicPr>
        <p:blipFill>
          <a:blip r:embed="rId1"/>
          <a:stretch/>
        </p:blipFill>
        <p:spPr>
          <a:xfrm>
            <a:off x="1905120" y="1752480"/>
            <a:ext cx="6153120" cy="1781280"/>
          </a:xfrm>
          <a:prstGeom prst="rect">
            <a:avLst/>
          </a:prstGeom>
          <a:ln w="0">
            <a:noFill/>
          </a:ln>
        </p:spPr>
      </p:pic>
      <p:sp>
        <p:nvSpPr>
          <p:cNvPr id="115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8" name="Picture 9" descr=""/>
          <p:cNvPicPr/>
          <p:nvPr/>
        </p:nvPicPr>
        <p:blipFill>
          <a:blip r:embed="rId2"/>
          <a:stretch/>
        </p:blipFill>
        <p:spPr>
          <a:xfrm>
            <a:off x="2133720" y="3809880"/>
            <a:ext cx="6153120" cy="1781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ульна</cp:lastModifiedBy>
  <dcterms:modified xsi:type="dcterms:W3CDTF">2011-02-18T12:14:19Z</dcterms:modified>
  <cp:revision>267</cp:revision>
  <dc:subject/>
  <dc:title>Математика + информатика</dc:title>
</cp:coreProperties>
</file>