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989-C630-42A8-A899-218F0360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180-893B-4974-AEB0-F3B07C64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F40-376B-4052-B747-3256B352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5A8-1565-406D-94D4-815AFD55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6D4-685C-4CB5-B217-53EF278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5DA-AC78-4B13-913C-95795ADB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9D1-4D92-4915-AEA3-B96647EF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570-7C52-4040-85FF-A2B83902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30B-3038-454B-B063-6F0FF51E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BE1-B564-437A-82FC-6581CF6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769-D431-419F-9310-70D0E6C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0D0-4C34-467B-AEDF-9A74C032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F72-E932-41BD-A512-77DCB2CFF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idos.ru/master" TargetMode="External"/><Relationship Id="rId2" Type="http://schemas.openxmlformats.org/officeDocument/2006/relationships/hyperlink" Target="http://www.distant.ioso.ru/" TargetMode="External"/><Relationship Id="rId3" Type="http://schemas.openxmlformats.org/officeDocument/2006/relationships/hyperlink" Target="http://www.mos-cons.ru/mod/forum" TargetMode="External"/><Relationship Id="rId4" Type="http://schemas.openxmlformats.org/officeDocument/2006/relationships/hyperlink" Target="http://www.mos-cons.ru/mod/forum" TargetMode="External"/><Relationship Id="rId5" Type="http://schemas.openxmlformats.org/officeDocument/2006/relationships/hyperlink" Target="http://www.mos-cons.ru/mod/forum" TargetMode="External"/><Relationship Id="rId6" Type="http://schemas.openxmlformats.org/officeDocument/2006/relationships/hyperlink" Target="http://www.mos-cons.ru/mod/forum" TargetMode="External"/><Relationship Id="rId7" Type="http://schemas.openxmlformats.org/officeDocument/2006/relationships/hyperlink" Target="http://www.mos-cons.ru/mod/forum" TargetMode="External"/><Relationship Id="rId8" Type="http://schemas.openxmlformats.org/officeDocument/2006/relationships/hyperlink" Target="http://www.curator.ru/physics/it_school.htm" TargetMode="External"/><Relationship Id="rId9" Type="http://schemas.openxmlformats.org/officeDocument/2006/relationships/hyperlink" Target="http://www.curator.ru/physics/it_school.htm" TargetMode="External"/><Relationship Id="rId10" Type="http://schemas.openxmlformats.org/officeDocument/2006/relationships/hyperlink" Target="http://www.curator.ru/physics/it_school.htm" TargetMode="External"/><Relationship Id="rId11" Type="http://schemas.openxmlformats.org/officeDocument/2006/relationships/hyperlink" Target="http://www.curator.ru/physics/it_school.htm" TargetMode="External"/><Relationship Id="rId12" Type="http://schemas.openxmlformats.org/officeDocument/2006/relationships/hyperlink" Target="http://www.curator.ru/physics/it_school.htm" TargetMode="External"/><Relationship Id="rId13" Type="http://schemas.openxmlformats.org/officeDocument/2006/relationships/hyperlink" Target="http://www.isoproject.ru/" TargetMode="External"/><Relationship Id="rId14" Type="http://schemas.openxmlformats.org/officeDocument/2006/relationships/hyperlink" Target="http://www.1september.ru/" TargetMode="External"/><Relationship Id="rId15" Type="http://schemas.openxmlformats.org/officeDocument/2006/relationships/hyperlink" Target="http://www.1september.ru/" TargetMode="External"/><Relationship Id="rId16" Type="http://schemas.openxmlformats.org/officeDocument/2006/relationships/hyperlink" Target="http://www.1september.ru/" TargetMode="External"/><Relationship Id="rId17" Type="http://schemas.openxmlformats.org/officeDocument/2006/relationships/hyperlink" Target="http://www.1september.ru/" TargetMode="External"/><Relationship Id="rId18" Type="http://schemas.openxmlformats.org/officeDocument/2006/relationships/hyperlink" Target="http://www.1september.ru/" TargetMode="External"/><Relationship Id="rId19" Type="http://schemas.openxmlformats.org/officeDocument/2006/relationships/hyperlink" Target="http://www.kursy.ru/" TargetMode="External"/><Relationship Id="rId2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1916280"/>
            <a:ext cx="8280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Укытучыларның һәм укучыларның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дистанцион белем алулар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җәмгыятьтә конкуренциягә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яраклашуның төп нигез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</p:spTree>
  </p:cSld>
  <p:transition advTm="20000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50920" y="2133720"/>
            <a:ext cx="8497800" cy="2408040"/>
            <a:chOff x="250920" y="2133720"/>
            <a:chExt cx="8497800" cy="2408040"/>
          </a:xfrm>
        </p:grpSpPr>
        <p:grpSp>
          <p:nvGrpSpPr>
            <p:cNvPr id="146" name=""/>
            <p:cNvGrpSpPr/>
            <p:nvPr/>
          </p:nvGrpSpPr>
          <p:grpSpPr>
            <a:xfrm>
              <a:off x="250920" y="2133720"/>
              <a:ext cx="8497800" cy="2408040"/>
              <a:chOff x="250920" y="2133720"/>
              <a:chExt cx="8497800" cy="2408040"/>
            </a:xfrm>
          </p:grpSpPr>
          <p:sp>
            <p:nvSpPr>
              <p:cNvPr id="147" name=""/>
              <p:cNvSpPr/>
              <p:nvPr/>
            </p:nvSpPr>
            <p:spPr>
              <a:xfrm>
                <a:off x="2843280" y="2133720"/>
                <a:ext cx="3024360" cy="65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Times New Roman"/>
                  </a:rPr>
                  <a:t>Дәресләр үткәрү зал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0920" y="3885120"/>
                <a:ext cx="2592360" cy="65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Times New Roman"/>
                  </a:rPr>
                  <a:t>Класс №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275640" y="3885120"/>
                <a:ext cx="2592360" cy="65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Times New Roman"/>
                  </a:rPr>
                  <a:t>Класс №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156360" y="3885120"/>
                <a:ext cx="2592360" cy="65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Times New Roman"/>
                  </a:rPr>
                  <a:t>Класс №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H="1">
              <a:off x="2266920" y="2790360"/>
              <a:ext cx="1728360" cy="10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0" y="2790360"/>
              <a:ext cx="0" cy="10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80000" y="2790360"/>
              <a:ext cx="1728360" cy="10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611280" y="620640"/>
            <a:ext cx="79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Интерактив телевидение модел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</p:spTree>
  </p:cSld>
  <p:transition advTm="20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42920" y="333360"/>
            <a:ext cx="72295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Укучылар һәм укытучылар өчен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түбәнге адреслар буенч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дистанцион белем алырга мөмки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328400" y="2348280"/>
            <a:ext cx="6890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idos.ru/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istant.ios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os-cons.ru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od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curator.ru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hysics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it_school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isoprojec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1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september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kurs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419640" cy="2467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4338720"/>
            <a:ext cx="2090880" cy="25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4000" y="4724280"/>
            <a:ext cx="2604960" cy="17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84360" y="1700280"/>
            <a:ext cx="4067280" cy="310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2087640" cy="2108160"/>
          </a:xfrm>
          <a:prstGeom prst="rect">
            <a:avLst/>
          </a:prstGeom>
          <a:ln w="0">
            <a:noFill/>
          </a:ln>
        </p:spPr>
      </p:pic>
    </p:spTree>
  </p:cSld>
  <p:transition advTm="20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2539800" cy="318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6120" y="549000"/>
            <a:ext cx="83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000000"/>
                </a:solidFill>
                <a:latin typeface="Arial"/>
              </a:rPr>
              <a:t>Дистанцион белем алуның максаты – нинди д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000000"/>
                </a:solidFill>
                <a:latin typeface="Arial"/>
              </a:rPr>
              <a:t>булса бер юнәлеш буенча үзбелемеңне күтәр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000000"/>
                </a:solidFill>
                <a:latin typeface="Arial"/>
              </a:rPr>
              <a:t>һәм тирәнәйт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6680" y="2420640"/>
            <a:ext cx="645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000000"/>
                </a:solidFill>
                <a:latin typeface="Arial"/>
              </a:rPr>
              <a:t>Дистанцион белем алуның бурычы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000000"/>
                </a:solidFill>
                <a:latin typeface="Arial"/>
              </a:rPr>
              <a:t>белем алуга омтылыш тәрбиялә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11280" y="476280"/>
            <a:ext cx="7878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Дистанцион белем алучы мәктәп укучыла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3080" y="1471680"/>
          <a:ext cx="7210440" cy="47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1471680"/>
                    <a:ext cx="721044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042920" y="1700280"/>
          <a:ext cx="684216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68421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 txBox="1"/>
          <p:nvPr/>
        </p:nvSpPr>
        <p:spPr>
          <a:xfrm>
            <a:off x="611280" y="476280"/>
            <a:ext cx="7878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Дистанцион белем алучы мәктәп укучыла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</p:spTree>
  </p:cSld>
  <p:transition advTm="20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1280" y="476280"/>
            <a:ext cx="7878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Дистанцион рәвештә белемнәрен күтәрүче укытучыла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2427120"/>
          <a:ext cx="4038480" cy="28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27120"/>
                    <a:ext cx="403848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84360" y="1413000"/>
          <a:ext cx="7826400" cy="453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413000"/>
                    <a:ext cx="78264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187280" y="1844640"/>
            <a:ext cx="7002000" cy="3494880"/>
            <a:chOff x="1187280" y="1844640"/>
            <a:chExt cx="7002000" cy="3494880"/>
          </a:xfrm>
        </p:grpSpPr>
        <p:sp>
          <p:nvSpPr>
            <p:cNvPr id="62" name=""/>
            <p:cNvSpPr/>
            <p:nvPr/>
          </p:nvSpPr>
          <p:spPr>
            <a:xfrm>
              <a:off x="1187280" y="1844640"/>
              <a:ext cx="3151080" cy="41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Өстәмә материаллар белән э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187280" y="1844640"/>
              <a:ext cx="7002000" cy="3494880"/>
              <a:chOff x="1187280" y="1844640"/>
              <a:chExt cx="7002000" cy="3494880"/>
            </a:xfrm>
          </p:grpSpPr>
          <p:sp>
            <p:nvSpPr>
              <p:cNvPr id="64" name=""/>
              <p:cNvSpPr/>
              <p:nvPr/>
            </p:nvSpPr>
            <p:spPr>
              <a:xfrm>
                <a:off x="1187280" y="2650320"/>
                <a:ext cx="1866960" cy="41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Уку процесс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87880" y="4655160"/>
                <a:ext cx="2567520" cy="68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Белемнәрне тирәнәйтү курслар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87280" y="3855240"/>
                <a:ext cx="2217240" cy="41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оект, эзләнү эшләр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688280" y="1844640"/>
                <a:ext cx="3501000" cy="41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Индивидуаль программа буенча э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621760" y="3855240"/>
                <a:ext cx="2217240" cy="41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Консультациялә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972400" y="2513160"/>
                <a:ext cx="2216880" cy="41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офиль курсла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053880" y="2245320"/>
                <a:ext cx="2917800" cy="2462760"/>
                <a:chOff x="3053880" y="2245320"/>
                <a:chExt cx="2917800" cy="2462760"/>
              </a:xfrm>
            </p:grpSpPr>
            <p:grpSp>
              <p:nvGrpSpPr>
                <p:cNvPr id="71" name=""/>
                <p:cNvGrpSpPr/>
                <p:nvPr/>
              </p:nvGrpSpPr>
              <p:grpSpPr>
                <a:xfrm>
                  <a:off x="3053880" y="2245320"/>
                  <a:ext cx="2917800" cy="2462760"/>
                  <a:chOff x="3053880" y="2245320"/>
                  <a:chExt cx="2917800" cy="246276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4921200" y="3476880"/>
                    <a:ext cx="700200" cy="54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3754440" y="2519280"/>
                    <a:ext cx="1283400" cy="1367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H="1">
                    <a:off x="3403800" y="3750480"/>
                    <a:ext cx="583560" cy="410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H="1" flipV="1">
                    <a:off x="4104360" y="2245680"/>
                    <a:ext cx="23328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flipV="1">
                    <a:off x="4804560" y="2245320"/>
                    <a:ext cx="466560" cy="41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flipV="1">
                    <a:off x="5038200" y="2792880"/>
                    <a:ext cx="93348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 flipV="1">
                    <a:off x="3053880" y="2792880"/>
                    <a:ext cx="70020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4454640" y="3887280"/>
                    <a:ext cx="0" cy="82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" name=""/>
                <p:cNvSpPr/>
                <p:nvPr/>
              </p:nvSpPr>
              <p:spPr>
                <a:xfrm>
                  <a:off x="3760920" y="2743200"/>
                  <a:ext cx="128340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t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Дистанцион белем алу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" name=""/>
          <p:cNvSpPr txBox="1"/>
          <p:nvPr/>
        </p:nvSpPr>
        <p:spPr>
          <a:xfrm>
            <a:off x="611280" y="620640"/>
            <a:ext cx="76294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Белемнәрне интеграцияләү модел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</p:spTree>
  </p:cSld>
  <p:transition advTm="20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44360" y="2302560"/>
            <a:ext cx="7630920" cy="3883680"/>
            <a:chOff x="1044360" y="2302560"/>
            <a:chExt cx="7630920" cy="3883680"/>
          </a:xfrm>
        </p:grpSpPr>
        <p:sp>
          <p:nvSpPr>
            <p:cNvPr id="83" name=""/>
            <p:cNvSpPr/>
            <p:nvPr/>
          </p:nvSpPr>
          <p:spPr>
            <a:xfrm>
              <a:off x="2829600" y="5677560"/>
              <a:ext cx="3732840" cy="50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tt-RU" sz="1200" spc="-1" strike="noStrike">
                  <a:solidFill>
                    <a:srgbClr val="000000"/>
                  </a:solidFill>
                  <a:latin typeface="Arial"/>
                </a:rPr>
                <a:t>Уку процессындагы документла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044360" y="3989880"/>
              <a:ext cx="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692360" y="2808360"/>
              <a:ext cx="4870800" cy="2893320"/>
              <a:chOff x="1692360" y="2808360"/>
              <a:chExt cx="4870800" cy="289332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2835360" y="3292920"/>
                <a:ext cx="2759040" cy="1348560"/>
                <a:chOff x="2835360" y="3292920"/>
                <a:chExt cx="2759040" cy="13485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835360" y="3292920"/>
                  <a:ext cx="2759040" cy="117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997360" y="3292920"/>
                  <a:ext cx="2435040" cy="134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t-RU" sz="1200" spc="-1" strike="noStrike">
                      <a:solidFill>
                        <a:srgbClr val="000000"/>
                      </a:solidFill>
                      <a:latin typeface="Arial"/>
                    </a:rPr>
                    <a:t>Дистанцион белем алу.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t-RU" sz="1200" spc="-1" strike="noStrike">
                      <a:solidFill>
                        <a:srgbClr val="000000"/>
                      </a:solidFill>
                      <a:latin typeface="Arial"/>
                    </a:rPr>
                    <a:t>Электрон дәреслекләр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692360" y="2808360"/>
                <a:ext cx="4870800" cy="2893320"/>
                <a:chOff x="1692360" y="2808360"/>
                <a:chExt cx="4870800" cy="28933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4285440" y="4519800"/>
                  <a:ext cx="0" cy="118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2017800" y="3822120"/>
                  <a:ext cx="811440" cy="84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 flipV="1">
                  <a:off x="1692360" y="2808360"/>
                  <a:ext cx="1461240" cy="67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3965760" y="2808360"/>
                  <a:ext cx="0" cy="50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>
                  <a:off x="4777560" y="2808360"/>
                  <a:ext cx="1785600" cy="50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5589360" y="3652920"/>
                  <a:ext cx="486000" cy="16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427360" y="4159080"/>
                  <a:ext cx="648360" cy="33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"/>
            <p:cNvGrpSpPr/>
            <p:nvPr/>
          </p:nvGrpSpPr>
          <p:grpSpPr>
            <a:xfrm>
              <a:off x="1692360" y="2302560"/>
              <a:ext cx="6982920" cy="3883680"/>
              <a:chOff x="1692360" y="2302560"/>
              <a:chExt cx="6982920" cy="3883680"/>
            </a:xfrm>
          </p:grpSpPr>
          <p:sp>
            <p:nvSpPr>
              <p:cNvPr id="98" name=""/>
              <p:cNvSpPr/>
              <p:nvPr/>
            </p:nvSpPr>
            <p:spPr>
              <a:xfrm>
                <a:off x="2666520" y="2302560"/>
                <a:ext cx="3084480" cy="50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Times New Roman"/>
                  </a:rPr>
                  <a:t>Практик, лаборатор эшлә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75720" y="2302560"/>
                <a:ext cx="2598480" cy="50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Times New Roman"/>
                  </a:rPr>
                  <a:t>Индивидуль биремнә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1692360" y="2808360"/>
                <a:ext cx="6982920" cy="3377880"/>
                <a:chOff x="1692360" y="2808360"/>
                <a:chExt cx="6982920" cy="3377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076440" y="3147480"/>
                  <a:ext cx="2598840" cy="50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t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Контроль эшләр, тестла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071400" y="4520880"/>
                  <a:ext cx="2596320" cy="50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t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Шәхси мәгълүматла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29960" y="5680080"/>
                  <a:ext cx="3733920" cy="50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tt-RU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tt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Уку процессындагы документлар</a:t>
                  </a:r>
                  <a:r>
                    <a:rPr b="0" lang="tt-RU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1692360" y="2808360"/>
                  <a:ext cx="4872240" cy="2894760"/>
                  <a:chOff x="1692360" y="2808360"/>
                  <a:chExt cx="4872240" cy="289476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2835360" y="3292560"/>
                    <a:ext cx="2759760" cy="1349280"/>
                    <a:chOff x="2835360" y="3292560"/>
                    <a:chExt cx="2759760" cy="134928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835360" y="3292560"/>
                      <a:ext cx="2759760" cy="1179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2997360" y="3292560"/>
                      <a:ext cx="2435400" cy="134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танцион белем ал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 дәреслеклә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1692360" y="2808360"/>
                    <a:ext cx="4872240" cy="2894760"/>
                    <a:chOff x="1692360" y="2808360"/>
                    <a:chExt cx="4872240" cy="2894760"/>
                  </a:xfrm>
                </p:grpSpPr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286160" y="4520520"/>
                      <a:ext cx="0" cy="1182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 flipH="1">
                      <a:off x="2017800" y="3822480"/>
                      <a:ext cx="811800" cy="843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flipH="1" flipV="1">
                      <a:off x="1692360" y="2808360"/>
                      <a:ext cx="1461960" cy="67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 flipV="1">
                      <a:off x="3966480" y="2808360"/>
                      <a:ext cx="0" cy="507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 flipV="1">
                      <a:off x="4778280" y="2808360"/>
                      <a:ext cx="1786320" cy="507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flipV="1">
                      <a:off x="5590800" y="3652920"/>
                      <a:ext cx="486360" cy="16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5428440" y="4159440"/>
                      <a:ext cx="648360" cy="338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16" name=""/>
          <p:cNvSpPr/>
          <p:nvPr/>
        </p:nvSpPr>
        <p:spPr>
          <a:xfrm>
            <a:off x="179280" y="4724280"/>
            <a:ext cx="22860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Укучыларның эшчәнле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3645000"/>
            <a:ext cx="21603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Телеконференциялә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421000"/>
            <a:ext cx="23050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Белешмә материалл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1280" y="620640"/>
            <a:ext cx="76294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Электрон мод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</p:spTree>
  </p:cSld>
  <p:transition advTm="20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95280" y="1773360"/>
            <a:ext cx="8383320" cy="4124160"/>
            <a:chOff x="395280" y="1773360"/>
            <a:chExt cx="8383320" cy="4124160"/>
          </a:xfrm>
        </p:grpSpPr>
        <p:sp>
          <p:nvSpPr>
            <p:cNvPr id="121" name=""/>
            <p:cNvSpPr/>
            <p:nvPr/>
          </p:nvSpPr>
          <p:spPr>
            <a:xfrm>
              <a:off x="5368680" y="2669760"/>
              <a:ext cx="141840" cy="268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10880" y="3925080"/>
              <a:ext cx="852480" cy="8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237120" y="2849040"/>
              <a:ext cx="1278720" cy="251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094560" y="2669760"/>
              <a:ext cx="994680" cy="179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52720" y="2669760"/>
              <a:ext cx="710280" cy="71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53080" y="2490480"/>
              <a:ext cx="42624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95280" y="1773360"/>
              <a:ext cx="8383320" cy="4124160"/>
              <a:chOff x="395280" y="1773360"/>
              <a:chExt cx="8383320" cy="4124160"/>
            </a:xfrm>
          </p:grpSpPr>
          <p:sp>
            <p:nvSpPr>
              <p:cNvPr id="128" name=""/>
              <p:cNvSpPr/>
              <p:nvPr/>
            </p:nvSpPr>
            <p:spPr>
              <a:xfrm>
                <a:off x="4231800" y="5359680"/>
                <a:ext cx="3126240" cy="53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Times New Roman"/>
                  </a:rPr>
                  <a:t>Курсташлар белен аралаш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21520" y="3386880"/>
                <a:ext cx="2273400" cy="58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Times New Roman"/>
                  </a:rPr>
                  <a:t>Дәресле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21160" y="3386880"/>
                <a:ext cx="2273400" cy="58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Times New Roman"/>
                  </a:rPr>
                  <a:t>Аудио, видео язмала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63360" y="2131560"/>
                <a:ext cx="2415240" cy="58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Times New Roman"/>
                  </a:rPr>
                  <a:t>Компьтер программалар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63360" y="4462920"/>
                <a:ext cx="2273400" cy="58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t-RU" sz="1400" spc="-1" strike="noStrike">
                    <a:solidFill>
                      <a:srgbClr val="000000"/>
                    </a:solidFill>
                    <a:latin typeface="Times New Roman"/>
                  </a:rPr>
                  <a:t>метод. рекомедациялә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395280" y="1773360"/>
                <a:ext cx="5541120" cy="4124160"/>
                <a:chOff x="395280" y="1773360"/>
                <a:chExt cx="5541120" cy="41241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5280" y="5359680"/>
                  <a:ext cx="3126240" cy="537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t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Укытучы белән узара эшчәнле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79320" y="4462920"/>
                  <a:ext cx="2415600" cy="537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t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Контроль эшләр, тестла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79320" y="2263320"/>
                  <a:ext cx="2273400" cy="58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t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Интернет ресурслары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79320" y="3386880"/>
                  <a:ext cx="2273400" cy="58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t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Телеконференциялә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3237120" y="1773360"/>
                  <a:ext cx="2699280" cy="1075680"/>
                  <a:chOff x="3237120" y="1773360"/>
                  <a:chExt cx="2699280" cy="10756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3237120" y="1773360"/>
                    <a:ext cx="2557800" cy="1075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521160" y="1952280"/>
                    <a:ext cx="2415240" cy="89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tt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Дистанцион белем алу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1" name=""/>
            <p:cNvSpPr/>
            <p:nvPr/>
          </p:nvSpPr>
          <p:spPr>
            <a:xfrm>
              <a:off x="4800240" y="284904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510880" y="2490480"/>
              <a:ext cx="852480" cy="8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4920" y="3745800"/>
              <a:ext cx="42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 txBox="1"/>
          <p:nvPr/>
        </p:nvSpPr>
        <p:spPr>
          <a:xfrm>
            <a:off x="611280" y="620640"/>
            <a:ext cx="79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Кейс- технология һәм челтәр аша белем алу модел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</p:spTree>
  </p:cSld>
  <p:transition advTm="20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2:37:41Z</dcterms:created>
  <dc:creator>User</dc:creator>
  <dc:description/>
  <dc:language>en-US</dc:language>
  <cp:lastModifiedBy>Гульназ</cp:lastModifiedBy>
  <dcterms:modified xsi:type="dcterms:W3CDTF">2009-08-13T05:52:49Z</dcterms:modified>
  <cp:revision>6</cp:revision>
  <dc:subject/>
  <dc:title>Слайд 1</dc:title>
</cp:coreProperties>
</file>