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7D2-488C-45BE-9D5E-18382866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EF5-35EF-438C-89F8-57E8828A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985-B720-4EEC-9F32-2C52C568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B01-92C2-4D58-9296-5F531D33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B99BE-E26F-454B-93B8-73C9D489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53957-C4EF-4C23-A6E0-BB9D7D2E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D0FFA-AA91-4883-9760-ECA7AC47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20F3C-F220-4A4E-9205-E9E985C8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F57A2-C5EB-4DCB-9BBB-20E96230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B57D8-4860-43F7-9D17-91C9E8C8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729EC-55E6-4A87-AB22-0E5C9367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8A2-00CF-46DE-BFF4-9EBAD092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C4EC7-AB8D-42DB-9FF0-C453A0F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B1A8E-678B-4537-998A-F09DBE39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DAF63-B194-401D-A6E7-0C624D5D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D2CF0-400E-4760-A37F-2B9E4456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62874-B8FF-406F-B382-47F56B03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90B-7700-4C3C-8590-E5206F37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E8A-F5E4-45CD-A25E-6AE3A9D3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D25-E6C8-4908-A697-9124D4A8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5AF-3B51-4BFD-ABCD-F4860B24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F20-6DBB-44A0-8843-E05957E3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E52-DC89-4BE0-A408-DAF84A16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CD2-5C23-4828-9B28-82FD6B9F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8B5F-3304-4A8B-80AA-40FBD25CA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45C-BC57-4AAD-BE15-135B2E215E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7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20908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здорового образа жизни у детей дошкольного возраст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2968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вый этап -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71680" y="128556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подобрать  методическую, научно- популярную литературу, иллюстративный материал по данной те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привлечение внимания педагогов, медицинских работников, родителей к проблеме оздоровительной работы с детьми дошкольного возрас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создание материальной баз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анализ внешних и внутренних  факторов, влияющих на здоровье воспитанн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динамика заболеваемости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торой этап – основной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57120" y="1285920"/>
            <a:ext cx="78865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Tahoma"/>
              </a:rPr>
              <a:t>проведение консультаций «Растим детей крепкими, здоровыми и жизнерадостными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ahoma"/>
              </a:rPr>
              <a:t>разработка комплекса мероприят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ahoma"/>
              </a:rPr>
              <a:t>разработка методических рекомендаций по формированию здорового образа жизни воспитанн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ahoma"/>
              </a:rPr>
              <a:t>организация работы с родител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ahoma"/>
              </a:rPr>
              <a:t>организация сотрудничества с объектами социу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ретий этап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ведения праздников «День здоровья», «Летние олимпийские игры» и т. д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Анализ результативности: анкетирование, психолого- педагогические наблю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Анализ результатов динамики заболеваемости воспитанн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орректировка дальнейшей работы с семьей по сохранению и укреплению здоровья дошкольн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851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День открытых дверей «Использование физкультминуток на занятиях», «Закаливающие мероприятия в ДОУ».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Педсовет «Использование здоровьесберегающих технологий в образовательном процессе».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 Спортивный праздник « Папа, мама, я – спортивная семья».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Сетевое сообщество . Консультация для родителей « Здоровый образ жизн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2960" y="214200"/>
            <a:ext cx="78516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общение опыта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нформационные источ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85880" y="1714320"/>
            <a:ext cx="78580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программа  «Основы безопасности детей дошкольного возраста» Р. Стеркиной, Н.Авдеевой, О.Князев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программа «Я и мое тело» С.Е. Шукшин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«Игровой массаж» – методики А. Уманской и          К. Диней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региональная программа физического и валеологического развития детей дошкольного возраста «Азбука здоровья» Т. Э. Токаев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программа развития и воспитания детей в детском саду под редакцией Логиновой В.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1714680"/>
            <a:ext cx="8229600" cy="30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4"/>
          <p:cNvSpPr/>
          <p:nvPr/>
        </p:nvSpPr>
        <p:spPr>
          <a:xfrm>
            <a:off x="826920" y="83664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"Я не боюсь еще и еще раз сказать: забота о здоровье - важнейшая работа воспитател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От жизнерадостности, бодрости детей зависит их духовная жизнь, мировоззрение, умствен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развитие, прочность знаний, вера в свои силы."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В. С у х о м л и н с к и 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Овал 50"/>
          <p:cNvSpPr/>
          <p:nvPr/>
        </p:nvSpPr>
        <p:spPr>
          <a:xfrm>
            <a:off x="6012000" y="5373720"/>
            <a:ext cx="2376360" cy="1079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a00"/>
                </a:solidFill>
                <a:latin typeface="Tahoma"/>
              </a:rPr>
              <a:t>Информационно – просветительская рабо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Стрелка вниз 44"/>
          <p:cNvSpPr/>
          <p:nvPr/>
        </p:nvSpPr>
        <p:spPr>
          <a:xfrm>
            <a:off x="6372360" y="3573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Стрелка вниз 37"/>
          <p:cNvSpPr/>
          <p:nvPr/>
        </p:nvSpPr>
        <p:spPr>
          <a:xfrm>
            <a:off x="2987640" y="1341360"/>
            <a:ext cx="216000" cy="57492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Стрелка вниз 42"/>
          <p:cNvSpPr/>
          <p:nvPr/>
        </p:nvSpPr>
        <p:spPr>
          <a:xfrm>
            <a:off x="6156360" y="1413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Стрелка вниз 45"/>
          <p:cNvSpPr/>
          <p:nvPr/>
        </p:nvSpPr>
        <p:spPr>
          <a:xfrm>
            <a:off x="6588000" y="2637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Стрелка вниз 41"/>
          <p:cNvSpPr/>
          <p:nvPr/>
        </p:nvSpPr>
        <p:spPr>
          <a:xfrm>
            <a:off x="2843280" y="4653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Стрелка вниз 40"/>
          <p:cNvSpPr/>
          <p:nvPr/>
        </p:nvSpPr>
        <p:spPr>
          <a:xfrm>
            <a:off x="2700360" y="3789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Стрелка вниз 38"/>
          <p:cNvSpPr/>
          <p:nvPr/>
        </p:nvSpPr>
        <p:spPr>
          <a:xfrm>
            <a:off x="2987640" y="2708280"/>
            <a:ext cx="216000" cy="4334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500960" cy="692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а мероприятий, проводимых в МБДОУ «Д/с №16», направленных на укрепление и сохранение здоровья дет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2411280" y="836640"/>
            <a:ext cx="4392720" cy="72072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Лечебно – профилактиче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Прямоугольник 20"/>
          <p:cNvSpPr/>
          <p:nvPr/>
        </p:nvSpPr>
        <p:spPr>
          <a:xfrm>
            <a:off x="1979640" y="3213000"/>
            <a:ext cx="2160720" cy="5763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С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34"/>
          <p:cNvSpPr/>
          <p:nvPr/>
        </p:nvSpPr>
        <p:spPr>
          <a:xfrm>
            <a:off x="2050920" y="1916280"/>
            <a:ext cx="2160720" cy="86508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300"/>
                </a:solidFill>
                <a:latin typeface="Tahoma"/>
              </a:rPr>
              <a:t>Общие режимные момен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35"/>
          <p:cNvSpPr/>
          <p:nvPr/>
        </p:nvSpPr>
        <p:spPr>
          <a:xfrm>
            <a:off x="1835280" y="4221000"/>
            <a:ext cx="1584360" cy="5763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ahoma"/>
              </a:rPr>
              <a:t>Н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Прямоугольник 36"/>
          <p:cNvSpPr/>
          <p:nvPr/>
        </p:nvSpPr>
        <p:spPr>
          <a:xfrm>
            <a:off x="2268360" y="5084640"/>
            <a:ext cx="1582920" cy="64800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Прогул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Стрелка вниз 43"/>
          <p:cNvSpPr/>
          <p:nvPr/>
        </p:nvSpPr>
        <p:spPr>
          <a:xfrm>
            <a:off x="6875640" y="4941720"/>
            <a:ext cx="217440" cy="432000"/>
          </a:xfrm>
          <a:prstGeom prst="downArrow">
            <a:avLst>
              <a:gd name="adj1" fmla="val 50000"/>
              <a:gd name="adj2" fmla="val 5003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Овал 46"/>
          <p:cNvSpPr/>
          <p:nvPr/>
        </p:nvSpPr>
        <p:spPr>
          <a:xfrm>
            <a:off x="5292720" y="1844640"/>
            <a:ext cx="2087640" cy="93672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Санитарно-гигиенические услов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Овал 47"/>
          <p:cNvSpPr/>
          <p:nvPr/>
        </p:nvSpPr>
        <p:spPr>
          <a:xfrm>
            <a:off x="5003640" y="4005360"/>
            <a:ext cx="2376720" cy="12240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ahoma"/>
              </a:rPr>
              <a:t>Использование витаминизированных продуктов, чистой питьевой во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Овал 48"/>
          <p:cNvSpPr/>
          <p:nvPr/>
        </p:nvSpPr>
        <p:spPr>
          <a:xfrm>
            <a:off x="5796000" y="3068640"/>
            <a:ext cx="2089080" cy="72072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ahoma"/>
              </a:rPr>
              <a:t>Мебель по росту дет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трелка влево 110"/>
          <p:cNvSpPr/>
          <p:nvPr/>
        </p:nvSpPr>
        <p:spPr>
          <a:xfrm>
            <a:off x="6948360" y="587700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Стрелка влево 109"/>
          <p:cNvSpPr/>
          <p:nvPr/>
        </p:nvSpPr>
        <p:spPr>
          <a:xfrm rot="16020000">
            <a:off x="8076240" y="5485320"/>
            <a:ext cx="426960" cy="21276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Стрелка влево 106"/>
          <p:cNvSpPr/>
          <p:nvPr/>
        </p:nvSpPr>
        <p:spPr>
          <a:xfrm rot="10800000">
            <a:off x="6659280" y="5157720"/>
            <a:ext cx="360360" cy="216000"/>
          </a:xfrm>
          <a:prstGeom prst="leftArrow">
            <a:avLst>
              <a:gd name="adj1" fmla="val 50000"/>
              <a:gd name="adj2" fmla="val 49973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Стрелка влево 105"/>
          <p:cNvSpPr/>
          <p:nvPr/>
        </p:nvSpPr>
        <p:spPr>
          <a:xfrm>
            <a:off x="6875640" y="4221000"/>
            <a:ext cx="547560" cy="216000"/>
          </a:xfrm>
          <a:prstGeom prst="leftArrow">
            <a:avLst>
              <a:gd name="adj1" fmla="val 50000"/>
              <a:gd name="adj2" fmla="val 49961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Стрелка вниз 84"/>
          <p:cNvSpPr/>
          <p:nvPr/>
        </p:nvSpPr>
        <p:spPr>
          <a:xfrm>
            <a:off x="6659640" y="1268280"/>
            <a:ext cx="216000" cy="28908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Стрелка вниз 83"/>
          <p:cNvSpPr/>
          <p:nvPr/>
        </p:nvSpPr>
        <p:spPr>
          <a:xfrm>
            <a:off x="3635280" y="4653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Стрелка вниз 77"/>
          <p:cNvSpPr/>
          <p:nvPr/>
        </p:nvSpPr>
        <p:spPr>
          <a:xfrm>
            <a:off x="3924360" y="3789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Стрелка вниз 87"/>
          <p:cNvSpPr/>
          <p:nvPr/>
        </p:nvSpPr>
        <p:spPr>
          <a:xfrm>
            <a:off x="6948360" y="549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Стрелка вниз 52"/>
          <p:cNvSpPr/>
          <p:nvPr/>
        </p:nvSpPr>
        <p:spPr>
          <a:xfrm>
            <a:off x="4140360" y="62064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Стрелка вниз 55"/>
          <p:cNvSpPr/>
          <p:nvPr/>
        </p:nvSpPr>
        <p:spPr>
          <a:xfrm>
            <a:off x="1908000" y="62064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1619280" y="189000"/>
            <a:ext cx="5761080" cy="57600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Физкультурно – оздоровительная  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Стрелка вниз 51"/>
          <p:cNvSpPr/>
          <p:nvPr/>
        </p:nvSpPr>
        <p:spPr>
          <a:xfrm>
            <a:off x="6659640" y="1916280"/>
            <a:ext cx="216000" cy="4330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Стрелка вниз 53"/>
          <p:cNvSpPr/>
          <p:nvPr/>
        </p:nvSpPr>
        <p:spPr>
          <a:xfrm>
            <a:off x="3564000" y="2492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Стрелка вниз 54"/>
          <p:cNvSpPr/>
          <p:nvPr/>
        </p:nvSpPr>
        <p:spPr>
          <a:xfrm>
            <a:off x="4140360" y="1916280"/>
            <a:ext cx="215640" cy="4330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Стрелка вниз 56"/>
          <p:cNvSpPr/>
          <p:nvPr/>
        </p:nvSpPr>
        <p:spPr>
          <a:xfrm>
            <a:off x="3564000" y="321300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Стрелка вниз 57"/>
          <p:cNvSpPr/>
          <p:nvPr/>
        </p:nvSpPr>
        <p:spPr>
          <a:xfrm>
            <a:off x="3564000" y="1268280"/>
            <a:ext cx="216000" cy="28908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Стрелка вниз 58"/>
          <p:cNvSpPr/>
          <p:nvPr/>
        </p:nvSpPr>
        <p:spPr>
          <a:xfrm>
            <a:off x="1258920" y="1484280"/>
            <a:ext cx="217440" cy="432000"/>
          </a:xfrm>
          <a:prstGeom prst="downArrow">
            <a:avLst>
              <a:gd name="adj1" fmla="val 50000"/>
              <a:gd name="adj2" fmla="val 5003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Блок-схема: альтернативный процесс 59"/>
          <p:cNvSpPr/>
          <p:nvPr/>
        </p:nvSpPr>
        <p:spPr>
          <a:xfrm>
            <a:off x="826920" y="1052640"/>
            <a:ext cx="1657440" cy="57600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ff"/>
                </a:solidFill>
                <a:latin typeface="Tahoma"/>
              </a:rPr>
              <a:t>Диагностическа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Блок-схема: альтернативный процесс 60"/>
          <p:cNvSpPr/>
          <p:nvPr/>
        </p:nvSpPr>
        <p:spPr>
          <a:xfrm>
            <a:off x="3276720" y="1052640"/>
            <a:ext cx="1726920" cy="36036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Двигатель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Блок-схема: альтернативный процесс 61"/>
          <p:cNvSpPr/>
          <p:nvPr/>
        </p:nvSpPr>
        <p:spPr>
          <a:xfrm>
            <a:off x="3348000" y="2924280"/>
            <a:ext cx="1511280" cy="43344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НОД на улице и в зал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Блок-схема: альтернативный процесс 62"/>
          <p:cNvSpPr/>
          <p:nvPr/>
        </p:nvSpPr>
        <p:spPr>
          <a:xfrm>
            <a:off x="3276720" y="2349360"/>
            <a:ext cx="2232000" cy="35892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Утренняя гимнасти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Блок-схема: альтернативный процесс 63"/>
          <p:cNvSpPr/>
          <p:nvPr/>
        </p:nvSpPr>
        <p:spPr>
          <a:xfrm>
            <a:off x="3132000" y="1557360"/>
            <a:ext cx="2376720" cy="57636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Подвижные игры, спортивные упражн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Блок-схема: альтернативный процесс 64"/>
          <p:cNvSpPr/>
          <p:nvPr/>
        </p:nvSpPr>
        <p:spPr>
          <a:xfrm>
            <a:off x="611280" y="5661000"/>
            <a:ext cx="1512720" cy="57636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Осмотр педиат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Блок-схема: альтернативный процесс 72"/>
          <p:cNvSpPr/>
          <p:nvPr/>
        </p:nvSpPr>
        <p:spPr>
          <a:xfrm>
            <a:off x="3132000" y="4221000"/>
            <a:ext cx="2160720" cy="64800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Гимнастика – пробуждение после дневного с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Блок-схема: альтернативный процесс 73"/>
          <p:cNvSpPr/>
          <p:nvPr/>
        </p:nvSpPr>
        <p:spPr>
          <a:xfrm>
            <a:off x="6084720" y="981000"/>
            <a:ext cx="1656000" cy="36036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300"/>
                </a:solidFill>
                <a:latin typeface="Tahoma"/>
              </a:rPr>
              <a:t>Закали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Блок-схема: альтернативный процесс 74"/>
          <p:cNvSpPr/>
          <p:nvPr/>
        </p:nvSpPr>
        <p:spPr>
          <a:xfrm>
            <a:off x="2771640" y="3645000"/>
            <a:ext cx="1871640" cy="36036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Физкультминут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Стрелка вниз 75"/>
          <p:cNvSpPr/>
          <p:nvPr/>
        </p:nvSpPr>
        <p:spPr>
          <a:xfrm>
            <a:off x="1258920" y="5229360"/>
            <a:ext cx="217440" cy="431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Стрелка вниз 76"/>
          <p:cNvSpPr/>
          <p:nvPr/>
        </p:nvSpPr>
        <p:spPr>
          <a:xfrm>
            <a:off x="900000" y="2708280"/>
            <a:ext cx="216000" cy="4334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Стрелка вниз 78"/>
          <p:cNvSpPr/>
          <p:nvPr/>
        </p:nvSpPr>
        <p:spPr>
          <a:xfrm>
            <a:off x="1403280" y="3500280"/>
            <a:ext cx="216000" cy="4334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Стрелка вниз 79"/>
          <p:cNvSpPr/>
          <p:nvPr/>
        </p:nvSpPr>
        <p:spPr>
          <a:xfrm>
            <a:off x="6588000" y="2924280"/>
            <a:ext cx="216000" cy="4334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Стрелка вниз 80"/>
          <p:cNvSpPr/>
          <p:nvPr/>
        </p:nvSpPr>
        <p:spPr>
          <a:xfrm>
            <a:off x="755640" y="4365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Стрелка вниз 81"/>
          <p:cNvSpPr/>
          <p:nvPr/>
        </p:nvSpPr>
        <p:spPr>
          <a:xfrm>
            <a:off x="7812000" y="2924280"/>
            <a:ext cx="216000" cy="4334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Стрелка вниз 82"/>
          <p:cNvSpPr/>
          <p:nvPr/>
        </p:nvSpPr>
        <p:spPr>
          <a:xfrm>
            <a:off x="5651640" y="4724280"/>
            <a:ext cx="215640" cy="43344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Стрелка вниз 85"/>
          <p:cNvSpPr/>
          <p:nvPr/>
        </p:nvSpPr>
        <p:spPr>
          <a:xfrm>
            <a:off x="5796000" y="4149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Стрелка вниз 86"/>
          <p:cNvSpPr/>
          <p:nvPr/>
        </p:nvSpPr>
        <p:spPr>
          <a:xfrm>
            <a:off x="4140360" y="5516640"/>
            <a:ext cx="215640" cy="43344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Стрелка вниз 88"/>
          <p:cNvSpPr/>
          <p:nvPr/>
        </p:nvSpPr>
        <p:spPr>
          <a:xfrm>
            <a:off x="7596360" y="3716280"/>
            <a:ext cx="215640" cy="43344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Блок-схема: альтернативный процесс 90"/>
          <p:cNvSpPr/>
          <p:nvPr/>
        </p:nvSpPr>
        <p:spPr>
          <a:xfrm>
            <a:off x="539640" y="3933720"/>
            <a:ext cx="1511280" cy="57492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Антропометрия – 2 раза в г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Блок-схема: альтернативный процесс 91"/>
          <p:cNvSpPr/>
          <p:nvPr/>
        </p:nvSpPr>
        <p:spPr>
          <a:xfrm>
            <a:off x="324000" y="1916280"/>
            <a:ext cx="2735280" cy="100800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ff"/>
                </a:solidFill>
                <a:latin typeface="Tahoma"/>
              </a:rPr>
              <a:t>Диагностика физических способностей, умений и навыков 2 раза в г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Блок-схема: альтернативный процесс 92"/>
          <p:cNvSpPr/>
          <p:nvPr/>
        </p:nvSpPr>
        <p:spPr>
          <a:xfrm>
            <a:off x="250920" y="4797360"/>
            <a:ext cx="1512720" cy="57636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00"/>
                </a:solidFill>
                <a:latin typeface="Tahoma"/>
              </a:rPr>
              <a:t>Медосмотр врачами специалистами – 1 раз в год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Блок-схема: альтернативный процесс 93"/>
          <p:cNvSpPr/>
          <p:nvPr/>
        </p:nvSpPr>
        <p:spPr>
          <a:xfrm>
            <a:off x="250920" y="3141720"/>
            <a:ext cx="1512720" cy="57456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Медицинска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Блок-схема: альтернативный процесс 94"/>
          <p:cNvSpPr/>
          <p:nvPr/>
        </p:nvSpPr>
        <p:spPr>
          <a:xfrm>
            <a:off x="2987640" y="5084640"/>
            <a:ext cx="2160720" cy="64800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Спортивные праздники и досуг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Блок-схема: альтернативный процесс 95"/>
          <p:cNvSpPr/>
          <p:nvPr/>
        </p:nvSpPr>
        <p:spPr>
          <a:xfrm>
            <a:off x="2987640" y="5950080"/>
            <a:ext cx="2089080" cy="57456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Коррекционные гимнаст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Блок-схема: альтернативный процесс 96"/>
          <p:cNvSpPr/>
          <p:nvPr/>
        </p:nvSpPr>
        <p:spPr>
          <a:xfrm>
            <a:off x="6156360" y="1557360"/>
            <a:ext cx="2808360" cy="50328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300"/>
                </a:solidFill>
                <a:latin typeface="Tahoma"/>
              </a:rPr>
              <a:t>Воздушный режим в помещен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Блок-схема: альтернативный процесс 97"/>
          <p:cNvSpPr/>
          <p:nvPr/>
        </p:nvSpPr>
        <p:spPr>
          <a:xfrm>
            <a:off x="6156360" y="2349360"/>
            <a:ext cx="2736720" cy="79236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300"/>
                </a:solidFill>
                <a:latin typeface="Tahoma"/>
              </a:rPr>
              <a:t>Одежда в группе и на улице (из натуральных тканей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Блок-схема: альтернативный процесс 98"/>
          <p:cNvSpPr/>
          <p:nvPr/>
        </p:nvSpPr>
        <p:spPr>
          <a:xfrm>
            <a:off x="7020000" y="5013360"/>
            <a:ext cx="1655640" cy="50328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ahoma"/>
              </a:rPr>
              <a:t>Обширное умы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Блок-схема: альтернативный процесс 99"/>
          <p:cNvSpPr/>
          <p:nvPr/>
        </p:nvSpPr>
        <p:spPr>
          <a:xfrm>
            <a:off x="5292720" y="5157720"/>
            <a:ext cx="1511280" cy="50328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ahoma"/>
              </a:rPr>
              <a:t>Облегчённая одеж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Блок-схема: альтернативный процесс 100"/>
          <p:cNvSpPr/>
          <p:nvPr/>
        </p:nvSpPr>
        <p:spPr>
          <a:xfrm>
            <a:off x="5435640" y="4581360"/>
            <a:ext cx="1512720" cy="36036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ahoma"/>
              </a:rPr>
              <a:t>Сон с доступом воздух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Блок-схема: альтернативный процесс 101"/>
          <p:cNvSpPr/>
          <p:nvPr/>
        </p:nvSpPr>
        <p:spPr>
          <a:xfrm>
            <a:off x="5364000" y="3933720"/>
            <a:ext cx="1511640" cy="43200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ahoma"/>
              </a:rPr>
              <a:t>Гимнастика на улиц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Блок-схема: альтернативный процесс 102"/>
          <p:cNvSpPr/>
          <p:nvPr/>
        </p:nvSpPr>
        <p:spPr>
          <a:xfrm>
            <a:off x="7164360" y="4149720"/>
            <a:ext cx="1800360" cy="50328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ahoma"/>
              </a:rPr>
              <a:t>Воздушные ван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Блок-схема: альтернативный процесс 103"/>
          <p:cNvSpPr/>
          <p:nvPr/>
        </p:nvSpPr>
        <p:spPr>
          <a:xfrm>
            <a:off x="7164360" y="3357720"/>
            <a:ext cx="1728720" cy="57600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ahoma"/>
              </a:rPr>
              <a:t>Закаливающие процед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Блок-схема: альтернативный процесс 104"/>
          <p:cNvSpPr/>
          <p:nvPr/>
        </p:nvSpPr>
        <p:spPr>
          <a:xfrm>
            <a:off x="5148360" y="3357720"/>
            <a:ext cx="1871640" cy="35856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300"/>
                </a:solidFill>
                <a:latin typeface="Tahoma"/>
              </a:rPr>
              <a:t>Полоскание горл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Стрелка влево 108"/>
          <p:cNvSpPr/>
          <p:nvPr/>
        </p:nvSpPr>
        <p:spPr>
          <a:xfrm>
            <a:off x="5508720" y="1989000"/>
            <a:ext cx="546120" cy="287640"/>
          </a:xfrm>
          <a:prstGeom prst="leftArrow">
            <a:avLst>
              <a:gd name="adj1" fmla="val 50000"/>
              <a:gd name="adj2" fmla="val 49953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Блок-схема: альтернативный процесс 111"/>
          <p:cNvSpPr/>
          <p:nvPr/>
        </p:nvSpPr>
        <p:spPr>
          <a:xfrm>
            <a:off x="7164360" y="5805360"/>
            <a:ext cx="1800360" cy="50328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ahoma"/>
              </a:rPr>
              <a:t>Солнечные ван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Блок-схема: альтернативный процесс 112"/>
          <p:cNvSpPr/>
          <p:nvPr/>
        </p:nvSpPr>
        <p:spPr>
          <a:xfrm>
            <a:off x="5292720" y="5950080"/>
            <a:ext cx="1655640" cy="431640"/>
          </a:xfrm>
          <a:prstGeom prst="flowChartAlternate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ahoma"/>
              </a:rPr>
              <a:t>Ходьба босик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Актуальнос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280" y="3573000"/>
            <a:ext cx="821844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95280" y="3429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395280" y="1628640"/>
            <a:ext cx="82296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ahoma"/>
              </a:rPr>
              <a:t>Оздоровительная работа в последнее время приобретает особую актуальность, что связано со стабильной тенденцией ухудшения здоровья всего населения России, в том числе детей. По данным НИИ социальной гигиены и организации  здравоохранения, в России только 40% детей можно считать здоров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Цель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ahoma"/>
              </a:rPr>
              <a:t>Сформировать у дошкольников основы здорового образа жизни, добиться осознанного выполнения правил здоровьесбережения и ответственного отношения как к собственному здоровью так и здоровью окружающ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99680" y="1000080"/>
            <a:ext cx="8286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ahoma"/>
              </a:rPr>
              <a:t>Проанализировать внешние и внутренние факторы, влияющие на здоровье воспитанн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ahoma"/>
              </a:rPr>
              <a:t>Сформировать у детей адекватное представление об окружающем человеке (о строении собственного тел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ahoma"/>
              </a:rPr>
              <a:t>Научить «слушать» и «слышать» свой организ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ahoma"/>
              </a:rPr>
              <a:t>Осознать самоценность своей и ценность жизни другого чело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ahoma"/>
              </a:rPr>
              <a:t>Формировать потребность в физическом и нравственном самосовершенствовании, в здоровом образе жизн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ahoma"/>
              </a:rPr>
              <a:t>Использовать здоровьесберегающие технологии в образовательном процесс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 быть?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- создать необходимые условия для организации деятельности ДОУ по формированию у детей основ здорового образа жизн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- скоординировать деятельность по формированию здорового образа жизни у детей между родителями, сотрудниками ДО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- заинтересовать родителей  проблемой укрепления и сохранения здоровья ребён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- совершенствовать исследовательскую деятельность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астники 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воспитатели ДО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администр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де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роди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читель – логопе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узыкальный руководител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едицинская сестр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нструктор по физическому  развит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7:24:27Z</dcterms:created>
  <dc:creator>user</dc:creator>
  <dc:description/>
  <dc:language>en-US</dc:language>
  <cp:lastModifiedBy>User</cp:lastModifiedBy>
  <dcterms:modified xsi:type="dcterms:W3CDTF">2013-02-27T16:48:56Z</dcterms:modified>
  <cp:revision>55</cp:revision>
  <dc:subject/>
  <dc:title>«Хочу расти здоровым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