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wmf" ContentType="image/x-wmf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F7A7-2350-4B50-9369-A128BE14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0D8-D3EB-4B6D-8456-C189F1FA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539B-29D3-46F4-84E2-3D21AEEE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5FF4-927A-4A3D-939C-55CD518E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0A71-1D17-42B4-BBEF-77C730C4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311-CA34-4A71-958E-8329288D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4C65-0B2E-4B1D-92E7-1566257C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123-D1E3-41D1-AE6F-34E7B430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805-99D3-4C01-8627-008D434F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4D9F-7617-4817-A522-705B12E2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ED9-F720-4940-9853-F506F43A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EB42-6A99-4EBA-B4FA-4F140F5F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C31F-2500-45F0-83EC-30FCEAEEE6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539640" y="1341360"/>
            <a:ext cx="777744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Квадратичная функция, её свойства и график</a:t>
            </a:r>
            <a:endParaRPr b="1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468360" y="404280"/>
            <a:ext cx="82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ллельный перенос график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=(x-m)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доль оси 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203720" cy="4111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0849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908000" y="620640"/>
            <a:ext cx="597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вадратное уравнение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95280" y="1844640"/>
            <a:ext cx="8280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авнени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bx+c=0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0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азывается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вадратным уравнением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258920" y="2224080"/>
            <a:ext cx="4108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776760" y="2224080"/>
          <a:ext cx="4108320" cy="2409840"/>
        </p:xfrm>
        <a:graphic>
          <a:graphicData uri="http://schemas.openxmlformats.org/drawingml/2006/table">
            <a:tbl>
              <a:tblPr/>
              <a:tblGrid>
                <a:gridCol w="4108320"/>
              </a:tblGrid>
              <a:tr h="24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Picture 19" descr="кв1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1476360" y="3213000"/>
            <a:ext cx="60310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468360" y="455040"/>
            <a:ext cx="8136000" cy="225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того чтобы числа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ыли корнями уравнения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x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+ 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+ 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= 0 (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≠ 0), необходимо и достаточно, чтобы выполнялись равенства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-12852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college.ru/mathematics/courses/function/content/javagifs/63167087914832-10.gif"/>
          <p:cNvPicPr/>
          <p:nvPr/>
        </p:nvPicPr>
        <p:blipFill>
          <a:blip r:embed="rId1">
            <a:alphaModFix amt="44000"/>
          </a:blip>
          <a:stretch/>
        </p:blipFill>
        <p:spPr>
          <a:xfrm>
            <a:off x="3059280" y="2852640"/>
            <a:ext cx="2663640" cy="237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4351320" y="354348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Rectangle 17"/>
          <p:cNvSpPr/>
          <p:nvPr/>
        </p:nvSpPr>
        <p:spPr>
          <a:xfrm>
            <a:off x="-181080" y="3822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2556000" y="189000"/>
            <a:ext cx="4628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еорема Виета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484360" y="404640"/>
            <a:ext cx="396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ечение конуса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02020301"/>
          <p:cNvPicPr/>
          <p:nvPr/>
        </p:nvPicPr>
        <p:blipFill>
          <a:blip r:embed="rId1"/>
          <a:stretch/>
        </p:blipFill>
        <p:spPr>
          <a:xfrm>
            <a:off x="1187280" y="1268280"/>
            <a:ext cx="6696360" cy="418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324000" y="5805360"/>
            <a:ext cx="8640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арабола является одним из конических сечений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11280" y="1916280"/>
            <a:ext cx="806436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аллистика – наука о движении снарядов, мин, пуль, неуправляемых ракет при стрельбе (пуске). Основные разделы баллистики: внутренняя баллистика и внешняя баллистика. Исследованием реальных процессов, происходящих при горении пороха, движении снарядов, ракет (или их моделей) и т. д., занимается эксперимент баллистики. 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68360" y="476280"/>
            <a:ext cx="7777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рименение квадратичной функции в баллистике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пр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95280" y="3284640"/>
            <a:ext cx="8317080" cy="2789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755640" y="333360"/>
            <a:ext cx="6912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езависимость вертикального и горизонтального движений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5"/>
              <p:cNvSpPr txBox="1"/>
              <p:nvPr/>
            </p:nvSpPr>
            <p:spPr>
              <a:xfrm>
                <a:off x="1835280" y="1484280"/>
                <a:ext cx="460836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tg</m:t>
                    </m:r>
                    <m:r>
                      <m:t xml:space="preserve">α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4360" y="404640"/>
            <a:ext cx="7775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аллистическая траектория снаряда в отсутствие сопротивления воздуха при стрельбе под разным углом к горизонту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7956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42920" y="404640"/>
            <a:ext cx="6913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Баллистическое движение в атмосфере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95280" y="1773360"/>
            <a:ext cx="842472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еальное движение тел в земной атмосфере происходит по баллистической траектории, существенно отличающейся от параболистической из-за сопротивления воздуха. При увеличении скорости движения тела сила сопротивления воздуха возрастает. Чем больше скорость тела, тем больше отличие баллистической траектории от параболы.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24000" y="476280"/>
            <a:ext cx="8569080" cy="247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тличие реальной баллистической кривой от параболы при различной скорости вылета: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Б12345677788"/>
          <p:cNvPicPr/>
          <p:nvPr/>
        </p:nvPicPr>
        <p:blipFill>
          <a:blip r:embed="rId1"/>
          <a:stretch/>
        </p:blipFill>
        <p:spPr>
          <a:xfrm>
            <a:off x="3995640" y="2205000"/>
            <a:ext cx="4419720" cy="4248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324000" y="2708280"/>
            <a:ext cx="252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) снаряда =100 м/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) пули = 630 м/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79280" y="1052640"/>
            <a:ext cx="3961080" cy="39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вадратичной функцией называется функция, которую можно задать формулой вида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x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езависимая переменна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екоторые числа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078160" y="4941720"/>
            <a:ext cx="3033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фик - парабол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02020301"/>
          <p:cNvPicPr/>
          <p:nvPr/>
        </p:nvPicPr>
        <p:blipFill>
          <a:blip r:embed="rId1"/>
          <a:stretch/>
        </p:blipFill>
        <p:spPr>
          <a:xfrm>
            <a:off x="4356000" y="907920"/>
            <a:ext cx="43214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3139200" y="476280"/>
            <a:ext cx="254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x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1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60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116000" y="549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826920" y="620640"/>
            <a:ext cx="7345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йства функци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=a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bx+c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вид её графика определяются значениями коэффициент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дискриминанта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 = b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4ac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image034"/>
          <p:cNvPicPr/>
          <p:nvPr/>
        </p:nvPicPr>
        <p:blipFill>
          <a:blip r:embed="rId1"/>
          <a:stretch/>
        </p:blipFill>
        <p:spPr>
          <a:xfrm>
            <a:off x="1476360" y="1989000"/>
            <a:ext cx="57610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187280" y="620640"/>
            <a:ext cx="7128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троение графика квадратичной функци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95280" y="1335960"/>
            <a:ext cx="8307360" cy="41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айти координаты вершины параболы и отметить их в координатной плоскости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строить еще несколько точек, принадлежащих параболе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оединить отмеченные точки плавной линией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ординаты вершины параболы определяются по формулам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10"/>
              <p:cNvSpPr txBox="1"/>
              <p:nvPr/>
            </p:nvSpPr>
            <p:spPr>
              <a:xfrm>
                <a:off x="2797200" y="4799160"/>
                <a:ext cx="1522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image048"/>
          <p:cNvPicPr/>
          <p:nvPr/>
        </p:nvPicPr>
        <p:blipFill>
          <a:blip r:embed="rId1"/>
          <a:stretch/>
        </p:blipFill>
        <p:spPr>
          <a:xfrm>
            <a:off x="4716360" y="4941720"/>
            <a:ext cx="3168720" cy="947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image047"/>
          <p:cNvPicPr/>
          <p:nvPr/>
        </p:nvPicPr>
        <p:blipFill>
          <a:blip r:embed="rId2"/>
          <a:stretch/>
        </p:blipFill>
        <p:spPr>
          <a:xfrm>
            <a:off x="2411280" y="4941720"/>
            <a:ext cx="144000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468360" y="980640"/>
            <a:ext cx="8064360" cy="187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образование графиков функции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124000" y="3213000"/>
            <a:ext cx="5113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(x - m)</a:t>
            </a:r>
            <a:r>
              <a:rPr b="1" lang="en-US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4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900000" y="333360"/>
            <a:ext cx="7704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тяжение графика у = x</a:t>
            </a:r>
            <a:r>
              <a:rPr b="1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доль ос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4658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333360"/>
            <a:ext cx="85690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ллельный перенос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афика функции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 = ах</a:t>
            </a:r>
            <a:r>
              <a:rPr b="1" i="1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ль  ос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4007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24000" y="481680"/>
            <a:ext cx="8280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ллельный перенос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фика функци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 = ах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доль ос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1130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07:55:23Z</dcterms:created>
  <dc:creator>Ученик</dc:creator>
  <dc:description/>
  <dc:language>en-US</dc:language>
  <cp:lastModifiedBy>гульна</cp:lastModifiedBy>
  <dcterms:modified xsi:type="dcterms:W3CDTF">2012-01-18T05:37:54Z</dcterms:modified>
  <cp:revision>11</cp:revision>
  <dc:subject/>
  <dc:title>Слайд 1</dc:title>
</cp:coreProperties>
</file>