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1DD7-B985-4B80-976D-302ECA8FDA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D23A-FB5F-4166-9807-F072E745F1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529-9008-40FB-9DF0-FD2DEF86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5A5-D85A-4DF0-988D-FA164D6A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67F61-2F61-41D3-80DC-7AF868D8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246D5-E77E-4929-8140-D57D08FC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ACE07-EDBB-41C7-9C6B-A9E47570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A0970-7BE1-4A63-80E1-A768E7E2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1EEC0-9028-495A-AF73-A3C15864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F8586-B76F-4753-9002-F18B1818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92FAB-0BD8-478D-9A89-6B2E8C8F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71BB3-E9A5-4194-8621-1F389C6F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F476B-8BDE-469B-8F70-400F9F23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48265-B97F-4566-9212-71E43CE8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649-EFE1-4C81-9083-894D19D8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0C8DA-56E1-418A-9F32-3D9E3C00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CF78A-1518-434D-8D7E-12084A64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B969D-7FE5-4F7E-B52D-3D765718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9DC7E-D028-4738-9D16-F1121FB9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AC520-2E23-4F26-ACD0-58B3263A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1B9E1-9D4B-498D-AAA8-D66D4263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3741E-DF6E-4696-A953-30762393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41768-CE12-49F7-8A9E-00EDA69F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35988-FAF9-4917-B81C-89590E35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93C20-A8EE-4971-822D-047DDE01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8E9-D978-475E-B5AD-A0129660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7BB81-651E-4E0F-8022-AAA284A0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9A530-4225-467C-9B08-C0A386AD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5522A-8A9E-4536-8DFC-911C5CB2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4D3F0-448A-440C-9871-A31B0B8D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AD21A-61E2-48D7-BC43-EFCFA27B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3E812-8186-4F12-9343-0F7A0599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875F5-574B-4A81-A12C-9C776711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F3B18-D0FD-4BCC-9655-72E7A187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434BF-1130-4CE8-A872-256E21DE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633A1-31B9-478E-9905-2A8FAFF2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A5BB-D5B7-49B6-8A3D-A1426E6D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5DAED-3F8E-40DA-8B4A-9C529850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01505-B664-4DF3-97CA-FAFFC124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8720D-EAA4-4651-B03C-D842F334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B82E6-3DBB-4E3C-B634-E79FFC1D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53A64-13FB-44F8-ADB3-7615E22A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16B1F-BA67-4DDB-B021-2FD23285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7BD63-AD18-488F-82C5-BC2522A6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51894-A90C-400E-B621-6924119A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BAA8A-F8F0-48D4-9B50-1E0D9C7E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92E27-B979-4033-BFF5-6F5A1CC1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0C00-5E05-4F99-870B-F9B3EA61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11262-7553-4742-9575-C32CA1B8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AEEBD-BFA7-414B-A691-D252121D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EB42F-0696-43A0-AE99-9889E3D0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0E586-F09E-481D-A096-D890861E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7F1AC-9885-4BFC-912E-F2636B5E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B6F7-4CAA-4C65-A451-CBF23836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2F30-FF0E-4091-8870-A1E35480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847F-0418-4B89-A4D0-9AC085A9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9C8D-C1C8-4615-B82F-6342B1A6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21DC-E708-474C-8073-2A4B5099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9C1-2631-47B7-86E0-AC329C7D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6F60-A3FB-449B-913A-B79CFDD7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FFF8-338C-407E-BD74-2DB857E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CD79-BEA8-4447-B70F-37BEAB49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1FC9-8A90-4F57-BB1D-BD5B6257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C336-BEE4-465C-8806-753C9A74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D7A6-E040-4939-AC26-BBF7484C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9FA6-19C3-42C6-8068-FB716B58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9340-BBF4-45BF-A4D4-1680E817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91E05-E96F-47A9-9557-FA4BB9C2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D29E-EBC8-48F9-BBC3-5E03E4C5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EB4-9762-498E-B8A1-C2540E4D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4276-0D3C-4B54-9E8D-6422F408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E141-9EE5-410C-A0A4-ADD03B3F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DB7D-2CE5-454D-8C4A-5811688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9C00-FFE1-4FDC-B4EF-C5B0333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AF47-682F-46A6-8476-BD1A85B9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4EFE-DF5F-487A-B575-E4FD2ECF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78A1-44CE-45EC-9047-1F2F44F3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0FE4C-2697-4611-80AD-B863D04F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7297-91D6-4C95-A68E-D2F61E8B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B9D53-B2E4-4F35-B44E-4137A45B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0BD-FFFE-44E9-B0E2-9A62A5EA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38777-DC09-48C4-86A3-601E2812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A2BB-79E8-4053-80D4-06AA2FBD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60DB3-2F59-49D6-8A56-ECB2A91C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6AB5F-91DD-4A42-A808-20C3419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645F-4C51-48C2-9AB0-FFEBCF35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92426-2D48-469B-9BB4-6894F05E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2B790-F02D-4905-AB0D-03F76C0D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94BE-2AB7-4B56-8D76-15D55522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3DF1-F4DD-4689-8C43-0274E43F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C1147-0BE1-4994-AD46-97E02227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2EE-5404-4569-A13E-AD3DAF65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AC4AB-C34B-44A8-9E3C-21B4731F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890F1-3926-4799-9242-17E18476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2B8D0-E2C8-4278-97C2-266D283D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C1F0-AFFC-49D5-9157-D464479F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D31BD-46A0-4FB2-95D4-BD1CA246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B0DAD-7C77-4D67-A37D-E1C97538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299B6-C576-4750-BF89-B5B13486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BE61C-CF92-404B-8F47-E8569D3E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56DCA-20C1-47C4-A6C8-AD523F14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A562A-07C2-431A-AFC3-2D4B34AD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1E2-03E1-40ED-9D77-92466D91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E8C7-F12C-46C7-BE28-BB66DADB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81332-C1F3-431D-818F-6B4D7DB8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F42B6-B056-45A0-A6FA-4D43753A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EAB65-C7B4-4A34-824C-30B5D132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29F2A-6A2D-4830-B927-6CA03799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C2FA6-F294-4093-A06C-82D09806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C1B1E-EC27-43E8-99D0-3A42D793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94771-8DFE-4487-8285-8FC99F32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0EDFA-B06A-46F7-806E-CA4A20BD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016A9-92D5-4528-9550-66958D7B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455-8669-4122-A8DB-8F83521E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7CFA3-0222-4E03-9CA9-EDE48867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0C7AC-CB64-480F-B2E0-2A408626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BFE1-5741-4C5F-B536-002B16DC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272E5-733F-45D8-87CD-3964F1AF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22A2D-5546-4F4E-9F42-D7C20C7B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DF989-3C06-4D48-A50A-9D1D29E7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14C48-023A-4F26-97B5-9F0620B7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4E70A-21EE-45B1-BB2E-1495A08F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799AB-C471-4D35-8841-C92344C3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DD9AE-74CA-4DC4-8B05-3EEDD18C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718-C8BA-4B7F-B286-F293E154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EF3D0-D193-4FBE-BEB9-1D7436F0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359D5-33F8-4BF5-9E00-37F54BA3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50D21-C050-4581-82E8-9F1F0692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FF45F-3A76-41A7-969B-7272781D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6A1CC-9883-4C8F-96F8-A6CDBD79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DA615-7736-48CC-93A1-E73B033A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90A89-5DCF-46EC-B36B-E3002152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CC8A0-C121-4248-AD30-8F09757A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BA131-6843-4843-81BB-3711D4C8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A2C5D-C8D2-465E-8DC9-8C578AED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D61-1B7E-4097-9C93-646DD9A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D6711-E9F1-4BD2-8CFD-4B6D06F5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A5A0B-80E7-4201-B8D5-527990A0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2E0A9-F26B-4C52-9B8A-D107E9C5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79F0B-89E0-49A8-BC89-D0BDE8FD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94D23-B536-4890-9CD4-6C590733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4732E-7F29-4C64-B42B-0D15E3BD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C5912-B089-4121-A87B-E735645F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5C977-BDBF-402A-97E1-2E8F2C13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26A20-D936-45A0-A658-F6D4CDE0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7088F-9A66-4F73-930D-C927337D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6566-EC21-462B-A061-22A02FFB707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5B39-96B3-43C1-A35D-2BFB5538AB6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E601-3557-4E27-9D4E-3A73FCE38BE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2A3B-E408-418A-8C7E-A109071F17C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2310-6F22-43E1-B90D-131468A1343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5431-5E3A-4E85-9A33-4C933FBCA70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CC31-5654-4D08-AA66-47CCB698DE7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CF3-4BBA-4451-8584-287604F060B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6FB6-CE35-4CFD-B8F5-AEAE5579496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961C-D363-4076-80FB-347C084DE81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D54C-A764-4B09-AE8F-4C01B8AA9FC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C8EA-3031-45F9-BD3E-AD28413E923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7138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Круглый стол для учителей русского языка и литературы на базе ГБОУ ИМЦ «Индивидуальный образовательный маршрут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Лафиренко Л.И., учитель русского языка и литературы ГБОУ гимназия №107 Выборгского района Санкт-Петербурга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есто для фотографи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84" name="Picture 5" descr="F:\Фото для презентации( школа)Новая папка\DSC02108.JPG"/>
          <p:cNvPicPr/>
          <p:nvPr/>
        </p:nvPicPr>
        <p:blipFill>
          <a:blip r:embed="rId1"/>
          <a:stretch/>
        </p:blipFill>
        <p:spPr>
          <a:xfrm>
            <a:off x="1643040" y="2463840"/>
            <a:ext cx="585792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68360" y="20602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Системный подход при подготовке к итоговой аттестации ЕГЭ по русскому языку на 3 ступени обучения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Тема выступления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u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214200" y="1973160"/>
          <a:ext cx="8750520" cy="4918320"/>
        </p:xfrm>
        <a:graphic>
          <a:graphicData uri="http://schemas.openxmlformats.org/drawingml/2006/table">
            <a:tbl>
              <a:tblPr/>
              <a:tblGrid>
                <a:gridCol w="5867640"/>
                <a:gridCol w="961920"/>
                <a:gridCol w="960480"/>
                <a:gridCol w="960480"/>
              </a:tblGrid>
              <a:tr h="801360">
                <a:tc>
                  <a:txBody>
                    <a:bodyPr lIns="22680" rIns="22680" tIns="0" bIns="0" anchor="t">
                      <a:noAutofit/>
                    </a:bodyPr>
                    <a:p>
                      <a:pPr marL="666720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ое планирование занят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marL="155520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борника ЕГЭ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5520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-2006 г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marL="155520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 marL="155520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накомство с содержанием и типами заданий ЕГЭ по русскому язы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-А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7-А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7-А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22680" rIns="22680" tIns="0" bIns="0" anchor="t">
                      <a:noAutofit/>
                    </a:bodyPr>
                    <a:p>
                      <a:pPr marL="6480" indent="-6480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азбор заданий по русскому языку(морфология, синтаксис, анализ текста) (А1-А4)-2003 (А 13-А 16)-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;А14-А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, А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3-А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22680" rIns="22680" tIns="0" bIns="0" anchor="t">
                      <a:noAutofit/>
                    </a:bodyPr>
                    <a:p>
                      <a:pPr marL="3240" indent="-3240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азбор заданий по русскому языку (продолжение, фонетика и орфоэпия) (А5-А10)-2003 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А4-А7)-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3;А16-А18     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4-А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2-А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22680" rIns="22680" tIns="0" bIns="0" anchor="t">
                      <a:noAutofit/>
                    </a:bodyPr>
                    <a:p>
                      <a:pPr marL="6480" indent="-6480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азбор заданий по русскому языку (орфография: глагол и его формы; гласные в суф.; правописание не и ни; -н- и -ни-) (А11-А15)-2003 (А8-А10;А12)-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2;А5;А12;А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3,А19-А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9,А1-А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збор заданий по русскому языку (Словообразование, языковые нормы, слитно или раздельное написание слов) (А16-А19)-2003 (А2;А11;А17;А18)-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;А4;А6;А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-А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-А6,А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Разбор заданий по русскому языку (языковые и грамматические нормы) (А20-А23)-2003 (АЗ;А19-А21)-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20-А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21-А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20-А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азбор заданий по русскому языку (синтаксис и пунктуация) (А24-А27)-2003 (А22-А25)-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24-А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25-А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24-А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Разбор заданий по русскому языку (синтаксис и пунктуация- продолжение) (А29-А30)-2003 (А26-А28)-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27-А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29-А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28-А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Разбор заданий по русскому языку (анализ текста) (А31-А33)-2003 «Наедине с толпой» (А29-А32)-2004 «Что такое культура?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7-В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7-В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7-В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Разбор заданий по русскому языку (анализ текста, средства выразительности, синтаксис и пунктуация-продолжение) (В1-В2)-2003 (В7-В8)-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-В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-В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-В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стемный подход при подготовке к итоговой аттестации ЕГЭ по русскому языку на 3 ступени обучения»</a:t>
            </a:r>
            <a:br>
              <a:rPr sz="7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русского языка и литературы Лафиренко Л. И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подготовительного курса:</a:t>
            </a:r>
            <a:br>
              <a:rPr sz="700"/>
            </a:b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1.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о структурой теста ЕГЭ; настроить на серьезную работу по подготовке к экзамену;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2. повторить сложные вопросы различных разделов языкознания; познакомить с вариативностью заданий в сравнении 2003- 2004 гг.</a:t>
            </a:r>
            <a:br>
              <a:rPr sz="700"/>
            </a:b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3.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 подготовить уч-ся к ЕГЭ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00"/>
            </a:b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качество знаний уч-ся.</a:t>
            </a:r>
            <a:br>
              <a:rPr sz="700"/>
            </a:br>
            <a:endParaRPr b="0" lang="en-US" sz="1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u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214200" y="1820880"/>
          <a:ext cx="8786880" cy="4935600"/>
        </p:xfrm>
        <a:graphic>
          <a:graphicData uri="http://schemas.openxmlformats.org/drawingml/2006/table">
            <a:tbl>
              <a:tblPr/>
              <a:tblGrid>
                <a:gridCol w="5892840"/>
                <a:gridCol w="2894040"/>
              </a:tblGrid>
              <a:tr h="61380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Разбор заданий по русскому языку (Словообразование, синтаксис и пунктуация-продолжение) (В3-В7)-2003 (В1-В6)-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исать сочинение-рассуждение по тексту 2003 г. «Наедине с толпой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160">
                <a:tc>
                  <a:txBody>
                    <a:bodyPr lIns="22680" rIns="22680" tIns="0" bIns="0" anchor="t">
                      <a:noAutofit/>
                    </a:bodyPr>
                    <a:p>
                      <a:pPr marL="6480" indent="-6480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Разбор заданий по русскому языку (продолжение С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22680" rIns="22680" tIns="0" bIns="0" anchor="t">
                      <a:noAutofit/>
                    </a:bodyPr>
                    <a:p>
                      <a:pPr marL="3240" indent="-3240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Разбор заданий по русскому языку (продолжение С1), обсуждение в классе,комментарии учи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исать сочинение-рассуждение по тексту 2004 г. «Что такое культура?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22680" rIns="22680" tIns="0" bIns="0" anchor="t">
                      <a:noAutofit/>
                    </a:bodyPr>
                    <a:p>
                      <a:pPr marL="6480" indent="-6480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Знакомство с требованием к части С1 (Знакомство с критериями оценки ответ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 требования и критерии К1-К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Грубые и негрубые ошибки, грамматические и речевые ошибки, средства связи предложений в текс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 таблиц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 Словарь терминов, используемых в критериях оценивания С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 терми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 Тема, проблема и идея текста (Как правильно понять исходный текст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учить конспе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 Жанры сочинений-рассуждений: отзыв, рецензия, эссе (разбор текстов различных жанров). Типы речи. Стили реч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исать рецензию по текс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Формулировка основной проблемы исходного текста (К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заданий (определить К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 Комментируем основную проблему текста (рабочие материалы, термины, ключевое слово) (К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комментария знать. Написать комментар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 Позиция автора и способы её выражения (рабочие материалы, ключевое слово, четкая формулировка) (К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исать (К3) по пробле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 Типы аргументации в изложении собственной пози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исать 2-3 аргумента по пробле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 Экспертная оценка сочинений (практику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сочинение из сборника зад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4. Практикум. Решение заданий по ЕГЭ из сборников. Варианты подготовительных тест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680" rIns="22680" tIns="0" bIns="0" anchor="t">
                      <a:noAutofit/>
                    </a:bodyPr>
                    <a:p>
                      <a:pPr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680" marR="22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u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24000" y="188640"/>
            <a:ext cx="82296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Используемая литература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Поурочные разработки по р.яз. Н.В. Егорова, Л.П. Дмитриева 2004 г. Москва «Вако». 2004. Методика преподавания с целью подготовки к ЕГЭ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Русский язык: анализ текста (уникальная методика создания сочинений) С-Петербург «Сала» «Невский проспект» 2004 Н.В. Козловская, Ю.Н. Сивакова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Рецензент Л.Г. Гвоздинская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Русский язык ЕГЭ 100 баллов. Теоретический курс. Москва «Экзамен» 2007г. Г.Т. Егоров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Русский язык ЕГЭ-2013. Типовые тестовые задания ФИПИ.И.П. Васильевых, Ю.Н. Гостева г. Москва «Экзамен» 2013 г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Русский язык ЕГЭ-2013. Типовые тестовые задания ФИПИ. В.В. Львов г. Москва «Экзамен» 2013 г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Русский язык ЕГЭ. Сборник заданий и методических рекомендаций «Задачник». Г.Т. Егораева г. Москва «Экзамен» 2013 г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Раздаточный  материал имеется в каб.203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Материалы к каждому уроку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Сборник ЕГЭ 2005-2006 – 20 шт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Сборник ЕГЭ 2006-2007 – 24 шт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Сборник ЕГЭ 2008 – 15 шт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Сборник ЕГЭ 2009 – 25 шт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Сборник ЕГЭ 2013 Васильевых – 20 шт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Сборник ЕГЭ 2013 Львов – 27 шт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Результаты ЕГЭ 2007г. 8 июня 100% качество знаний учащихся. Ср. балл 60,5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Результаты ЕГЭ 2009г. 10 июня 100% качество знаний учащихся. Ср. балл – 70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6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ll dir="u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  <a:ea typeface="Calibri"/>
              </a:rPr>
              <a:t>Дидактический материал ЕГЭ – 2009г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  <a:ea typeface="Calibri"/>
              </a:rPr>
              <a:t>Отработка блоков заданий ЕГЭ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  <a:ea typeface="Calibri"/>
              </a:rPr>
              <a:t>Раздаточный материал из сборника «ЕГЭ: русский язык: контрольные измерительные материалы: 2009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  <a:ea typeface="Calibri"/>
              </a:rPr>
              <a:t>С-Пб: филиал издательства «Просвещение», 2009г. – 206 с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  <a:ea typeface="Calibri"/>
              </a:rPr>
              <a:t>Авторы-составители:  М.Б. Багге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  <a:ea typeface="Calibri"/>
              </a:rPr>
              <a:t>                 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libri"/>
                <a:ea typeface="Calibri"/>
              </a:rPr>
              <a:t>Л.Г. Гвоздинская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  <a:ea typeface="Calibri"/>
              </a:rPr>
              <a:t>                 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libri"/>
                <a:ea typeface="Calibri"/>
              </a:rPr>
              <a:t>В.И. Ивлев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u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755640" y="1413000"/>
            <a:ext cx="74088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Конец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73e87"/>
                </a:solidFill>
                <a:latin typeface="Candara"/>
              </a:rPr>
              <a:t>Спасибо за внимание!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u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09:22:02Z</dcterms:created>
  <dc:creator>OIP</dc:creator>
  <dc:description/>
  <dc:language>en-US</dc:language>
  <cp:lastModifiedBy>ЛИЛ</cp:lastModifiedBy>
  <dcterms:modified xsi:type="dcterms:W3CDTF">2012-12-24T06:50:42Z</dcterms:modified>
  <cp:revision>55</cp:revision>
  <dc:subject/>
  <dc:title>Лафиренко  Лариса Ивановна, учитель русского языка и литературы  ГОУ - 107</dc:title>
</cp:coreProperties>
</file>