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4757-1820-4FC3-B852-E5C35273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332-8CFA-4C63-80ED-7DB3F622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35DE-4CCB-46F6-8F49-ED65A22F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303-1633-4837-8724-272A20C6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6486-ACC6-49F9-AE0D-BD6D4399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1F62-1A09-4027-B6BF-45A6D2D3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2BA0-8BA3-47CA-939B-40DA8610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D8B5-F9BF-4A21-BB47-C92DF83C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DEF9-2867-4F82-BEAE-D1FAE060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9F7E-0BB1-4BFB-AC7E-B5080F8A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04A7-661D-4D7B-9D51-BD145F10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D3A7-FBA8-49B5-9331-AEFA7B00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B52E-8929-4102-9A6A-FBE3CBC2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BC12-CDB9-4096-9C5D-008486A0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0837-4721-4954-AE5D-F1204E19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6F26-7427-40B4-A246-A573DCB5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265E-C73E-4E68-9EFC-122DE390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8BCD-B847-4AA2-88F9-5443C7E6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847-127C-4907-990D-E89DB3F7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6C7-F66C-4919-8500-39A05D6B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29F-BFAC-46F4-99EF-0EFF3C62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F45F-44A4-4ABC-A2B4-B644691A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693-9D7F-45CD-90AD-08D1B27F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13E-0306-4B22-84AB-050563C7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7B08-5F72-4979-AC6E-F28FAADC8B3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660A-A822-4B59-B239-2CDBBAFD185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666880" y="1208160"/>
            <a:ext cx="62485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 к чему стоять  на мес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 безделья нам скуч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ы попробуем все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-то новое узн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х внимательных, уче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жные открытья жд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дороге школьных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х к успеху приведу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685800" y="2666880"/>
          <a:ext cx="3733920" cy="3579840"/>
        </p:xfrm>
        <a:graphic>
          <a:graphicData uri="http://schemas.openxmlformats.org/drawingml/2006/table">
            <a:tbl>
              <a:tblPr/>
              <a:tblGrid>
                <a:gridCol w="498600"/>
                <a:gridCol w="496800"/>
                <a:gridCol w="498600"/>
                <a:gridCol w="581040"/>
                <a:gridCol w="496800"/>
                <a:gridCol w="581040"/>
                <a:gridCol w="581040"/>
              </a:tblGrid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2209680" y="40384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33526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5335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4. Аня задумала число, умножила его на 2, прибавила 5, результат разделила на 7 и получила 3. Какое число задумала А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952880" y="2438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2590920"/>
            <a:ext cx="2470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х 7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24480" y="2590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3429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00800" y="4191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34290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–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41911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: 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981080" y="52578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2666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33520" y="60948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6. а) Найди площадь прямоугольной комнаты, если её </a:t>
            </a: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длина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4 м, а </a:t>
            </a: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ширина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  3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2438280"/>
            <a:ext cx="31240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15000" y="1905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3048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62720" y="31240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м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4800600"/>
            <a:ext cx="4114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 = 4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х 3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= 12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м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2730600"/>
            <a:ext cx="4191120" cy="412740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ая соединительная линия 14"/>
          <p:cNvSpPr/>
          <p:nvPr/>
        </p:nvSpPr>
        <p:spPr>
          <a:xfrm flipH="1">
            <a:off x="6248160" y="15238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4"/>
          <p:cNvSpPr/>
          <p:nvPr/>
        </p:nvSpPr>
        <p:spPr>
          <a:xfrm flipH="1">
            <a:off x="4038120" y="1523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4"/>
          <p:cNvSpPr/>
          <p:nvPr/>
        </p:nvSpPr>
        <p:spPr>
          <a:xfrm flipH="1">
            <a:off x="1828440" y="1066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8600" y="45720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б) Чему равна длина участка земли прямоугольной формы, если его </a:t>
            </a: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площадь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 27 м², а </a:t>
            </a: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ширина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3 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3048120"/>
            <a:ext cx="281952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50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 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3581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52480" y="2514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19720" y="44956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а = 27 : 3 = 9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14"/>
          <p:cNvSpPr/>
          <p:nvPr/>
        </p:nvSpPr>
        <p:spPr>
          <a:xfrm flipH="1">
            <a:off x="1218960" y="18288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14"/>
          <p:cNvSpPr/>
          <p:nvPr/>
        </p:nvSpPr>
        <p:spPr>
          <a:xfrm flipH="1">
            <a:off x="45720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14"/>
          <p:cNvSpPr/>
          <p:nvPr/>
        </p:nvSpPr>
        <p:spPr>
          <a:xfrm flipH="1">
            <a:off x="3428640" y="9144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57200" y="1143000"/>
            <a:ext cx="80773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Цель зада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Получили результа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Правильно или н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Самостоятельно или с чьей-то помощь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04920" y="457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7. Найди площадь фигуры, составленной из двух прямоугольни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2057400"/>
            <a:ext cx="243828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52680" y="2057400"/>
            <a:ext cx="144792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1600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5105520"/>
            <a:ext cx="533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1600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4832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-152280" y="2971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1600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д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16002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д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2666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д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3429000"/>
            <a:ext cx="609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3429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х 3 = 15 д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91320" y="41148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х 4 = 8 д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38680" y="4724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+ 8 = 23 д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56386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: 23 дм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457200"/>
            <a:ext cx="861048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Arial"/>
              </a:rPr>
              <a:t>Итог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Все получилось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Получилось, но не вс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Надо поработа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10280" y="2209680"/>
            <a:ext cx="76212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10280" y="3352680"/>
            <a:ext cx="762120" cy="7621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10280" y="4343400"/>
            <a:ext cx="762120" cy="762120"/>
          </a:xfrm>
          <a:prstGeom prst="ellipse">
            <a:avLst/>
          </a:prstGeom>
          <a:solidFill>
            <a:srgbClr val="2017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1676520" y="6094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905120" y="2286000"/>
          <a:ext cx="6095880" cy="4571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5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3200400"/>
            <a:ext cx="9144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     Р     А    В     Н     Е     Н      И     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    18     1      3     15      6       15      10     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828800"/>
            <a:ext cx="7924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 ученого совета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62120" y="457200"/>
            <a:ext cx="6858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 реш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905120"/>
          <a:ext cx="6095880" cy="13716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йти компоненты, соответствующие сторонам и площади прямоугольник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3886200" y="38098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известна сторо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809880" y="3733920"/>
          <a:ext cx="1981440" cy="838080"/>
        </p:xfrm>
        <a:graphic>
          <a:graphicData uri="http://schemas.openxmlformats.org/drawingml/2006/table">
            <a:tbl>
              <a:tblPr/>
              <a:tblGrid>
                <a:gridCol w="19814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5791320" y="441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41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5120" y="5334120"/>
          <a:ext cx="1752120" cy="609480"/>
        </p:xfrm>
        <a:graphic>
          <a:graphicData uri="http://schemas.openxmlformats.org/drawingml/2006/table">
            <a:tbl>
              <a:tblPr/>
              <a:tblGrid>
                <a:gridCol w="17521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=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514600" y="5410080"/>
          <a:ext cx="380880" cy="51768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72200" y="5410080"/>
          <a:ext cx="1904760" cy="609840"/>
        </p:xfrm>
        <a:graphic>
          <a:graphicData uri="http://schemas.openxmlformats.org/drawingml/2006/table">
            <a:tbl>
              <a:tblPr/>
              <a:tblGrid>
                <a:gridCol w="19047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=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x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248520" y="5486400"/>
          <a:ext cx="380880" cy="51768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2895480" y="3962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3962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1600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685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 :  3 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066680" y="685800"/>
          <a:ext cx="381240" cy="517680"/>
        </p:xfrm>
        <a:graphic>
          <a:graphicData uri="http://schemas.openxmlformats.org/drawingml/2006/table">
            <a:tbl>
              <a:tblPr/>
              <a:tblGrid>
                <a:gridCol w="381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1523880" y="762120"/>
            <a:ext cx="2286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905120"/>
            <a:ext cx="1600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1143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1143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371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2133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762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33526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3352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х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3962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762120"/>
            <a:ext cx="358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7621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638680" y="762120"/>
          <a:ext cx="381240" cy="517320"/>
        </p:xfrm>
        <a:graphic>
          <a:graphicData uri="http://schemas.openxmlformats.org/drawingml/2006/table">
            <a:tbl>
              <a:tblPr/>
              <a:tblGrid>
                <a:gridCol w="381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6095880" y="8380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1981080"/>
            <a:ext cx="1600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1523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342900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3429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х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4038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38080" y="2133720"/>
            <a:ext cx="1600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38080" y="685800"/>
          <a:ext cx="381240" cy="517680"/>
        </p:xfrm>
        <a:graphic>
          <a:graphicData uri="http://schemas.openxmlformats.org/drawingml/2006/table">
            <a:tbl>
              <a:tblPr/>
              <a:tblGrid>
                <a:gridCol w="381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1295280" y="762120"/>
            <a:ext cx="2286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685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2286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16765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2362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33526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33526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х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3962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553080" y="4191120"/>
            <a:ext cx="2014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1143000"/>
            <a:ext cx="80773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Цель зада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Получили результа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Правильно или н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Самостоятельно или с чьей-то помощь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8380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б) х : 6 = 3      х : 8 = 2     х: 3 = 7     х : 2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523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1523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1523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2438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2438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25146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2514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00600" y="3086280"/>
            <a:ext cx="28576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9296640" cy="2886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981080" y="1981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1981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1981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3124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91120" y="3124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3124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197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505320" y="4800600"/>
          <a:ext cx="2895480" cy="1117440"/>
        </p:xfrm>
        <a:graphic>
          <a:graphicData uri="http://schemas.openxmlformats.org/drawingml/2006/table">
            <a:tbl>
              <a:tblPr/>
              <a:tblGrid>
                <a:gridCol w="723600"/>
                <a:gridCol w="723960"/>
                <a:gridCol w="723960"/>
                <a:gridCol w="723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295280" y="457200"/>
            <a:ext cx="6096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мину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9436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BA</cp:lastModifiedBy>
  <dcterms:modified xsi:type="dcterms:W3CDTF">2013-02-13T04:12:4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